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D54-112C-4B53-AE97-7BFEBE77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7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5FB-881D-485F-859B-3AF02D34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7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7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107-0A3B-4E51-BB4B-0253476B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7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7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7400"/>
            <a:ext cx="264924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583-7B30-4EB1-8D78-02CE33C0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BEC4-8948-43FC-976D-5172D761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F36-8744-47D1-9078-FC3371A9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197-91BE-4346-BA2C-35268D48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BA7E-F7CB-48F8-A8AA-D0C741E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3B2-6CAB-4535-B612-F8C11E27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7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2D02-3FF3-4354-AB50-67643BD5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74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798-708D-4EE3-9ED1-63E25BFA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7400"/>
            <a:ext cx="8228160" cy="1896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264-D4A0-4209-A7E9-B03309A5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478EA0-9F32-410C-9FD8-9CAC692FBB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ermaine TILLION : un lycée d'enseignement géné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5759280"/>
            <a:ext cx="7254720" cy="429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2nde générale et techn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800360"/>
            <a:ext cx="414036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ignement géné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720" y="2340000"/>
            <a:ext cx="1619280" cy="270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seul bac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1800" spc="-1" strike="noStrike">
                <a:solidFill>
                  <a:srgbClr val="666699"/>
                </a:solidFill>
                <a:latin typeface="Arial"/>
              </a:rPr>
              <a:t>S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19280" y="2340000"/>
            <a:ext cx="900360" cy="270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00360" y="2340000"/>
            <a:ext cx="900360" cy="270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1800360"/>
            <a:ext cx="341964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ignement Tech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n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lycée Germaine T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9280" y="5219640"/>
            <a:ext cx="360360" cy="539640"/>
          </a:xfrm>
          <a:prstGeom prst="upArrow">
            <a:avLst>
              <a:gd name="adj1" fmla="val 50000"/>
              <a:gd name="adj2" fmla="val 3743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5219640"/>
            <a:ext cx="360360" cy="539640"/>
          </a:xfrm>
          <a:prstGeom prst="upArrow">
            <a:avLst>
              <a:gd name="adj1" fmla="val 50000"/>
              <a:gd name="adj2" fmla="val 3743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7280" y="2087640"/>
            <a:ext cx="8423280" cy="43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on  Mathématiques /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rganisation pratique en sec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3280" y="2340000"/>
            <a:ext cx="3311640" cy="256284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oup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 élèves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a salle multi-usages équipée de 10 P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enseignant de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11640" y="2340000"/>
            <a:ext cx="3311640" cy="283716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oup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0 élèves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e laboratoire de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quipée de 16 P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enseignant de mathé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9280" y="5543640"/>
            <a:ext cx="55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ême plage horaire - même pla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partition équilibrée entre les deux mat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844560" y="539640"/>
            <a:ext cx="78678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ning de l'enseignement d'exploratio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63640" y="1368360"/>
            <a:ext cx="3490920" cy="5184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029200" y="1224000"/>
            <a:ext cx="3322800" cy="56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539640"/>
            <a:ext cx="8640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obot suiveur de ligne et détecteur d'obst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4280" y="1762200"/>
            <a:ext cx="5183280" cy="3786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645240" y="1444680"/>
            <a:ext cx="2112840" cy="679320"/>
          </a:xfrm>
          <a:prstGeom prst="wedgeRoundRectCallout">
            <a:avLst>
              <a:gd name="adj1" fmla="val -266046"/>
              <a:gd name="adj2" fmla="val 8852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pteur de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ltra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00680" y="3854520"/>
            <a:ext cx="1806840" cy="689040"/>
          </a:xfrm>
          <a:prstGeom prst="wedgeRoundRectCallout">
            <a:avLst>
              <a:gd name="adj1" fmla="val -194805"/>
              <a:gd name="adj2" fmla="val 5307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pteur de l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otosen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87280" y="539640"/>
            <a:ext cx="8640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lgorithme : suivi de ligne et détection d'obst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6360" y="1368360"/>
            <a:ext cx="8134200" cy="5573880"/>
            <a:chOff x="576360" y="1368360"/>
            <a:chExt cx="8134200" cy="5573880"/>
          </a:xfrm>
        </p:grpSpPr>
        <p:sp>
          <p:nvSpPr>
            <p:cNvPr id="175" name=""/>
            <p:cNvSpPr/>
            <p:nvPr/>
          </p:nvSpPr>
          <p:spPr>
            <a:xfrm>
              <a:off x="576360" y="1368360"/>
              <a:ext cx="8134200" cy="55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istance_obstacle ← valeur du capteur ultr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uleur_fond ← valeur du capteur photo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Tant que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 Distance_obstacle &gt; 30 c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Si 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Couleur_fond &gt; 40 % </a:t>
              </a: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alo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teur_gauche ← 50 %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« tourner à droite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teur_droit ← 0 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Sin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teur_gauche ← 0 %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« tourner à gauche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teur_droit ← 50 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Fin s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istance_obstacle ← valeur du capteur ultr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uleur_fond ← valeur du capteur phot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Fin tant qu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teur_gauche ← 0 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teur_droit ← 0 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08080" y="2519280"/>
              <a:ext cx="0" cy="244656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44720" y="3743280"/>
              <a:ext cx="0" cy="28584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44720" y="2808360"/>
              <a:ext cx="0" cy="35856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7280" y="539640"/>
            <a:ext cx="8640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lgorigramme correspo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2880" y="1604880"/>
            <a:ext cx="2735280" cy="647640"/>
          </a:xfrm>
          <a:prstGeom prst="parallelogram">
            <a:avLst>
              <a:gd name="adj" fmla="val 1055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leur du f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03240" y="2519280"/>
            <a:ext cx="1511640" cy="136836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 30cm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03240" y="4176720"/>
            <a:ext cx="1511640" cy="122400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16320" y="3095640"/>
            <a:ext cx="216000" cy="21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16320" y="4680000"/>
            <a:ext cx="216000" cy="21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0" y="5616720"/>
            <a:ext cx="223200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ner à dr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3960" y="5616720"/>
            <a:ext cx="223200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ner à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38880" y="5616720"/>
            <a:ext cx="223200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rê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562120" y="2251080"/>
            <a:ext cx="1800" cy="270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57440" y="3887640"/>
            <a:ext cx="1440" cy="2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84600" y="4147920"/>
            <a:ext cx="4680" cy="29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7440" y="540072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32320" y="4794120"/>
            <a:ext cx="14270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9360" y="4794120"/>
            <a:ext cx="4680" cy="820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32320" y="3206880"/>
            <a:ext cx="38242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56600" y="3206880"/>
            <a:ext cx="1440" cy="2409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80160" y="6230880"/>
            <a:ext cx="1295280" cy="469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6520" y="1155240"/>
            <a:ext cx="1440" cy="45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75080" y="6048360"/>
            <a:ext cx="1440" cy="299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56120" y="6048360"/>
            <a:ext cx="1800" cy="299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954000" y="6346800"/>
            <a:ext cx="40039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55800" y="1404720"/>
            <a:ext cx="1440" cy="4943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55800" y="1406520"/>
            <a:ext cx="1622160" cy="3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66720" y="1409760"/>
            <a:ext cx="3286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55800" y="327492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64520" y="604836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22760" y="2703600"/>
            <a:ext cx="59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44800" y="3887640"/>
            <a:ext cx="53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7280" y="539640"/>
            <a:ext cx="8640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lgorithme : suivi de ligne et détection d'obst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360" y="1368360"/>
            <a:ext cx="8134200" cy="5573880"/>
            <a:chOff x="576360" y="1368360"/>
            <a:chExt cx="8134200" cy="5573880"/>
          </a:xfrm>
        </p:grpSpPr>
        <p:sp>
          <p:nvSpPr>
            <p:cNvPr id="210" name=""/>
            <p:cNvSpPr/>
            <p:nvPr/>
          </p:nvSpPr>
          <p:spPr>
            <a:xfrm>
              <a:off x="576360" y="1368360"/>
              <a:ext cx="8134200" cy="55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Distance_obstacle ← valeur du capteur ultr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Couleur_fond ← valeur du capteur photo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200" spc="-1" strike="noStrike">
                  <a:solidFill>
                    <a:srgbClr val="ff0000"/>
                  </a:solidFill>
                  <a:latin typeface="Arial"/>
                </a:rPr>
                <a:t>Tant que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 Distance_obstacle &gt; 30 c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200" spc="-1" strike="noStrike">
                  <a:solidFill>
                    <a:srgbClr val="0000ff"/>
                  </a:solidFill>
                  <a:latin typeface="Arial"/>
                </a:rPr>
                <a:t>Si 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Couleur_fond &gt; 40 % </a:t>
              </a:r>
              <a:r>
                <a:rPr b="1" lang="fr-FR" sz="2200" spc="-1" strike="noStrike">
                  <a:solidFill>
                    <a:srgbClr val="0000ff"/>
                  </a:solidFill>
                  <a:latin typeface="Arial"/>
                </a:rPr>
                <a:t>alo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ff"/>
                  </a:solidFill>
                  <a:latin typeface="Arial"/>
                </a:rPr>
                <a:t>Moteur_gauche ← 50 %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« tourner à droite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ff"/>
                  </a:solidFill>
                  <a:latin typeface="Arial"/>
                </a:rPr>
                <a:t>Moteur_droit ← 0 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200" spc="-1" strike="noStrike">
                  <a:solidFill>
                    <a:srgbClr val="0000ff"/>
                  </a:solidFill>
                  <a:latin typeface="Arial"/>
                </a:rPr>
                <a:t>Sin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ff"/>
                  </a:solidFill>
                  <a:latin typeface="Arial"/>
                </a:rPr>
                <a:t>Moteur_gauche ← 0 %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« tourner à gauche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0000ff"/>
                  </a:solidFill>
                  <a:latin typeface="Arial"/>
                </a:rPr>
                <a:t>Moteur_droit ← 50 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200" spc="-1" strike="noStrike">
                  <a:solidFill>
                    <a:srgbClr val="0000ff"/>
                  </a:solidFill>
                  <a:latin typeface="Arial"/>
                </a:rPr>
                <a:t>Fin s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Distance_obstacle ← valeur du capteur ultra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Couleur_fond ← valeur du capteur photsens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200" spc="-1" strike="noStrike">
                  <a:solidFill>
                    <a:srgbClr val="ff0000"/>
                  </a:solidFill>
                  <a:latin typeface="Arial"/>
                </a:rPr>
                <a:t>Fin tant qu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teur_gauche ← 0 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teur_droit ← 0 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08080" y="2519280"/>
              <a:ext cx="0" cy="244656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44720" y="3743280"/>
              <a:ext cx="0" cy="28584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44720" y="2808360"/>
              <a:ext cx="0" cy="35856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7280" y="539640"/>
            <a:ext cx="8640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lgorigramme correspo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2880" y="1604880"/>
            <a:ext cx="2735280" cy="647640"/>
          </a:xfrm>
          <a:prstGeom prst="parallelogram">
            <a:avLst>
              <a:gd name="adj" fmla="val 10558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leur du f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03240" y="2519280"/>
            <a:ext cx="1511640" cy="136836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 30cm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03240" y="4176720"/>
            <a:ext cx="1511640" cy="1224000"/>
          </a:xfrm>
          <a:prstGeom prst="diamond">
            <a:avLst/>
          </a:prstGeom>
          <a:solidFill>
            <a:srgbClr val="99ccff"/>
          </a:solidFill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16320" y="30956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16320" y="4680000"/>
            <a:ext cx="216000" cy="216000"/>
          </a:xfrm>
          <a:prstGeom prst="ellipse">
            <a:avLst/>
          </a:prstGeom>
          <a:solidFill>
            <a:srgbClr val="99ccff"/>
          </a:solidFill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87600" y="5616720"/>
            <a:ext cx="2232000" cy="431640"/>
          </a:xfrm>
          <a:prstGeom prst="rect">
            <a:avLst/>
          </a:prstGeom>
          <a:solidFill>
            <a:srgbClr val="99ccff"/>
          </a:solidFill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ner à dr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63960" y="5616720"/>
            <a:ext cx="2232000" cy="431640"/>
          </a:xfrm>
          <a:prstGeom prst="rect">
            <a:avLst/>
          </a:prstGeom>
          <a:solidFill>
            <a:srgbClr val="99ccff"/>
          </a:solidFill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rner à gau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38880" y="5616720"/>
            <a:ext cx="2232000" cy="431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rê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62120" y="2251080"/>
            <a:ext cx="1800" cy="27000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57440" y="3887640"/>
            <a:ext cx="1440" cy="28764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7440" y="5400720"/>
            <a:ext cx="1440" cy="21600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32320" y="4794120"/>
            <a:ext cx="1427040" cy="180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9360" y="4794120"/>
            <a:ext cx="4680" cy="82080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2320" y="3206880"/>
            <a:ext cx="3824280" cy="144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56600" y="3206880"/>
            <a:ext cx="1440" cy="240984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80160" y="6230880"/>
            <a:ext cx="1295280" cy="469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576520" y="1155600"/>
            <a:ext cx="1440" cy="255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5080" y="6048360"/>
            <a:ext cx="1440" cy="29988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6120" y="6048360"/>
            <a:ext cx="1800" cy="29988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953640" y="6346800"/>
            <a:ext cx="1622520" cy="144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55800" y="1404720"/>
            <a:ext cx="1440" cy="494316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55800" y="1406520"/>
            <a:ext cx="1622160" cy="324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66720" y="1409760"/>
            <a:ext cx="328680" cy="14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955800" y="3274920"/>
            <a:ext cx="1440" cy="3081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64520" y="6048360"/>
            <a:ext cx="1440" cy="184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573280" y="6346800"/>
            <a:ext cx="2384640" cy="1440"/>
          </a:xfrm>
          <a:prstGeom prst="line">
            <a:avLst/>
          </a:prstGeom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576520" y="1407960"/>
            <a:ext cx="1440" cy="198720"/>
          </a:xfrm>
          <a:prstGeom prst="line">
            <a:avLst/>
          </a:prstGeom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22760" y="2705040"/>
            <a:ext cx="59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44800" y="3887640"/>
            <a:ext cx="53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7280" y="539640"/>
            <a:ext cx="8640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gramme Légo Mindstorm correspo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5040" y="1258920"/>
            <a:ext cx="8514000" cy="4981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grammation lu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« cliquer-glisser » d'icô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7280" y="539640"/>
            <a:ext cx="8640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gramme Légo Mindstorm correspo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14320" y="1434960"/>
            <a:ext cx="7758360" cy="47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7280" y="539640"/>
            <a:ext cx="8640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gramme Légo Mindstorm correspo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14320" y="1434960"/>
            <a:ext cx="7680240" cy="27194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487520" y="1434960"/>
            <a:ext cx="6918120" cy="2824200"/>
          </a:xfrm>
          <a:prstGeom prst="rect">
            <a:avLst/>
          </a:prstGeom>
          <a:noFill/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31840" y="1606680"/>
            <a:ext cx="4808520" cy="2219040"/>
          </a:xfrm>
          <a:prstGeom prst="rect">
            <a:avLst/>
          </a:prstGeom>
          <a:solidFill>
            <a:srgbClr val="ffffff"/>
          </a:solidFill>
          <a:ln w="36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dition du tant que : le ca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87720" y="1897200"/>
            <a:ext cx="22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nt que : la bou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38200" y="4416480"/>
            <a:ext cx="80010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on  Mathématiques / SI  au lycée Germaine T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759280"/>
            <a:ext cx="7254720" cy="42912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2nde générale et techn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800360"/>
            <a:ext cx="414036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ignement géné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2340000"/>
            <a:ext cx="1619280" cy="270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seul bac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1800" spc="-1" strike="noStrike">
                <a:solidFill>
                  <a:srgbClr val="666699"/>
                </a:solidFill>
                <a:latin typeface="Arial"/>
              </a:rPr>
              <a:t>S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9280" y="2340000"/>
            <a:ext cx="900360" cy="270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0360" y="2340000"/>
            <a:ext cx="900360" cy="270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1800360"/>
            <a:ext cx="341964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ignement Tech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n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lycée Germaine T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9280" y="5219640"/>
            <a:ext cx="360360" cy="539640"/>
          </a:xfrm>
          <a:prstGeom prst="upArrow">
            <a:avLst>
              <a:gd name="adj1" fmla="val 50000"/>
              <a:gd name="adj2" fmla="val 37438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5219640"/>
            <a:ext cx="360360" cy="539640"/>
          </a:xfrm>
          <a:prstGeom prst="upArrow">
            <a:avLst>
              <a:gd name="adj1" fmla="val 50000"/>
              <a:gd name="adj2" fmla="val 3743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87280" y="539640"/>
            <a:ext cx="8640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gramme Légo Mindstorm correspo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14320" y="1434960"/>
            <a:ext cx="7812000" cy="2660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44600" y="1708200"/>
            <a:ext cx="4641840" cy="2112840"/>
          </a:xfrm>
          <a:prstGeom prst="rect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789120" y="4160880"/>
            <a:ext cx="7870680" cy="2486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81040" y="1576440"/>
            <a:ext cx="1423800" cy="22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i ...a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i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Fin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87280" y="539640"/>
            <a:ext cx="8640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Vidéo du robot suiveur de lign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étecteur d'obst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647280" y="5327640"/>
            <a:ext cx="8423280" cy="4392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ynthèse de la Collaboration  Mathématiques / SI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92000" y="2108160"/>
            <a:ext cx="7056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lgorithme – algorigramme - program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000" y="2808360"/>
            <a:ext cx="70567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alcul de volume à la main puis par un logiciel de simulation, Solidworks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n développé car exemple en TPE et Proj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92000" y="4206960"/>
            <a:ext cx="70567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odélisation multiphysique à l'aide d'un logiciel Matlab, Applesim, Scilab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844560" y="539640"/>
            <a:ext cx="7254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on Mathématiques / SI en 1</a:t>
            </a:r>
            <a:r>
              <a:rPr b="0" lang="fr-FR" sz="2800" spc="-1" strike="noStrike" baseline="33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4840" y="1419120"/>
            <a:ext cx="8280360" cy="213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120" y="5295960"/>
            <a:ext cx="7740720" cy="53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français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hist./géo., ECJS, LV1, LV2, 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54480" y="349560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94480" y="4214880"/>
            <a:ext cx="2340000" cy="36036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94480" y="34956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14480" y="385452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14480" y="313524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4480" y="241452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14480" y="4599000"/>
            <a:ext cx="51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5200" y="4599000"/>
            <a:ext cx="869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14480" y="1782720"/>
            <a:ext cx="7020000" cy="36036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/M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94120" y="1695600"/>
            <a:ext cx="107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20720" y="6296040"/>
            <a:ext cx="719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mière scient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0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844560" y="539640"/>
            <a:ext cx="7254720" cy="1373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thématiques /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s de TP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 lycée Germaine TI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1640" y="2735280"/>
            <a:ext cx="8280720" cy="213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iapos Mar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on Mathématiques /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termi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3280" y="1630440"/>
            <a:ext cx="8280360" cy="51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6119640"/>
            <a:ext cx="7740360" cy="54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ECJS, philosophie, LV1, LV2, 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54480" y="371160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88000" y="48942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88000" y="4451400"/>
            <a:ext cx="2340000" cy="51588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,5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08000" y="48960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08000" y="417672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08000" y="34560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32120" y="5602320"/>
            <a:ext cx="51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2240" y="5675400"/>
            <a:ext cx="870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08000" y="2735280"/>
            <a:ext cx="234000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h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08000" y="1728720"/>
            <a:ext cx="7056360" cy="79236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61960" y="1852560"/>
            <a:ext cx="1224000" cy="379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0" y="1871640"/>
            <a:ext cx="122400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96000" y="1871640"/>
            <a:ext cx="122364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46800" y="1800360"/>
            <a:ext cx="165564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52360" y="2197080"/>
            <a:ext cx="583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Spécialité  (facultative en SI, obligatoire en SV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0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44560" y="539640"/>
            <a:ext cx="7254720" cy="1373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thématiques /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s de projets en terminale S S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 lycée Germaine TI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1640" y="2735280"/>
            <a:ext cx="8280720" cy="213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Diapos Jean-Philip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0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03280" y="2816280"/>
            <a:ext cx="51847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rci de votre attention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bonne réflex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035680" y="1965240"/>
            <a:ext cx="35067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44560" y="539640"/>
            <a:ext cx="7254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19640" y="1728720"/>
            <a:ext cx="4680000" cy="5153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roblématique sociétale 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scabeau spécifique au delà de 1m de haut (loi et assuran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Objectif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le concept d'un dispositif de lav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tonome en énergi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rt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daptable à de nombreuses v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ermettant le lavage de la partie haute des vit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6000" y="1584360"/>
            <a:ext cx="391464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0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44560" y="539640"/>
            <a:ext cx="7254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91280" y="1295280"/>
            <a:ext cx="2879640" cy="3903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Arial"/>
              </a:rPr>
              <a:t>Système de lavage 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Lucida Sans Unicode"/>
              </a:rPr>
              <a:t>Rac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Lucida Sans Unicode"/>
              </a:rPr>
              <a:t>Po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  <a:ea typeface="Lucida Sans Unicode"/>
              </a:rPr>
              <a:t>Réserv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Arial"/>
              </a:rPr>
              <a:t>Système de déplacement ver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Pantograp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Gliss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Moteurs (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6120000" cy="5543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016000" y="1871640"/>
            <a:ext cx="2160720" cy="432000"/>
          </a:xfrm>
          <a:prstGeom prst="ellipse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32000" y="4103640"/>
            <a:ext cx="792360" cy="863640"/>
          </a:xfrm>
          <a:prstGeom prst="ellipse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16000" y="4816440"/>
            <a:ext cx="581040" cy="439920"/>
          </a:xfrm>
          <a:prstGeom prst="ellipse">
            <a:avLst/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2949480" y="2806560"/>
            <a:ext cx="2595600" cy="57960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238200" y="3456000"/>
            <a:ext cx="2306520" cy="64764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878200" y="3456000"/>
            <a:ext cx="2666880" cy="216072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158560" y="5256360"/>
            <a:ext cx="1227240" cy="71280"/>
          </a:xfrm>
          <a:prstGeom prst="line">
            <a:avLst/>
          </a:prstGeom>
          <a:ln w="360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0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on  Mathématiques /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ès la sec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2627280"/>
            <a:ext cx="8640720" cy="4056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2720" y="3240000"/>
            <a:ext cx="90000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F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4859280"/>
            <a:ext cx="7740720" cy="12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ignements du tronc comm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français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histoire/géographie, ECJS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V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LV1, LV2, 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2720" y="3240000"/>
            <a:ext cx="90000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240000"/>
            <a:ext cx="90036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6000" y="3240000"/>
            <a:ext cx="107928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ttérature et socié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3640" y="3240000"/>
            <a:ext cx="90000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0" y="3240000"/>
            <a:ext cx="90000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03360" y="3419640"/>
            <a:ext cx="476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51280" y="351468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90920" y="3514680"/>
            <a:ext cx="577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04000" y="345600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43640" y="3456000"/>
            <a:ext cx="578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" y="6259680"/>
            <a:ext cx="719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e générale et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00360" y="4319640"/>
            <a:ext cx="521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ignements d'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44560" y="539640"/>
            <a:ext cx="7254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31640" y="1274760"/>
            <a:ext cx="4178520" cy="54212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327640" y="3168720"/>
            <a:ext cx="3527280" cy="213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Système de déplacement horizo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Glissiè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o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670200" y="4751280"/>
            <a:ext cx="1587600" cy="1152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030200" y="4680000"/>
            <a:ext cx="1227240" cy="576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670200" y="4751280"/>
            <a:ext cx="1587600" cy="17287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44560" y="539640"/>
            <a:ext cx="7254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76360" y="2232000"/>
            <a:ext cx="3527640" cy="164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Vidéo montrant le fonctionnement du pantograp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44560" y="539640"/>
            <a:ext cx="7254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63640" y="1728720"/>
            <a:ext cx="7254720" cy="3537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onction secondaire du système 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ffichage du temps de lavage de la v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ur cela 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2 capteurs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→ la largeur de la vitre = 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→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hauteur de la vitre =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 microcontrôleur  → calcul du temps de lav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 écran → affichage de l'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 du temps de montée du pantograp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88000" y="1655640"/>
            <a:ext cx="3384720" cy="485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itesse de rotation du moteur 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ω en rad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Angle a = ω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h(t) = 26,5 x sin(ω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Soit pour une hauteur H de vit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fr-FR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monté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(1/ω) x                                     arcsin(H/26,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47640" y="1569960"/>
            <a:ext cx="4967280" cy="50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 du temps de lavage de la vit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08000" y="5838840"/>
            <a:ext cx="7488360" cy="497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fr-FR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lavag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= [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fr-FR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monté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fr-FR" sz="2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descente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+ l / (rayon de la roue x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ω)] x L/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52360" y="1584360"/>
            <a:ext cx="6550200" cy="4095720"/>
            <a:chOff x="1152360" y="1584360"/>
            <a:chExt cx="6550200" cy="40957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152360" y="1636560"/>
              <a:ext cx="6550200" cy="40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565280" y="1989000"/>
              <a:ext cx="6099120" cy="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563840" y="1989000"/>
              <a:ext cx="931680" cy="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54480" y="1584360"/>
              <a:ext cx="13431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43440" y="2752560"/>
              <a:ext cx="2685960" cy="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941640" y="2752560"/>
              <a:ext cx="411120" cy="0"/>
            </a:xfrm>
            <a:prstGeom prst="line">
              <a:avLst/>
            </a:prstGeom>
            <a:ln w="360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67400" y="2347920"/>
              <a:ext cx="13428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03280" y="539640"/>
            <a:ext cx="835164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s complémentaires réalisés par les élè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79520" y="1728720"/>
            <a:ext cx="83041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03280" y="539640"/>
            <a:ext cx="835164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s complémentaires réalisés par les élè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60360" y="1728720"/>
            <a:ext cx="5688000" cy="44910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119640" y="1728720"/>
            <a:ext cx="2953080" cy="2775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v(t) = dérivée de h(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h(t) = 26,5 x sin(ω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v(t) = 26,5 x ω cos(ω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03280" y="539640"/>
            <a:ext cx="835164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lculs complémentaires réalisés par les élè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03280" y="1871640"/>
            <a:ext cx="8351640" cy="2288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déo du laveur de v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503280" y="539640"/>
            <a:ext cx="8351640" cy="1373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sures de v(t) réalisées sur la maque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à l'aide d'une vidéo 24 images/sec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52600" y="2016000"/>
            <a:ext cx="779940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503280" y="539640"/>
            <a:ext cx="835164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t 2013 : laveur de vi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Étude des éc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440240" y="1728720"/>
            <a:ext cx="4343400" cy="3456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576360" y="1728720"/>
            <a:ext cx="3600360" cy="35276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295280" y="5472000"/>
            <a:ext cx="6983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 n'est pas la même chose ! D'où proviennent ces écarts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360" y="6119640"/>
            <a:ext cx="885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mélioration du modèle → modèle multiphysique avec Matlab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on  Mathématiques /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ès la sec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7280" y="2627280"/>
            <a:ext cx="8640720" cy="414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2720" y="3240000"/>
            <a:ext cx="90000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F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720" y="4859280"/>
            <a:ext cx="7740720" cy="1260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ignements du tronc comm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français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histoire/géographie, ECJS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V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LV1, LV2, 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2720" y="3240000"/>
            <a:ext cx="900000" cy="1079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3240000"/>
            <a:ext cx="90036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3240000"/>
            <a:ext cx="107928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ittérature et socié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43640" y="3240000"/>
            <a:ext cx="90000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a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000" y="3240000"/>
            <a:ext cx="900000" cy="107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03360" y="3419640"/>
            <a:ext cx="476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51280" y="351468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90920" y="3514680"/>
            <a:ext cx="5778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04000" y="345600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43640" y="3456000"/>
            <a:ext cx="578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6296040"/>
            <a:ext cx="719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e générale et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00360" y="4319640"/>
            <a:ext cx="521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seignements d'expl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87280" y="71280"/>
            <a:ext cx="83520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dèle multiphysique (logiciel type Mat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emière scientif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 lycée Germaine T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4840" y="1616040"/>
            <a:ext cx="8280360" cy="5153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4120" y="5295960"/>
            <a:ext cx="7740720" cy="53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français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hist./géo., ECJS, LV1, LV2, 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54480" y="349560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94480" y="4214880"/>
            <a:ext cx="2340000" cy="36036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94480" y="34956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14480" y="385452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14480" y="313524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14480" y="241452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4480" y="4599000"/>
            <a:ext cx="51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15200" y="4599000"/>
            <a:ext cx="869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14480" y="1782720"/>
            <a:ext cx="7020000" cy="36036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71880" y="178272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2000" y="6335640"/>
            <a:ext cx="719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mière scient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0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44560" y="539640"/>
            <a:ext cx="725472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on Mathématiques / SI en 1</a:t>
            </a:r>
            <a:r>
              <a:rPr b="0" lang="fr-FR" sz="2800" spc="-1" strike="noStrike" baseline="33000">
                <a:solidFill>
                  <a:srgbClr val="000000"/>
                </a:solidFill>
                <a:latin typeface="Arial"/>
              </a:rPr>
              <a:t>è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4840" y="1419120"/>
            <a:ext cx="8280360" cy="213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4120" y="5295960"/>
            <a:ext cx="7740720" cy="539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français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hist./géo., ECJS, LV1, LV2, 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349560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94480" y="4214880"/>
            <a:ext cx="2340000" cy="36036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94480" y="34956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4480" y="385452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14480" y="313524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14480" y="241452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14480" y="4599000"/>
            <a:ext cx="51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15200" y="4599000"/>
            <a:ext cx="869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14480" y="1782720"/>
            <a:ext cx="7020000" cy="360360"/>
          </a:xfrm>
          <a:prstGeom prst="rect">
            <a:avLst/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/M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94120" y="1695600"/>
            <a:ext cx="1079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2000" y="6335640"/>
            <a:ext cx="719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emière scient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0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rminale scientif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 lycée Germaine T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3280" y="1630440"/>
            <a:ext cx="8280360" cy="4879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54480" y="371160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8000" y="48942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88000" y="4451400"/>
            <a:ext cx="2340000" cy="51588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,5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08000" y="48960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08000" y="417672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08000" y="34560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32120" y="5602320"/>
            <a:ext cx="51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2240" y="5675400"/>
            <a:ext cx="870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08000" y="273528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08000" y="1728720"/>
            <a:ext cx="7056360" cy="79236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61960" y="1852560"/>
            <a:ext cx="1224000" cy="379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0" y="1871640"/>
            <a:ext cx="122400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96000" y="1871640"/>
            <a:ext cx="122364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80000" y="1871640"/>
            <a:ext cx="122400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44720" y="2197080"/>
            <a:ext cx="583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Spécialité  (facultative en SI, obligatoire en SV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6119640"/>
            <a:ext cx="7740360" cy="54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ECJS, philosophie, LV1, LV2, 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on Mathématiques /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termi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3280" y="1630440"/>
            <a:ext cx="8280360" cy="51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6119640"/>
            <a:ext cx="7740360" cy="540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ECJS, philosophie, LV1, LV2, 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54480" y="3711600"/>
            <a:ext cx="57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88000" y="48942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88000" y="4451400"/>
            <a:ext cx="2340000" cy="51588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,5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08000" y="48960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08000" y="417672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08000" y="3456000"/>
            <a:ext cx="2340000" cy="72072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de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32120" y="5602320"/>
            <a:ext cx="51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2240" y="5675400"/>
            <a:ext cx="8701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V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08000" y="2735280"/>
            <a:ext cx="234000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h de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08000" y="1728720"/>
            <a:ext cx="7056360" cy="792360"/>
          </a:xfrm>
          <a:prstGeom prst="rect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61960" y="1852560"/>
            <a:ext cx="1224000" cy="379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0" y="1871640"/>
            <a:ext cx="122400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ys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6000" y="1871640"/>
            <a:ext cx="122364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V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46800" y="1800360"/>
            <a:ext cx="1655640" cy="647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52360" y="2197080"/>
            <a:ext cx="583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h Spécialité  (facultative en SI, obligatoire en SV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7280" y="2160720"/>
            <a:ext cx="8423280" cy="4392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44560" y="539640"/>
            <a:ext cx="7254720" cy="94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aboration  Mathématiques /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ourquoi faire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3640" y="2529000"/>
            <a:ext cx="70563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voyer un message clair aux élèves et aux parents de l'aspect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scientifiqu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du bac S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sciences de l'ingénie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3640" y="4464000"/>
            <a:ext cx="70563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onner aux élèves du sens aux matières en montrant leurs liens entre elles tout au long du lycé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00360" y="3600360"/>
            <a:ext cx="66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x portes ouvertes. Élèves de 3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</a:rPr>
              <a:t>è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fin de 2</a:t>
            </a:r>
            <a:r>
              <a:rPr b="0" lang="fr-FR" sz="1800" spc="-1" strike="noStrike" baseline="33000">
                <a:solidFill>
                  <a:srgbClr val="000000"/>
                </a:solidFill>
                <a:latin typeface="Arial"/>
              </a:rPr>
              <a:t>n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lors de l'orientation et du choix de la fili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3640" y="5391000"/>
            <a:ext cx="83516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ppliquer les instructions du BO 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uridisciplinarité du TPE de 1</a:t>
            </a:r>
            <a:r>
              <a:rPr b="0" lang="fr-FR" sz="2200" spc="-1" strike="noStrike" baseline="33000">
                <a:solidFill>
                  <a:srgbClr val="000000"/>
                </a:solidFill>
                <a:latin typeface="Arial"/>
                <a:ea typeface="Lucida Sans Unicode"/>
              </a:rPr>
              <a:t>èr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&amp; projet de terminale 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4:52:08Z</dcterms:created>
  <dc:creator>vbeauchamps</dc:creator>
  <dc:description/>
  <dc:language>en-US</dc:language>
  <cp:lastModifiedBy/>
  <dcterms:modified xsi:type="dcterms:W3CDTF">2013-12-10T21:10:47Z</dcterms:modified>
  <cp:revision>100</cp:revision>
  <dc:subject/>
  <dc:title>Le Lycée Germaine Tillion est un Lycée   d’Enseignement Général qui dispense des formations littéraires, économiques et scientifiques.</dc:title>
</cp:coreProperties>
</file>