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5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5.jpeg" ContentType="image/jpeg"/>
  <Override PartName="/ppt/media/image10.png" ContentType="image/pn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0B4A-AAAF-4368-BDD8-04BFC562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DB2-717E-47C8-9D06-8C26249E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719-B453-45BA-B5B8-B4EEDAA0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062-8F48-45DA-87C3-B47F9D1A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A95-2998-405D-A3ED-E3AAC545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54C-38FB-46E3-A1BF-609C51A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C57-B313-4380-ABAD-3D46694C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A7F5-63AF-4268-85BB-A93D643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F00-6B78-41BE-925F-076AC1B8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E54-5AA5-4F1A-B72E-697EDB92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082-6B1F-4B5A-8C62-22B9541B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34C-8DE2-42FB-8079-6127AB7F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053-51E9-4162-A418-9BFCC4E27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image" Target="../media/image32.jpeg"/><Relationship Id="rId13" Type="http://schemas.openxmlformats.org/officeDocument/2006/relationships/image" Target="../media/image30.jpeg"/><Relationship Id="rId14" Type="http://schemas.openxmlformats.org/officeDocument/2006/relationships/image" Target="../media/image33.jpeg"/><Relationship Id="rId15" Type="http://schemas.openxmlformats.org/officeDocument/2006/relationships/image" Target="../media/image30.jpeg"/><Relationship Id="rId1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MENT DONNER DU SENS AUX MATHEMATIQUES PAR LES SCIENCES DE L’INGENIEU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4868640"/>
            <a:ext cx="8343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Calibri"/>
              </a:rPr>
              <a:t>Séminaire interacadémique de mathématiques – Décembre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ous-titre 2"/>
          <p:cNvSpPr/>
          <p:nvPr/>
        </p:nvSpPr>
        <p:spPr>
          <a:xfrm>
            <a:off x="539640" y="5445000"/>
            <a:ext cx="83455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Calibri"/>
              </a:rPr>
              <a:t>Martine Sorel – Xavier Robert – Jean-Philippe PERR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Calibri"/>
              </a:rPr>
              <a:t>Lycée Germaine Tillion – Sain B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composition du so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cheminé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 = cylindr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 Aucun problè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base de la cheminé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 : approximations par défaut et par excè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collecteur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plus diffi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492360" y="3392640"/>
            <a:ext cx="5113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Volume de la base de la cheminé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010560" cy="3004920"/>
          </a:xfrm>
          <a:prstGeom prst="rect">
            <a:avLst/>
          </a:prstGeom>
          <a:ln w="0">
            <a:noFill/>
          </a:ln>
        </p:spPr>
      </p:pic>
      <p:sp>
        <p:nvSpPr>
          <p:cNvPr id="66" name="Oval 23"/>
          <p:cNvSpPr/>
          <p:nvPr/>
        </p:nvSpPr>
        <p:spPr>
          <a:xfrm>
            <a:off x="3995640" y="3213000"/>
            <a:ext cx="1081080" cy="72072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466728" h="389891">
                <a:moveTo>
                  <a:pt x="0" y="194945"/>
                </a:moveTo>
                <a:lnTo>
                  <a:pt x="0" y="194945"/>
                </a:lnTo>
                <a:cubicBezTo>
                  <a:pt x="0" y="302610"/>
                  <a:pt x="104480" y="389889"/>
                  <a:pt x="233363" y="389890"/>
                </a:cubicBezTo>
                <a:cubicBezTo>
                  <a:pt x="362247" y="389890"/>
                  <a:pt x="466728" y="302610"/>
                  <a:pt x="466728" y="194945"/>
                </a:cubicBezTo>
                <a:cubicBezTo>
                  <a:pt x="466728" y="87279"/>
                  <a:pt x="362247" y="0"/>
                  <a:pt x="233364" y="0"/>
                </a:cubicBezTo>
                <a:cubicBezTo>
                  <a:pt x="104480" y="0"/>
                  <a:pt x="0" y="87279"/>
                  <a:pt x="0" y="194945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755640" y="3573360"/>
            <a:ext cx="3456000" cy="1511280"/>
          </a:xfrm>
          <a:prstGeom prst="line">
            <a:avLst/>
          </a:prstGeom>
          <a:ln w="38160">
            <a:solidFill>
              <a:srgbClr val="ff811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pproximation du solide par des empilements de cylind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3" descr=""/>
          <p:cNvPicPr/>
          <p:nvPr/>
        </p:nvPicPr>
        <p:blipFill>
          <a:blip r:embed="rId1"/>
          <a:srcRect l="9542" t="5607" r="12740" b="0"/>
          <a:stretch/>
        </p:blipFill>
        <p:spPr>
          <a:xfrm>
            <a:off x="3132000" y="1700280"/>
            <a:ext cx="5543640" cy="158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2" descr=""/>
          <p:cNvPicPr/>
          <p:nvPr/>
        </p:nvPicPr>
        <p:blipFill>
          <a:blip r:embed="rId2"/>
          <a:srcRect l="7739" t="6116" r="9752" b="0"/>
          <a:stretch/>
        </p:blipFill>
        <p:spPr>
          <a:xfrm>
            <a:off x="3132000" y="3573360"/>
            <a:ext cx="5543640" cy="1586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978120" y="2060640"/>
            <a:ext cx="257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 défaut : volume V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34120" y="4076640"/>
            <a:ext cx="271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 excès : volume V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547640" y="5589720"/>
            <a:ext cx="5910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oix des élèves : Volume V </a:t>
            </a:r>
            <a:r>
              <a:rPr b="1" lang="fr-FR" sz="1800" spc="-1" strike="noStrike">
                <a:solidFill>
                  <a:srgbClr val="000000"/>
                </a:solidFill>
                <a:latin typeface="math12"/>
                <a:ea typeface="math12"/>
              </a:rPr>
              <a:t>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moyenne de V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t V</a:t>
            </a:r>
            <a:r>
              <a:rPr b="1" lang="fr-F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59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Volume V’ du coll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332000" y="5157720"/>
            <a:ext cx="67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forme très particulière : réponse trouvée par le groupe d’élèves pour faire face à certaines contrai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5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25600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odélisation 3D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566720" y="2360520"/>
            <a:ext cx="6010560" cy="3005280"/>
          </a:xfrm>
          <a:prstGeom prst="rect">
            <a:avLst/>
          </a:prstGeom>
          <a:ln w="0">
            <a:noFill/>
          </a:ln>
        </p:spPr>
      </p:pic>
      <p:sp>
        <p:nvSpPr>
          <p:cNvPr id="81" name="Line 5"/>
          <p:cNvSpPr/>
          <p:nvPr/>
        </p:nvSpPr>
        <p:spPr>
          <a:xfrm>
            <a:off x="1332000" y="2565360"/>
            <a:ext cx="2449440" cy="1079640"/>
          </a:xfrm>
          <a:prstGeom prst="line">
            <a:avLst/>
          </a:prstGeom>
          <a:ln w="38160">
            <a:solidFill>
              <a:srgbClr val="ff811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 première vue, c’est difficile</a:t>
            </a:r>
            <a:br>
              <a:rPr sz="32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eaucoup d’ondulations dues au plexig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eux hypothès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28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hypothèse : par défaut, le volume du collecteur est celui d’un tronc de pyramide de volume 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476360" y="3645000"/>
            <a:ext cx="607392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84360" y="836640"/>
            <a:ext cx="7721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hypothèse : par excès, le volume du collecteur est celui d’un tronc de cô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9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5245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ien plus compliqué en fait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base du cône est sectionn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885240" y="1484280"/>
            <a:ext cx="74354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logiciel qui a donné le volume 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hoix des élèves : V’ </a:t>
            </a:r>
            <a:r>
              <a:rPr b="1" lang="fr-FR" sz="2800" spc="-1" strike="noStrike">
                <a:solidFill>
                  <a:srgbClr val="000000"/>
                </a:solidFill>
                <a:latin typeface="math12"/>
                <a:ea typeface="math12"/>
              </a:rPr>
              <a:t>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moyenne de 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et V</a:t>
            </a:r>
            <a:r>
              <a:rPr b="1" lang="fr-FR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1" descr=""/>
          <p:cNvPicPr/>
          <p:nvPr/>
        </p:nvPicPr>
        <p:blipFill>
          <a:blip r:embed="rId1"/>
          <a:stretch/>
        </p:blipFill>
        <p:spPr>
          <a:xfrm>
            <a:off x="539640" y="3191040"/>
            <a:ext cx="822960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e n’est pas tout à fait termin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A l’intérieur du collecteu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petite « pyramide » qui sert de guide : calcul identique à celui de la base de la chemin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supports du plexiglas = prismes droits à base trapézoïd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reste à soustraire ces volumes à V’ pour obtenir celui du collecte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T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PE = Travaux Personnels Encadr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s doivent obligatoirement être pluridisciplinai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ar exempl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ciences de l’ingénieur - Mathéma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 saut à la per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480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mment expliquer l’évolution des records de saut à la perche au cours du temp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odélisation du problèm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sentiellement méca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orces s’exerçant au centre de gravité du systè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Une question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: quels sont les facteurs de la performance en saut à la perch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Un des facteur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position du perchiste au cours du sa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i appelle une autre ques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ment évolue le centre de gravité du sauteur à la perche au cours du saut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’où la recherche du centre de gravité d’un sauteur à la perch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e hypothèse : le centre de gravité du sauteur est un barycentre des centres de gravité des différentes parties du co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corps est décomposé 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9 parties dont le centre 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gravité est placé intuiti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hacun de ces centres de grav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st affecté d’un coefficient 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vant bras + main : 2,5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ras : 2,5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Jambe antérieure + pied : 1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uisse : 1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uste + tête : 5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371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ans chaque position, 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entre de gravité G du saut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st le barycentre de 9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est déterminé grâce a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héorème d’associativité 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arycentre utilisé plusieurs f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745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Exemples de constru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rcRect l="25952" t="59093" r="42047" b="12060"/>
          <a:stretch/>
        </p:blipFill>
        <p:spPr>
          <a:xfrm>
            <a:off x="5219640" y="1484280"/>
            <a:ext cx="32911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rcRect l="19981" t="24626" r="40139" b="59464"/>
          <a:stretch/>
        </p:blipFill>
        <p:spPr>
          <a:xfrm>
            <a:off x="684360" y="2349360"/>
            <a:ext cx="41036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a courbe obtenue après détermination du centre de gravité du sauteur dans chaque 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17400" y="1600200"/>
            <a:ext cx="790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es questions restées en suspe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nt utiliser les centres de gravité pour améliorer les performances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nt la perche peut-elle être prise en compte dans la détermination du centre de gravité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nt faire intervenir le fait que le déplacement du sauteur n’est pas plan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Un exemple de projet SI mené à ter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ent suppléer la surveillance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’intérieur d’un bâtiment quand le réseau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vidéosurveillance est défici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32482" t="14432" r="33657" b="67370"/>
          <a:stretch/>
        </p:blipFill>
        <p:spPr>
          <a:xfrm>
            <a:off x="1332000" y="3789360"/>
            <a:ext cx="6192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Un objecti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ermettre des déplacements faciles et rap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athémat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théorie des gra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pagesperso.lina.univ-nantes.fr/~cdlh/graphes_licence/Canale_et_Rampp_et_Rancon/petersen.gif"/>
          <p:cNvPicPr/>
          <p:nvPr/>
        </p:nvPicPr>
        <p:blipFill>
          <a:blip r:embed="rId1"/>
          <a:stretch/>
        </p:blipFill>
        <p:spPr>
          <a:xfrm>
            <a:off x="5724360" y="3284640"/>
            <a:ext cx="21434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s difficultés pour les élèves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déliser la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terminer et comprendre les outils mathématiques liés à la modéli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’interroger sur l’efficacité du modèle en mesurant l’écart entre celui-ci et la réal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ourquoi la théorie des graph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timiser les itinéraires du rob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rcours de toutes les allées sans pass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lusieurs fois au même endro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itinéraire effic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lèche vers le bas 3"/>
          <p:cNvSpPr/>
          <p:nvPr/>
        </p:nvSpPr>
        <p:spPr>
          <a:xfrm>
            <a:off x="4500720" y="2205000"/>
            <a:ext cx="44280" cy="503280"/>
          </a:xfrm>
          <a:prstGeom prst="downArrow">
            <a:avLst>
              <a:gd name="adj1" fmla="val 50000"/>
              <a:gd name="adj2" fmla="val 50199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èche vers le bas 4"/>
          <p:cNvSpPr/>
          <p:nvPr/>
        </p:nvSpPr>
        <p:spPr>
          <a:xfrm>
            <a:off x="4500720" y="4005360"/>
            <a:ext cx="44280" cy="503280"/>
          </a:xfrm>
          <a:prstGeom prst="downArrow">
            <a:avLst>
              <a:gd name="adj1" fmla="val 50000"/>
              <a:gd name="adj2" fmla="val 50199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75920"/>
            <a:ext cx="433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’est-ce qu’un graph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contenu 2"/>
          <p:cNvSpPr/>
          <p:nvPr/>
        </p:nvSpPr>
        <p:spPr>
          <a:xfrm>
            <a:off x="4788000" y="1341360"/>
            <a:ext cx="30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raphe comp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contenu 2"/>
          <p:cNvSpPr/>
          <p:nvPr/>
        </p:nvSpPr>
        <p:spPr>
          <a:xfrm>
            <a:off x="539640" y="220500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haîne euléri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contenu 2"/>
          <p:cNvSpPr/>
          <p:nvPr/>
        </p:nvSpPr>
        <p:spPr>
          <a:xfrm>
            <a:off x="611280" y="4005360"/>
            <a:ext cx="266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ycle eulé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contenu 2"/>
          <p:cNvSpPr/>
          <p:nvPr/>
        </p:nvSpPr>
        <p:spPr>
          <a:xfrm>
            <a:off x="5076720" y="4869000"/>
            <a:ext cx="29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raphe conn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contenu 2"/>
          <p:cNvSpPr/>
          <p:nvPr/>
        </p:nvSpPr>
        <p:spPr>
          <a:xfrm>
            <a:off x="4356000" y="3068640"/>
            <a:ext cx="433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lgorithme de Dijk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images.math.cnrs.fr/IMG/png/graphe-2.png"/>
          <p:cNvPicPr/>
          <p:nvPr/>
        </p:nvPicPr>
        <p:blipFill>
          <a:blip r:embed="rId1"/>
          <a:stretch/>
        </p:blipFill>
        <p:spPr>
          <a:xfrm>
            <a:off x="1116000" y="4941720"/>
            <a:ext cx="1606680" cy="1060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://pagesperso.lina.univ-nantes.fr/~cdlh/graphes_licence/Pellenard_and_Golliard/fig1.gif"/>
          <p:cNvPicPr/>
          <p:nvPr/>
        </p:nvPicPr>
        <p:blipFill>
          <a:blip r:embed="rId2"/>
          <a:stretch/>
        </p:blipFill>
        <p:spPr>
          <a:xfrm>
            <a:off x="6300720" y="260280"/>
            <a:ext cx="1793880" cy="89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cours.ensem.inpl-nancy.fr/cours-dm/graphes/gifs/k33.gif"/>
          <p:cNvPicPr/>
          <p:nvPr/>
        </p:nvPicPr>
        <p:blipFill>
          <a:blip r:embed="rId3"/>
          <a:stretch/>
        </p:blipFill>
        <p:spPr>
          <a:xfrm>
            <a:off x="2124000" y="2997360"/>
            <a:ext cx="1265400" cy="62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sr.photos2.fotosearch.com/bthumb/CSP/CSP993/k15186114.jpg"/>
          <p:cNvPicPr/>
          <p:nvPr/>
        </p:nvPicPr>
        <p:blipFill>
          <a:blip r:embed="rId4"/>
          <a:stretch/>
        </p:blipFill>
        <p:spPr>
          <a:xfrm>
            <a:off x="8101080" y="3716280"/>
            <a:ext cx="726840" cy="11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://sr.photos2.fotosearch.com/bthumb/CSP/CSP348/k3485194.jpg"/>
          <p:cNvPicPr/>
          <p:nvPr/>
        </p:nvPicPr>
        <p:blipFill>
          <a:blip r:embed="rId5"/>
          <a:stretch/>
        </p:blipFill>
        <p:spPr>
          <a:xfrm>
            <a:off x="1258920" y="1125360"/>
            <a:ext cx="80964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385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385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3" dur="385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5" dur="385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9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ise en œuvre de la théorie des grap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Cas d’un entrepôt simple (Surveillanc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termination chaîne eulérien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 – D – F – E – C – A – B – 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26181" t="24934" r="44289" b="56168"/>
          <a:stretch/>
        </p:blipFill>
        <p:spPr>
          <a:xfrm>
            <a:off x="1692360" y="2421000"/>
            <a:ext cx="540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Optimisation itinéraire robot en mode aler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gorithme de Dijkst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32876" t="20035" r="35626" b="53368"/>
          <a:stretch/>
        </p:blipFill>
        <p:spPr>
          <a:xfrm>
            <a:off x="539640" y="1125360"/>
            <a:ext cx="4248360" cy="2017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rcRect l="27163" t="24101" r="27951" b="50702"/>
          <a:stretch/>
        </p:blipFill>
        <p:spPr>
          <a:xfrm>
            <a:off x="611280" y="4005360"/>
            <a:ext cx="592920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rcRect l="41339" t="24101" r="41339" b="54901"/>
          <a:stretch/>
        </p:blipFill>
        <p:spPr>
          <a:xfrm rot="1511400">
            <a:off x="6122520" y="1893600"/>
            <a:ext cx="187164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es exemples de projets SI en cou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ent améliorer le service de vente de médicaments pour la population loc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28543" t="33333" r="49407" b="42870"/>
          <a:stretch/>
        </p:blipFill>
        <p:spPr>
          <a:xfrm>
            <a:off x="2556000" y="3213000"/>
            <a:ext cx="403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Objecti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mettre l’obtention de médicaments délivr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r ordon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athémat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tilisation de codes barres EAN13 pour lire 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rdonn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www.investix.fr/images/ean13.jpg"/>
          <p:cNvPicPr/>
          <p:nvPr/>
        </p:nvPicPr>
        <p:blipFill>
          <a:blip r:embed="rId1"/>
          <a:stretch/>
        </p:blipFill>
        <p:spPr>
          <a:xfrm>
            <a:off x="4284720" y="4221000"/>
            <a:ext cx="33242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9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9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9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3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Mise en œuv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odèle simplifié : 4 médicaments maxim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bien d’ordonnance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bien de codes barr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Initiation au dénomb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tilisation du cours de 1</a:t>
            </a:r>
            <a:r>
              <a:rPr b="0" lang="fr-FR" sz="30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S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efficients binomiau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15 codes bar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èche vers le bas 3"/>
          <p:cNvSpPr/>
          <p:nvPr/>
        </p:nvSpPr>
        <p:spPr>
          <a:xfrm>
            <a:off x="4356000" y="119700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èche vers le bas 4"/>
          <p:cNvSpPr/>
          <p:nvPr/>
        </p:nvSpPr>
        <p:spPr>
          <a:xfrm>
            <a:off x="4427640" y="2565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lèche vers le bas 5"/>
          <p:cNvSpPr/>
          <p:nvPr/>
        </p:nvSpPr>
        <p:spPr>
          <a:xfrm>
            <a:off x="4427640" y="357336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lèche vers le bas 6"/>
          <p:cNvSpPr/>
          <p:nvPr/>
        </p:nvSpPr>
        <p:spPr>
          <a:xfrm>
            <a:off x="4500720" y="4941720"/>
            <a:ext cx="44280" cy="432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investix.fr/images/ean13.jpg"/>
          <p:cNvPicPr/>
          <p:nvPr/>
        </p:nvPicPr>
        <p:blipFill>
          <a:blip r:embed="rId1"/>
          <a:stretch/>
        </p:blipFill>
        <p:spPr>
          <a:xfrm>
            <a:off x="1547640" y="5950080"/>
            <a:ext cx="1241640" cy="642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http://www.investix.fr/images/ean13.jpg"/>
          <p:cNvPicPr/>
          <p:nvPr/>
        </p:nvPicPr>
        <p:blipFill>
          <a:blip r:embed="rId2"/>
          <a:stretch/>
        </p:blipFill>
        <p:spPr>
          <a:xfrm>
            <a:off x="2771640" y="5950080"/>
            <a:ext cx="1241640" cy="642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www.investix.fr/images/ean13.jpg"/>
          <p:cNvPicPr/>
          <p:nvPr/>
        </p:nvPicPr>
        <p:blipFill>
          <a:blip r:embed="rId3"/>
          <a:stretch/>
        </p:blipFill>
        <p:spPr>
          <a:xfrm>
            <a:off x="3995640" y="5950080"/>
            <a:ext cx="1241640" cy="64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http://www.investix.fr/images/ean13.jpg"/>
          <p:cNvPicPr/>
          <p:nvPr/>
        </p:nvPicPr>
        <p:blipFill>
          <a:blip r:embed="rId4"/>
          <a:stretch/>
        </p:blipFill>
        <p:spPr>
          <a:xfrm>
            <a:off x="5219640" y="5950080"/>
            <a:ext cx="1241640" cy="642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investix.fr/images/ean13.jpg"/>
          <p:cNvPicPr/>
          <p:nvPr/>
        </p:nvPicPr>
        <p:blipFill>
          <a:blip r:embed="rId5"/>
          <a:stretch/>
        </p:blipFill>
        <p:spPr>
          <a:xfrm>
            <a:off x="324000" y="3500280"/>
            <a:ext cx="642960" cy="124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investix.fr/images/ean13.jpg"/>
          <p:cNvPicPr/>
          <p:nvPr/>
        </p:nvPicPr>
        <p:blipFill>
          <a:blip r:embed="rId6"/>
          <a:stretch/>
        </p:blipFill>
        <p:spPr>
          <a:xfrm>
            <a:off x="324000" y="2276640"/>
            <a:ext cx="642960" cy="124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investix.fr/images/ean13.jpg"/>
          <p:cNvPicPr/>
          <p:nvPr/>
        </p:nvPicPr>
        <p:blipFill>
          <a:blip r:embed="rId7"/>
          <a:stretch/>
        </p:blipFill>
        <p:spPr>
          <a:xfrm>
            <a:off x="324000" y="1052640"/>
            <a:ext cx="64296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www.investix.fr/images/ean13.jpg"/>
          <p:cNvPicPr/>
          <p:nvPr/>
        </p:nvPicPr>
        <p:blipFill>
          <a:blip r:embed="rId8"/>
          <a:stretch/>
        </p:blipFill>
        <p:spPr>
          <a:xfrm>
            <a:off x="324000" y="4724280"/>
            <a:ext cx="642960" cy="1243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www.investix.fr/images/ean13.jpg"/>
          <p:cNvPicPr/>
          <p:nvPr/>
        </p:nvPicPr>
        <p:blipFill>
          <a:blip r:embed="rId9"/>
          <a:stretch/>
        </p:blipFill>
        <p:spPr>
          <a:xfrm>
            <a:off x="8244000" y="3500280"/>
            <a:ext cx="644400" cy="124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www.investix.fr/images/ean13.jpg"/>
          <p:cNvPicPr/>
          <p:nvPr/>
        </p:nvPicPr>
        <p:blipFill>
          <a:blip r:embed="rId10"/>
          <a:stretch/>
        </p:blipFill>
        <p:spPr>
          <a:xfrm>
            <a:off x="8244000" y="2276640"/>
            <a:ext cx="644400" cy="1241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://www.investix.fr/images/ean13.jpg"/>
          <p:cNvPicPr/>
          <p:nvPr/>
        </p:nvPicPr>
        <p:blipFill>
          <a:blip r:embed="rId11"/>
          <a:stretch/>
        </p:blipFill>
        <p:spPr>
          <a:xfrm>
            <a:off x="8244000" y="1052640"/>
            <a:ext cx="644400" cy="12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www.investix.fr/images/ean13.jpg"/>
          <p:cNvPicPr/>
          <p:nvPr/>
        </p:nvPicPr>
        <p:blipFill>
          <a:blip r:embed="rId12"/>
          <a:stretch/>
        </p:blipFill>
        <p:spPr>
          <a:xfrm>
            <a:off x="8244000" y="4724280"/>
            <a:ext cx="644400" cy="124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http://www.investix.fr/images/ean13.jpg"/>
          <p:cNvPicPr/>
          <p:nvPr/>
        </p:nvPicPr>
        <p:blipFill>
          <a:blip r:embed="rId13"/>
          <a:stretch/>
        </p:blipFill>
        <p:spPr>
          <a:xfrm>
            <a:off x="324000" y="5950080"/>
            <a:ext cx="1241280" cy="642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www.investix.fr/images/ean13.jpg"/>
          <p:cNvPicPr/>
          <p:nvPr/>
        </p:nvPicPr>
        <p:blipFill>
          <a:blip r:embed="rId14"/>
          <a:stretch/>
        </p:blipFill>
        <p:spPr>
          <a:xfrm>
            <a:off x="7667640" y="5950080"/>
            <a:ext cx="1243080" cy="642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www.investix.fr/images/ean13.jpg"/>
          <p:cNvPicPr/>
          <p:nvPr/>
        </p:nvPicPr>
        <p:blipFill>
          <a:blip r:embed="rId15"/>
          <a:stretch/>
        </p:blipFill>
        <p:spPr>
          <a:xfrm>
            <a:off x="6443640" y="5950080"/>
            <a:ext cx="12412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roblème rencontr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rtains codes barres non reconnus à la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érification de la clé de contrô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se en œuvre de l’algorithme spécifiqu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gramme de spécialité en Terminale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lèche vers le bas 3"/>
          <p:cNvSpPr/>
          <p:nvPr/>
        </p:nvSpPr>
        <p:spPr>
          <a:xfrm>
            <a:off x="4356000" y="227664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lèche vers le bas 4"/>
          <p:cNvSpPr/>
          <p:nvPr/>
        </p:nvSpPr>
        <p:spPr>
          <a:xfrm>
            <a:off x="4356000" y="3429000"/>
            <a:ext cx="46080" cy="43164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Du code barre à l’obtention des médica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cture code bar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ockage cellule tab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nsformation en code binaire à 4 chiff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gorithme spécifique permettant de déclenc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délivrance des bons médica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lèche vers le bas 3"/>
          <p:cNvSpPr/>
          <p:nvPr/>
        </p:nvSpPr>
        <p:spPr>
          <a:xfrm>
            <a:off x="4500720" y="1557360"/>
            <a:ext cx="44280" cy="431640"/>
          </a:xfrm>
          <a:prstGeom prst="downArrow">
            <a:avLst>
              <a:gd name="adj1" fmla="val 50000"/>
              <a:gd name="adj2" fmla="val 50184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lèche vers le bas 4"/>
          <p:cNvSpPr/>
          <p:nvPr/>
        </p:nvSpPr>
        <p:spPr>
          <a:xfrm>
            <a:off x="4500720" y="2781360"/>
            <a:ext cx="44280" cy="431640"/>
          </a:xfrm>
          <a:prstGeom prst="downArrow">
            <a:avLst>
              <a:gd name="adj1" fmla="val 50000"/>
              <a:gd name="adj2" fmla="val 50184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lèche vers le bas 5"/>
          <p:cNvSpPr/>
          <p:nvPr/>
        </p:nvSpPr>
        <p:spPr>
          <a:xfrm>
            <a:off x="4500720" y="3933720"/>
            <a:ext cx="44280" cy="432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1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Contra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iter la déformation des boîtes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dicaments dans la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sure de la force d’un électroaimant 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nction du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guler force pour évi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dé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Chart 1" descr=""/>
          <p:cNvPicPr/>
          <p:nvPr/>
        </p:nvPicPr>
        <p:blipFill>
          <a:blip r:embed="rId1"/>
          <a:stretch/>
        </p:blipFill>
        <p:spPr>
          <a:xfrm>
            <a:off x="7143840" y="4133880"/>
            <a:ext cx="1774800" cy="2035080"/>
          </a:xfrm>
          <a:prstGeom prst="rect">
            <a:avLst/>
          </a:prstGeom>
          <a:ln w="0">
            <a:noFill/>
          </a:ln>
        </p:spPr>
      </p:pic>
      <p:sp>
        <p:nvSpPr>
          <p:cNvPr id="174" name="Flèche vers le bas 4"/>
          <p:cNvSpPr/>
          <p:nvPr/>
        </p:nvSpPr>
        <p:spPr>
          <a:xfrm>
            <a:off x="4427640" y="2205000"/>
            <a:ext cx="46080" cy="43200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lèche vers le bas 5"/>
          <p:cNvSpPr/>
          <p:nvPr/>
        </p:nvSpPr>
        <p:spPr>
          <a:xfrm>
            <a:off x="4500720" y="3933720"/>
            <a:ext cx="44280" cy="432000"/>
          </a:xfrm>
          <a:prstGeom prst="downArrow">
            <a:avLst>
              <a:gd name="adj1" fmla="val 50000"/>
              <a:gd name="adj2" fmla="val 50226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http://www.centrecharliechaplin.com/medias/media204.jpg"/>
          <p:cNvPicPr/>
          <p:nvPr/>
        </p:nvPicPr>
        <p:blipFill>
          <a:blip r:embed="rId2"/>
          <a:stretch/>
        </p:blipFill>
        <p:spPr>
          <a:xfrm>
            <a:off x="533520" y="4076640"/>
            <a:ext cx="12240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5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eux exemples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La tour sol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Le saut à la perch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0560" y="333000"/>
            <a:ext cx="8713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Comment un réfrigérateur peut-il aider à rend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’alimentation de l’utilisateur plus saine et diététiqu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Objectifs: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cettes automatiques en fonction du conten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ermeture de la porte automat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Mathématiqu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Algorith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apteurs          Mesures         Lissage de courb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lèche droite 3"/>
          <p:cNvSpPr/>
          <p:nvPr/>
        </p:nvSpPr>
        <p:spPr>
          <a:xfrm>
            <a:off x="2268360" y="5589720"/>
            <a:ext cx="50328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lèche droite 4"/>
          <p:cNvSpPr/>
          <p:nvPr/>
        </p:nvSpPr>
        <p:spPr>
          <a:xfrm>
            <a:off x="4427640" y="5589720"/>
            <a:ext cx="504720" cy="71280"/>
          </a:xfrm>
          <a:prstGeom prst="rightArrow">
            <a:avLst>
              <a:gd name="adj1" fmla="val 50000"/>
              <a:gd name="adj2" fmla="val 50090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http://sr.photos2.fotosearch.com/bthumb/CSP/CSP348/k3485194.jpg"/>
          <p:cNvPicPr/>
          <p:nvPr/>
        </p:nvPicPr>
        <p:blipFill>
          <a:blip r:embed="rId1"/>
          <a:stretch/>
        </p:blipFill>
        <p:spPr>
          <a:xfrm>
            <a:off x="5076720" y="4149720"/>
            <a:ext cx="808200" cy="898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http://sr.photos2.fotosearch.com/bthumb/CSP/CSP993/k15186114.jpg"/>
          <p:cNvPicPr/>
          <p:nvPr/>
        </p:nvPicPr>
        <p:blipFill>
          <a:blip r:embed="rId2"/>
          <a:stretch/>
        </p:blipFill>
        <p:spPr>
          <a:xfrm>
            <a:off x="7308720" y="4005360"/>
            <a:ext cx="7272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9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9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900" fill="hold"/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ent améliorer le confort de condu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Objecti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clinaison du siège en fonction des vir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athémat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ien entre force centrifuge et inclinaison du siè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yons de courb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lgorith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0" descr="http://sr.photos2.fotosearch.com/bthumb/CSP/CSP348/k3485194.jpg"/>
          <p:cNvPicPr/>
          <p:nvPr/>
        </p:nvPicPr>
        <p:blipFill>
          <a:blip r:embed="rId1"/>
          <a:stretch/>
        </p:blipFill>
        <p:spPr>
          <a:xfrm>
            <a:off x="5219640" y="4797360"/>
            <a:ext cx="809640" cy="898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sr.photos2.fotosearch.com/bthumb/CSP/CSP993/k15186114.jpg"/>
          <p:cNvPicPr/>
          <p:nvPr/>
        </p:nvPicPr>
        <p:blipFill>
          <a:blip r:embed="rId2"/>
          <a:stretch/>
        </p:blipFill>
        <p:spPr>
          <a:xfrm>
            <a:off x="7451640" y="4653000"/>
            <a:ext cx="728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9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9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9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mment faciliter la mise en place verticale d’un vélo dans un tra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Objecti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ngement automatique du vé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athématiq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de de sécurité à 4 chiffres et algorit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issance vérin      Mesures      Valeur moy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0" descr="http://sr.photos2.fotosearch.com/bthumb/CSP/CSP348/k3485194.jpg"/>
          <p:cNvPicPr/>
          <p:nvPr/>
        </p:nvPicPr>
        <p:blipFill>
          <a:blip r:embed="rId1"/>
          <a:stretch/>
        </p:blipFill>
        <p:spPr>
          <a:xfrm>
            <a:off x="5508720" y="3284640"/>
            <a:ext cx="807840" cy="900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sr.photos2.fotosearch.com/bthumb/CSP/CSP993/k15186114.jpg"/>
          <p:cNvPicPr/>
          <p:nvPr/>
        </p:nvPicPr>
        <p:blipFill>
          <a:blip r:embed="rId2"/>
          <a:stretch/>
        </p:blipFill>
        <p:spPr>
          <a:xfrm>
            <a:off x="7740720" y="3141720"/>
            <a:ext cx="726840" cy="1114200"/>
          </a:xfrm>
          <a:prstGeom prst="rect">
            <a:avLst/>
          </a:prstGeom>
          <a:ln w="0">
            <a:noFill/>
          </a:ln>
        </p:spPr>
      </p:pic>
      <p:sp>
        <p:nvSpPr>
          <p:cNvPr id="188" name="Flèche droite 5"/>
          <p:cNvSpPr/>
          <p:nvPr/>
        </p:nvSpPr>
        <p:spPr>
          <a:xfrm>
            <a:off x="3348000" y="5229360"/>
            <a:ext cx="287280" cy="4608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lèche droite 6"/>
          <p:cNvSpPr/>
          <p:nvPr/>
        </p:nvSpPr>
        <p:spPr>
          <a:xfrm>
            <a:off x="5292720" y="5229360"/>
            <a:ext cx="358920" cy="46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Quelques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mathématiques prennent-elles leur se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relation Elèves - Mathématiques change-t-el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-ce gênant que les notions mathématiques qui émergent puissent ne pas être en lien avec le programme obligatoir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professeur de mathématiques doit-il influer sur les no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8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8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a tour sola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宋体"/>
              </a:rPr>
              <a:t>En quoi la tour solaire est-elle une bonne alternative aux énergies utilisées actuell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a tour solai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incipe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ir chauffé par une serre 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rigé vers le haut et accélé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Objecti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ermettre aux turb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sitionnées à l’embouch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la cheminée de produ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l’électric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7" descr=""/>
          <p:cNvPicPr/>
          <p:nvPr/>
        </p:nvPicPr>
        <p:blipFill>
          <a:blip r:embed="rId1"/>
          <a:stretch/>
        </p:blipFill>
        <p:spPr>
          <a:xfrm>
            <a:off x="5629320" y="1700280"/>
            <a:ext cx="2975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mi les questions posé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le est la quantité d’air chauffée par la tour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i a entraîné la suivante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el est le volume de la tour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464646"/>
                </a:solidFill>
                <a:latin typeface="Calibri"/>
              </a:rPr>
              <a:t>Comment calculer le volume de la maquette de tour solaire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mage 20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0102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fr-FR" sz="3200" spc="-1" strike="noStrike" baseline="30000">
                <a:solidFill>
                  <a:srgbClr val="000000"/>
                </a:solidFill>
                <a:latin typeface="Calibri"/>
              </a:rPr>
              <a:t>èr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ré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ogiciel de CAO « Micro Station » utilisé par le groupe pour une modélisation 3D de la maquette donne, sur demande, le volume du solide représe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fr-FR" sz="3200" spc="-1" strike="noStrike" baseline="30000">
                <a:solidFill>
                  <a:srgbClr val="000000"/>
                </a:solidFill>
                <a:latin typeface="Calibri"/>
              </a:rPr>
              <a:t>èm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ré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A la main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6T15:32:55Z</dcterms:created>
  <dc:creator>Jeanphi PERRET</dc:creator>
  <dc:description/>
  <dc:language>en-US</dc:language>
  <cp:lastModifiedBy>Jeanphi PERRET</cp:lastModifiedBy>
  <dcterms:modified xsi:type="dcterms:W3CDTF">2013-12-10T20:48:43Z</dcterms:modified>
  <cp:revision>105</cp:revision>
  <dc:subject/>
  <dc:title>Diapositive 1</dc:title>
</cp:coreProperties>
</file>