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3B20-CAEA-4949-A378-C36D0F1BBD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5E98-978B-42C7-B3F8-2EC0C9DE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1164-7EEC-4577-8B52-D424CF69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A1A9-8FF7-47C6-A629-00C4DC975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0F6E-89AD-417C-847F-887F3DD7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7755-79B4-4659-B1B2-369CCAC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CDAF-9755-4758-8ECF-0B6AAA4B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D44D-4F0A-4B2E-8A24-DAB21097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2B2F-3D10-4DBC-B28F-E1E8094B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834C-E08D-4B94-B517-5F8F5F4E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320D-7A93-4988-8EC8-5A4D016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15E9-58C0-4876-AAF8-B387B4E5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00D-D539-47AF-9AD8-AFCCD9C1D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60120" y="1908000"/>
            <a:ext cx="56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s quadrilatèr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3760" y="6286680"/>
            <a:ext cx="1935360" cy="442800"/>
            <a:chOff x="383760" y="6286680"/>
            <a:chExt cx="1935360" cy="442800"/>
          </a:xfrm>
        </p:grpSpPr>
        <p:sp>
          <p:nvSpPr>
            <p:cNvPr id="45" name=""/>
            <p:cNvSpPr/>
            <p:nvPr/>
          </p:nvSpPr>
          <p:spPr>
            <a:xfrm>
              <a:off x="383760" y="628668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 action="ppaction://hlinksldjump"/>
                </a:rPr>
                <a:t>mode d'emplo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5040" y="6345360"/>
              <a:ext cx="154080" cy="168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65040" y="6561000"/>
              <a:ext cx="154080" cy="168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44640" y="103320"/>
            <a:ext cx="689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quadrilatère est une figure qui a 4 côt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760" y="439740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520" y="2757600"/>
            <a:ext cx="4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97240" y="44290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1360" y="1887480"/>
            <a:ext cx="2786040" cy="2640240"/>
            <a:chOff x="711360" y="1887480"/>
            <a:chExt cx="2786040" cy="2640240"/>
          </a:xfrm>
        </p:grpSpPr>
        <p:sp>
          <p:nvSpPr>
            <p:cNvPr id="54" name=""/>
            <p:cNvSpPr/>
            <p:nvPr/>
          </p:nvSpPr>
          <p:spPr>
            <a:xfrm>
              <a:off x="2365200" y="1887480"/>
              <a:ext cx="49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1360" y="2408400"/>
              <a:ext cx="2786040" cy="2119320"/>
            </a:xfrm>
            <a:custGeom>
              <a:avLst/>
              <a:gdLst/>
              <a:ahLst/>
              <a:rect l="l" t="t" r="r" b="b"/>
              <a:pathLst>
                <a:path w="2158" h="1664">
                  <a:moveTo>
                    <a:pt x="73" y="631"/>
                  </a:moveTo>
                  <a:lnTo>
                    <a:pt x="1170" y="0"/>
                  </a:lnTo>
                  <a:lnTo>
                    <a:pt x="2158" y="1664"/>
                  </a:lnTo>
                  <a:lnTo>
                    <a:pt x="0" y="1618"/>
                  </a:lnTo>
                  <a:lnTo>
                    <a:pt x="73" y="631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3120" y="2068560"/>
            <a:ext cx="78264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6840" y="3122640"/>
            <a:ext cx="507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ur le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omm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l faut, comme la petite fourm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90880" y="4386240"/>
            <a:ext cx="38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 faire le to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0280" y="5138640"/>
            <a:ext cx="663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a plusieurs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om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ossibles :            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24240" y="5776920"/>
            <a:ext cx="22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UR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14840" y="5762520"/>
            <a:ext cx="30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U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u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8440" y="2063880"/>
            <a:ext cx="78264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839960" y="1405080"/>
            <a:ext cx="782640" cy="1133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06720" y="1671480"/>
            <a:ext cx="49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F, O, U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ont      ses </a:t>
            </a: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somme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6.06936E-006 L 0.15243 -0.11608 L 0.29045 0.19236 L -0.01423 0.18404 L 5.55556E-007 -6.06936E-006 Z">
                                      <p:cBhvr>
                                        <p:cTn id="25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2.36994E-006 L 0.13959 0.30867 L -0.16823 0.30011 L -0.15399 0.11191 L -3.61111E-006 2.36994E-006 Z">
                                      <p:cBhvr>
                                        <p:cTn id="3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38889E-006 -2.94798E-006 L -0.00955 0.18382 L 0.29514 0.19006 L 0.15556 -0.11422 L -1.38889E-006 -2.94798E-006 Z">
                                      <p:cBhvr>
                                        <p:cTn id="47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44640" y="103320"/>
            <a:ext cx="689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quadrilatère est une figure qui a 4 côt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760" y="439740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2757600"/>
            <a:ext cx="4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97240" y="44290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11360" y="1887480"/>
            <a:ext cx="2786040" cy="2640240"/>
            <a:chOff x="711360" y="1887480"/>
            <a:chExt cx="2786040" cy="2640240"/>
          </a:xfrm>
        </p:grpSpPr>
        <p:sp>
          <p:nvSpPr>
            <p:cNvPr id="73" name=""/>
            <p:cNvSpPr/>
            <p:nvPr/>
          </p:nvSpPr>
          <p:spPr>
            <a:xfrm>
              <a:off x="2365200" y="1887480"/>
              <a:ext cx="49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1360" y="2408400"/>
              <a:ext cx="2786040" cy="2119320"/>
            </a:xfrm>
            <a:custGeom>
              <a:avLst/>
              <a:gdLst/>
              <a:ahLst/>
              <a:rect l="l" t="t" r="r" b="b"/>
              <a:pathLst>
                <a:path w="2158" h="1664">
                  <a:moveTo>
                    <a:pt x="73" y="631"/>
                  </a:moveTo>
                  <a:lnTo>
                    <a:pt x="1170" y="0"/>
                  </a:lnTo>
                  <a:lnTo>
                    <a:pt x="2158" y="1664"/>
                  </a:lnTo>
                  <a:lnTo>
                    <a:pt x="0" y="1618"/>
                  </a:lnTo>
                  <a:lnTo>
                    <a:pt x="73" y="631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2600" y="2149560"/>
            <a:ext cx="782640" cy="11332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615240" y="3424680"/>
            <a:ext cx="597960" cy="1067760"/>
            <a:chOff x="615240" y="3424680"/>
            <a:chExt cx="597960" cy="1067760"/>
          </a:xfrm>
        </p:grpSpPr>
        <p:sp>
          <p:nvSpPr>
            <p:cNvPr id="77" name=""/>
            <p:cNvSpPr/>
            <p:nvPr/>
          </p:nvSpPr>
          <p:spPr>
            <a:xfrm>
              <a:off x="615240" y="342468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00800" y="348480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3640" y="344052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6240" y="356220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3720" y="356040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68400" y="400392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840" y="361800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1320" y="371772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22320" y="380232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7480" y="366840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880" y="367596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3320" y="378396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3120" y="360756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09080" y="367488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1920" y="371376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36360" y="391140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52200" y="397332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67680" y="399168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5560" y="407772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7880" y="411192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5960" y="424044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7560" y="420516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4360" y="425232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4240" y="432252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4960" y="383688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6640" y="397332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200" y="399564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8400" y="402984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8080" y="413244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10520" y="422928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4640" y="425232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1200" y="413892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8800" y="343944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1200" y="343188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38160" y="348552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3320" y="348480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7680" y="358812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1920" y="355392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33840" y="359100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7680" y="359460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080" y="375552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3040" y="371196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66588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8800" y="371304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6480" y="376380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200" y="378396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5640" y="394560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7240" y="396072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7680" y="397908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75960" y="394092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20880" y="385992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37080" y="389196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9480" y="394488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0520" y="391500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68400" y="403524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1520" y="405756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9600" y="407880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7880" y="414612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6680" y="413496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07560" y="404352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47880" y="413316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0680" y="423000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1920" y="423396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5160" y="427176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0600" y="406044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28080" y="415908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6160" y="383364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5040" y="366660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4160" y="362520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3320" y="367596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5320" y="363996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1120" y="393732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4520" y="362340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62520" y="2249640"/>
            <a:ext cx="491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2 petites fourmis vont parcourir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 côtés opposé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5094360"/>
            <a:ext cx="776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[FO] et [RU]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t des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côtés opposé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ut comme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65600" y="5710320"/>
            <a:ext cx="78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[FR] et [OU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42880" y="2139840"/>
            <a:ext cx="7826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619920" y="3443760"/>
            <a:ext cx="597960" cy="1067760"/>
            <a:chOff x="619920" y="3443760"/>
            <a:chExt cx="597960" cy="1067760"/>
          </a:xfrm>
        </p:grpSpPr>
        <p:sp>
          <p:nvSpPr>
            <p:cNvPr id="155" name=""/>
            <p:cNvSpPr/>
            <p:nvPr/>
          </p:nvSpPr>
          <p:spPr>
            <a:xfrm>
              <a:off x="619920" y="344376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05480" y="350388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8320" y="345960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920" y="358128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8400" y="357948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3080" y="402300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8520" y="363708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6000" y="373680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27000" y="382140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2160" y="368748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0560" y="369504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000" y="380304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7800" y="362664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3760" y="369396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600" y="373284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1040" y="393048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56880" y="399240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2360" y="401076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240" y="409680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2560" y="413100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0640" y="425952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02240" y="422424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9040" y="427140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78920" y="434160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99640" y="385596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1320" y="399240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3880" y="401472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3080" y="404892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32760" y="415152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5200" y="424836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9320" y="427140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5880" y="415800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3480" y="345852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5880" y="345096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42840" y="350460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08000" y="350388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360" y="360720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6600" y="357300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38520" y="361008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2360" y="361368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3760" y="377460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7720" y="373104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9640" y="368496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3480" y="373212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160" y="378288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3880" y="380304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40320" y="396468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1920" y="397980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72360" y="399816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80640" y="396000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5560" y="387900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41760" y="391104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4160" y="396396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5200" y="393408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73080" y="405432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6200" y="407664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280" y="409788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2560" y="416520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1360" y="415404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2240" y="406260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52560" y="415224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35360" y="424908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600" y="425304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9840" y="429084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5280" y="407952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32760" y="417816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0840" y="385272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9720" y="368568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8840" y="364428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8000" y="369504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000" y="365904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5800" y="395640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89200" y="364248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3.06358E-006 L 0.13021 -0.09734 E">
                                      <p:cBhvr>
                                        <p:cTn id="68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5434E-006 L 0.29219 0.00833 E">
                                      <p:cBhvr>
                                        <p:cTn id="74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844640" y="103320"/>
            <a:ext cx="689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quadrilatère est une figure qui a 4 côt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760" y="439740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7520" y="2757600"/>
            <a:ext cx="4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97240" y="44290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11360" y="1887480"/>
            <a:ext cx="2786040" cy="2640240"/>
            <a:chOff x="711360" y="1887480"/>
            <a:chExt cx="2786040" cy="2640240"/>
          </a:xfrm>
        </p:grpSpPr>
        <p:sp>
          <p:nvSpPr>
            <p:cNvPr id="236" name=""/>
            <p:cNvSpPr/>
            <p:nvPr/>
          </p:nvSpPr>
          <p:spPr>
            <a:xfrm>
              <a:off x="2365200" y="1887480"/>
              <a:ext cx="49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1360" y="2408400"/>
              <a:ext cx="2786040" cy="2119320"/>
            </a:xfrm>
            <a:custGeom>
              <a:avLst/>
              <a:gdLst/>
              <a:ahLst/>
              <a:rect l="l" t="t" r="r" b="b"/>
              <a:pathLst>
                <a:path w="2158" h="1664">
                  <a:moveTo>
                    <a:pt x="73" y="631"/>
                  </a:moveTo>
                  <a:lnTo>
                    <a:pt x="1170" y="0"/>
                  </a:lnTo>
                  <a:lnTo>
                    <a:pt x="2158" y="1664"/>
                  </a:lnTo>
                  <a:lnTo>
                    <a:pt x="0" y="1618"/>
                  </a:lnTo>
                  <a:lnTo>
                    <a:pt x="73" y="631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73120" y="2068560"/>
            <a:ext cx="782640" cy="1133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68440" y="2063880"/>
            <a:ext cx="782640" cy="1133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586400" y="2205000"/>
            <a:ext cx="42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etite fourmi va parcourir   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 côtés consécutif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600" y="5094360"/>
            <a:ext cx="878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[FO] et [OU]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t des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côtés consécutif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ut comme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65600" y="5710320"/>
            <a:ext cx="62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[OU] et [UR] ou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9017E-007 L 0.15712 -0.11838 L 0.29844 0.19468 E">
                                      <p:cBhvr>
                                        <p:cTn id="100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2880" y="3192480"/>
            <a:ext cx="2670120" cy="130644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42880" y="2139840"/>
            <a:ext cx="7826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619920" y="3443760"/>
            <a:ext cx="597960" cy="1067760"/>
            <a:chOff x="619920" y="3443760"/>
            <a:chExt cx="597960" cy="1067760"/>
          </a:xfrm>
        </p:grpSpPr>
        <p:sp>
          <p:nvSpPr>
            <p:cNvPr id="250" name=""/>
            <p:cNvSpPr/>
            <p:nvPr/>
          </p:nvSpPr>
          <p:spPr>
            <a:xfrm>
              <a:off x="619920" y="344376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05480" y="350388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8320" y="345960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0920" y="358128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8400" y="357948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73080" y="402300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8520" y="363708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6000" y="373680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27000" y="382140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160" y="368748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0560" y="369504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8000" y="380304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7800" y="362664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13760" y="369396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6600" y="373284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41040" y="393048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56880" y="399240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72360" y="401076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240" y="409680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2560" y="413100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0640" y="425952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02240" y="422424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40" y="427140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78920" y="434160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99640" y="385596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1320" y="399240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93880" y="401472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73080" y="404892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32760" y="415152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15200" y="424836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9320" y="427140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5880" y="415800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3480" y="345852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5880" y="345096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42840" y="350460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08000" y="350388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2360" y="360720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6600" y="357300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8520" y="361008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2360" y="361368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3760" y="377460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7720" y="373104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9640" y="368496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3480" y="373212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1160" y="378288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3880" y="380304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40320" y="396468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1920" y="397980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2360" y="399816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0640" y="396000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25560" y="387900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41760" y="391104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84160" y="396396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5200" y="393408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73080" y="405432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06200" y="407664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4280" y="409788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2560" y="416520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91360" y="415404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240" y="406260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52560" y="415224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35360" y="424908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6600" y="425304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9840" y="429084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5280" y="407952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2760" y="417816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0840" y="385272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9720" y="368568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78840" y="364428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8000" y="369504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90000" y="365904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65800" y="395640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9200" y="364248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844640" y="103320"/>
            <a:ext cx="689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quadrilatère est une figure qui a 4 côt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760" y="439740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7520" y="2757600"/>
            <a:ext cx="4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97240" y="44290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11360" y="1887480"/>
            <a:ext cx="2786040" cy="2640240"/>
            <a:chOff x="711360" y="1887480"/>
            <a:chExt cx="2786040" cy="2640240"/>
          </a:xfrm>
        </p:grpSpPr>
        <p:sp>
          <p:nvSpPr>
            <p:cNvPr id="328" name=""/>
            <p:cNvSpPr/>
            <p:nvPr/>
          </p:nvSpPr>
          <p:spPr>
            <a:xfrm>
              <a:off x="2365200" y="1887480"/>
              <a:ext cx="49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1360" y="2408400"/>
              <a:ext cx="2786040" cy="2119320"/>
            </a:xfrm>
            <a:custGeom>
              <a:avLst/>
              <a:gdLst/>
              <a:ahLst/>
              <a:rect l="l" t="t" r="r" b="b"/>
              <a:pathLst>
                <a:path w="2158" h="1664">
                  <a:moveTo>
                    <a:pt x="73" y="631"/>
                  </a:moveTo>
                  <a:lnTo>
                    <a:pt x="1170" y="0"/>
                  </a:lnTo>
                  <a:lnTo>
                    <a:pt x="2158" y="1664"/>
                  </a:lnTo>
                  <a:lnTo>
                    <a:pt x="0" y="1618"/>
                  </a:lnTo>
                  <a:lnTo>
                    <a:pt x="73" y="631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52600" y="2149560"/>
            <a:ext cx="78264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615240" y="3424680"/>
            <a:ext cx="597960" cy="1067760"/>
            <a:chOff x="615240" y="3424680"/>
            <a:chExt cx="597960" cy="1067760"/>
          </a:xfrm>
        </p:grpSpPr>
        <p:sp>
          <p:nvSpPr>
            <p:cNvPr id="332" name=""/>
            <p:cNvSpPr/>
            <p:nvPr/>
          </p:nvSpPr>
          <p:spPr>
            <a:xfrm>
              <a:off x="615240" y="342468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00800" y="348480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3640" y="344052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6240" y="356220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720" y="356040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8400" y="400392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3840" y="361800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1320" y="371772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2320" y="380232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7480" y="366840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5880" y="367596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3320" y="378396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120" y="360756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9080" y="367488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71920" y="371376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36360" y="391140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52200" y="397332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67680" y="399168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5560" y="407772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7880" y="411192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85960" y="424044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7560" y="420516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4360" y="425232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74240" y="432252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94960" y="383688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6640" y="397332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9200" y="399564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68400" y="402984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28080" y="413244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0520" y="422928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54640" y="425232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1200" y="413892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8800" y="343944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71200" y="343188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38160" y="348552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03320" y="348480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7680" y="358812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1920" y="355392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33840" y="359100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7680" y="359460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9080" y="375552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3040" y="371196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960" y="366588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8800" y="371304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480" y="376380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200" y="378396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35640" y="394560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57240" y="396072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67680" y="397908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75960" y="394092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20880" y="385992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37080" y="389196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9480" y="394488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0520" y="391500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68400" y="403524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1520" y="405756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9600" y="407880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7880" y="414612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86680" y="413496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7560" y="404352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7880" y="413316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30680" y="423000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1920" y="423396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5160" y="427176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0600" y="406044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28080" y="415908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6160" y="383364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5040" y="366660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74160" y="362520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3320" y="367596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85320" y="363996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1120" y="393732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84520" y="362340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2149560"/>
            <a:ext cx="491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2 petites fourmis vont parcourir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s diagonales du quadrilatè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7560" y="4960800"/>
            <a:ext cx="77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FU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] et [</a:t>
            </a:r>
            <a:r>
              <a:rPr b="0" lang="en-US" sz="4000" spc="-1" strike="noStrike">
                <a:solidFill>
                  <a:srgbClr val="272775"/>
                </a:solidFill>
                <a:latin typeface="Times New Roman"/>
              </a:rPr>
              <a:t>RO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]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t les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diagonales du quadrilatère </a:t>
            </a: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272775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272775"/>
                </a:solidFill>
                <a:latin typeface="Times New Roman"/>
              </a:rPr>
              <a:t>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11360" y="2409840"/>
            <a:ext cx="1538280" cy="2060640"/>
          </a:xfrm>
          <a:prstGeom prst="line">
            <a:avLst/>
          </a:prstGeom>
          <a:ln w="38160">
            <a:solidFill>
              <a:srgbClr val="2727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680" y="5546880"/>
            <a:ext cx="85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les joignent 2 sommets oppos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16185E-006 L 0.29202 0.19237 E">
                                      <p:cBhvr>
                                        <p:cTn id="127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5.78035E-008 L 0.16354 -0.29595 E">
                                      <p:cBhvr>
                                        <p:cTn id="136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61960" y="1986120"/>
            <a:ext cx="469800" cy="447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4720" y="4121280"/>
            <a:ext cx="470160" cy="447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09880" y="646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89240" y="1814400"/>
            <a:ext cx="71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quer pour la suite du diapo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58640" y="3876840"/>
            <a:ext cx="65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dre jusqu'à l'apparition d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40600" y="4079880"/>
            <a:ext cx="470160" cy="4478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5:03:19Z</dcterms:modified>
  <cp:revision>22</cp:revision>
  <dc:subject/>
  <dc:title>Diapositive 1</dc:title>
</cp:coreProperties>
</file>