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98BCD9-B23C-46DE-892A-34C151A9020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C24C38-3818-4333-8401-576ECF8E7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6C5140-A297-4E64-937C-765E3ADA9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C37035-57B8-459D-BAB6-D82F351DF39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386333-BCD3-4B5E-A152-ED342D0D1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50E1D9-E63C-4096-898A-5A0D20D4C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4C1FF2-B4F3-473E-94D4-30BF9F402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BA3D87-7CA6-4EE3-8197-BEB38CE51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B56323-EAFC-49E0-BB46-B8425134E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3B6D2B-162A-4A33-8D86-60C8FD58B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F13107-EDCA-4D6C-98E0-6A8DD6DDA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EF6136-5ACD-482F-B66B-FB40DD85A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100584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9982080" y="5257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AA2ED-8BC7-4FD9-937A-0447A5BB1D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 rot="7943400">
            <a:off x="180000" y="-153000"/>
            <a:ext cx="1197000" cy="1868400"/>
          </a:xfrm>
          <a:prstGeom prst="irregularSeal1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412920" y="479160"/>
            <a:ext cx="573840" cy="475200"/>
            <a:chOff x="412920" y="479160"/>
            <a:chExt cx="573840" cy="475200"/>
          </a:xfrm>
        </p:grpSpPr>
        <p:sp>
          <p:nvSpPr>
            <p:cNvPr id="4" name=""/>
            <p:cNvSpPr txBox="1"/>
            <p:nvPr/>
          </p:nvSpPr>
          <p:spPr>
            <a:xfrm rot="111600">
              <a:off x="419040" y="509760"/>
              <a:ext cx="393480" cy="388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urveUp">
                <a:avLst>
                  <a:gd name="adj" fmla="val 5448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effectLst>
                    <a:outerShdw dist="40186" dir="1096358" blurRad="0" rotWithShape="0">
                      <a:srgbClr val="808080"/>
                    </a:outerShdw>
                  </a:effectLst>
                  <a:latin typeface="Arial Black"/>
                </a:rPr>
                <a:t>M</a:t>
              </a:r>
              <a:endParaRPr b="0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5" name=""/>
            <p:cNvSpPr txBox="1"/>
            <p:nvPr/>
          </p:nvSpPr>
          <p:spPr>
            <a:xfrm rot="111600">
              <a:off x="462600" y="487080"/>
              <a:ext cx="516600" cy="458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urveUp">
                <a:avLst>
                  <a:gd name="adj" fmla="val 5448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effectLst>
                    <a:outerShdw dist="40186" dir="1096358" blurRad="0" rotWithShape="0">
                      <a:srgbClr val="808080"/>
                    </a:outerShdw>
                  </a:effectLst>
                  <a:latin typeface="Arial Black"/>
                </a:rPr>
                <a:t>M</a:t>
              </a:r>
              <a:endParaRPr b="0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  <a:ea typeface="Arial Black"/>
              </a:endParaRPr>
            </a:p>
          </p:txBody>
        </p:sp>
      </p:grpSp>
      <p:sp>
        <p:nvSpPr>
          <p:cNvPr id="6" name=""/>
          <p:cNvSpPr/>
          <p:nvPr/>
        </p:nvSpPr>
        <p:spPr>
          <a:xfrm>
            <a:off x="260280" y="907920"/>
            <a:ext cx="109080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baseline="-25000">
                <a:solidFill>
                  <a:srgbClr val="000000"/>
                </a:solidFill>
                <a:latin typeface="Times New Roman"/>
              </a:rPr>
              <a:t>Les mathématiques autre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63640" y="0"/>
            <a:ext cx="8685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struisons le losange STAR tel que    SA = 6cm et TR = 10c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203040" y="1577880"/>
            <a:ext cx="1677960" cy="2414160"/>
            <a:chOff x="203040" y="1577880"/>
            <a:chExt cx="1677960" cy="2414160"/>
          </a:xfrm>
        </p:grpSpPr>
        <p:sp>
          <p:nvSpPr>
            <p:cNvPr id="45" name=""/>
            <p:cNvSpPr/>
            <p:nvPr/>
          </p:nvSpPr>
          <p:spPr>
            <a:xfrm>
              <a:off x="725400" y="3544560"/>
              <a:ext cx="542880" cy="44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03040" y="2523960"/>
              <a:ext cx="55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 flipH="1">
              <a:off x="515520" y="1917360"/>
              <a:ext cx="368280" cy="786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0280" y="2731680"/>
              <a:ext cx="368280" cy="786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925560" y="1945800"/>
              <a:ext cx="368280" cy="787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914040" y="2773080"/>
              <a:ext cx="368280" cy="786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52400" y="1577880"/>
              <a:ext cx="542880" cy="44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338120" y="2582640"/>
              <a:ext cx="542880" cy="44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25680" y="2744280"/>
              <a:ext cx="61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c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92000" y="2276280"/>
              <a:ext cx="74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c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54040" y="2717640"/>
              <a:ext cx="698400" cy="24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4160" y="1942920"/>
              <a:ext cx="0" cy="1586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2520" y="4133880"/>
            <a:ext cx="15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Je tr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60" y="4680000"/>
            <a:ext cx="589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 segment [SA] et son milieu 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960" y="5213520"/>
            <a:ext cx="55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 perpendiculaire à [SA] en 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480" y="5708520"/>
            <a:ext cx="787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 cercle de centre I et de rayon 10:2=5c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600" y="6216480"/>
            <a:ext cx="728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s points T et R puis le losange ST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rcRect l="14438" t="12597" r="58013" b="30653"/>
          <a:stretch/>
        </p:blipFill>
        <p:spPr>
          <a:xfrm>
            <a:off x="5908680" y="1539720"/>
            <a:ext cx="3149640" cy="4054680"/>
          </a:xfrm>
          <a:prstGeom prst="rect">
            <a:avLst/>
          </a:prstGeom>
          <a:ln w="57240">
            <a:solidFill>
              <a:srgbClr val="ffbe7d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3"/>
          <a:srcRect l="14438" t="12597" r="58013" b="30653"/>
          <a:stretch/>
        </p:blipFill>
        <p:spPr>
          <a:xfrm>
            <a:off x="5908680" y="1539720"/>
            <a:ext cx="3149640" cy="4054680"/>
          </a:xfrm>
          <a:prstGeom prst="rect">
            <a:avLst/>
          </a:prstGeom>
          <a:ln w="57240">
            <a:solidFill>
              <a:srgbClr val="ffbe7d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4"/>
          <a:srcRect l="14438" t="12597" r="58013" b="30653"/>
          <a:stretch/>
        </p:blipFill>
        <p:spPr>
          <a:xfrm>
            <a:off x="5908680" y="1539720"/>
            <a:ext cx="3149640" cy="4054680"/>
          </a:xfrm>
          <a:prstGeom prst="rect">
            <a:avLst/>
          </a:prstGeom>
          <a:ln w="57240">
            <a:solidFill>
              <a:srgbClr val="ffbe7d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5"/>
          <a:srcRect l="14438" t="12597" r="58013" b="30653"/>
          <a:stretch/>
        </p:blipFill>
        <p:spPr>
          <a:xfrm>
            <a:off x="5908680" y="1539720"/>
            <a:ext cx="3149640" cy="4054680"/>
          </a:xfrm>
          <a:prstGeom prst="rect">
            <a:avLst/>
          </a:prstGeom>
          <a:ln w="57240">
            <a:solidFill>
              <a:srgbClr val="ffbe7d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8674200" y="6410160"/>
            <a:ext cx="469800" cy="44784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40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60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80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2:39:18Z</dcterms:created>
  <dc:creator>jmb</dc:creator>
  <dc:description/>
  <dc:language>en-US</dc:language>
  <cp:lastModifiedBy>Canard</cp:lastModifiedBy>
  <dcterms:modified xsi:type="dcterms:W3CDTF">2007-01-29T15:26:15Z</dcterms:modified>
  <cp:revision>23</cp:revision>
  <dc:subject/>
  <dc:title>Diapositive 1</dc:title>
</cp:coreProperties>
</file>