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B3E8D-F144-44AA-9661-07DF882625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4E112-47A9-42F8-91DC-61AA680C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4B7AC-9B59-4733-82FB-32F04BB9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C77E4-2449-4879-999C-1AE18E6568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919E9-A726-4C27-A61E-1A84AE69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36AA-D731-4D4E-B66E-4C8917FC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7095-EACE-4B6F-A4FE-1FEBEED8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1031-45EA-4078-90B2-817B9771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7616-E642-42D5-9CCE-1B9E4B41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3BE80-8C23-4ACB-BDFF-DF56C15F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40D4-8BB1-4151-AAEA-C181D783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D60C-81B7-47A0-B3FA-59D35537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058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9982080" y="525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7832-FC45-450F-AB54-C04B79FC0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7943400">
            <a:off x="180000" y="-153000"/>
            <a:ext cx="1197000" cy="1868400"/>
          </a:xfrm>
          <a:prstGeom prst="irregularSeal1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12920" y="479160"/>
            <a:ext cx="573840" cy="475200"/>
            <a:chOff x="412920" y="479160"/>
            <a:chExt cx="573840" cy="475200"/>
          </a:xfrm>
        </p:grpSpPr>
        <p:sp>
          <p:nvSpPr>
            <p:cNvPr id="4" name=""/>
            <p:cNvSpPr txBox="1"/>
            <p:nvPr/>
          </p:nvSpPr>
          <p:spPr>
            <a:xfrm rot="111600">
              <a:off x="419040" y="509760"/>
              <a:ext cx="393480" cy="38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11600">
              <a:off x="462600" y="487080"/>
              <a:ext cx="516600" cy="45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260280" y="907920"/>
            <a:ext cx="1090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Les mathématiques autr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5250" t="29393" r="60638" b="8398"/>
          <a:stretch/>
        </p:blipFill>
        <p:spPr>
          <a:xfrm>
            <a:off x="5548320" y="1590840"/>
            <a:ext cx="3382920" cy="385740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rcRect l="5250" t="29393" r="60638" b="8398"/>
          <a:stretch/>
        </p:blipFill>
        <p:spPr>
          <a:xfrm>
            <a:off x="5548320" y="1590840"/>
            <a:ext cx="3382920" cy="385740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grpSp>
        <p:nvGrpSpPr>
          <p:cNvPr id="45" name=""/>
          <p:cNvGrpSpPr/>
          <p:nvPr/>
        </p:nvGrpSpPr>
        <p:grpSpPr>
          <a:xfrm>
            <a:off x="420840" y="1544760"/>
            <a:ext cx="2449080" cy="1898640"/>
            <a:chOff x="420840" y="1544760"/>
            <a:chExt cx="2449080" cy="1898640"/>
          </a:xfrm>
        </p:grpSpPr>
        <p:sp>
          <p:nvSpPr>
            <p:cNvPr id="46" name=""/>
            <p:cNvSpPr/>
            <p:nvPr/>
          </p:nvSpPr>
          <p:spPr>
            <a:xfrm>
              <a:off x="743040" y="3095640"/>
              <a:ext cx="4759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87560" y="1544760"/>
              <a:ext cx="4741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0840" y="2079720"/>
              <a:ext cx="4330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94000" y="2354400"/>
              <a:ext cx="4759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06360" y="1887840"/>
              <a:ext cx="5648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72960" y="2256120"/>
              <a:ext cx="5349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85800" y="1946520"/>
              <a:ext cx="14173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28680" y="1968480"/>
              <a:ext cx="323640" cy="58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034640" y="2554560"/>
              <a:ext cx="141732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5800" y="2449800"/>
              <a:ext cx="299520" cy="733320"/>
            </a:xfrm>
            <a:custGeom>
              <a:avLst/>
              <a:gdLst/>
              <a:ahLst/>
              <a:rect l="l" t="t" r="r" b="b"/>
              <a:pathLst>
                <a:path w="180" h="525">
                  <a:moveTo>
                    <a:pt x="0" y="0"/>
                  </a:moveTo>
                  <a:cubicBezTo>
                    <a:pt x="73" y="218"/>
                    <a:pt x="147" y="437"/>
                    <a:pt x="180" y="5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017360" y="1976400"/>
              <a:ext cx="1069560" cy="12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514520" y="0"/>
            <a:ext cx="780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isons le rectangle LACS     tel que LS = 6cm et LC = 10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00" y="4121280"/>
            <a:ext cx="46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egment [LS] de 6 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80" y="358776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e trac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40" y="462924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perpendiculaire en L à [LS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20" y="5164200"/>
            <a:ext cx="56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perpendiculaire en S à [LS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0" y="5721480"/>
            <a:ext cx="832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rc de cercle de centre L et de rayon 10 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20" y="6216480"/>
            <a:ext cx="57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perpendiculaire en C à [CS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548320" y="1590840"/>
            <a:ext cx="3382920" cy="3857400"/>
            <a:chOff x="5548320" y="1590840"/>
            <a:chExt cx="3382920" cy="3857400"/>
          </a:xfrm>
        </p:grpSpPr>
        <p:pic>
          <p:nvPicPr>
            <p:cNvPr id="66" name="" descr=""/>
            <p:cNvPicPr/>
            <p:nvPr/>
          </p:nvPicPr>
          <p:blipFill>
            <a:blip r:embed="rId4"/>
            <a:srcRect l="5250" t="29393" r="60638" b="8398"/>
            <a:stretch/>
          </p:blipFill>
          <p:spPr>
            <a:xfrm>
              <a:off x="5548320" y="1590840"/>
              <a:ext cx="3382920" cy="3857400"/>
            </a:xfrm>
            <a:prstGeom prst="rect">
              <a:avLst/>
            </a:prstGeom>
            <a:ln w="57240">
              <a:solidFill>
                <a:srgbClr val="ffbe7d"/>
              </a:solidFill>
              <a:miter/>
            </a:ln>
          </p:spPr>
        </p:pic>
        <p:sp>
          <p:nvSpPr>
            <p:cNvPr id="67" name=""/>
            <p:cNvSpPr/>
            <p:nvPr/>
          </p:nvSpPr>
          <p:spPr>
            <a:xfrm>
              <a:off x="6377040" y="332748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879960" y="2206800"/>
              <a:ext cx="361800" cy="2597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548320" y="1590840"/>
            <a:ext cx="3382920" cy="3857400"/>
            <a:chOff x="5548320" y="1590840"/>
            <a:chExt cx="3382920" cy="3857400"/>
          </a:xfrm>
        </p:grpSpPr>
        <p:pic>
          <p:nvPicPr>
            <p:cNvPr id="70" name="" descr=""/>
            <p:cNvPicPr/>
            <p:nvPr/>
          </p:nvPicPr>
          <p:blipFill>
            <a:blip r:embed="rId5"/>
            <a:srcRect l="5250" t="29393" r="60638" b="8398"/>
            <a:stretch/>
          </p:blipFill>
          <p:spPr>
            <a:xfrm>
              <a:off x="5548320" y="1590840"/>
              <a:ext cx="3382920" cy="3857400"/>
            </a:xfrm>
            <a:prstGeom prst="rect">
              <a:avLst/>
            </a:prstGeom>
            <a:ln w="57240">
              <a:solidFill>
                <a:srgbClr val="ffbe7d"/>
              </a:solidFill>
              <a:miter/>
            </a:ln>
          </p:spPr>
        </p:pic>
        <p:sp>
          <p:nvSpPr>
            <p:cNvPr id="71" name=""/>
            <p:cNvSpPr/>
            <p:nvPr/>
          </p:nvSpPr>
          <p:spPr>
            <a:xfrm flipH="1">
              <a:off x="6879960" y="2205000"/>
              <a:ext cx="361800" cy="2597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67320" y="3325680"/>
              <a:ext cx="78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2:39:18Z</dcterms:created>
  <dc:creator>jmb</dc:creator>
  <dc:description/>
  <dc:language>en-US</dc:language>
  <cp:lastModifiedBy>Canard</cp:lastModifiedBy>
  <dcterms:modified xsi:type="dcterms:W3CDTF">2007-01-30T15:00:07Z</dcterms:modified>
  <cp:revision>31</cp:revision>
  <dc:subject/>
  <dc:title>Diapositive 1</dc:title>
</cp:coreProperties>
</file>