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E8E4-7741-4B28-AE11-6684C7932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AA5F-C068-4C7C-8E9F-D6737DBB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0C9E-F073-4284-9482-8CAD213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9655-BE36-4EF9-8113-555DF7E02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86A5-D8D1-4F67-8D29-18E1C9D4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0914-9A59-4F82-89F5-D270FF2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46D4-20D8-44F1-96B6-9501B5C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8DE0-031C-4D89-A943-74A70CC2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64C1-A991-4A72-B6B0-60BFA394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0D9C-D072-4202-B55C-659152F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B880-B662-4E78-9701-1A70F67C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1371-F7E3-4F8F-B0D8-FBC80EB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336-7CF3-4676-B878-E52B46F3C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8480" y="1957320"/>
            <a:ext cx="596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e cerf-vol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3760" y="6286680"/>
            <a:ext cx="1935360" cy="442800"/>
            <a:chOff x="383760" y="6286680"/>
            <a:chExt cx="1935360" cy="442800"/>
          </a:xfrm>
        </p:grpSpPr>
        <p:sp>
          <p:nvSpPr>
            <p:cNvPr id="45" name=""/>
            <p:cNvSpPr/>
            <p:nvPr/>
          </p:nvSpPr>
          <p:spPr>
            <a:xfrm>
              <a:off x="383760" y="628668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00ff"/>
                  </a:solidFill>
                  <a:uFillTx/>
                  <a:latin typeface="Times New Roman"/>
                  <a:hlinkClick r:id="rId2" action="ppaction://hlinksldjump"/>
                </a:rPr>
                <a:t>mode d'emplo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5040" y="6345360"/>
              <a:ext cx="154080" cy="168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5040" y="6561000"/>
              <a:ext cx="154080" cy="168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264960" y="1701720"/>
            <a:ext cx="82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5802480" y="2295360"/>
            <a:ext cx="873720" cy="106200"/>
            <a:chOff x="5802480" y="2295360"/>
            <a:chExt cx="873720" cy="106200"/>
          </a:xfrm>
        </p:grpSpPr>
        <p:sp>
          <p:nvSpPr>
            <p:cNvPr id="1512" name=""/>
            <p:cNvSpPr/>
            <p:nvPr/>
          </p:nvSpPr>
          <p:spPr>
            <a:xfrm flipV="1">
              <a:off x="5802480" y="2295360"/>
              <a:ext cx="44892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6227280" y="2300040"/>
              <a:ext cx="44892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0" y="3108240"/>
            <a:ext cx="46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dessine, à main levée, un petit schéma sur lequel je place toutes les indications données dans l’énonc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5065920" y="4006800"/>
            <a:ext cx="3229560" cy="1667880"/>
            <a:chOff x="5065920" y="4006800"/>
            <a:chExt cx="3229560" cy="1667880"/>
          </a:xfrm>
        </p:grpSpPr>
        <p:sp>
          <p:nvSpPr>
            <p:cNvPr id="1517" name=""/>
            <p:cNvSpPr/>
            <p:nvPr/>
          </p:nvSpPr>
          <p:spPr>
            <a:xfrm flipV="1">
              <a:off x="5575320" y="4406760"/>
              <a:ext cx="774360" cy="39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00520" y="4838760"/>
              <a:ext cx="7113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387840" y="4419720"/>
              <a:ext cx="1460520" cy="49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6324480" y="4965840"/>
              <a:ext cx="156204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65920" y="4562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12080" y="4780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204240" y="400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81480" y="5214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1863000">
              <a:off x="5561640" y="4688640"/>
              <a:ext cx="177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727600" y="458784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339160" y="49705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63320" y="50864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1438200" y="0"/>
            <a:ext cx="730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’un cerf-volan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aissant 2 côtés et un ang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538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544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-2338560" y="2611440"/>
            <a:ext cx="6391440" cy="612468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566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570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576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768240" y="1200600"/>
            <a:ext cx="1162800" cy="5017320"/>
            <a:chOff x="768240" y="1200600"/>
            <a:chExt cx="1162800" cy="5017320"/>
          </a:xfrm>
        </p:grpSpPr>
        <p:sp>
          <p:nvSpPr>
            <p:cNvPr id="1591" name=""/>
            <p:cNvSpPr/>
            <p:nvPr/>
          </p:nvSpPr>
          <p:spPr>
            <a:xfrm rot="20859600">
              <a:off x="1336320" y="2388960"/>
              <a:ext cx="266040" cy="31035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1658880" y="3534480"/>
              <a:ext cx="257400" cy="2683440"/>
              <a:chOff x="1658880" y="3534480"/>
              <a:chExt cx="257400" cy="2683440"/>
            </a:xfrm>
          </p:grpSpPr>
          <p:grpSp>
            <p:nvGrpSpPr>
              <p:cNvPr id="1593" name=""/>
              <p:cNvGrpSpPr/>
              <p:nvPr/>
            </p:nvGrpSpPr>
            <p:grpSpPr>
              <a:xfrm>
                <a:off x="1658880" y="3534480"/>
                <a:ext cx="257400" cy="2683440"/>
                <a:chOff x="1658880" y="3534480"/>
                <a:chExt cx="257400" cy="2683440"/>
              </a:xfrm>
            </p:grpSpPr>
            <p:sp>
              <p:nvSpPr>
                <p:cNvPr id="1594" name=""/>
                <p:cNvSpPr/>
                <p:nvPr/>
              </p:nvSpPr>
              <p:spPr>
                <a:xfrm flipH="1" rot="21111600">
                  <a:off x="1672560" y="508644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1697040" y="3534480"/>
                  <a:ext cx="191880" cy="2683440"/>
                  <a:chOff x="1697040" y="3534480"/>
                  <a:chExt cx="191880" cy="268344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 flipH="1" rot="21567000">
                    <a:off x="1699920" y="558756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30000">
                    <a:off x="1715040" y="353484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>
                    <a:off x="1781640" y="614520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V="1">
                    <a:off x="1754280" y="353448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V="1">
                    <a:off x="1813680" y="354528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1" name=""/>
              <p:cNvSpPr/>
              <p:nvPr/>
            </p:nvSpPr>
            <p:spPr>
              <a:xfrm flipH="1" flipV="1" rot="21364200">
                <a:off x="1679760" y="509004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 rot="185400">
              <a:off x="1061640" y="1204560"/>
              <a:ext cx="167760" cy="3585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226200">
              <a:off x="882360" y="2269800"/>
              <a:ext cx="222120" cy="34797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33000">
              <a:off x="939600" y="1514520"/>
              <a:ext cx="396720" cy="10126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-61200" y="1873080"/>
            <a:ext cx="76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rot="2034000">
            <a:off x="83160" y="4760640"/>
            <a:ext cx="1828440" cy="191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20" y="2042"/>
                </a:moveTo>
                <a:arcTo wR="10800" hR="10800" stAng="-3251064" swAng="3251064"/>
                <a:lnTo>
                  <a:pt x="10800" y="10800"/>
                </a:lnTo>
                <a:close/>
              </a:path>
              <a:path fill="none" w="21600" h="21600">
                <a:moveTo>
                  <a:pt x="17120" y="2042"/>
                </a:moveTo>
                <a:arcTo wR="10800" hR="10800" stAng="-3251064" swAng="3251064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769680" y="1138680"/>
            <a:ext cx="1266120" cy="4552920"/>
            <a:chOff x="769680" y="1138680"/>
            <a:chExt cx="1266120" cy="4552920"/>
          </a:xfrm>
        </p:grpSpPr>
        <p:sp>
          <p:nvSpPr>
            <p:cNvPr id="1615" name=""/>
            <p:cNvSpPr/>
            <p:nvPr/>
          </p:nvSpPr>
          <p:spPr>
            <a:xfrm rot="20448600">
              <a:off x="1401840" y="2246040"/>
              <a:ext cx="266760" cy="227808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769680" y="1138680"/>
              <a:ext cx="1237320" cy="4552920"/>
              <a:chOff x="769680" y="1138680"/>
              <a:chExt cx="1237320" cy="4552920"/>
            </a:xfrm>
          </p:grpSpPr>
          <p:grpSp>
            <p:nvGrpSpPr>
              <p:cNvPr id="1617" name=""/>
              <p:cNvGrpSpPr/>
              <p:nvPr/>
            </p:nvGrpSpPr>
            <p:grpSpPr>
              <a:xfrm>
                <a:off x="1749240" y="2723400"/>
                <a:ext cx="257760" cy="2683440"/>
                <a:chOff x="1749240" y="2723400"/>
                <a:chExt cx="257760" cy="2683440"/>
              </a:xfrm>
            </p:grpSpPr>
            <p:grpSp>
              <p:nvGrpSpPr>
                <p:cNvPr id="1618" name=""/>
                <p:cNvGrpSpPr/>
                <p:nvPr/>
              </p:nvGrpSpPr>
              <p:grpSpPr>
                <a:xfrm>
                  <a:off x="1749240" y="2723400"/>
                  <a:ext cx="257760" cy="2683440"/>
                  <a:chOff x="1749240" y="2723400"/>
                  <a:chExt cx="257760" cy="268344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 flipH="1" rot="21111600">
                    <a:off x="1763280" y="4275360"/>
                    <a:ext cx="229320" cy="216720"/>
                  </a:xfrm>
                  <a:prstGeom prst="blockArc">
                    <a:avLst>
                      <a:gd name="adj1" fmla="val 9609163"/>
                      <a:gd name="adj2" fmla="val 1190837"/>
                      <a:gd name="adj3" fmla="val 20301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"/>
                  <p:cNvGrpSpPr/>
                  <p:nvPr/>
                </p:nvGrpSpPr>
                <p:grpSpPr>
                  <a:xfrm>
                    <a:off x="1787760" y="2723400"/>
                    <a:ext cx="191880" cy="2683440"/>
                    <a:chOff x="1787760" y="2723400"/>
                    <a:chExt cx="191880" cy="2683440"/>
                  </a:xfrm>
                </p:grpSpPr>
                <p:sp>
                  <p:nvSpPr>
                    <p:cNvPr id="1621" name=""/>
                    <p:cNvSpPr/>
                    <p:nvPr/>
                  </p:nvSpPr>
                  <p:spPr>
                    <a:xfrm flipH="1" rot="21567000">
                      <a:off x="1790640" y="4776480"/>
                      <a:ext cx="173160" cy="594360"/>
                    </a:xfrm>
                    <a:prstGeom prst="flowChartMerge">
                      <a:avLst/>
                    </a:prstGeom>
                    <a:solidFill>
                      <a:srgbClr val="ffa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 flipH="1" rot="30000">
                      <a:off x="1805760" y="2723760"/>
                      <a:ext cx="164880" cy="20660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"/>
                    <p:cNvSpPr/>
                    <p:nvPr/>
                  </p:nvSpPr>
                  <p:spPr>
                    <a:xfrm flipH="1">
                      <a:off x="1872360" y="5334120"/>
                      <a:ext cx="720" cy="72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 flipV="1">
                      <a:off x="1845000" y="2723400"/>
                      <a:ext cx="18360" cy="206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5" name=""/>
                    <p:cNvSpPr/>
                    <p:nvPr/>
                  </p:nvSpPr>
                  <p:spPr>
                    <a:xfrm flipV="1">
                      <a:off x="1904400" y="2734200"/>
                      <a:ext cx="18360" cy="204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26" name=""/>
                <p:cNvSpPr/>
                <p:nvPr/>
              </p:nvSpPr>
              <p:spPr>
                <a:xfrm flipH="1" flipV="1" rot="21364200">
                  <a:off x="1770480" y="4279320"/>
                  <a:ext cx="228240" cy="2185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7" name=""/>
              <p:cNvSpPr/>
              <p:nvPr/>
            </p:nvSpPr>
            <p:spPr>
              <a:xfrm rot="185400">
                <a:off x="1063440" y="1142640"/>
                <a:ext cx="168120" cy="35892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226200">
                <a:off x="883800" y="2207880"/>
                <a:ext cx="22248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33000">
                <a:off x="941400" y="1452600"/>
                <a:ext cx="396720" cy="10126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0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632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637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641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2"/>
          <a:stretch/>
        </p:blipFill>
        <p:spPr>
          <a:xfrm rot="2100600">
            <a:off x="755640" y="4365720"/>
            <a:ext cx="7089840" cy="566244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668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4108320" y="1823040"/>
            <a:ext cx="2066400" cy="4552920"/>
            <a:chOff x="4108320" y="1823040"/>
            <a:chExt cx="2066400" cy="4552920"/>
          </a:xfrm>
        </p:grpSpPr>
        <p:sp>
          <p:nvSpPr>
            <p:cNvPr id="1671" name=""/>
            <p:cNvSpPr/>
            <p:nvPr/>
          </p:nvSpPr>
          <p:spPr>
            <a:xfrm rot="19509600">
              <a:off x="5124600" y="2701440"/>
              <a:ext cx="266400" cy="282744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2" name=""/>
            <p:cNvGrpSpPr/>
            <p:nvPr/>
          </p:nvGrpSpPr>
          <p:grpSpPr>
            <a:xfrm>
              <a:off x="5894640" y="3477600"/>
              <a:ext cx="257400" cy="2683080"/>
              <a:chOff x="5894640" y="3477600"/>
              <a:chExt cx="257400" cy="2683080"/>
            </a:xfrm>
          </p:grpSpPr>
          <p:grpSp>
            <p:nvGrpSpPr>
              <p:cNvPr id="1673" name=""/>
              <p:cNvGrpSpPr/>
              <p:nvPr/>
            </p:nvGrpSpPr>
            <p:grpSpPr>
              <a:xfrm>
                <a:off x="5894640" y="3477600"/>
                <a:ext cx="257400" cy="2683080"/>
                <a:chOff x="5894640" y="3477600"/>
                <a:chExt cx="257400" cy="2683080"/>
              </a:xfrm>
            </p:grpSpPr>
            <p:sp>
              <p:nvSpPr>
                <p:cNvPr id="1674" name=""/>
                <p:cNvSpPr/>
                <p:nvPr/>
              </p:nvSpPr>
              <p:spPr>
                <a:xfrm flipH="1" rot="21111600">
                  <a:off x="5908320" y="502956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5" name=""/>
                <p:cNvGrpSpPr/>
                <p:nvPr/>
              </p:nvGrpSpPr>
              <p:grpSpPr>
                <a:xfrm>
                  <a:off x="5932800" y="3477600"/>
                  <a:ext cx="191880" cy="2683080"/>
                  <a:chOff x="5932800" y="3477600"/>
                  <a:chExt cx="191880" cy="2683080"/>
                </a:xfrm>
              </p:grpSpPr>
              <p:sp>
                <p:nvSpPr>
                  <p:cNvPr id="1676" name=""/>
                  <p:cNvSpPr/>
                  <p:nvPr/>
                </p:nvSpPr>
                <p:spPr>
                  <a:xfrm flipH="1" rot="21567000">
                    <a:off x="5935680" y="553068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H="1" rot="30000">
                    <a:off x="5950800" y="3477960"/>
                    <a:ext cx="164880" cy="2065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H="1">
                    <a:off x="6017400" y="608796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5990040" y="3477960"/>
                    <a:ext cx="18360" cy="20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V="1">
                    <a:off x="6049440" y="348840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81" name=""/>
              <p:cNvSpPr/>
              <p:nvPr/>
            </p:nvSpPr>
            <p:spPr>
              <a:xfrm flipH="1" flipV="1" rot="21364200">
                <a:off x="5915520" y="503316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4108320" y="1823040"/>
              <a:ext cx="573480" cy="4552920"/>
              <a:chOff x="4108320" y="1823040"/>
              <a:chExt cx="573480" cy="4552920"/>
            </a:xfrm>
          </p:grpSpPr>
          <p:sp>
            <p:nvSpPr>
              <p:cNvPr id="1683" name=""/>
              <p:cNvSpPr/>
              <p:nvPr/>
            </p:nvSpPr>
            <p:spPr>
              <a:xfrm rot="185400">
                <a:off x="4401720" y="182700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26200">
                <a:off x="4222440" y="289224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33000">
                <a:off x="4280040" y="213660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6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688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692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718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-360" y="425592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F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1655640" y="1707120"/>
            <a:ext cx="2068200" cy="4890240"/>
            <a:chOff x="1655640" y="1707120"/>
            <a:chExt cx="2068200" cy="4890240"/>
          </a:xfrm>
        </p:grpSpPr>
        <p:sp>
          <p:nvSpPr>
            <p:cNvPr id="1723" name=""/>
            <p:cNvSpPr/>
            <p:nvPr/>
          </p:nvSpPr>
          <p:spPr>
            <a:xfrm rot="20007600">
              <a:off x="2690640" y="2590920"/>
              <a:ext cx="266760" cy="349380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3391200" y="3913920"/>
              <a:ext cx="257400" cy="2683440"/>
              <a:chOff x="3391200" y="3913920"/>
              <a:chExt cx="257400" cy="268344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3391200" y="3913920"/>
                <a:ext cx="257400" cy="2683440"/>
                <a:chOff x="3391200" y="3913920"/>
                <a:chExt cx="257400" cy="2683440"/>
              </a:xfrm>
            </p:grpSpPr>
            <p:sp>
              <p:nvSpPr>
                <p:cNvPr id="1726" name=""/>
                <p:cNvSpPr/>
                <p:nvPr/>
              </p:nvSpPr>
              <p:spPr>
                <a:xfrm flipH="1" rot="21111600">
                  <a:off x="3404880" y="546588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7" name=""/>
                <p:cNvGrpSpPr/>
                <p:nvPr/>
              </p:nvGrpSpPr>
              <p:grpSpPr>
                <a:xfrm>
                  <a:off x="3429360" y="3913920"/>
                  <a:ext cx="191880" cy="2683440"/>
                  <a:chOff x="3429360" y="3913920"/>
                  <a:chExt cx="191880" cy="268344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 flipH="1" rot="21567000">
                    <a:off x="3432240" y="596700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H="1" rot="30000">
                    <a:off x="3447360" y="391428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flipH="1">
                    <a:off x="3513960" y="652464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V="1">
                    <a:off x="3486600" y="391392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flipV="1">
                    <a:off x="3546000" y="392472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3" name=""/>
              <p:cNvSpPr/>
              <p:nvPr/>
            </p:nvSpPr>
            <p:spPr>
              <a:xfrm flipH="1" flipV="1" rot="21364200">
                <a:off x="3412080" y="546948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655640" y="1707120"/>
              <a:ext cx="573480" cy="4552920"/>
              <a:chOff x="1655640" y="1707120"/>
              <a:chExt cx="573480" cy="4552920"/>
            </a:xfrm>
          </p:grpSpPr>
          <p:sp>
            <p:nvSpPr>
              <p:cNvPr id="1735" name=""/>
              <p:cNvSpPr/>
              <p:nvPr/>
            </p:nvSpPr>
            <p:spPr>
              <a:xfrm rot="185400">
                <a:off x="1949040" y="171108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226200">
                <a:off x="1769760" y="277632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33000">
                <a:off x="1827360" y="202068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8" name=""/>
          <p:cNvSpPr/>
          <p:nvPr/>
        </p:nvSpPr>
        <p:spPr>
          <a:xfrm rot="2509200">
            <a:off x="1634400" y="527904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740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744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1192320" y="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cerf-volant CERF tel que CE = 3cm et ER = 5cm et ECF = 4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841320" y="5699880"/>
            <a:ext cx="939960" cy="53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584360" y="6156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61720" y="52815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49080" y="58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880" y="1278000"/>
            <a:ext cx="68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e segment [CE] de 3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-124560" y="1873080"/>
            <a:ext cx="77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l’angle de sommet C de 4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3448080" y="5175360"/>
            <a:ext cx="12060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855720" y="5153040"/>
            <a:ext cx="2816280" cy="55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880" y="245124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C passant par 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rot="2034000">
            <a:off x="82440" y="4760640"/>
            <a:ext cx="182844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45" y="531"/>
                </a:moveTo>
                <a:arcTo wR="10800" hR="10800" stAng="-4317348" swAng="4317348"/>
                <a:lnTo>
                  <a:pt x="10800" y="10800"/>
                </a:lnTo>
                <a:close/>
              </a:path>
              <a:path fill="none" w="21600" h="21600">
                <a:moveTo>
                  <a:pt x="14145" y="531"/>
                </a:moveTo>
                <a:arcTo wR="10800" hR="10800" stAng="-4317348" swAng="4317348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080" y="3003480"/>
            <a:ext cx="40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place le point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611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6691320" y="581040"/>
            <a:ext cx="874800" cy="106200"/>
            <a:chOff x="6691320" y="581040"/>
            <a:chExt cx="874800" cy="106200"/>
          </a:xfrm>
        </p:grpSpPr>
        <p:sp>
          <p:nvSpPr>
            <p:cNvPr id="1770" name=""/>
            <p:cNvSpPr/>
            <p:nvPr/>
          </p:nvSpPr>
          <p:spPr>
            <a:xfrm flipV="1">
              <a:off x="6691320" y="58104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 flipV="1">
              <a:off x="7116840" y="5857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-13320" y="3602160"/>
            <a:ext cx="85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E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-360" y="425592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un arc de centre F de rayon 5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788840" y="970560"/>
            <a:ext cx="1773360" cy="5544360"/>
            <a:chOff x="1788840" y="970560"/>
            <a:chExt cx="1773360" cy="5544360"/>
          </a:xfrm>
        </p:grpSpPr>
        <p:sp>
          <p:nvSpPr>
            <p:cNvPr id="1775" name=""/>
            <p:cNvSpPr/>
            <p:nvPr/>
          </p:nvSpPr>
          <p:spPr>
            <a:xfrm rot="20461200">
              <a:off x="2668680" y="1982520"/>
              <a:ext cx="266760" cy="38955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3244680" y="3831480"/>
              <a:ext cx="257760" cy="2683440"/>
              <a:chOff x="3244680" y="3831480"/>
              <a:chExt cx="257760" cy="268344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3244680" y="3831480"/>
                <a:ext cx="257760" cy="2683440"/>
                <a:chOff x="3244680" y="3831480"/>
                <a:chExt cx="257760" cy="268344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 rot="21111600">
                  <a:off x="3258720" y="5383440"/>
                  <a:ext cx="22932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9" name=""/>
                <p:cNvGrpSpPr/>
                <p:nvPr/>
              </p:nvGrpSpPr>
              <p:grpSpPr>
                <a:xfrm>
                  <a:off x="3283200" y="3831480"/>
                  <a:ext cx="191880" cy="2683440"/>
                  <a:chOff x="3283200" y="3831480"/>
                  <a:chExt cx="191880" cy="268344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 flipH="1" rot="21567000">
                    <a:off x="3286080" y="5884560"/>
                    <a:ext cx="1731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H="1" rot="30000">
                    <a:off x="3301200" y="383184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H="1">
                    <a:off x="3367800" y="6442200"/>
                    <a:ext cx="7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3340440" y="3831480"/>
                    <a:ext cx="18360" cy="206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 flipV="1">
                    <a:off x="3399840" y="3842280"/>
                    <a:ext cx="18360" cy="204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5" name=""/>
              <p:cNvSpPr/>
              <p:nvPr/>
            </p:nvSpPr>
            <p:spPr>
              <a:xfrm flipH="1" flipV="1" rot="21364200">
                <a:off x="3265920" y="5387400"/>
                <a:ext cx="22824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1788840" y="970560"/>
              <a:ext cx="573480" cy="4552920"/>
              <a:chOff x="1788840" y="970560"/>
              <a:chExt cx="573480" cy="4552920"/>
            </a:xfrm>
          </p:grpSpPr>
          <p:sp>
            <p:nvSpPr>
              <p:cNvPr id="1787" name=""/>
              <p:cNvSpPr/>
              <p:nvPr/>
            </p:nvSpPr>
            <p:spPr>
              <a:xfrm rot="185400">
                <a:off x="2082240" y="974520"/>
                <a:ext cx="168480" cy="3585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226200">
                <a:off x="1902960" y="2039760"/>
                <a:ext cx="222120" cy="347976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33000">
                <a:off x="1960560" y="1284120"/>
                <a:ext cx="396720" cy="1013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0" name=""/>
          <p:cNvSpPr/>
          <p:nvPr/>
        </p:nvSpPr>
        <p:spPr>
          <a:xfrm rot="2509200">
            <a:off x="1634400" y="527904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4317000">
            <a:off x="1843920" y="4834800"/>
            <a:ext cx="2018160" cy="16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2" y="1402"/>
                </a:moveTo>
                <a:arcTo wR="10800" hR="10800" stAng="-3628537" swAng="2770172"/>
                <a:lnTo>
                  <a:pt x="10800" y="10800"/>
                </a:lnTo>
                <a:close/>
              </a:path>
              <a:path fill="none" w="21600" h="21600">
                <a:moveTo>
                  <a:pt x="16122" y="1402"/>
                </a:moveTo>
                <a:arcTo wR="10800" hR="10800" stAng="-3628537" swAng="2770172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124880" y="4894200"/>
            <a:ext cx="427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’obtiens le point 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157280" y="5545080"/>
            <a:ext cx="45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trace [FR] et [ER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544920" y="5907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905120" y="5499000"/>
            <a:ext cx="1670040" cy="74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765440" y="6229440"/>
            <a:ext cx="18032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192400" y="616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-1044360" y="4239360"/>
            <a:ext cx="2620440" cy="2520720"/>
            <a:chOff x="-1044360" y="4239360"/>
            <a:chExt cx="2620440" cy="2520720"/>
          </a:xfrm>
        </p:grpSpPr>
        <p:sp>
          <p:nvSpPr>
            <p:cNvPr id="1799" name=""/>
            <p:cNvSpPr/>
            <p:nvPr/>
          </p:nvSpPr>
          <p:spPr>
            <a:xfrm rot="1558800">
              <a:off x="-717120" y="4542480"/>
              <a:ext cx="1827000" cy="19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3" y="7827"/>
                  </a:moveTo>
                  <a:arcTo wR="10800" hR="10800" stAng="-958850" swAng="570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3" y="7827"/>
                  </a:moveTo>
                  <a:arcTo wR="10800" hR="10800" stAng="-958850" swAng="570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037160" y="55594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7023240" y="930240"/>
            <a:ext cx="2118960" cy="1171440"/>
            <a:chOff x="7023240" y="930240"/>
            <a:chExt cx="2118960" cy="1171440"/>
          </a:xfrm>
        </p:grpSpPr>
        <p:sp>
          <p:nvSpPr>
            <p:cNvPr id="1805" name=""/>
            <p:cNvSpPr/>
            <p:nvPr/>
          </p:nvSpPr>
          <p:spPr>
            <a:xfrm flipV="1">
              <a:off x="7321680" y="1220760"/>
              <a:ext cx="506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337520" y="1503360"/>
              <a:ext cx="46512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53400" y="1228680"/>
              <a:ext cx="9558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7812360" y="1585440"/>
              <a:ext cx="10206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023240" y="128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809200" y="1384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93560" y="93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50000" y="1733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1863000">
              <a:off x="7311960" y="1405080"/>
              <a:ext cx="116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432920" y="1297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110000" y="1496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42040" y="162396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1684440" y="0"/>
            <a:ext cx="4003560" cy="3309840"/>
          </a:xfrm>
          <a:prstGeom prst="wedgeEllipseCallout">
            <a:avLst>
              <a:gd name="adj1" fmla="val -67763"/>
              <a:gd name="adj2" fmla="val 115898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" descr=""/>
          <p:cNvPicPr/>
          <p:nvPr/>
        </p:nvPicPr>
        <p:blipFill>
          <a:blip r:embed="rId2"/>
          <a:stretch/>
        </p:blipFill>
        <p:spPr>
          <a:xfrm>
            <a:off x="4705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1819" name=""/>
          <p:cNvGrpSpPr/>
          <p:nvPr/>
        </p:nvGrpSpPr>
        <p:grpSpPr>
          <a:xfrm>
            <a:off x="5584320" y="2894760"/>
            <a:ext cx="2855160" cy="3056040"/>
            <a:chOff x="5584320" y="2894760"/>
            <a:chExt cx="2855160" cy="3056040"/>
          </a:xfrm>
        </p:grpSpPr>
        <p:sp>
          <p:nvSpPr>
            <p:cNvPr id="1820" name=""/>
            <p:cNvSpPr/>
            <p:nvPr/>
          </p:nvSpPr>
          <p:spPr>
            <a:xfrm rot="1248000">
              <a:off x="62146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12057600">
              <a:off x="57798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1826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6171840" y="437256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6190920" y="445032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6225840" y="451368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 flipV="1">
            <a:off x="7139160" y="502884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 flipV="1">
            <a:off x="7259760" y="490500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H="1" flipV="1">
            <a:off x="7193160" y="4982400"/>
            <a:ext cx="154800" cy="22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3242520" y="5937120"/>
            <a:ext cx="1266480" cy="1939320"/>
            <a:chOff x="3242520" y="5937120"/>
            <a:chExt cx="1266480" cy="1939320"/>
          </a:xfrm>
        </p:grpSpPr>
        <p:sp>
          <p:nvSpPr>
            <p:cNvPr id="1874" name=""/>
            <p:cNvSpPr/>
            <p:nvPr/>
          </p:nvSpPr>
          <p:spPr>
            <a:xfrm flipH="1" rot="193800">
              <a:off x="3965400" y="5940000"/>
              <a:ext cx="106560" cy="14760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rot="193800">
              <a:off x="39718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rot="193800">
              <a:off x="397332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93800">
              <a:off x="3640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rot="193800">
              <a:off x="3785760" y="6176160"/>
              <a:ext cx="450720" cy="41436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 rot="193800">
              <a:off x="391752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 rot="193800">
              <a:off x="3285720" y="626976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 rot="193800">
              <a:off x="383472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 rot="193800">
              <a:off x="3980520" y="625932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rot="193800">
              <a:off x="365364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 rot="193800">
              <a:off x="395424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 rot="193800">
              <a:off x="382716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 rot="193800">
              <a:off x="381888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 rot="193800">
              <a:off x="37821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rot="193800">
              <a:off x="405216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 rot="193800">
              <a:off x="4312080" y="7200000"/>
              <a:ext cx="111240" cy="11016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 rot="193800">
              <a:off x="39326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 rot="193800">
              <a:off x="366300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 rot="193800">
              <a:off x="400212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 rot="193800">
              <a:off x="334332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 rot="193800">
              <a:off x="3900600" y="6671520"/>
              <a:ext cx="77760" cy="8820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rot="193800">
              <a:off x="4019760" y="6927840"/>
              <a:ext cx="73080" cy="9792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rot="193800">
              <a:off x="38703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rot="193800">
              <a:off x="371700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rot="193800">
              <a:off x="3777480" y="7205760"/>
              <a:ext cx="98280" cy="10404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rot="193800">
              <a:off x="3628080" y="7372800"/>
              <a:ext cx="60480" cy="500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rot="193800">
              <a:off x="3915000" y="7433280"/>
              <a:ext cx="111240" cy="6732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rot="193800">
              <a:off x="401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 rot="193800">
              <a:off x="3678480" y="602460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 rot="193800">
              <a:off x="363960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 rot="193800">
              <a:off x="3942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rot="193800">
              <a:off x="390564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 rot="193800">
              <a:off x="3801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 rot="193800">
              <a:off x="377460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rot="193800">
              <a:off x="378000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 rot="193800">
              <a:off x="3699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rot="193800">
              <a:off x="371304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 rot="193800">
              <a:off x="3709800" y="6920640"/>
              <a:ext cx="96840" cy="961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 rot="193800">
              <a:off x="371160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 rot="193800">
              <a:off x="389124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 rot="193800">
              <a:off x="3768840" y="6766920"/>
              <a:ext cx="111240" cy="10728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rot="193800">
              <a:off x="387360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 rot="193800">
              <a:off x="3970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 rot="193800">
              <a:off x="3726360" y="702360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 rot="193800">
              <a:off x="3651480" y="7061040"/>
              <a:ext cx="66600" cy="26100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 rot="193800">
              <a:off x="401040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rot="193800">
              <a:off x="396072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 rot="193800">
              <a:off x="388764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rot="193800">
              <a:off x="381024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 rot="193800">
              <a:off x="3621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 rot="193800">
              <a:off x="328356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 rot="193800">
              <a:off x="3960720" y="741132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 rot="193800">
              <a:off x="3931920" y="7472880"/>
              <a:ext cx="233280" cy="37440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rot="193800">
              <a:off x="398772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 rot="193800">
              <a:off x="326772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 rot="193800">
              <a:off x="3950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 rot="193800">
              <a:off x="39232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 rot="193800">
              <a:off x="376416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 rot="193800">
              <a:off x="393768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rot="193800">
              <a:off x="3780000" y="630324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 rot="193800">
              <a:off x="361260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1936" name=""/>
            <p:cNvSpPr/>
            <p:nvPr/>
          </p:nvSpPr>
          <p:spPr>
            <a:xfrm flipH="1" rot="20872200">
              <a:off x="313596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 rot="20872200">
              <a:off x="2987280" y="626580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 rot="20872200">
              <a:off x="3188160" y="6264000"/>
              <a:ext cx="270360" cy="28152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 rot="208722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 rot="20872200">
              <a:off x="3292200" y="663840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rot="20872200">
              <a:off x="3189240" y="6775200"/>
              <a:ext cx="209880" cy="17856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rot="20872200">
              <a:off x="321840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 rot="20872200">
              <a:off x="319932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 rot="20872200">
              <a:off x="318348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 rot="20872200">
              <a:off x="334836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 rot="20872200">
              <a:off x="32770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 rot="20872200">
              <a:off x="318456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 rot="20872200">
              <a:off x="2964600" y="6858000"/>
              <a:ext cx="30960" cy="4140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 rot="20872200">
              <a:off x="330516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 rot="20872200">
              <a:off x="344448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 rot="20872200">
              <a:off x="316908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 rot="20872200">
              <a:off x="3098520" y="706500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 rot="20872200">
              <a:off x="299880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 rot="20872200">
              <a:off x="315540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 rot="20872200">
              <a:off x="33296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 rot="20872200">
              <a:off x="286884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 rot="20872200">
              <a:off x="3245040" y="7090920"/>
              <a:ext cx="180720" cy="24192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 rot="20872200">
              <a:off x="2964240" y="7223040"/>
              <a:ext cx="63000" cy="3744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 rot="20872200">
              <a:off x="317196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 rot="20872200">
              <a:off x="316728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 rot="20872200">
              <a:off x="321012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 rot="20872200">
              <a:off x="310860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 rot="20872200">
              <a:off x="311976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 rot="20872200">
              <a:off x="3143520" y="6338520"/>
              <a:ext cx="311400" cy="21492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rot="20872200">
              <a:off x="319068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 rot="20872200">
              <a:off x="3252960" y="625176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 rot="20872200">
              <a:off x="314532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 rot="20872200">
              <a:off x="3003120" y="6248880"/>
              <a:ext cx="204840" cy="11520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 rot="20872200">
              <a:off x="29829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 rot="20872200">
              <a:off x="320112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 rot="20872200">
              <a:off x="317664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rot="20872200">
              <a:off x="3045960" y="678348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 rot="20872200">
              <a:off x="31755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 rot="20872200">
              <a:off x="305424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rot="20872200">
              <a:off x="2946600" y="6812280"/>
              <a:ext cx="98640" cy="8352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 rot="20872200">
              <a:off x="2941560" y="6856560"/>
              <a:ext cx="37080" cy="9936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rot="20872200">
              <a:off x="2990880" y="6908040"/>
              <a:ext cx="64080" cy="2772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 rot="20872200">
              <a:off x="325224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 rot="20872200">
              <a:off x="323856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 rot="20872200">
              <a:off x="31546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 rot="20872200">
              <a:off x="3127320" y="7065360"/>
              <a:ext cx="88920" cy="16452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rot="20872200">
              <a:off x="3201840" y="7204320"/>
              <a:ext cx="228960" cy="24840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 rot="20872200">
              <a:off x="3286080" y="7451280"/>
              <a:ext cx="172440" cy="3996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 rot="20872200">
              <a:off x="3274560" y="7404120"/>
              <a:ext cx="79200" cy="7488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 rot="20872200">
              <a:off x="3164400" y="722016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 rot="20872200">
              <a:off x="315072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rot="20872200">
              <a:off x="302472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 rot="20872200">
              <a:off x="2977920" y="716616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rot="20872200">
              <a:off x="286164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rot="20872200">
              <a:off x="2795400" y="7211520"/>
              <a:ext cx="228960" cy="23256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rot="20872200">
              <a:off x="321552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900000" y="0"/>
            <a:ext cx="6094440" cy="1727280"/>
          </a:xfrm>
          <a:prstGeom prst="wedgeEllipseCallout">
            <a:avLst>
              <a:gd name="adj1" fmla="val -6449"/>
              <a:gd name="adj2" fmla="val 318384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479600" y="231840"/>
            <a:ext cx="489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ces diagonal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295280" y="536400"/>
            <a:ext cx="448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 tu veux tout savoir sur ces diagonales,    regard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/>
          <p:nvPr/>
        </p:nvSpPr>
        <p:spPr>
          <a:xfrm>
            <a:off x="0" y="0"/>
            <a:ext cx="6413400" cy="2060640"/>
          </a:xfrm>
          <a:prstGeom prst="wedgeEllipseCallout">
            <a:avLst>
              <a:gd name="adj1" fmla="val -34828"/>
              <a:gd name="adj2" fmla="val 216486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" descr=""/>
          <p:cNvPicPr/>
          <p:nvPr/>
        </p:nvPicPr>
        <p:blipFill>
          <a:blip r:embed="rId2"/>
          <a:stretch/>
        </p:blipFill>
        <p:spPr>
          <a:xfrm>
            <a:off x="4705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2000" name=""/>
          <p:cNvGrpSpPr/>
          <p:nvPr/>
        </p:nvGrpSpPr>
        <p:grpSpPr>
          <a:xfrm>
            <a:off x="5584320" y="2894760"/>
            <a:ext cx="2855160" cy="3056040"/>
            <a:chOff x="5584320" y="2894760"/>
            <a:chExt cx="2855160" cy="3056040"/>
          </a:xfrm>
        </p:grpSpPr>
        <p:sp>
          <p:nvSpPr>
            <p:cNvPr id="2001" name=""/>
            <p:cNvSpPr/>
            <p:nvPr/>
          </p:nvSpPr>
          <p:spPr>
            <a:xfrm rot="1248000">
              <a:off x="62146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12057600">
              <a:off x="57798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2007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>
            <a:off x="6171840" y="437256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6190920" y="445032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6225840" y="451368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7139160" y="502884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 flipV="1">
            <a:off x="7259760" y="490500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 flipV="1">
            <a:off x="7193160" y="4982400"/>
            <a:ext cx="154800" cy="22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3268440" y="5937120"/>
            <a:ext cx="1266120" cy="1939320"/>
            <a:chOff x="3268440" y="5937120"/>
            <a:chExt cx="1266120" cy="1939320"/>
          </a:xfrm>
        </p:grpSpPr>
        <p:sp>
          <p:nvSpPr>
            <p:cNvPr id="2055" name=""/>
            <p:cNvSpPr/>
            <p:nvPr/>
          </p:nvSpPr>
          <p:spPr>
            <a:xfrm rot="21406200">
              <a:off x="3704760" y="5940000"/>
              <a:ext cx="106560" cy="14724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21406200">
              <a:off x="36892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21406200">
              <a:off x="364140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21406200">
              <a:off x="3991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21406200">
              <a:off x="3540240" y="6176160"/>
              <a:ext cx="450720" cy="41400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21406200">
              <a:off x="372168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21406200">
              <a:off x="3311640" y="627012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21406200">
              <a:off x="385344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21406200">
              <a:off x="3657960" y="625968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 rot="21406200">
              <a:off x="403128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 rot="21406200">
              <a:off x="373176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21406200">
              <a:off x="389340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21406200">
              <a:off x="393264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21406200">
              <a:off x="39693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21406200">
              <a:off x="349488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21406200">
              <a:off x="3353760" y="7200000"/>
              <a:ext cx="111240" cy="11052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21406200">
              <a:off x="38174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21406200">
              <a:off x="405684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21406200">
              <a:off x="357660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21406200">
              <a:off x="423684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21406200">
              <a:off x="3798360" y="6671520"/>
              <a:ext cx="77760" cy="885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21406200">
              <a:off x="3684240" y="6927840"/>
              <a:ext cx="73080" cy="9828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21406200">
              <a:off x="38001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21406200">
              <a:off x="397692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21406200">
              <a:off x="3900600" y="7205760"/>
              <a:ext cx="98280" cy="10440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21406200">
              <a:off x="4088160" y="7372800"/>
              <a:ext cx="60480" cy="5040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21406200">
              <a:off x="3750480" y="7433280"/>
              <a:ext cx="111240" cy="6768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21406200">
              <a:off x="338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21406200">
              <a:off x="3859200" y="602424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21406200">
              <a:off x="399816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21406200">
              <a:off x="3546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21406200">
              <a:off x="352692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21406200">
              <a:off x="3855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21406200">
              <a:off x="354672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21406200">
              <a:off x="364896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21406200">
              <a:off x="3897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21406200">
              <a:off x="394488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21406200">
              <a:off x="3970440" y="6920640"/>
              <a:ext cx="96840" cy="9648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21406200">
              <a:off x="398448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21406200">
              <a:off x="385488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rot="21406200">
              <a:off x="3896640" y="6766920"/>
              <a:ext cx="111240" cy="10764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rot="21406200">
              <a:off x="377748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rot="21406200">
              <a:off x="3664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21406200">
              <a:off x="3981600" y="702396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21406200">
              <a:off x="4059360" y="7061040"/>
              <a:ext cx="66600" cy="26136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21406200">
              <a:off x="372312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21406200">
              <a:off x="374976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21406200">
              <a:off x="381420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21406200">
              <a:off x="385056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21406200">
              <a:off x="3945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21406200">
              <a:off x="413460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21406200">
              <a:off x="3405600" y="741096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21406200">
              <a:off x="3611880" y="7472880"/>
              <a:ext cx="233280" cy="37404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21406200">
              <a:off x="331668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21406200">
              <a:off x="391428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21406200">
              <a:off x="3716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rot="21406200">
              <a:off x="38008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rot="21406200">
              <a:off x="394920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21406200">
              <a:off x="381816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21406200">
              <a:off x="3972960" y="630360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21406200">
              <a:off x="376164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2117" name=""/>
            <p:cNvSpPr/>
            <p:nvPr/>
          </p:nvSpPr>
          <p:spPr>
            <a:xfrm rot="727800">
              <a:off x="303588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727800">
              <a:off x="3181680" y="626616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727800">
              <a:off x="2797200" y="6264000"/>
              <a:ext cx="270360" cy="28188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7278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727800">
              <a:off x="2925000" y="663876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727800">
              <a:off x="2856600" y="6775200"/>
              <a:ext cx="209880" cy="17892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727800">
              <a:off x="288648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727800">
              <a:off x="297756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727800">
              <a:off x="302112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727800">
              <a:off x="288144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727800">
              <a:off x="29278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727800">
              <a:off x="305100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rot="727800">
              <a:off x="3260520" y="6858000"/>
              <a:ext cx="30960" cy="410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727800">
              <a:off x="286308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rot="727800">
              <a:off x="276156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727800">
              <a:off x="300420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727800">
              <a:off x="3096360" y="706536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727800">
              <a:off x="323784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727800">
              <a:off x="307908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727800">
              <a:off x="28508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727800">
              <a:off x="334476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727800">
              <a:off x="2829240" y="7090920"/>
              <a:ext cx="180720" cy="24156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727800">
              <a:off x="3228480" y="7223040"/>
              <a:ext cx="63000" cy="3780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727800">
              <a:off x="303588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rot="727800">
              <a:off x="281016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rot="727800">
              <a:off x="301644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727800">
              <a:off x="309348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rot="727800">
              <a:off x="308808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rot="727800">
              <a:off x="2800080" y="6338520"/>
              <a:ext cx="311400" cy="21528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727800">
              <a:off x="278856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727800">
              <a:off x="2816280" y="625140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727800">
              <a:off x="293148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727800">
              <a:off x="3047760" y="6248880"/>
              <a:ext cx="204840" cy="11556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rot="727800">
              <a:off x="31773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rot="727800">
              <a:off x="283428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rot="727800">
              <a:off x="288216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727800">
              <a:off x="2853000" y="678312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727800">
              <a:off x="29271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727800">
              <a:off x="305352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727800">
              <a:off x="3210120" y="6812280"/>
              <a:ext cx="98640" cy="8388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rot="727800">
              <a:off x="3276360" y="6856560"/>
              <a:ext cx="37080" cy="9972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727800">
              <a:off x="3201120" y="6908040"/>
              <a:ext cx="64080" cy="2736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rot="727800">
              <a:off x="296928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rot="727800">
              <a:off x="274320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rot="727800">
              <a:off x="29854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rot="727800">
              <a:off x="3040200" y="7065360"/>
              <a:ext cx="88560" cy="16488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rot="727800">
              <a:off x="2824560" y="7204320"/>
              <a:ext cx="228960" cy="24876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rot="727800">
              <a:off x="2797200" y="7451280"/>
              <a:ext cx="172440" cy="4032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rot="727800">
              <a:off x="2901600" y="7404120"/>
              <a:ext cx="79200" cy="7452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rot="727800">
              <a:off x="2932920" y="722052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rot="727800">
              <a:off x="308268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rot="727800">
              <a:off x="308736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rot="727800">
              <a:off x="3233520" y="716580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727800">
              <a:off x="320832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rot="727800">
              <a:off x="3231000" y="7211520"/>
              <a:ext cx="228960" cy="23292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727800">
              <a:off x="302796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/>
          <p:nvPr/>
        </p:nvSpPr>
        <p:spPr>
          <a:xfrm flipH="1">
            <a:off x="6589440" y="3251160"/>
            <a:ext cx="826920" cy="2336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081840" y="3832200"/>
            <a:ext cx="198756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7198920" y="4108320"/>
            <a:ext cx="50040" cy="132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 flipV="1">
            <a:off x="7137720" y="4078080"/>
            <a:ext cx="109800" cy="42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6095520" y="3149640"/>
            <a:ext cx="304920" cy="696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8073720" y="3867120"/>
            <a:ext cx="304920" cy="696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994360" y="25257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8030880" y="3198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1280" y="406440"/>
            <a:ext cx="523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'une des diagonales est médiatrice de l'aut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6487920" y="3933720"/>
            <a:ext cx="129960" cy="189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7508880" y="4302000"/>
            <a:ext cx="130320" cy="189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4" name="" descr=""/>
          <p:cNvPicPr/>
          <p:nvPr/>
        </p:nvPicPr>
        <p:blipFill>
          <a:blip r:embed="rId3"/>
          <a:stretch/>
        </p:blipFill>
        <p:spPr>
          <a:xfrm rot="19833000">
            <a:off x="3946680" y="1517400"/>
            <a:ext cx="5662440" cy="708984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684440" y="0"/>
            <a:ext cx="4003560" cy="3309840"/>
          </a:xfrm>
          <a:prstGeom prst="wedgeEllipseCallout">
            <a:avLst>
              <a:gd name="adj1" fmla="val -67763"/>
              <a:gd name="adj2" fmla="val 115898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2198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4" name=""/>
          <p:cNvSpPr/>
          <p:nvPr/>
        </p:nvSpPr>
        <p:spPr>
          <a:xfrm>
            <a:off x="1295280" y="536400"/>
            <a:ext cx="448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 tu veux tout savoir sur ces diagonales,    regard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/>
          <p:nvPr/>
        </p:nvSpPr>
        <p:spPr>
          <a:xfrm>
            <a:off x="0" y="0"/>
            <a:ext cx="6413400" cy="2060640"/>
          </a:xfrm>
          <a:prstGeom prst="wedgeEllipseCallout">
            <a:avLst>
              <a:gd name="adj1" fmla="val -34828"/>
              <a:gd name="adj2" fmla="val 216486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6" name="" descr=""/>
          <p:cNvPicPr/>
          <p:nvPr/>
        </p:nvPicPr>
        <p:blipFill>
          <a:blip r:embed="rId2"/>
          <a:stretch/>
        </p:blipFill>
        <p:spPr>
          <a:xfrm>
            <a:off x="4894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2237" name=""/>
          <p:cNvGrpSpPr/>
          <p:nvPr/>
        </p:nvGrpSpPr>
        <p:grpSpPr>
          <a:xfrm>
            <a:off x="5584320" y="2894760"/>
            <a:ext cx="2855160" cy="3056040"/>
            <a:chOff x="5584320" y="2894760"/>
            <a:chExt cx="2855160" cy="3056040"/>
          </a:xfrm>
        </p:grpSpPr>
        <p:sp>
          <p:nvSpPr>
            <p:cNvPr id="2238" name=""/>
            <p:cNvSpPr/>
            <p:nvPr/>
          </p:nvSpPr>
          <p:spPr>
            <a:xfrm rot="1248000">
              <a:off x="62146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12057600">
              <a:off x="57798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2244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6171840" y="437256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6190920" y="445032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6225840" y="451368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 flipV="1">
            <a:off x="7139160" y="502884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 flipV="1">
            <a:off x="7259760" y="490500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7193160" y="4982400"/>
            <a:ext cx="154800" cy="22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3242520" y="5937120"/>
            <a:ext cx="1266480" cy="1939320"/>
            <a:chOff x="3242520" y="5937120"/>
            <a:chExt cx="1266480" cy="1939320"/>
          </a:xfrm>
        </p:grpSpPr>
        <p:sp>
          <p:nvSpPr>
            <p:cNvPr id="2292" name=""/>
            <p:cNvSpPr/>
            <p:nvPr/>
          </p:nvSpPr>
          <p:spPr>
            <a:xfrm flipH="1" rot="193800">
              <a:off x="3965400" y="5940000"/>
              <a:ext cx="106560" cy="14760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 rot="193800">
              <a:off x="39718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 rot="193800">
              <a:off x="397332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 rot="193800">
              <a:off x="3640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 rot="193800">
              <a:off x="3785760" y="6176160"/>
              <a:ext cx="450720" cy="41436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 rot="193800">
              <a:off x="391752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 rot="193800">
              <a:off x="3285720" y="626976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 rot="193800">
              <a:off x="383472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rot="193800">
              <a:off x="3980520" y="625932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rot="193800">
              <a:off x="365364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 rot="193800">
              <a:off x="395424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 rot="193800">
              <a:off x="382716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rot="193800">
              <a:off x="381888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 rot="193800">
              <a:off x="37821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rot="193800">
              <a:off x="405216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 rot="193800">
              <a:off x="4312080" y="7200000"/>
              <a:ext cx="111240" cy="11016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rot="193800">
              <a:off x="39326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 rot="193800">
              <a:off x="366300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 rot="193800">
              <a:off x="400212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 rot="193800">
              <a:off x="334332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 rot="193800">
              <a:off x="3900600" y="6671520"/>
              <a:ext cx="77760" cy="8820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 rot="193800">
              <a:off x="4019760" y="6927840"/>
              <a:ext cx="73080" cy="9792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 rot="193800">
              <a:off x="38703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 rot="193800">
              <a:off x="371700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 rot="193800">
              <a:off x="3777480" y="7205760"/>
              <a:ext cx="98280" cy="10404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 rot="193800">
              <a:off x="3628080" y="7372800"/>
              <a:ext cx="60480" cy="500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 rot="193800">
              <a:off x="3915000" y="7433280"/>
              <a:ext cx="111240" cy="6732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 rot="193800">
              <a:off x="401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rot="193800">
              <a:off x="3678480" y="602460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 rot="193800">
              <a:off x="363960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 rot="193800">
              <a:off x="3942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 rot="193800">
              <a:off x="390564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 rot="193800">
              <a:off x="3801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rot="193800">
              <a:off x="377460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rot="193800">
              <a:off x="378000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93800">
              <a:off x="3699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 rot="193800">
              <a:off x="371304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 rot="193800">
              <a:off x="3709800" y="6920640"/>
              <a:ext cx="96840" cy="961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93800">
              <a:off x="371160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 rot="193800">
              <a:off x="389124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rot="193800">
              <a:off x="3768840" y="6766920"/>
              <a:ext cx="111240" cy="10728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 rot="193800">
              <a:off x="387360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H="1" rot="193800">
              <a:off x="3970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 rot="193800">
              <a:off x="3726360" y="702360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 rot="193800">
              <a:off x="3651480" y="7061040"/>
              <a:ext cx="66600" cy="26100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rot="193800">
              <a:off x="401040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rot="193800">
              <a:off x="396072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 rot="193800">
              <a:off x="388764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rot="193800">
              <a:off x="381024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 rot="193800">
              <a:off x="3621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 rot="193800">
              <a:off x="328356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 rot="193800">
              <a:off x="3960720" y="741132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rot="193800">
              <a:off x="3931920" y="7472880"/>
              <a:ext cx="233280" cy="37440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93800">
              <a:off x="398772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 rot="193800">
              <a:off x="326772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 rot="193800">
              <a:off x="3950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rot="193800">
              <a:off x="39232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rot="193800">
              <a:off x="376416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 rot="193800">
              <a:off x="393768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 rot="193800">
              <a:off x="3780000" y="630324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rot="193800">
              <a:off x="361260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2354" name=""/>
            <p:cNvSpPr/>
            <p:nvPr/>
          </p:nvSpPr>
          <p:spPr>
            <a:xfrm flipH="1" rot="20872200">
              <a:off x="313596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rot="20872200">
              <a:off x="2987280" y="626580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rot="20872200">
              <a:off x="3188160" y="6264000"/>
              <a:ext cx="270360" cy="28152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rot="208722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 rot="20872200">
              <a:off x="3292200" y="663840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rot="20872200">
              <a:off x="3189240" y="6775200"/>
              <a:ext cx="209880" cy="17856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rot="20872200">
              <a:off x="321840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rot="20872200">
              <a:off x="319932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rot="20872200">
              <a:off x="318348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 rot="20872200">
              <a:off x="334836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 rot="20872200">
              <a:off x="32770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 rot="20872200">
              <a:off x="318456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 rot="20872200">
              <a:off x="2964600" y="6858000"/>
              <a:ext cx="30960" cy="4140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rot="20872200">
              <a:off x="330516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 rot="20872200">
              <a:off x="344448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 rot="20872200">
              <a:off x="316908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rot="20872200">
              <a:off x="3098520" y="706500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 rot="20872200">
              <a:off x="299880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rot="20872200">
              <a:off x="315540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rot="20872200">
              <a:off x="33296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rot="20872200">
              <a:off x="286884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rot="20872200">
              <a:off x="3245040" y="7090920"/>
              <a:ext cx="180720" cy="24192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rot="20872200">
              <a:off x="2964240" y="7223040"/>
              <a:ext cx="63000" cy="3744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rot="20872200">
              <a:off x="317196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rot="20872200">
              <a:off x="316728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rot="20872200">
              <a:off x="321012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rot="20872200">
              <a:off x="310860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rot="20872200">
              <a:off x="311976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 rot="20872200">
              <a:off x="3143520" y="6338520"/>
              <a:ext cx="311400" cy="21492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 rot="20872200">
              <a:off x="319068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 rot="20872200">
              <a:off x="3252960" y="625176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 rot="20872200">
              <a:off x="314532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 rot="20872200">
              <a:off x="3003120" y="6248880"/>
              <a:ext cx="204840" cy="11520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rot="20872200">
              <a:off x="29829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 rot="20872200">
              <a:off x="320112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rot="20872200">
              <a:off x="317664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 rot="20872200">
              <a:off x="3045960" y="678348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 rot="20872200">
              <a:off x="31755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 rot="20872200">
              <a:off x="305424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rot="20872200">
              <a:off x="2946600" y="6812280"/>
              <a:ext cx="98640" cy="8352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 rot="20872200">
              <a:off x="2941560" y="6856560"/>
              <a:ext cx="37080" cy="9936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 rot="20872200">
              <a:off x="2990880" y="6908040"/>
              <a:ext cx="64080" cy="2772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rot="20872200">
              <a:off x="325224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 rot="20872200">
              <a:off x="323856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 rot="20872200">
              <a:off x="31546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rot="20872200">
              <a:off x="3127320" y="7065360"/>
              <a:ext cx="88920" cy="16452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 rot="20872200">
              <a:off x="3201840" y="7204320"/>
              <a:ext cx="228960" cy="24840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 rot="20872200">
              <a:off x="3286080" y="7451280"/>
              <a:ext cx="172440" cy="3996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 rot="20872200">
              <a:off x="3274560" y="7404120"/>
              <a:ext cx="79200" cy="7488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 rot="20872200">
              <a:off x="3164400" y="722016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20872200">
              <a:off x="315072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 rot="20872200">
              <a:off x="302472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 rot="20872200">
              <a:off x="2977920" y="716616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20872200">
              <a:off x="286164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 rot="20872200">
              <a:off x="2795400" y="7211520"/>
              <a:ext cx="228960" cy="23256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rot="20872200">
              <a:off x="321552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H="1">
            <a:off x="6589440" y="3251160"/>
            <a:ext cx="826920" cy="2336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6081840" y="3832200"/>
            <a:ext cx="198756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7198920" y="4108320"/>
            <a:ext cx="50040" cy="132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 flipV="1">
            <a:off x="7137720" y="4078080"/>
            <a:ext cx="109800" cy="42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11280" y="406440"/>
            <a:ext cx="523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'une des diagonales est médiatrice de l'aut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H="1">
            <a:off x="6487920" y="3933720"/>
            <a:ext cx="129960" cy="189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7508880" y="4302000"/>
            <a:ext cx="130320" cy="189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900000" y="2104920"/>
            <a:ext cx="6094440" cy="1495440"/>
          </a:xfrm>
          <a:prstGeom prst="wedgeEllipseCallout">
            <a:avLst>
              <a:gd name="adj1" fmla="val -6449"/>
              <a:gd name="adj2" fmla="val 234712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2054160" y="2119320"/>
            <a:ext cx="358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'est donc son axe de symét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6370200" y="2786040"/>
            <a:ext cx="1219320" cy="34257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cerf-vola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36840" y="-2143080"/>
            <a:ext cx="696960" cy="21430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8000280" y="2164320"/>
            <a:ext cx="2738160" cy="4509360"/>
            <a:chOff x="8000280" y="2164320"/>
            <a:chExt cx="2738160" cy="45093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 rot="193200">
              <a:off x="9143640" y="2580840"/>
              <a:ext cx="1521000" cy="266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8000280" y="2164320"/>
              <a:ext cx="1515960" cy="4509360"/>
              <a:chOff x="8000280" y="2164320"/>
              <a:chExt cx="1515960" cy="450936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8198640" y="4733640"/>
                <a:ext cx="1266480" cy="1940040"/>
                <a:chOff x="8198640" y="4733640"/>
                <a:chExt cx="1266480" cy="194004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93800">
                  <a:off x="8921520" y="4736520"/>
                  <a:ext cx="106560" cy="14796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93800">
                  <a:off x="8928000" y="4751640"/>
                  <a:ext cx="115920" cy="13176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193800">
                  <a:off x="8929440" y="4751280"/>
                  <a:ext cx="162000" cy="36216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 rot="193800">
                  <a:off x="8596800" y="4814640"/>
                  <a:ext cx="144360" cy="6804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 rot="193800">
                  <a:off x="8741880" y="4973040"/>
                  <a:ext cx="450720" cy="41472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 rot="193800">
                  <a:off x="8873640" y="4968000"/>
                  <a:ext cx="137880" cy="10800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rot="193800">
                  <a:off x="8241840" y="5066640"/>
                  <a:ext cx="117936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 rot="193800">
                  <a:off x="8790840" y="5402880"/>
                  <a:ext cx="88560" cy="7308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 rot="193800">
                  <a:off x="8936640" y="5056200"/>
                  <a:ext cx="138240" cy="4752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 rot="193800">
                  <a:off x="8609760" y="5160600"/>
                  <a:ext cx="92160" cy="15876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rot="193800">
                  <a:off x="8910360" y="5247360"/>
                  <a:ext cx="90360" cy="2700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 rot="193800">
                  <a:off x="8783280" y="5600160"/>
                  <a:ext cx="55800" cy="3816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 rot="193800">
                  <a:off x="8775000" y="5711400"/>
                  <a:ext cx="25200" cy="2376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rot="193800">
                  <a:off x="8738280" y="5744520"/>
                  <a:ext cx="25560" cy="1764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 rot="193800">
                  <a:off x="9008280" y="5921280"/>
                  <a:ext cx="230040" cy="7308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 rot="193800">
                  <a:off x="9268200" y="5996880"/>
                  <a:ext cx="111240" cy="11052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 rot="193800">
                  <a:off x="8888760" y="6206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 rot="193800">
                  <a:off x="8619120" y="6126840"/>
                  <a:ext cx="56880" cy="3168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rot="193800">
                  <a:off x="8958240" y="6237720"/>
                  <a:ext cx="198360" cy="8568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rot="193800">
                  <a:off x="8299440" y="6325920"/>
                  <a:ext cx="196920" cy="4464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 rot="193800">
                  <a:off x="8856720" y="5468400"/>
                  <a:ext cx="77760" cy="8856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rot="193800">
                  <a:off x="8975880" y="5724720"/>
                  <a:ext cx="73080" cy="9828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rot="193800">
                  <a:off x="8826480" y="5758200"/>
                  <a:ext cx="106200" cy="7920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 rot="193800">
                  <a:off x="8673120" y="5811120"/>
                  <a:ext cx="82800" cy="10152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193800">
                  <a:off x="8733600" y="6002640"/>
                  <a:ext cx="98280" cy="10440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 rot="193800">
                  <a:off x="8584200" y="6169680"/>
                  <a:ext cx="60480" cy="5040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 rot="193800">
                  <a:off x="8871120" y="6230160"/>
                  <a:ext cx="111240" cy="6768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rot="193800">
                  <a:off x="8973000" y="6035040"/>
                  <a:ext cx="373320" cy="19692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rot="193800">
                  <a:off x="8634600" y="4821480"/>
                  <a:ext cx="239400" cy="20628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rot="193800">
                  <a:off x="8595720" y="4814280"/>
                  <a:ext cx="139680" cy="7128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193800">
                  <a:off x="8898120" y="5023440"/>
                  <a:ext cx="288720" cy="35712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rot="193800">
                  <a:off x="8861760" y="4961160"/>
                  <a:ext cx="344520" cy="27000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rot="193800">
                  <a:off x="8758080" y="5016960"/>
                  <a:ext cx="119160" cy="3312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H="1" rot="193800">
                  <a:off x="8731080" y="5031360"/>
                  <a:ext cx="455400" cy="35892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rot="193800">
                  <a:off x="8736120" y="5321520"/>
                  <a:ext cx="347760" cy="21420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 rot="193800">
                  <a:off x="8655840" y="5658480"/>
                  <a:ext cx="179280" cy="13176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rot="193800">
                  <a:off x="8669160" y="5684400"/>
                  <a:ext cx="119160" cy="6516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rot="193800">
                  <a:off x="8665920" y="5717520"/>
                  <a:ext cx="96840" cy="9648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rot="193800">
                  <a:off x="8667720" y="5648400"/>
                  <a:ext cx="81000" cy="5400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rot="193800">
                  <a:off x="8847360" y="5509440"/>
                  <a:ext cx="30240" cy="10332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193800">
                  <a:off x="8724960" y="5563800"/>
                  <a:ext cx="111240" cy="10764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93800">
                  <a:off x="8829720" y="5665320"/>
                  <a:ext cx="12564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93800">
                  <a:off x="8926200" y="5601600"/>
                  <a:ext cx="142920" cy="23940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93800">
                  <a:off x="8682480" y="5820480"/>
                  <a:ext cx="68400" cy="24156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93800">
                  <a:off x="8607600" y="5857920"/>
                  <a:ext cx="66600" cy="26136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93800">
                  <a:off x="8966520" y="5915520"/>
                  <a:ext cx="42840" cy="7452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93800">
                  <a:off x="8916840" y="6037560"/>
                  <a:ext cx="66600" cy="15084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93800">
                  <a:off x="8843760" y="6012720"/>
                  <a:ext cx="74880" cy="23832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93800">
                  <a:off x="8766360" y="5842800"/>
                  <a:ext cx="115920" cy="23364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93800">
                  <a:off x="8578080" y="5998680"/>
                  <a:ext cx="209520" cy="18540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93800">
                  <a:off x="8239680" y="6159960"/>
                  <a:ext cx="358920" cy="18252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93800">
                  <a:off x="8916840" y="6208200"/>
                  <a:ext cx="411120" cy="45252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93800">
                  <a:off x="8888040" y="6269760"/>
                  <a:ext cx="233280" cy="37476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93800">
                  <a:off x="8943840" y="5893200"/>
                  <a:ext cx="473040" cy="34596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93800">
                  <a:off x="8223840" y="6035760"/>
                  <a:ext cx="595080" cy="50832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93800">
                  <a:off x="8906760" y="5467320"/>
                  <a:ext cx="109440" cy="12852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rot="193800">
                  <a:off x="8879400" y="5160240"/>
                  <a:ext cx="52200" cy="6516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rot="193800">
                  <a:off x="8720280" y="5073480"/>
                  <a:ext cx="63360" cy="7488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rot="193800">
                  <a:off x="8893800" y="5176080"/>
                  <a:ext cx="20880" cy="2232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rot="193800">
                  <a:off x="8736120" y="5100120"/>
                  <a:ext cx="23760" cy="2232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rot="193800">
                  <a:off x="8568720" y="5071680"/>
                  <a:ext cx="403200" cy="41148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8000280" y="2164320"/>
                <a:ext cx="1515960" cy="2924640"/>
                <a:chOff x="8000280" y="2164320"/>
                <a:chExt cx="1515960" cy="292464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8149680" y="2199240"/>
                  <a:ext cx="130644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8" name=""/>
                <p:cNvGrpSpPr/>
                <p:nvPr/>
              </p:nvGrpSpPr>
              <p:grpSpPr>
                <a:xfrm>
                  <a:off x="8000280" y="3622680"/>
                  <a:ext cx="1012320" cy="1466280"/>
                  <a:chOff x="8000280" y="3622680"/>
                  <a:chExt cx="1012320" cy="146628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20872200">
                    <a:off x="8514360" y="365256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20872200">
                    <a:off x="8365680" y="375480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 rot="20872200">
                    <a:off x="8566560" y="375192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rot="20872200">
                    <a:off x="8108640" y="3899520"/>
                    <a:ext cx="795240" cy="11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20872200">
                    <a:off x="8670960" y="412704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20872200">
                    <a:off x="8567640" y="426312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20872200">
                    <a:off x="8596800" y="3817800"/>
                    <a:ext cx="1504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872200">
                    <a:off x="8577720" y="3989160"/>
                    <a:ext cx="78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20872200">
                    <a:off x="8561520" y="389196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20872200">
                    <a:off x="8726400" y="421956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872200">
                    <a:off x="8655480" y="418860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20872200">
                    <a:off x="8563320" y="441468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0872200">
                    <a:off x="8342640" y="434592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0872200">
                    <a:off x="8684280" y="455184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20872200">
                    <a:off x="8823240" y="461016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20872200">
                    <a:off x="8547840" y="452340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20872200">
                    <a:off x="8476920" y="455364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20872200">
                    <a:off x="8377200" y="467532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20872200">
                    <a:off x="8533800" y="471636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20872200">
                    <a:off x="8707680" y="488160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20872200">
                    <a:off x="8246880" y="479268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20872200">
                    <a:off x="8623800" y="457956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872200">
                    <a:off x="8341920" y="471060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20872200">
                    <a:off x="8550360" y="473868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20872200">
                    <a:off x="8546400" y="397548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872200">
                    <a:off x="8588160" y="391500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872200">
                    <a:off x="8487360" y="399924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20872200">
                    <a:off x="8498160" y="405000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0872200">
                    <a:off x="8521920" y="382644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0872200">
                    <a:off x="8568720" y="3786480"/>
                    <a:ext cx="27648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872200">
                    <a:off x="8631000" y="373932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20872200">
                    <a:off x="8524080" y="363852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20872200">
                    <a:off x="8381160" y="373680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872200">
                    <a:off x="8361000" y="375300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20872200">
                    <a:off x="8579520" y="413028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20872200">
                    <a:off x="8555040" y="4230360"/>
                    <a:ext cx="19692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0872200">
                    <a:off x="8424360" y="427140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20872200">
                    <a:off x="8552880" y="4146480"/>
                    <a:ext cx="15336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20872200">
                    <a:off x="8433000" y="435780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20872200">
                    <a:off x="8325000" y="430092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872200">
                    <a:off x="8319960" y="434484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20872200">
                    <a:off x="8368920" y="43963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20872200">
                    <a:off x="8630280" y="445608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0872200">
                    <a:off x="8616960" y="4526280"/>
                    <a:ext cx="274320" cy="2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20872200">
                    <a:off x="8533080" y="458928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20872200">
                    <a:off x="8505360" y="455364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872200">
                    <a:off x="8580240" y="4692240"/>
                    <a:ext cx="2289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20872200">
                    <a:off x="8664480" y="493992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872200">
                    <a:off x="8653320" y="489276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872200">
                    <a:off x="8543160" y="470916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872200">
                    <a:off x="8529480" y="445824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872200">
                    <a:off x="8402760" y="464328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0872200">
                    <a:off x="8355600" y="465408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872200">
                    <a:off x="8240040" y="474048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872200">
                    <a:off x="8173800" y="4699800"/>
                    <a:ext cx="22896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20872200">
                    <a:off x="8593560" y="39344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5" name=""/>
          <p:cNvGrpSpPr/>
          <p:nvPr/>
        </p:nvGrpSpPr>
        <p:grpSpPr>
          <a:xfrm>
            <a:off x="3078000" y="1509840"/>
            <a:ext cx="5151600" cy="2671560"/>
            <a:chOff x="3078000" y="1509840"/>
            <a:chExt cx="5151600" cy="2671560"/>
          </a:xfrm>
        </p:grpSpPr>
        <p:sp>
          <p:nvSpPr>
            <p:cNvPr id="176" name=""/>
            <p:cNvSpPr/>
            <p:nvPr/>
          </p:nvSpPr>
          <p:spPr>
            <a:xfrm>
              <a:off x="3078000" y="1509840"/>
              <a:ext cx="5151600" cy="2671560"/>
            </a:xfrm>
            <a:prstGeom prst="wedgeEllipseCallout">
              <a:avLst>
                <a:gd name="adj1" fmla="val 55055"/>
                <a:gd name="adj2" fmla="val 47504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19680" y="1755720"/>
              <a:ext cx="3882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'est super !      on va essayer nos cerfs-volants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-1951200" y="3909960"/>
            <a:ext cx="1963800" cy="2948040"/>
            <a:chOff x="-1951200" y="3909960"/>
            <a:chExt cx="1963800" cy="294804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-1951200" y="390996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-1533600" y="4970520"/>
              <a:ext cx="1546200" cy="1887480"/>
              <a:chOff x="-1533600" y="4970520"/>
              <a:chExt cx="1546200" cy="1887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-1533600" y="4970520"/>
                <a:ext cx="1546200" cy="1887480"/>
                <a:chOff x="-1533600" y="4970520"/>
                <a:chExt cx="1546200" cy="18874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-741240" y="5279400"/>
                  <a:ext cx="585000" cy="721440"/>
                  <a:chOff x="-741240" y="5279400"/>
                  <a:chExt cx="585000" cy="7214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0649000">
                    <a:off x="-665280" y="533880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0649000">
                    <a:off x="-608400" y="547776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20649000">
                    <a:off x="-628920" y="532116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-478080" y="645948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-1303560" y="652320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-1076400" y="498780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-1311480" y="552132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-557280" y="643716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243080" y="648000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-1187640" y="518328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-1519560" y="576432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-1170000" y="637704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-663840" y="636732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-935280" y="521496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-1235160" y="556560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-876600" y="558648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-587520" y="563400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-884520" y="584028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-623880" y="581184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-1360800" y="497664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-978120" y="497052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-793800" y="531180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-1052640" y="523728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-884520" y="541980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-901800" y="557064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-1532160" y="557856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-1533600" y="575784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-1295640" y="555768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-633600" y="579600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-890640" y="581652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-851040" y="582120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-579600" y="561024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-679680" y="636120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-481320" y="650232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-1330560" y="638028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-1247760" y="652932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rot="20280600">
                <a:off x="-357120" y="550368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-587880" y="544788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8674200" y="6396120"/>
            <a:ext cx="469800" cy="447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6.35838E-007 L -0.2618 1.21942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723E-006 L 0.40486 0.00439 E">
                                      <p:cBhvr>
                                        <p:cTn id="2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35838E-007 L -0.39532 -6.35838E-007 E">
                                      <p:cBhvr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1843200" y="0"/>
            <a:ext cx="4903560" cy="2060640"/>
          </a:xfrm>
          <a:prstGeom prst="wedgeEllipseCallout">
            <a:avLst>
              <a:gd name="adj1" fmla="val -20703"/>
              <a:gd name="adj2" fmla="val 196069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1763640" y="3933720"/>
            <a:ext cx="1963800" cy="2948040"/>
            <a:chOff x="1763640" y="3933720"/>
            <a:chExt cx="1963800" cy="2948040"/>
          </a:xfrm>
        </p:grpSpPr>
        <p:pic>
          <p:nvPicPr>
            <p:cNvPr id="2425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6" name=""/>
            <p:cNvGrpSpPr/>
            <p:nvPr/>
          </p:nvGrpSpPr>
          <p:grpSpPr>
            <a:xfrm>
              <a:off x="2181240" y="4994280"/>
              <a:ext cx="1546200" cy="1887480"/>
              <a:chOff x="2181240" y="4994280"/>
              <a:chExt cx="1546200" cy="1887480"/>
            </a:xfrm>
          </p:grpSpPr>
          <p:grpSp>
            <p:nvGrpSpPr>
              <p:cNvPr id="2427" name=""/>
              <p:cNvGrpSpPr/>
              <p:nvPr/>
            </p:nvGrpSpPr>
            <p:grpSpPr>
              <a:xfrm>
                <a:off x="2181240" y="4994280"/>
                <a:ext cx="1546200" cy="1887480"/>
                <a:chOff x="2181240" y="4994280"/>
                <a:chExt cx="1546200" cy="1887480"/>
              </a:xfrm>
            </p:grpSpPr>
            <p:grpSp>
              <p:nvGrpSpPr>
                <p:cNvPr id="2428" name=""/>
                <p:cNvGrpSpPr/>
                <p:nvPr/>
              </p:nvGrpSpPr>
              <p:grpSpPr>
                <a:xfrm>
                  <a:off x="2973600" y="5303160"/>
                  <a:ext cx="585000" cy="721440"/>
                  <a:chOff x="2973600" y="5303160"/>
                  <a:chExt cx="585000" cy="721440"/>
                </a:xfrm>
              </p:grpSpPr>
              <p:sp>
                <p:nvSpPr>
                  <p:cNvPr id="2429" name=""/>
                  <p:cNvSpPr/>
                  <p:nvPr/>
                </p:nvSpPr>
                <p:spPr>
                  <a:xfrm rot="20649000">
                    <a:off x="3049200" y="536256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 rot="20649000">
                    <a:off x="3106080" y="550152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rot="20649000">
                    <a:off x="3085560" y="534492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2" name=""/>
                <p:cNvSpPr/>
                <p:nvPr/>
              </p:nvSpPr>
              <p:spPr>
                <a:xfrm>
                  <a:off x="3236760" y="648324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411280" y="654696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638440" y="501156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403360" y="554508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157560" y="646092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471760" y="650376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527200" y="520704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195280" y="578808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544840" y="640080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3051000" y="639108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779560" y="523872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479680" y="558936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838240" y="561024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3127320" y="565776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830320" y="586404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090960" y="583560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354040" y="500040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736720" y="499428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921040" y="533556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662200" y="526104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830320" y="544356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813040" y="559440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182680" y="560232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181240" y="578160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419200" y="558144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3081240" y="581976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824200" y="584028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863800" y="584496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3135240" y="563400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3035160" y="638496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3233520" y="652608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384280" y="640404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2467080" y="655308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5" name=""/>
              <p:cNvSpPr/>
              <p:nvPr/>
            </p:nvSpPr>
            <p:spPr>
              <a:xfrm rot="20280600">
                <a:off x="3357360" y="552744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3126960" y="547164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7" name=""/>
          <p:cNvGrpSpPr/>
          <p:nvPr/>
        </p:nvGrpSpPr>
        <p:grpSpPr>
          <a:xfrm>
            <a:off x="4379040" y="2134440"/>
            <a:ext cx="2737800" cy="4508640"/>
            <a:chOff x="4379040" y="2134440"/>
            <a:chExt cx="2737800" cy="4508640"/>
          </a:xfrm>
        </p:grpSpPr>
        <p:pic>
          <p:nvPicPr>
            <p:cNvPr id="2468" name="" descr=""/>
            <p:cNvPicPr/>
            <p:nvPr/>
          </p:nvPicPr>
          <p:blipFill>
            <a:blip r:embed="rId3"/>
            <a:stretch/>
          </p:blipFill>
          <p:spPr>
            <a:xfrm rot="193200">
              <a:off x="5522400" y="2550600"/>
              <a:ext cx="1520640" cy="26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9" name=""/>
            <p:cNvGrpSpPr/>
            <p:nvPr/>
          </p:nvGrpSpPr>
          <p:grpSpPr>
            <a:xfrm>
              <a:off x="4379040" y="2134440"/>
              <a:ext cx="1515600" cy="4508640"/>
              <a:chOff x="4379040" y="2134440"/>
              <a:chExt cx="1515600" cy="4508640"/>
            </a:xfrm>
          </p:grpSpPr>
          <p:grpSp>
            <p:nvGrpSpPr>
              <p:cNvPr id="2470" name=""/>
              <p:cNvGrpSpPr/>
              <p:nvPr/>
            </p:nvGrpSpPr>
            <p:grpSpPr>
              <a:xfrm>
                <a:off x="4577400" y="4703400"/>
                <a:ext cx="1266120" cy="1939680"/>
                <a:chOff x="4577400" y="4703400"/>
                <a:chExt cx="1266120" cy="1939680"/>
              </a:xfrm>
            </p:grpSpPr>
            <p:sp>
              <p:nvSpPr>
                <p:cNvPr id="2471" name=""/>
                <p:cNvSpPr/>
                <p:nvPr/>
              </p:nvSpPr>
              <p:spPr>
                <a:xfrm flipH="1" rot="193800">
                  <a:off x="5299920" y="470628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flipH="1" rot="193800">
                  <a:off x="5306400" y="4721040"/>
                  <a:ext cx="115560" cy="13140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rot="193800">
                  <a:off x="5308560" y="4720680"/>
                  <a:ext cx="161640" cy="36180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 rot="193800">
                  <a:off x="4975920" y="4784040"/>
                  <a:ext cx="144000" cy="6768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 rot="193800">
                  <a:off x="5121000" y="4942800"/>
                  <a:ext cx="450360" cy="41400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flipH="1" rot="193800">
                  <a:off x="5252760" y="4937400"/>
                  <a:ext cx="137520" cy="10764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H="1" rot="193800">
                  <a:off x="4620240" y="5036040"/>
                  <a:ext cx="117900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rot="193800">
                  <a:off x="5169240" y="5372280"/>
                  <a:ext cx="8820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rot="193800">
                  <a:off x="5315760" y="5025600"/>
                  <a:ext cx="137880" cy="4716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rot="193800">
                  <a:off x="4988160" y="5130000"/>
                  <a:ext cx="91800" cy="15840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 rot="193800">
                  <a:off x="5289480" y="5216760"/>
                  <a:ext cx="90000" cy="2664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 rot="193800">
                  <a:off x="5162400" y="5569560"/>
                  <a:ext cx="55440" cy="3780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H="1" rot="193800">
                  <a:off x="5153400" y="5680800"/>
                  <a:ext cx="24840" cy="2340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 rot="193800">
                  <a:off x="5116680" y="5713920"/>
                  <a:ext cx="252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 rot="193800">
                  <a:off x="5387400" y="5890680"/>
                  <a:ext cx="229680" cy="7272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rot="193800">
                  <a:off x="5646600" y="5966280"/>
                  <a:ext cx="110880" cy="11016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 rot="193800">
                  <a:off x="5267160" y="61758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 rot="193800">
                  <a:off x="4998240" y="609624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 rot="193800">
                  <a:off x="5337360" y="6207120"/>
                  <a:ext cx="198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193800">
                  <a:off x="4678560" y="6295320"/>
                  <a:ext cx="19656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rot="193800">
                  <a:off x="5235120" y="5437800"/>
                  <a:ext cx="77400" cy="8820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 rot="193800">
                  <a:off x="5354280" y="5694120"/>
                  <a:ext cx="72720" cy="9792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 rot="193800">
                  <a:off x="5204880" y="5727600"/>
                  <a:ext cx="105840" cy="7884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 rot="193800">
                  <a:off x="5051520" y="5780520"/>
                  <a:ext cx="82440" cy="10116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 rot="193800">
                  <a:off x="5112720" y="5972040"/>
                  <a:ext cx="97920" cy="10404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 rot="193800">
                  <a:off x="4963320" y="6139080"/>
                  <a:ext cx="60120" cy="5004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 rot="193800">
                  <a:off x="5250240" y="6199560"/>
                  <a:ext cx="110880" cy="6732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 rot="193800">
                  <a:off x="5351400" y="6004440"/>
                  <a:ext cx="372960" cy="19656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 rot="193800">
                  <a:off x="5013000" y="4790880"/>
                  <a:ext cx="239040" cy="20592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 rot="193800">
                  <a:off x="4974120" y="4783680"/>
                  <a:ext cx="139320" cy="7092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 rot="193800">
                  <a:off x="5277240" y="4992840"/>
                  <a:ext cx="288360" cy="35676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rot="193800">
                  <a:off x="5240880" y="4930560"/>
                  <a:ext cx="34416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rot="193800">
                  <a:off x="5137200" y="4986360"/>
                  <a:ext cx="118800" cy="3276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H="1" rot="193800">
                  <a:off x="5109840" y="5000760"/>
                  <a:ext cx="455040" cy="35856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 rot="193800">
                  <a:off x="5115240" y="5290920"/>
                  <a:ext cx="347400" cy="21384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H="1" rot="193800">
                  <a:off x="5034240" y="5627880"/>
                  <a:ext cx="178920" cy="13140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 rot="193800">
                  <a:off x="5047560" y="5653800"/>
                  <a:ext cx="118800" cy="6480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flipH="1" rot="193800">
                  <a:off x="5044320" y="5686920"/>
                  <a:ext cx="96480" cy="9612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 rot="193800">
                  <a:off x="5046120" y="5617800"/>
                  <a:ext cx="806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rot="193800">
                  <a:off x="5226480" y="547884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 rot="193800">
                  <a:off x="5104080" y="5533200"/>
                  <a:ext cx="110880" cy="10728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 rot="193800">
                  <a:off x="5208840" y="56347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 rot="193800">
                  <a:off x="5305320" y="5571000"/>
                  <a:ext cx="142560" cy="23904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 rot="193800">
                  <a:off x="5061600" y="578988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 rot="193800">
                  <a:off x="4986000" y="5827320"/>
                  <a:ext cx="66240" cy="26100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 rot="193800">
                  <a:off x="5345640" y="5884920"/>
                  <a:ext cx="42480" cy="7416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 rot="193800">
                  <a:off x="5295240" y="6006960"/>
                  <a:ext cx="66240" cy="15048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 rot="193800">
                  <a:off x="5222160" y="5982120"/>
                  <a:ext cx="74520" cy="23796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 rot="193800">
                  <a:off x="5145480" y="58122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 rot="193800">
                  <a:off x="4956480" y="5968080"/>
                  <a:ext cx="209160" cy="18504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 rot="193800">
                  <a:off x="4618800" y="6129360"/>
                  <a:ext cx="358560" cy="18216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 rot="193800">
                  <a:off x="5295240" y="6177240"/>
                  <a:ext cx="410760" cy="45216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H="1" rot="193800">
                  <a:off x="5266800" y="6239520"/>
                  <a:ext cx="232920" cy="37404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 rot="193800">
                  <a:off x="5321880" y="5862600"/>
                  <a:ext cx="472680" cy="34560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 rot="193800">
                  <a:off x="4602240" y="6005160"/>
                  <a:ext cx="59472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 rot="193800">
                  <a:off x="5285160" y="5436720"/>
                  <a:ext cx="109080" cy="128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 rot="193800">
                  <a:off x="5258520" y="5129640"/>
                  <a:ext cx="51840" cy="6480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H="1" rot="193800">
                  <a:off x="5098680" y="504288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H="1" rot="193800">
                  <a:off x="5272920" y="514548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 rot="193800">
                  <a:off x="5114520" y="506952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 rot="193800">
                  <a:off x="4947120" y="5041080"/>
                  <a:ext cx="40284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379040" y="2134440"/>
                <a:ext cx="1515600" cy="2925000"/>
                <a:chOff x="4379040" y="2134440"/>
                <a:chExt cx="1515600" cy="2925000"/>
              </a:xfrm>
            </p:grpSpPr>
            <p:pic>
              <p:nvPicPr>
                <p:cNvPr id="253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4528440" y="2169360"/>
                  <a:ext cx="130608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34" name=""/>
                <p:cNvGrpSpPr/>
                <p:nvPr/>
              </p:nvGrpSpPr>
              <p:grpSpPr>
                <a:xfrm>
                  <a:off x="4379040" y="3593160"/>
                  <a:ext cx="1012320" cy="1466280"/>
                  <a:chOff x="4379040" y="3593160"/>
                  <a:chExt cx="1012320" cy="1466280"/>
                </a:xfrm>
              </p:grpSpPr>
              <p:sp>
                <p:nvSpPr>
                  <p:cNvPr id="2535" name=""/>
                  <p:cNvSpPr/>
                  <p:nvPr/>
                </p:nvSpPr>
                <p:spPr>
                  <a:xfrm flipH="1" rot="20872200">
                    <a:off x="4892760" y="362268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 flipH="1" rot="20872200">
                    <a:off x="4744080" y="372492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 flipH="1" rot="20872200">
                    <a:off x="4944960" y="372204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flipH="1" rot="20872200">
                    <a:off x="4487400" y="3869640"/>
                    <a:ext cx="794880" cy="11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 flipH="1" rot="20872200">
                    <a:off x="5049720" y="409716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 flipH="1" rot="20872200">
                    <a:off x="4946040" y="423324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 flipH="1" rot="20872200">
                    <a:off x="4975920" y="3787560"/>
                    <a:ext cx="15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 flipH="1" rot="20872200">
                    <a:off x="4956120" y="3958560"/>
                    <a:ext cx="78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 flipH="1" rot="20872200">
                    <a:off x="4940280" y="386208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 flipH="1" rot="20872200">
                    <a:off x="5104800" y="418968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flipH="1" rot="20872200">
                    <a:off x="5033880" y="415872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 flipH="1" rot="20872200">
                    <a:off x="4942080" y="438480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 flipH="1" rot="20872200">
                    <a:off x="4721040" y="431640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 flipH="1" rot="20872200">
                    <a:off x="5062680" y="452232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 flipH="1" rot="20872200">
                    <a:off x="5201640" y="458028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 flipH="1" rot="20872200">
                    <a:off x="4926600" y="449352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 flipH="1" rot="20872200">
                    <a:off x="4855680" y="452376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 flipH="1" rot="20872200">
                    <a:off x="4755600" y="464544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 flipH="1" rot="20872200">
                    <a:off x="4912560" y="468648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 flipH="1" rot="20872200">
                    <a:off x="5086440" y="485172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 flipH="1" rot="20872200">
                    <a:off x="4625640" y="476280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 flipH="1" rot="20872200">
                    <a:off x="5002200" y="454968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flipH="1" rot="20872200">
                    <a:off x="4720320" y="468108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 flipH="1" rot="20872200">
                    <a:off x="4929120" y="470880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flipH="1" rot="20872200">
                    <a:off x="4924800" y="394596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flipH="1" rot="20872200">
                    <a:off x="4966560" y="388476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 flipH="1" rot="20872200">
                    <a:off x="4865760" y="396936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flipH="1" rot="20872200">
                    <a:off x="4876560" y="402012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 flipH="1" rot="20872200">
                    <a:off x="4900320" y="379656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flipH="1" rot="20872200">
                    <a:off x="4947120" y="3756600"/>
                    <a:ext cx="2761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flipH="1" rot="20872200">
                    <a:off x="5009760" y="370944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flipH="1" rot="20872200">
                    <a:off x="4902480" y="360900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flipH="1" rot="20872200">
                    <a:off x="4759920" y="370692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flipH="1" rot="20872200">
                    <a:off x="4739760" y="372312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flipH="1" rot="20872200">
                    <a:off x="4957920" y="410076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flipH="1" rot="20872200">
                    <a:off x="4933440" y="4200480"/>
                    <a:ext cx="1969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flipH="1" rot="20872200">
                    <a:off x="4802760" y="424152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flipH="1" rot="20872200">
                    <a:off x="4932000" y="4116960"/>
                    <a:ext cx="15300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flipH="1" rot="20872200">
                    <a:off x="4811400" y="432792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flipH="1" rot="20872200">
                    <a:off x="4703760" y="427104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H="1" rot="20872200">
                    <a:off x="4698720" y="431496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 flipH="1" rot="20872200">
                    <a:off x="4747320" y="4366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 flipH="1" rot="20872200">
                    <a:off x="5009040" y="442620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H="1" rot="20872200">
                    <a:off x="4995360" y="4496400"/>
                    <a:ext cx="27396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H="1" rot="20872200">
                    <a:off x="4911840" y="455940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H="1" rot="20872200">
                    <a:off x="4883760" y="452376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H="1" rot="20872200">
                    <a:off x="4959720" y="4662720"/>
                    <a:ext cx="22860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 flipH="1" rot="20872200">
                    <a:off x="5043240" y="491004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 flipH="1" rot="20872200">
                    <a:off x="5031720" y="486288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H="1" rot="20872200">
                    <a:off x="4921560" y="467928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H="1" rot="20872200">
                    <a:off x="4907880" y="442836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H="1" rot="20872200">
                    <a:off x="4781520" y="461340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H="1" rot="20872200">
                    <a:off x="4734360" y="462420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 flipH="1" rot="20872200">
                    <a:off x="4618440" y="471060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 flipH="1" rot="20872200">
                    <a:off x="4552560" y="4670280"/>
                    <a:ext cx="22860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H="1" rot="20872200">
                    <a:off x="4972320" y="390456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91" name=""/>
          <p:cNvSpPr/>
          <p:nvPr/>
        </p:nvSpPr>
        <p:spPr>
          <a:xfrm>
            <a:off x="1960560" y="493560"/>
            <a:ext cx="442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ne reste plus qu'à le décore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2986200" y="1285920"/>
            <a:ext cx="3003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"/>
          <p:cNvSpPr/>
          <p:nvPr/>
        </p:nvSpPr>
        <p:spPr>
          <a:xfrm>
            <a:off x="561960" y="1986120"/>
            <a:ext cx="469800" cy="447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04720" y="4121280"/>
            <a:ext cx="470160" cy="447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>
            <a:hlinkClick r:id="rId2" action="ppaction://hlinksldjump"/>
          </p:cNvPr>
          <p:cNvSpPr/>
          <p:nvPr/>
        </p:nvSpPr>
        <p:spPr>
          <a:xfrm>
            <a:off x="7409880" y="646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Times New Roman"/>
                <a:hlinkClick r:id="rId3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389240" y="1814400"/>
            <a:ext cx="71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quer pour la suite du diapo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358640" y="3876840"/>
            <a:ext cx="65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dre jusqu'à l'apparition d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8040600" y="4079880"/>
            <a:ext cx="470160" cy="447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763640" y="3933720"/>
            <a:ext cx="1963800" cy="2948040"/>
            <a:chOff x="1763640" y="3933720"/>
            <a:chExt cx="1963800" cy="294804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2181240" y="4994280"/>
              <a:ext cx="1546200" cy="1887480"/>
              <a:chOff x="2181240" y="4994280"/>
              <a:chExt cx="1546200" cy="18874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181240" y="4994280"/>
                <a:ext cx="1546200" cy="1887480"/>
                <a:chOff x="2181240" y="4994280"/>
                <a:chExt cx="1546200" cy="18874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2973600" y="5303160"/>
                  <a:ext cx="585000" cy="721440"/>
                  <a:chOff x="2973600" y="5303160"/>
                  <a:chExt cx="585000" cy="7214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649000">
                    <a:off x="3049200" y="536256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20649000">
                    <a:off x="3106080" y="550152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0649000">
                    <a:off x="3085560" y="534492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3236760" y="648324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11280" y="654696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638440" y="501156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403360" y="554508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157560" y="646092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71760" y="650376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27200" y="520704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95280" y="578808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44840" y="640080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051000" y="639108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779560" y="523872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79680" y="558936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838240" y="561024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127320" y="565776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830320" y="586404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090960" y="583560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54040" y="500040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736720" y="499428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921040" y="533556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662200" y="526104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30320" y="544356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13040" y="559440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182680" y="560232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81240" y="578160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419200" y="558144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081240" y="581976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24200" y="584028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63800" y="584496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35240" y="563400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35160" y="638496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233520" y="652608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84280" y="640404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67080" y="655308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rot="20280600">
                <a:off x="3357360" y="552744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126960" y="547164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379040" y="2134440"/>
            <a:ext cx="2737800" cy="4508640"/>
            <a:chOff x="4379040" y="2134440"/>
            <a:chExt cx="2737800" cy="450864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 rot="193200">
              <a:off x="5522400" y="2550600"/>
              <a:ext cx="1520640" cy="26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4379040" y="2134440"/>
              <a:ext cx="1515600" cy="4508640"/>
              <a:chOff x="4379040" y="2134440"/>
              <a:chExt cx="1515600" cy="45086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577400" y="4703400"/>
                <a:ext cx="1266120" cy="1939680"/>
                <a:chOff x="4577400" y="4703400"/>
                <a:chExt cx="1266120" cy="193968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rot="193800">
                  <a:off x="5299920" y="470628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93800">
                  <a:off x="5306400" y="4721040"/>
                  <a:ext cx="115560" cy="13140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rot="193800">
                  <a:off x="5308560" y="4720680"/>
                  <a:ext cx="161640" cy="36180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rot="193800">
                  <a:off x="4975920" y="4784040"/>
                  <a:ext cx="144000" cy="6768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193800">
                  <a:off x="5121000" y="4942800"/>
                  <a:ext cx="450360" cy="41400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rot="193800">
                  <a:off x="5252760" y="4937400"/>
                  <a:ext cx="137520" cy="10764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rot="193800">
                  <a:off x="4620240" y="5036040"/>
                  <a:ext cx="117900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rot="193800">
                  <a:off x="5169240" y="5372280"/>
                  <a:ext cx="8820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rot="193800">
                  <a:off x="5315760" y="5025600"/>
                  <a:ext cx="137880" cy="4716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rot="193800">
                  <a:off x="4988160" y="5130000"/>
                  <a:ext cx="91800" cy="15840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193800">
                  <a:off x="5289480" y="5216760"/>
                  <a:ext cx="90000" cy="2664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rot="193800">
                  <a:off x="5162400" y="5569560"/>
                  <a:ext cx="55440" cy="3780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rot="193800">
                  <a:off x="5153400" y="5680800"/>
                  <a:ext cx="24840" cy="2340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rot="193800">
                  <a:off x="5116680" y="5713920"/>
                  <a:ext cx="252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rot="193800">
                  <a:off x="5387400" y="5890680"/>
                  <a:ext cx="229680" cy="7272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rot="193800">
                  <a:off x="5646600" y="5966280"/>
                  <a:ext cx="110880" cy="11016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rot="193800">
                  <a:off x="5267160" y="61758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rot="193800">
                  <a:off x="4998240" y="609624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rot="193800">
                  <a:off x="5337360" y="6207120"/>
                  <a:ext cx="198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193800">
                  <a:off x="4678560" y="6295320"/>
                  <a:ext cx="19656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rot="193800">
                  <a:off x="5235120" y="5437800"/>
                  <a:ext cx="77400" cy="8820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rot="193800">
                  <a:off x="5354280" y="5694120"/>
                  <a:ext cx="72720" cy="9792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rot="193800">
                  <a:off x="5204880" y="5727600"/>
                  <a:ext cx="105840" cy="7884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193800">
                  <a:off x="5051520" y="5780520"/>
                  <a:ext cx="82440" cy="10116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rot="193800">
                  <a:off x="5112720" y="5972040"/>
                  <a:ext cx="97920" cy="10404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rot="193800">
                  <a:off x="4963320" y="6139080"/>
                  <a:ext cx="60120" cy="5004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rot="193800">
                  <a:off x="5250240" y="6199560"/>
                  <a:ext cx="110880" cy="6732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rot="193800">
                  <a:off x="5351400" y="6004440"/>
                  <a:ext cx="372960" cy="19656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rot="193800">
                  <a:off x="5013000" y="4790880"/>
                  <a:ext cx="239040" cy="20592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rot="193800">
                  <a:off x="4974120" y="4783680"/>
                  <a:ext cx="139320" cy="7092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rot="193800">
                  <a:off x="5277240" y="4992840"/>
                  <a:ext cx="288360" cy="35676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rot="193800">
                  <a:off x="5240880" y="4930560"/>
                  <a:ext cx="34416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rot="193800">
                  <a:off x="5137200" y="4986360"/>
                  <a:ext cx="118800" cy="3276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rot="193800">
                  <a:off x="5109840" y="5000760"/>
                  <a:ext cx="455040" cy="35856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rot="193800">
                  <a:off x="5115240" y="5290920"/>
                  <a:ext cx="347400" cy="21384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rot="193800">
                  <a:off x="5034240" y="5627880"/>
                  <a:ext cx="178920" cy="13140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rot="193800">
                  <a:off x="5047560" y="5653800"/>
                  <a:ext cx="118800" cy="6480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rot="193800">
                  <a:off x="5044320" y="5686920"/>
                  <a:ext cx="96480" cy="9612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rot="193800">
                  <a:off x="5046120" y="5617800"/>
                  <a:ext cx="806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rot="193800">
                  <a:off x="5226480" y="547884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rot="193800">
                  <a:off x="5104080" y="5533200"/>
                  <a:ext cx="110880" cy="10728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rot="193800">
                  <a:off x="5208840" y="56347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rot="193800">
                  <a:off x="5305320" y="5571000"/>
                  <a:ext cx="142560" cy="23904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rot="193800">
                  <a:off x="5061600" y="578988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rot="193800">
                  <a:off x="4986000" y="5827320"/>
                  <a:ext cx="66240" cy="26100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rot="193800">
                  <a:off x="5345640" y="5884920"/>
                  <a:ext cx="42480" cy="7416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rot="193800">
                  <a:off x="5295240" y="6006960"/>
                  <a:ext cx="66240" cy="15048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rot="193800">
                  <a:off x="5222160" y="5982120"/>
                  <a:ext cx="74520" cy="23796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rot="193800">
                  <a:off x="5145480" y="58122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rot="193800">
                  <a:off x="4956480" y="5968080"/>
                  <a:ext cx="209160" cy="18504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rot="193800">
                  <a:off x="4618800" y="6129360"/>
                  <a:ext cx="358560" cy="18216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rot="193800">
                  <a:off x="5295240" y="6177240"/>
                  <a:ext cx="410760" cy="45216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rot="193800">
                  <a:off x="5266800" y="6239520"/>
                  <a:ext cx="232920" cy="37404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rot="193800">
                  <a:off x="5321880" y="5862600"/>
                  <a:ext cx="472680" cy="34560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rot="193800">
                  <a:off x="4602240" y="6005160"/>
                  <a:ext cx="59472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rot="193800">
                  <a:off x="5285160" y="5436720"/>
                  <a:ext cx="109080" cy="128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rot="193800">
                  <a:off x="5258520" y="5129640"/>
                  <a:ext cx="51840" cy="6480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rot="193800">
                  <a:off x="5098680" y="504288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193800">
                  <a:off x="5272920" y="514548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193800">
                  <a:off x="5114520" y="506952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rot="193800">
                  <a:off x="4947120" y="5041080"/>
                  <a:ext cx="40284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379040" y="2134440"/>
                <a:ext cx="1515600" cy="2925000"/>
                <a:chOff x="4379040" y="2134440"/>
                <a:chExt cx="1515600" cy="2925000"/>
              </a:xfrm>
            </p:grpSpPr>
            <p:pic>
              <p:nvPicPr>
                <p:cNvPr id="33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4528440" y="2169360"/>
                  <a:ext cx="130608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34" name=""/>
                <p:cNvGrpSpPr/>
                <p:nvPr/>
              </p:nvGrpSpPr>
              <p:grpSpPr>
                <a:xfrm>
                  <a:off x="4379040" y="3593160"/>
                  <a:ext cx="1012320" cy="1466280"/>
                  <a:chOff x="4379040" y="3593160"/>
                  <a:chExt cx="1012320" cy="14662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flipH="1" rot="20872200">
                    <a:off x="4892760" y="362268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20872200">
                    <a:off x="4744080" y="372492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20872200">
                    <a:off x="4944960" y="372204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20872200">
                    <a:off x="4487400" y="3869640"/>
                    <a:ext cx="794880" cy="11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rot="20872200">
                    <a:off x="5049720" y="409716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0872200">
                    <a:off x="4946040" y="423324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20872200">
                    <a:off x="4975920" y="3787560"/>
                    <a:ext cx="15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20872200">
                    <a:off x="4956120" y="3958560"/>
                    <a:ext cx="78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20872200">
                    <a:off x="4940280" y="386208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20872200">
                    <a:off x="5104800" y="418968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20872200">
                    <a:off x="5033880" y="415872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20872200">
                    <a:off x="4942080" y="438480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0872200">
                    <a:off x="4721040" y="431640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20872200">
                    <a:off x="5062680" y="452232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0872200">
                    <a:off x="5201640" y="458028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20872200">
                    <a:off x="4926600" y="449352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20872200">
                    <a:off x="4855680" y="452376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0872200">
                    <a:off x="4755600" y="464544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872200">
                    <a:off x="4912560" y="468648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0872200">
                    <a:off x="5086440" y="485172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0872200">
                    <a:off x="4625640" y="476280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872200">
                    <a:off x="5002200" y="454968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0872200">
                    <a:off x="4720320" y="468108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0872200">
                    <a:off x="4929120" y="470880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0872200">
                    <a:off x="4924800" y="394596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20872200">
                    <a:off x="4966560" y="388476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0872200">
                    <a:off x="4865760" y="396936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0872200">
                    <a:off x="4876560" y="402012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20872200">
                    <a:off x="4900320" y="379656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0872200">
                    <a:off x="4947120" y="3756600"/>
                    <a:ext cx="2761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0872200">
                    <a:off x="5009760" y="370944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0872200">
                    <a:off x="4902480" y="360900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872200">
                    <a:off x="4759920" y="370692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0872200">
                    <a:off x="4739760" y="372312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20872200">
                    <a:off x="4957920" y="410076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0872200">
                    <a:off x="4933440" y="4200480"/>
                    <a:ext cx="1969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872200">
                    <a:off x="4802760" y="424152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872200">
                    <a:off x="4932000" y="4116960"/>
                    <a:ext cx="15300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872200">
                    <a:off x="4811400" y="432792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0872200">
                    <a:off x="4703760" y="427104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0872200">
                    <a:off x="4698720" y="431496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0872200">
                    <a:off x="4747320" y="4366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20872200">
                    <a:off x="5009040" y="442620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20872200">
                    <a:off x="4995360" y="4496400"/>
                    <a:ext cx="27396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0872200">
                    <a:off x="4911840" y="455940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20872200">
                    <a:off x="4883760" y="452376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20872200">
                    <a:off x="4959720" y="4662720"/>
                    <a:ext cx="22860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872200">
                    <a:off x="5043240" y="491004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rot="20872200">
                    <a:off x="5031720" y="486288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20872200">
                    <a:off x="4921560" y="467928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0872200">
                    <a:off x="4907880" y="442836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rot="20872200">
                    <a:off x="4781520" y="461340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20872200">
                    <a:off x="4734360" y="462420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0872200">
                    <a:off x="4618440" y="471060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0872200">
                    <a:off x="4552560" y="4670280"/>
                    <a:ext cx="22860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0872200">
                    <a:off x="4972320" y="390456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1" name=""/>
          <p:cNvSpPr/>
          <p:nvPr/>
        </p:nvSpPr>
        <p:spPr>
          <a:xfrm>
            <a:off x="900000" y="0"/>
            <a:ext cx="5151600" cy="2671920"/>
          </a:xfrm>
          <a:prstGeom prst="wedgeEllipseCallout">
            <a:avLst>
              <a:gd name="adj1" fmla="val 25194"/>
              <a:gd name="adj2" fmla="val 10014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5680" y="33336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ut Cunégond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beau ton cerf-vol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63640" y="3933720"/>
            <a:ext cx="1963800" cy="2948040"/>
            <a:chOff x="1763640" y="3933720"/>
            <a:chExt cx="1963800" cy="294804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"/>
            <p:cNvGrpSpPr/>
            <p:nvPr/>
          </p:nvGrpSpPr>
          <p:grpSpPr>
            <a:xfrm>
              <a:off x="2181240" y="4994280"/>
              <a:ext cx="1546200" cy="1887480"/>
              <a:chOff x="2181240" y="4994280"/>
              <a:chExt cx="1546200" cy="188748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2181240" y="4994280"/>
                <a:ext cx="1546200" cy="1887480"/>
                <a:chOff x="2181240" y="4994280"/>
                <a:chExt cx="1546200" cy="188748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2973600" y="5303160"/>
                  <a:ext cx="585000" cy="721440"/>
                  <a:chOff x="2973600" y="5303160"/>
                  <a:chExt cx="585000" cy="7214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20649000">
                    <a:off x="3049200" y="536256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0649000">
                    <a:off x="3106080" y="550152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0649000">
                    <a:off x="3085560" y="534492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3236760" y="648324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11280" y="654696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38440" y="501156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03360" y="554508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157560" y="646092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471760" y="650376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527200" y="520704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195280" y="578808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544840" y="640080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051000" y="639108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779560" y="523872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479680" y="558936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38240" y="561024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127320" y="565776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30320" y="586404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90960" y="583560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354040" y="500040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736720" y="499428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21040" y="533556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62200" y="526104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830320" y="544356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813040" y="559440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182680" y="560232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181240" y="578160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419200" y="558144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81240" y="581976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824200" y="584028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863800" y="584496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135240" y="563400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35160" y="638496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233520" y="652608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384280" y="640404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467080" y="655308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rot="20280600">
                <a:off x="3357360" y="552744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3126960" y="547164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4379040" y="2134440"/>
            <a:ext cx="2737800" cy="4508640"/>
            <a:chOff x="4379040" y="2134440"/>
            <a:chExt cx="2737800" cy="4508640"/>
          </a:xfrm>
        </p:grpSpPr>
        <p:pic>
          <p:nvPicPr>
            <p:cNvPr id="438" name="" descr=""/>
            <p:cNvPicPr/>
            <p:nvPr/>
          </p:nvPicPr>
          <p:blipFill>
            <a:blip r:embed="rId3"/>
            <a:stretch/>
          </p:blipFill>
          <p:spPr>
            <a:xfrm rot="193200">
              <a:off x="5522400" y="2550600"/>
              <a:ext cx="1520640" cy="26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"/>
            <p:cNvGrpSpPr/>
            <p:nvPr/>
          </p:nvGrpSpPr>
          <p:grpSpPr>
            <a:xfrm>
              <a:off x="4379040" y="2134440"/>
              <a:ext cx="1515600" cy="4508640"/>
              <a:chOff x="4379040" y="2134440"/>
              <a:chExt cx="1515600" cy="45086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577400" y="4703400"/>
                <a:ext cx="1266120" cy="1939680"/>
                <a:chOff x="4577400" y="4703400"/>
                <a:chExt cx="1266120" cy="1939680"/>
              </a:xfrm>
            </p:grpSpPr>
            <p:sp>
              <p:nvSpPr>
                <p:cNvPr id="441" name=""/>
                <p:cNvSpPr/>
                <p:nvPr/>
              </p:nvSpPr>
              <p:spPr>
                <a:xfrm flipH="1" rot="193800">
                  <a:off x="5299920" y="470628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 rot="193800">
                  <a:off x="5306400" y="4721040"/>
                  <a:ext cx="115560" cy="13140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rot="193800">
                  <a:off x="5308560" y="4720680"/>
                  <a:ext cx="161640" cy="36180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rot="193800">
                  <a:off x="4975920" y="4784040"/>
                  <a:ext cx="144000" cy="6768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rot="193800">
                  <a:off x="5121000" y="4942800"/>
                  <a:ext cx="450360" cy="41400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rot="193800">
                  <a:off x="5252760" y="4937400"/>
                  <a:ext cx="137520" cy="10764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93800">
                  <a:off x="4620240" y="5036040"/>
                  <a:ext cx="117900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rot="193800">
                  <a:off x="5169240" y="5372280"/>
                  <a:ext cx="8820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rot="193800">
                  <a:off x="5315760" y="5025600"/>
                  <a:ext cx="137880" cy="4716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93800">
                  <a:off x="4988160" y="5130000"/>
                  <a:ext cx="91800" cy="15840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rot="193800">
                  <a:off x="5289480" y="5216760"/>
                  <a:ext cx="90000" cy="2664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rot="193800">
                  <a:off x="5162400" y="5569560"/>
                  <a:ext cx="55440" cy="3780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rot="193800">
                  <a:off x="5153400" y="5680800"/>
                  <a:ext cx="24840" cy="2340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rot="193800">
                  <a:off x="5116680" y="5713920"/>
                  <a:ext cx="252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rot="193800">
                  <a:off x="5387400" y="5890680"/>
                  <a:ext cx="229680" cy="7272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rot="193800">
                  <a:off x="5646600" y="5966280"/>
                  <a:ext cx="110880" cy="11016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rot="193800">
                  <a:off x="5267160" y="61758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93800">
                  <a:off x="4998240" y="609624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rot="193800">
                  <a:off x="5337360" y="6207120"/>
                  <a:ext cx="198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rot="193800">
                  <a:off x="4678560" y="6295320"/>
                  <a:ext cx="19656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rot="193800">
                  <a:off x="5235120" y="5437800"/>
                  <a:ext cx="77400" cy="8820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rot="193800">
                  <a:off x="5354280" y="5694120"/>
                  <a:ext cx="72720" cy="9792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rot="193800">
                  <a:off x="5204880" y="5727600"/>
                  <a:ext cx="105840" cy="7884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rot="193800">
                  <a:off x="5051520" y="5780520"/>
                  <a:ext cx="82440" cy="10116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rot="193800">
                  <a:off x="5112720" y="5972040"/>
                  <a:ext cx="97920" cy="10404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rot="193800">
                  <a:off x="4963320" y="6139080"/>
                  <a:ext cx="60120" cy="5004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rot="193800">
                  <a:off x="5250240" y="6199560"/>
                  <a:ext cx="110880" cy="6732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193800">
                  <a:off x="5351400" y="6004440"/>
                  <a:ext cx="372960" cy="19656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93800">
                  <a:off x="5013000" y="4790880"/>
                  <a:ext cx="239040" cy="20592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rot="193800">
                  <a:off x="4974120" y="4783680"/>
                  <a:ext cx="139320" cy="7092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rot="193800">
                  <a:off x="5277240" y="4992840"/>
                  <a:ext cx="288360" cy="35676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rot="193800">
                  <a:off x="5240880" y="4930560"/>
                  <a:ext cx="34416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rot="193800">
                  <a:off x="5137200" y="4986360"/>
                  <a:ext cx="118800" cy="3276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rot="193800">
                  <a:off x="5109840" y="5000760"/>
                  <a:ext cx="455040" cy="35856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93800">
                  <a:off x="5115240" y="5290920"/>
                  <a:ext cx="347400" cy="21384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 rot="193800">
                  <a:off x="5034240" y="5627880"/>
                  <a:ext cx="178920" cy="13140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rot="193800">
                  <a:off x="5047560" y="5653800"/>
                  <a:ext cx="118800" cy="6480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rot="193800">
                  <a:off x="5044320" y="5686920"/>
                  <a:ext cx="96480" cy="9612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rot="193800">
                  <a:off x="5046120" y="5617800"/>
                  <a:ext cx="806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rot="193800">
                  <a:off x="5226480" y="547884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rot="193800">
                  <a:off x="5104080" y="5533200"/>
                  <a:ext cx="110880" cy="10728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rot="193800">
                  <a:off x="5208840" y="56347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rot="193800">
                  <a:off x="5305320" y="5571000"/>
                  <a:ext cx="142560" cy="23904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rot="193800">
                  <a:off x="5061600" y="578988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193800">
                  <a:off x="4986000" y="5827320"/>
                  <a:ext cx="66240" cy="26100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193800">
                  <a:off x="5345640" y="5884920"/>
                  <a:ext cx="42480" cy="7416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rot="193800">
                  <a:off x="5295240" y="6006960"/>
                  <a:ext cx="66240" cy="15048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3800">
                  <a:off x="5222160" y="5982120"/>
                  <a:ext cx="74520" cy="23796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193800">
                  <a:off x="5145480" y="58122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193800">
                  <a:off x="4956480" y="5968080"/>
                  <a:ext cx="209160" cy="18504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rot="193800">
                  <a:off x="4618800" y="6129360"/>
                  <a:ext cx="358560" cy="18216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rot="193800">
                  <a:off x="5295240" y="6177240"/>
                  <a:ext cx="410760" cy="45216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rot="193800">
                  <a:off x="5266800" y="6239520"/>
                  <a:ext cx="232920" cy="37404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rot="193800">
                  <a:off x="5321880" y="5862600"/>
                  <a:ext cx="472680" cy="34560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rot="193800">
                  <a:off x="4602240" y="6005160"/>
                  <a:ext cx="59472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rot="193800">
                  <a:off x="5285160" y="5436720"/>
                  <a:ext cx="109080" cy="128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rot="193800">
                  <a:off x="5258520" y="5129640"/>
                  <a:ext cx="51840" cy="6480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rot="193800">
                  <a:off x="5098680" y="504288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rot="193800">
                  <a:off x="5272920" y="514548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rot="193800">
                  <a:off x="5114520" y="506952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193800">
                  <a:off x="4947120" y="5041080"/>
                  <a:ext cx="40284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4379040" y="2134440"/>
                <a:ext cx="1515600" cy="2925000"/>
                <a:chOff x="4379040" y="2134440"/>
                <a:chExt cx="1515600" cy="2925000"/>
              </a:xfrm>
            </p:grpSpPr>
            <p:pic>
              <p:nvPicPr>
                <p:cNvPr id="50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4528440" y="2169360"/>
                  <a:ext cx="130608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4" name=""/>
                <p:cNvGrpSpPr/>
                <p:nvPr/>
              </p:nvGrpSpPr>
              <p:grpSpPr>
                <a:xfrm>
                  <a:off x="4379040" y="3593160"/>
                  <a:ext cx="1012320" cy="1466280"/>
                  <a:chOff x="4379040" y="3593160"/>
                  <a:chExt cx="1012320" cy="146628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20872200">
                    <a:off x="4892760" y="362268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20872200">
                    <a:off x="4744080" y="372492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0872200">
                    <a:off x="4944960" y="372204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rot="20872200">
                    <a:off x="4487400" y="3869640"/>
                    <a:ext cx="794880" cy="11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20872200">
                    <a:off x="5049720" y="409716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872200">
                    <a:off x="4946040" y="423324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rot="20872200">
                    <a:off x="4975920" y="3787560"/>
                    <a:ext cx="15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20872200">
                    <a:off x="4956120" y="3958560"/>
                    <a:ext cx="78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872200">
                    <a:off x="4940280" y="386208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20872200">
                    <a:off x="5104800" y="418968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20872200">
                    <a:off x="5033880" y="415872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0872200">
                    <a:off x="4942080" y="438480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20872200">
                    <a:off x="4721040" y="431640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20872200">
                    <a:off x="5062680" y="452232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20872200">
                    <a:off x="5201640" y="458028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20872200">
                    <a:off x="4926600" y="449352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rot="20872200">
                    <a:off x="4855680" y="452376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20872200">
                    <a:off x="4755600" y="464544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20872200">
                    <a:off x="4912560" y="468648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20872200">
                    <a:off x="5086440" y="485172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20872200">
                    <a:off x="4625640" y="476280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20872200">
                    <a:off x="5002200" y="454968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rot="20872200">
                    <a:off x="4720320" y="468108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872200">
                    <a:off x="4929120" y="470880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20872200">
                    <a:off x="4924800" y="394596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20872200">
                    <a:off x="4966560" y="388476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0872200">
                    <a:off x="4865760" y="396936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20872200">
                    <a:off x="4876560" y="402012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20872200">
                    <a:off x="4900320" y="379656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20872200">
                    <a:off x="4947120" y="3756600"/>
                    <a:ext cx="2761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20872200">
                    <a:off x="5009760" y="370944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20872200">
                    <a:off x="4902480" y="360900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20872200">
                    <a:off x="4759920" y="370692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20872200">
                    <a:off x="4739760" y="372312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20872200">
                    <a:off x="4957920" y="410076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 rot="20872200">
                    <a:off x="4933440" y="4200480"/>
                    <a:ext cx="1969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0872200">
                    <a:off x="4802760" y="424152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20872200">
                    <a:off x="4932000" y="4116960"/>
                    <a:ext cx="15300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rot="20872200">
                    <a:off x="4811400" y="432792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20872200">
                    <a:off x="4703760" y="427104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20872200">
                    <a:off x="4698720" y="431496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rot="20872200">
                    <a:off x="4747320" y="4366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20872200">
                    <a:off x="5009040" y="442620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20872200">
                    <a:off x="4995360" y="4496400"/>
                    <a:ext cx="27396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rot="20872200">
                    <a:off x="4911840" y="455940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20872200">
                    <a:off x="4883760" y="452376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20872200">
                    <a:off x="4959720" y="4662720"/>
                    <a:ext cx="22860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20872200">
                    <a:off x="5043240" y="491004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20872200">
                    <a:off x="5031720" y="486288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20872200">
                    <a:off x="4921560" y="467928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 rot="20872200">
                    <a:off x="4907880" y="442836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rot="20872200">
                    <a:off x="4781520" y="461340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20872200">
                    <a:off x="4734360" y="462420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rot="20872200">
                    <a:off x="4618440" y="471060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20872200">
                    <a:off x="4552560" y="4670280"/>
                    <a:ext cx="22860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20872200">
                    <a:off x="4972320" y="390456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61" name=""/>
          <p:cNvSpPr/>
          <p:nvPr/>
        </p:nvSpPr>
        <p:spPr>
          <a:xfrm>
            <a:off x="900000" y="0"/>
            <a:ext cx="5151600" cy="1974960"/>
          </a:xfrm>
          <a:prstGeom prst="wedgeEllipseCallout">
            <a:avLst>
              <a:gd name="adj1" fmla="val -4393"/>
              <a:gd name="adj2" fmla="val 215675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25680" y="3333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 sais, c'est moi qui l'ai fabriqu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763640" y="3933720"/>
            <a:ext cx="1963800" cy="2948040"/>
            <a:chOff x="1763640" y="3933720"/>
            <a:chExt cx="1963800" cy="2948040"/>
          </a:xfrm>
        </p:grpSpPr>
        <p:pic>
          <p:nvPicPr>
            <p:cNvPr id="565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"/>
            <p:cNvGrpSpPr/>
            <p:nvPr/>
          </p:nvGrpSpPr>
          <p:grpSpPr>
            <a:xfrm>
              <a:off x="2181240" y="4994280"/>
              <a:ext cx="1546200" cy="1887480"/>
              <a:chOff x="2181240" y="4994280"/>
              <a:chExt cx="1546200" cy="188748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2181240" y="4994280"/>
                <a:ext cx="1546200" cy="1887480"/>
                <a:chOff x="2181240" y="4994280"/>
                <a:chExt cx="1546200" cy="188748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2973600" y="5303160"/>
                  <a:ext cx="585000" cy="721440"/>
                  <a:chOff x="2973600" y="5303160"/>
                  <a:chExt cx="585000" cy="7214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rot="20649000">
                    <a:off x="3049200" y="536256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rot="20649000">
                    <a:off x="3106080" y="550152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rot="20649000">
                    <a:off x="3085560" y="534492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"/>
                <p:cNvSpPr/>
                <p:nvPr/>
              </p:nvSpPr>
              <p:spPr>
                <a:xfrm>
                  <a:off x="3236760" y="648324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411280" y="654696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638440" y="501156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403360" y="554508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157560" y="646092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471760" y="650376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527200" y="520704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195280" y="578808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544840" y="640080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051000" y="639108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779560" y="523872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479680" y="558936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838240" y="561024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27320" y="565776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830320" y="586404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90960" y="583560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354040" y="500040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736720" y="499428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921040" y="533556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662200" y="526104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830320" y="544356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813040" y="559440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82680" y="560232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81240" y="578160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419200" y="558144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81240" y="581976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824200" y="584028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863800" y="584496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135240" y="563400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035160" y="638496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33520" y="652608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384280" y="640404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467080" y="655308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 rot="20280600">
                <a:off x="3357360" y="552744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3126960" y="547164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379040" y="2134440"/>
            <a:ext cx="2737800" cy="4508640"/>
            <a:chOff x="4379040" y="2134440"/>
            <a:chExt cx="2737800" cy="4508640"/>
          </a:xfrm>
        </p:grpSpPr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 rot="193200">
              <a:off x="5522400" y="2550600"/>
              <a:ext cx="1520640" cy="26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9" name=""/>
            <p:cNvGrpSpPr/>
            <p:nvPr/>
          </p:nvGrpSpPr>
          <p:grpSpPr>
            <a:xfrm>
              <a:off x="4379040" y="2134440"/>
              <a:ext cx="1515600" cy="4508640"/>
              <a:chOff x="4379040" y="2134440"/>
              <a:chExt cx="1515600" cy="450864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4577400" y="4703400"/>
                <a:ext cx="1266120" cy="1939680"/>
                <a:chOff x="4577400" y="4703400"/>
                <a:chExt cx="1266120" cy="1939680"/>
              </a:xfrm>
            </p:grpSpPr>
            <p:sp>
              <p:nvSpPr>
                <p:cNvPr id="611" name=""/>
                <p:cNvSpPr/>
                <p:nvPr/>
              </p:nvSpPr>
              <p:spPr>
                <a:xfrm flipH="1" rot="193800">
                  <a:off x="5299920" y="470628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rot="193800">
                  <a:off x="5306400" y="4721040"/>
                  <a:ext cx="115560" cy="13140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93800">
                  <a:off x="5308560" y="4720680"/>
                  <a:ext cx="161640" cy="36180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93800">
                  <a:off x="4975920" y="4784040"/>
                  <a:ext cx="144000" cy="6768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93800">
                  <a:off x="5121000" y="4942800"/>
                  <a:ext cx="450360" cy="41400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rot="193800">
                  <a:off x="5252760" y="4937400"/>
                  <a:ext cx="137520" cy="10764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rot="193800">
                  <a:off x="4620240" y="5036040"/>
                  <a:ext cx="117900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93800">
                  <a:off x="5169240" y="5372280"/>
                  <a:ext cx="8820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rot="193800">
                  <a:off x="5315760" y="5025600"/>
                  <a:ext cx="137880" cy="4716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rot="193800">
                  <a:off x="4988160" y="5130000"/>
                  <a:ext cx="91800" cy="15840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rot="193800">
                  <a:off x="5289480" y="5216760"/>
                  <a:ext cx="90000" cy="2664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93800">
                  <a:off x="5162400" y="5569560"/>
                  <a:ext cx="55440" cy="3780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93800">
                  <a:off x="5153400" y="5680800"/>
                  <a:ext cx="24840" cy="2340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93800">
                  <a:off x="5116680" y="5713920"/>
                  <a:ext cx="252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rot="193800">
                  <a:off x="5387400" y="5890680"/>
                  <a:ext cx="229680" cy="7272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rot="193800">
                  <a:off x="5646600" y="5966280"/>
                  <a:ext cx="110880" cy="11016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rot="193800">
                  <a:off x="5267160" y="61758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rot="193800">
                  <a:off x="4998240" y="609624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93800">
                  <a:off x="5337360" y="6207120"/>
                  <a:ext cx="198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193800">
                  <a:off x="4678560" y="6295320"/>
                  <a:ext cx="19656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 rot="193800">
                  <a:off x="5235120" y="5437800"/>
                  <a:ext cx="77400" cy="8820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 rot="193800">
                  <a:off x="5354280" y="5694120"/>
                  <a:ext cx="72720" cy="9792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rot="193800">
                  <a:off x="5204880" y="5727600"/>
                  <a:ext cx="105840" cy="7884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rot="193800">
                  <a:off x="5051520" y="5780520"/>
                  <a:ext cx="82440" cy="10116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rot="193800">
                  <a:off x="5112720" y="5972040"/>
                  <a:ext cx="97920" cy="10404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rot="193800">
                  <a:off x="4963320" y="6139080"/>
                  <a:ext cx="60120" cy="5004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rot="193800">
                  <a:off x="5250240" y="6199560"/>
                  <a:ext cx="110880" cy="6732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rot="193800">
                  <a:off x="5351400" y="6004440"/>
                  <a:ext cx="372960" cy="19656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193800">
                  <a:off x="5013000" y="4790880"/>
                  <a:ext cx="239040" cy="20592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rot="193800">
                  <a:off x="4974120" y="4783680"/>
                  <a:ext cx="139320" cy="7092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193800">
                  <a:off x="5277240" y="4992840"/>
                  <a:ext cx="288360" cy="35676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193800">
                  <a:off x="5240880" y="4930560"/>
                  <a:ext cx="34416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rot="193800">
                  <a:off x="5137200" y="4986360"/>
                  <a:ext cx="118800" cy="3276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93800">
                  <a:off x="5109840" y="5000760"/>
                  <a:ext cx="455040" cy="35856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rot="193800">
                  <a:off x="5115240" y="5290920"/>
                  <a:ext cx="347400" cy="21384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rot="193800">
                  <a:off x="5034240" y="5627880"/>
                  <a:ext cx="178920" cy="13140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 rot="193800">
                  <a:off x="5047560" y="5653800"/>
                  <a:ext cx="118800" cy="6480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 rot="193800">
                  <a:off x="5044320" y="5686920"/>
                  <a:ext cx="96480" cy="9612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193800">
                  <a:off x="5046120" y="5617800"/>
                  <a:ext cx="806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rot="193800">
                  <a:off x="5226480" y="547884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rot="193800">
                  <a:off x="5104080" y="5533200"/>
                  <a:ext cx="110880" cy="10728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rot="193800">
                  <a:off x="5208840" y="56347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rot="193800">
                  <a:off x="5305320" y="5571000"/>
                  <a:ext cx="142560" cy="23904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rot="193800">
                  <a:off x="5061600" y="578988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rot="193800">
                  <a:off x="4986000" y="5827320"/>
                  <a:ext cx="66240" cy="26100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rot="193800">
                  <a:off x="5345640" y="5884920"/>
                  <a:ext cx="42480" cy="7416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rot="193800">
                  <a:off x="5295240" y="6006960"/>
                  <a:ext cx="66240" cy="15048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rot="193800">
                  <a:off x="5222160" y="5982120"/>
                  <a:ext cx="74520" cy="23796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rot="193800">
                  <a:off x="5145480" y="58122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rot="193800">
                  <a:off x="4956480" y="5968080"/>
                  <a:ext cx="209160" cy="18504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 rot="193800">
                  <a:off x="4618800" y="6129360"/>
                  <a:ext cx="358560" cy="18216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rot="193800">
                  <a:off x="5295240" y="6177240"/>
                  <a:ext cx="410760" cy="45216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rot="193800">
                  <a:off x="5266800" y="6239520"/>
                  <a:ext cx="232920" cy="37404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rot="193800">
                  <a:off x="5321880" y="5862600"/>
                  <a:ext cx="472680" cy="34560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193800">
                  <a:off x="4602240" y="6005160"/>
                  <a:ext cx="59472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193800">
                  <a:off x="5285160" y="5436720"/>
                  <a:ext cx="109080" cy="128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 rot="193800">
                  <a:off x="5258520" y="5129640"/>
                  <a:ext cx="51840" cy="6480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rot="193800">
                  <a:off x="5098680" y="504288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 rot="193800">
                  <a:off x="5272920" y="514548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rot="193800">
                  <a:off x="5114520" y="506952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rot="193800">
                  <a:off x="4947120" y="5041080"/>
                  <a:ext cx="40284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379040" y="2134440"/>
                <a:ext cx="1515600" cy="2925000"/>
                <a:chOff x="4379040" y="2134440"/>
                <a:chExt cx="1515600" cy="2925000"/>
              </a:xfrm>
            </p:grpSpPr>
            <p:pic>
              <p:nvPicPr>
                <p:cNvPr id="67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4528440" y="2169360"/>
                  <a:ext cx="130608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74" name=""/>
                <p:cNvGrpSpPr/>
                <p:nvPr/>
              </p:nvGrpSpPr>
              <p:grpSpPr>
                <a:xfrm>
                  <a:off x="4379040" y="3593160"/>
                  <a:ext cx="1012320" cy="1466280"/>
                  <a:chOff x="4379040" y="3593160"/>
                  <a:chExt cx="1012320" cy="14662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 rot="20872200">
                    <a:off x="4892760" y="362268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 rot="20872200">
                    <a:off x="4744080" y="372492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20872200">
                    <a:off x="4944960" y="372204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 rot="20872200">
                    <a:off x="4487400" y="3869640"/>
                    <a:ext cx="794880" cy="11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 rot="20872200">
                    <a:off x="5049720" y="409716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 rot="20872200">
                    <a:off x="4946040" y="423324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20872200">
                    <a:off x="4975920" y="3787560"/>
                    <a:ext cx="15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rot="20872200">
                    <a:off x="4956120" y="3958560"/>
                    <a:ext cx="78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rot="20872200">
                    <a:off x="4940280" y="386208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20872200">
                    <a:off x="5104800" y="418968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rot="20872200">
                    <a:off x="5033880" y="415872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rot="20872200">
                    <a:off x="4942080" y="438480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rot="20872200">
                    <a:off x="4721040" y="431640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rot="20872200">
                    <a:off x="5062680" y="452232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rot="20872200">
                    <a:off x="5201640" y="458028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20872200">
                    <a:off x="4926600" y="449352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rot="20872200">
                    <a:off x="4855680" y="452376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rot="20872200">
                    <a:off x="4755600" y="464544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20872200">
                    <a:off x="4912560" y="468648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rot="20872200">
                    <a:off x="5086440" y="485172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20872200">
                    <a:off x="4625640" y="476280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20872200">
                    <a:off x="5002200" y="454968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rot="20872200">
                    <a:off x="4720320" y="468108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rot="20872200">
                    <a:off x="4929120" y="470880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20872200">
                    <a:off x="4924800" y="394596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 rot="20872200">
                    <a:off x="4966560" y="388476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rot="20872200">
                    <a:off x="4865760" y="396936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rot="20872200">
                    <a:off x="4876560" y="402012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 rot="20872200">
                    <a:off x="4900320" y="379656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rot="20872200">
                    <a:off x="4947120" y="3756600"/>
                    <a:ext cx="2761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rot="20872200">
                    <a:off x="5009760" y="370944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 rot="20872200">
                    <a:off x="4902480" y="360900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rot="20872200">
                    <a:off x="4759920" y="370692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rot="20872200">
                    <a:off x="4739760" y="372312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 rot="20872200">
                    <a:off x="4957920" y="410076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rot="20872200">
                    <a:off x="4933440" y="4200480"/>
                    <a:ext cx="1969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 rot="20872200">
                    <a:off x="4802760" y="424152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rot="20872200">
                    <a:off x="4932000" y="4116960"/>
                    <a:ext cx="15300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rot="20872200">
                    <a:off x="4811400" y="432792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rot="20872200">
                    <a:off x="4703760" y="427104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 rot="20872200">
                    <a:off x="4698720" y="431496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20872200">
                    <a:off x="4747320" y="4366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rot="20872200">
                    <a:off x="5009040" y="442620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H="1" rot="20872200">
                    <a:off x="4995360" y="4496400"/>
                    <a:ext cx="27396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 rot="20872200">
                    <a:off x="4911840" y="455940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 rot="20872200">
                    <a:off x="4883760" y="452376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rot="20872200">
                    <a:off x="4959720" y="4662720"/>
                    <a:ext cx="22860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 rot="20872200">
                    <a:off x="5043240" y="491004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rot="20872200">
                    <a:off x="5031720" y="486288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rot="20872200">
                    <a:off x="4921560" y="467928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rot="20872200">
                    <a:off x="4907880" y="442836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rot="20872200">
                    <a:off x="4781520" y="461340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 rot="20872200">
                    <a:off x="4734360" y="462420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rot="20872200">
                    <a:off x="4618440" y="471060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rot="20872200">
                    <a:off x="4552560" y="4670280"/>
                    <a:ext cx="22860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H="1" rot="20872200">
                    <a:off x="4972320" y="390456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31" name=""/>
          <p:cNvSpPr/>
          <p:nvPr/>
        </p:nvSpPr>
        <p:spPr>
          <a:xfrm>
            <a:off x="900000" y="0"/>
            <a:ext cx="5151600" cy="2671920"/>
          </a:xfrm>
          <a:prstGeom prst="wedgeEllipseCallout">
            <a:avLst>
              <a:gd name="adj1" fmla="val 25745"/>
              <a:gd name="adj2" fmla="val 10121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77920" y="174600"/>
            <a:ext cx="472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h bon !                    Il est super chouette ! Comment as-tu f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763640" y="3933720"/>
            <a:ext cx="1963800" cy="2948040"/>
            <a:chOff x="1763640" y="3933720"/>
            <a:chExt cx="1963800" cy="2948040"/>
          </a:xfrm>
        </p:grpSpPr>
        <p:pic>
          <p:nvPicPr>
            <p:cNvPr id="735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1855800" cy="238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2181240" y="4994280"/>
              <a:ext cx="1546200" cy="1887480"/>
              <a:chOff x="2181240" y="4994280"/>
              <a:chExt cx="1546200" cy="188748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181240" y="4994280"/>
                <a:ext cx="1546200" cy="1887480"/>
                <a:chOff x="2181240" y="4994280"/>
                <a:chExt cx="1546200" cy="1887480"/>
              </a:xfrm>
            </p:grpSpPr>
            <p:grpSp>
              <p:nvGrpSpPr>
                <p:cNvPr id="738" name=""/>
                <p:cNvGrpSpPr/>
                <p:nvPr/>
              </p:nvGrpSpPr>
              <p:grpSpPr>
                <a:xfrm>
                  <a:off x="2973600" y="5303160"/>
                  <a:ext cx="585000" cy="721440"/>
                  <a:chOff x="2973600" y="5303160"/>
                  <a:chExt cx="585000" cy="7214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20649000">
                    <a:off x="3049200" y="5362560"/>
                    <a:ext cx="41940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67">
                        <a:moveTo>
                          <a:pt x="61" y="401"/>
                        </a:moveTo>
                        <a:lnTo>
                          <a:pt x="91" y="446"/>
                        </a:lnTo>
                        <a:lnTo>
                          <a:pt x="228" y="300"/>
                        </a:lnTo>
                        <a:lnTo>
                          <a:pt x="249" y="233"/>
                        </a:lnTo>
                        <a:lnTo>
                          <a:pt x="207" y="72"/>
                        </a:lnTo>
                        <a:lnTo>
                          <a:pt x="222" y="34"/>
                        </a:lnTo>
                        <a:lnTo>
                          <a:pt x="243" y="26"/>
                        </a:lnTo>
                        <a:lnTo>
                          <a:pt x="262" y="51"/>
                        </a:lnTo>
                        <a:lnTo>
                          <a:pt x="273" y="85"/>
                        </a:lnTo>
                        <a:lnTo>
                          <a:pt x="306" y="2"/>
                        </a:lnTo>
                        <a:lnTo>
                          <a:pt x="321" y="0"/>
                        </a:lnTo>
                        <a:lnTo>
                          <a:pt x="344" y="21"/>
                        </a:lnTo>
                        <a:lnTo>
                          <a:pt x="348" y="135"/>
                        </a:lnTo>
                        <a:lnTo>
                          <a:pt x="382" y="91"/>
                        </a:lnTo>
                        <a:lnTo>
                          <a:pt x="395" y="81"/>
                        </a:lnTo>
                        <a:lnTo>
                          <a:pt x="403" y="131"/>
                        </a:lnTo>
                        <a:lnTo>
                          <a:pt x="399" y="186"/>
                        </a:lnTo>
                        <a:lnTo>
                          <a:pt x="372" y="207"/>
                        </a:lnTo>
                        <a:lnTo>
                          <a:pt x="353" y="325"/>
                        </a:lnTo>
                        <a:lnTo>
                          <a:pt x="287" y="404"/>
                        </a:lnTo>
                        <a:lnTo>
                          <a:pt x="251" y="458"/>
                        </a:lnTo>
                        <a:lnTo>
                          <a:pt x="184" y="589"/>
                        </a:lnTo>
                        <a:lnTo>
                          <a:pt x="119" y="642"/>
                        </a:lnTo>
                        <a:lnTo>
                          <a:pt x="45" y="667"/>
                        </a:lnTo>
                        <a:lnTo>
                          <a:pt x="0" y="456"/>
                        </a:lnTo>
                        <a:lnTo>
                          <a:pt x="61" y="401"/>
                        </a:lnTo>
                        <a:lnTo>
                          <a:pt x="61" y="401"/>
                        </a:lnTo>
                        <a:close/>
                      </a:path>
                    </a:pathLst>
                  </a:custGeom>
                  <a:solidFill>
                    <a:srgbClr val="ffcc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20649000">
                    <a:off x="3106080" y="5501520"/>
                    <a:ext cx="2919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338">
                        <a:moveTo>
                          <a:pt x="13" y="338"/>
                        </a:moveTo>
                        <a:lnTo>
                          <a:pt x="15" y="336"/>
                        </a:lnTo>
                        <a:lnTo>
                          <a:pt x="17" y="332"/>
                        </a:lnTo>
                        <a:lnTo>
                          <a:pt x="21" y="327"/>
                        </a:lnTo>
                        <a:lnTo>
                          <a:pt x="28" y="319"/>
                        </a:lnTo>
                        <a:lnTo>
                          <a:pt x="32" y="313"/>
                        </a:lnTo>
                        <a:lnTo>
                          <a:pt x="36" y="309"/>
                        </a:lnTo>
                        <a:lnTo>
                          <a:pt x="40" y="304"/>
                        </a:lnTo>
                        <a:lnTo>
                          <a:pt x="45" y="298"/>
                        </a:lnTo>
                        <a:lnTo>
                          <a:pt x="51" y="292"/>
                        </a:lnTo>
                        <a:lnTo>
                          <a:pt x="57" y="285"/>
                        </a:lnTo>
                        <a:lnTo>
                          <a:pt x="62" y="279"/>
                        </a:lnTo>
                        <a:lnTo>
                          <a:pt x="70" y="273"/>
                        </a:lnTo>
                        <a:lnTo>
                          <a:pt x="72" y="270"/>
                        </a:lnTo>
                        <a:lnTo>
                          <a:pt x="76" y="266"/>
                        </a:lnTo>
                        <a:lnTo>
                          <a:pt x="79" y="260"/>
                        </a:lnTo>
                        <a:lnTo>
                          <a:pt x="83" y="256"/>
                        </a:lnTo>
                        <a:lnTo>
                          <a:pt x="87" y="251"/>
                        </a:lnTo>
                        <a:lnTo>
                          <a:pt x="93" y="247"/>
                        </a:lnTo>
                        <a:lnTo>
                          <a:pt x="97" y="243"/>
                        </a:lnTo>
                        <a:lnTo>
                          <a:pt x="102" y="237"/>
                        </a:lnTo>
                        <a:lnTo>
                          <a:pt x="106" y="232"/>
                        </a:lnTo>
                        <a:lnTo>
                          <a:pt x="112" y="226"/>
                        </a:lnTo>
                        <a:lnTo>
                          <a:pt x="116" y="220"/>
                        </a:lnTo>
                        <a:lnTo>
                          <a:pt x="121" y="216"/>
                        </a:lnTo>
                        <a:lnTo>
                          <a:pt x="127" y="209"/>
                        </a:lnTo>
                        <a:lnTo>
                          <a:pt x="131" y="205"/>
                        </a:lnTo>
                        <a:lnTo>
                          <a:pt x="135" y="199"/>
                        </a:lnTo>
                        <a:lnTo>
                          <a:pt x="140" y="194"/>
                        </a:lnTo>
                        <a:lnTo>
                          <a:pt x="144" y="188"/>
                        </a:lnTo>
                        <a:lnTo>
                          <a:pt x="150" y="182"/>
                        </a:lnTo>
                        <a:lnTo>
                          <a:pt x="154" y="176"/>
                        </a:lnTo>
                        <a:lnTo>
                          <a:pt x="157" y="173"/>
                        </a:lnTo>
                        <a:lnTo>
                          <a:pt x="161" y="167"/>
                        </a:lnTo>
                        <a:lnTo>
                          <a:pt x="165" y="163"/>
                        </a:lnTo>
                        <a:lnTo>
                          <a:pt x="169" y="157"/>
                        </a:lnTo>
                        <a:lnTo>
                          <a:pt x="173" y="154"/>
                        </a:lnTo>
                        <a:lnTo>
                          <a:pt x="178" y="146"/>
                        </a:lnTo>
                        <a:lnTo>
                          <a:pt x="184" y="138"/>
                        </a:lnTo>
                        <a:lnTo>
                          <a:pt x="188" y="135"/>
                        </a:lnTo>
                        <a:lnTo>
                          <a:pt x="190" y="131"/>
                        </a:lnTo>
                        <a:lnTo>
                          <a:pt x="190" y="125"/>
                        </a:lnTo>
                        <a:lnTo>
                          <a:pt x="190" y="121"/>
                        </a:lnTo>
                        <a:lnTo>
                          <a:pt x="192" y="114"/>
                        </a:lnTo>
                        <a:lnTo>
                          <a:pt x="194" y="106"/>
                        </a:lnTo>
                        <a:lnTo>
                          <a:pt x="194" y="102"/>
                        </a:lnTo>
                        <a:lnTo>
                          <a:pt x="194" y="97"/>
                        </a:lnTo>
                        <a:lnTo>
                          <a:pt x="195" y="93"/>
                        </a:lnTo>
                        <a:lnTo>
                          <a:pt x="195" y="89"/>
                        </a:lnTo>
                        <a:lnTo>
                          <a:pt x="197" y="83"/>
                        </a:lnTo>
                        <a:lnTo>
                          <a:pt x="197" y="80"/>
                        </a:lnTo>
                        <a:lnTo>
                          <a:pt x="199" y="74"/>
                        </a:lnTo>
                        <a:lnTo>
                          <a:pt x="201" y="70"/>
                        </a:lnTo>
                        <a:lnTo>
                          <a:pt x="201" y="64"/>
                        </a:lnTo>
                        <a:lnTo>
                          <a:pt x="201" y="59"/>
                        </a:lnTo>
                        <a:lnTo>
                          <a:pt x="203" y="55"/>
                        </a:lnTo>
                        <a:lnTo>
                          <a:pt x="205" y="51"/>
                        </a:lnTo>
                        <a:lnTo>
                          <a:pt x="207" y="42"/>
                        </a:lnTo>
                        <a:lnTo>
                          <a:pt x="211" y="34"/>
                        </a:lnTo>
                        <a:lnTo>
                          <a:pt x="213" y="28"/>
                        </a:lnTo>
                        <a:lnTo>
                          <a:pt x="216" y="23"/>
                        </a:lnTo>
                        <a:lnTo>
                          <a:pt x="218" y="19"/>
                        </a:lnTo>
                        <a:lnTo>
                          <a:pt x="224" y="19"/>
                        </a:lnTo>
                        <a:lnTo>
                          <a:pt x="230" y="17"/>
                        </a:lnTo>
                        <a:lnTo>
                          <a:pt x="237" y="19"/>
                        </a:lnTo>
                        <a:lnTo>
                          <a:pt x="243" y="23"/>
                        </a:lnTo>
                        <a:lnTo>
                          <a:pt x="249" y="26"/>
                        </a:lnTo>
                        <a:lnTo>
                          <a:pt x="252" y="32"/>
                        </a:lnTo>
                        <a:lnTo>
                          <a:pt x="258" y="38"/>
                        </a:lnTo>
                        <a:lnTo>
                          <a:pt x="260" y="43"/>
                        </a:lnTo>
                        <a:lnTo>
                          <a:pt x="262" y="51"/>
                        </a:lnTo>
                        <a:lnTo>
                          <a:pt x="262" y="53"/>
                        </a:lnTo>
                        <a:lnTo>
                          <a:pt x="262" y="59"/>
                        </a:lnTo>
                        <a:lnTo>
                          <a:pt x="260" y="62"/>
                        </a:lnTo>
                        <a:lnTo>
                          <a:pt x="260" y="70"/>
                        </a:lnTo>
                        <a:lnTo>
                          <a:pt x="256" y="76"/>
                        </a:lnTo>
                        <a:lnTo>
                          <a:pt x="256" y="83"/>
                        </a:lnTo>
                        <a:lnTo>
                          <a:pt x="254" y="89"/>
                        </a:lnTo>
                        <a:lnTo>
                          <a:pt x="252" y="97"/>
                        </a:lnTo>
                        <a:lnTo>
                          <a:pt x="251" y="104"/>
                        </a:lnTo>
                        <a:lnTo>
                          <a:pt x="249" y="110"/>
                        </a:lnTo>
                        <a:lnTo>
                          <a:pt x="247" y="116"/>
                        </a:lnTo>
                        <a:lnTo>
                          <a:pt x="245" y="121"/>
                        </a:lnTo>
                        <a:lnTo>
                          <a:pt x="243" y="125"/>
                        </a:lnTo>
                        <a:lnTo>
                          <a:pt x="243" y="129"/>
                        </a:lnTo>
                        <a:lnTo>
                          <a:pt x="243" y="131"/>
                        </a:lnTo>
                        <a:lnTo>
                          <a:pt x="243" y="133"/>
                        </a:lnTo>
                        <a:lnTo>
                          <a:pt x="251" y="152"/>
                        </a:lnTo>
                        <a:lnTo>
                          <a:pt x="251" y="150"/>
                        </a:lnTo>
                        <a:lnTo>
                          <a:pt x="251" y="146"/>
                        </a:lnTo>
                        <a:lnTo>
                          <a:pt x="252" y="142"/>
                        </a:lnTo>
                        <a:lnTo>
                          <a:pt x="254" y="137"/>
                        </a:lnTo>
                        <a:lnTo>
                          <a:pt x="256" y="129"/>
                        </a:lnTo>
                        <a:lnTo>
                          <a:pt x="258" y="121"/>
                        </a:lnTo>
                        <a:lnTo>
                          <a:pt x="260" y="114"/>
                        </a:lnTo>
                        <a:lnTo>
                          <a:pt x="264" y="106"/>
                        </a:lnTo>
                        <a:lnTo>
                          <a:pt x="264" y="100"/>
                        </a:lnTo>
                        <a:lnTo>
                          <a:pt x="266" y="97"/>
                        </a:lnTo>
                        <a:lnTo>
                          <a:pt x="268" y="91"/>
                        </a:lnTo>
                        <a:lnTo>
                          <a:pt x="270" y="87"/>
                        </a:lnTo>
                        <a:lnTo>
                          <a:pt x="271" y="81"/>
                        </a:lnTo>
                        <a:lnTo>
                          <a:pt x="273" y="78"/>
                        </a:lnTo>
                        <a:lnTo>
                          <a:pt x="273" y="72"/>
                        </a:lnTo>
                        <a:lnTo>
                          <a:pt x="275" y="66"/>
                        </a:lnTo>
                        <a:lnTo>
                          <a:pt x="277" y="62"/>
                        </a:lnTo>
                        <a:lnTo>
                          <a:pt x="277" y="57"/>
                        </a:lnTo>
                        <a:lnTo>
                          <a:pt x="277" y="51"/>
                        </a:lnTo>
                        <a:lnTo>
                          <a:pt x="279" y="47"/>
                        </a:lnTo>
                        <a:lnTo>
                          <a:pt x="277" y="42"/>
                        </a:lnTo>
                        <a:lnTo>
                          <a:pt x="277" y="38"/>
                        </a:lnTo>
                        <a:lnTo>
                          <a:pt x="275" y="32"/>
                        </a:lnTo>
                        <a:lnTo>
                          <a:pt x="273" y="28"/>
                        </a:lnTo>
                        <a:lnTo>
                          <a:pt x="271" y="24"/>
                        </a:lnTo>
                        <a:lnTo>
                          <a:pt x="268" y="19"/>
                        </a:lnTo>
                        <a:lnTo>
                          <a:pt x="264" y="15"/>
                        </a:lnTo>
                        <a:lnTo>
                          <a:pt x="262" y="13"/>
                        </a:lnTo>
                        <a:lnTo>
                          <a:pt x="256" y="7"/>
                        </a:lnTo>
                        <a:lnTo>
                          <a:pt x="249" y="4"/>
                        </a:lnTo>
                        <a:lnTo>
                          <a:pt x="241" y="2"/>
                        </a:lnTo>
                        <a:lnTo>
                          <a:pt x="235" y="0"/>
                        </a:lnTo>
                        <a:lnTo>
                          <a:pt x="226" y="2"/>
                        </a:lnTo>
                        <a:lnTo>
                          <a:pt x="218" y="5"/>
                        </a:lnTo>
                        <a:lnTo>
                          <a:pt x="213" y="7"/>
                        </a:lnTo>
                        <a:lnTo>
                          <a:pt x="209" y="11"/>
                        </a:lnTo>
                        <a:lnTo>
                          <a:pt x="203" y="17"/>
                        </a:lnTo>
                        <a:lnTo>
                          <a:pt x="199" y="26"/>
                        </a:lnTo>
                        <a:lnTo>
                          <a:pt x="197" y="30"/>
                        </a:lnTo>
                        <a:lnTo>
                          <a:pt x="195" y="34"/>
                        </a:lnTo>
                        <a:lnTo>
                          <a:pt x="194" y="40"/>
                        </a:lnTo>
                        <a:lnTo>
                          <a:pt x="192" y="45"/>
                        </a:lnTo>
                        <a:lnTo>
                          <a:pt x="190" y="49"/>
                        </a:lnTo>
                        <a:lnTo>
                          <a:pt x="188" y="55"/>
                        </a:lnTo>
                        <a:lnTo>
                          <a:pt x="186" y="61"/>
                        </a:lnTo>
                        <a:lnTo>
                          <a:pt x="184" y="66"/>
                        </a:lnTo>
                        <a:lnTo>
                          <a:pt x="182" y="70"/>
                        </a:lnTo>
                        <a:lnTo>
                          <a:pt x="180" y="76"/>
                        </a:lnTo>
                        <a:lnTo>
                          <a:pt x="180" y="80"/>
                        </a:lnTo>
                        <a:lnTo>
                          <a:pt x="178" y="85"/>
                        </a:lnTo>
                        <a:lnTo>
                          <a:pt x="176" y="89"/>
                        </a:lnTo>
                        <a:lnTo>
                          <a:pt x="176" y="95"/>
                        </a:lnTo>
                        <a:lnTo>
                          <a:pt x="175" y="99"/>
                        </a:lnTo>
                        <a:lnTo>
                          <a:pt x="175" y="104"/>
                        </a:lnTo>
                        <a:lnTo>
                          <a:pt x="173" y="110"/>
                        </a:lnTo>
                        <a:lnTo>
                          <a:pt x="173" y="116"/>
                        </a:lnTo>
                        <a:lnTo>
                          <a:pt x="173" y="119"/>
                        </a:lnTo>
                        <a:lnTo>
                          <a:pt x="173" y="121"/>
                        </a:lnTo>
                        <a:lnTo>
                          <a:pt x="171" y="121"/>
                        </a:lnTo>
                        <a:lnTo>
                          <a:pt x="169" y="123"/>
                        </a:lnTo>
                        <a:lnTo>
                          <a:pt x="167" y="125"/>
                        </a:lnTo>
                        <a:lnTo>
                          <a:pt x="165" y="129"/>
                        </a:lnTo>
                        <a:lnTo>
                          <a:pt x="161" y="135"/>
                        </a:lnTo>
                        <a:lnTo>
                          <a:pt x="159" y="140"/>
                        </a:lnTo>
                        <a:lnTo>
                          <a:pt x="156" y="146"/>
                        </a:lnTo>
                        <a:lnTo>
                          <a:pt x="152" y="154"/>
                        </a:lnTo>
                        <a:lnTo>
                          <a:pt x="146" y="159"/>
                        </a:lnTo>
                        <a:lnTo>
                          <a:pt x="140" y="167"/>
                        </a:lnTo>
                        <a:lnTo>
                          <a:pt x="136" y="173"/>
                        </a:lnTo>
                        <a:lnTo>
                          <a:pt x="131" y="180"/>
                        </a:lnTo>
                        <a:lnTo>
                          <a:pt x="127" y="186"/>
                        </a:lnTo>
                        <a:lnTo>
                          <a:pt x="121" y="194"/>
                        </a:lnTo>
                        <a:lnTo>
                          <a:pt x="116" y="199"/>
                        </a:lnTo>
                        <a:lnTo>
                          <a:pt x="112" y="205"/>
                        </a:lnTo>
                        <a:lnTo>
                          <a:pt x="106" y="209"/>
                        </a:lnTo>
                        <a:lnTo>
                          <a:pt x="98" y="214"/>
                        </a:lnTo>
                        <a:lnTo>
                          <a:pt x="93" y="220"/>
                        </a:lnTo>
                        <a:lnTo>
                          <a:pt x="85" y="228"/>
                        </a:lnTo>
                        <a:lnTo>
                          <a:pt x="79" y="233"/>
                        </a:lnTo>
                        <a:lnTo>
                          <a:pt x="72" y="241"/>
                        </a:lnTo>
                        <a:lnTo>
                          <a:pt x="66" y="247"/>
                        </a:lnTo>
                        <a:lnTo>
                          <a:pt x="59" y="254"/>
                        </a:lnTo>
                        <a:lnTo>
                          <a:pt x="51" y="262"/>
                        </a:lnTo>
                        <a:lnTo>
                          <a:pt x="43" y="268"/>
                        </a:lnTo>
                        <a:lnTo>
                          <a:pt x="38" y="275"/>
                        </a:lnTo>
                        <a:lnTo>
                          <a:pt x="32" y="281"/>
                        </a:lnTo>
                        <a:lnTo>
                          <a:pt x="24" y="287"/>
                        </a:lnTo>
                        <a:lnTo>
                          <a:pt x="19" y="292"/>
                        </a:lnTo>
                        <a:lnTo>
                          <a:pt x="13" y="298"/>
                        </a:lnTo>
                        <a:lnTo>
                          <a:pt x="9" y="304"/>
                        </a:lnTo>
                        <a:lnTo>
                          <a:pt x="2" y="311"/>
                        </a:lnTo>
                        <a:lnTo>
                          <a:pt x="0" y="317"/>
                        </a:lnTo>
                        <a:lnTo>
                          <a:pt x="0" y="323"/>
                        </a:lnTo>
                        <a:lnTo>
                          <a:pt x="3" y="328"/>
                        </a:lnTo>
                        <a:lnTo>
                          <a:pt x="5" y="332"/>
                        </a:lnTo>
                        <a:lnTo>
                          <a:pt x="9" y="336"/>
                        </a:lnTo>
                        <a:lnTo>
                          <a:pt x="11" y="338"/>
                        </a:lnTo>
                        <a:lnTo>
                          <a:pt x="13" y="338"/>
                        </a:lnTo>
                        <a:lnTo>
                          <a:pt x="13" y="3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20649000">
                    <a:off x="3085560" y="5344920"/>
                    <a:ext cx="39348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698">
                        <a:moveTo>
                          <a:pt x="0" y="645"/>
                        </a:moveTo>
                        <a:lnTo>
                          <a:pt x="0" y="645"/>
                        </a:lnTo>
                        <a:lnTo>
                          <a:pt x="6" y="648"/>
                        </a:lnTo>
                        <a:lnTo>
                          <a:pt x="8" y="648"/>
                        </a:lnTo>
                        <a:lnTo>
                          <a:pt x="13" y="650"/>
                        </a:lnTo>
                        <a:lnTo>
                          <a:pt x="17" y="652"/>
                        </a:lnTo>
                        <a:lnTo>
                          <a:pt x="23" y="654"/>
                        </a:lnTo>
                        <a:lnTo>
                          <a:pt x="28" y="654"/>
                        </a:lnTo>
                        <a:lnTo>
                          <a:pt x="36" y="654"/>
                        </a:lnTo>
                        <a:lnTo>
                          <a:pt x="40" y="652"/>
                        </a:lnTo>
                        <a:lnTo>
                          <a:pt x="44" y="652"/>
                        </a:lnTo>
                        <a:lnTo>
                          <a:pt x="49" y="652"/>
                        </a:lnTo>
                        <a:lnTo>
                          <a:pt x="53" y="652"/>
                        </a:lnTo>
                        <a:lnTo>
                          <a:pt x="57" y="650"/>
                        </a:lnTo>
                        <a:lnTo>
                          <a:pt x="61" y="648"/>
                        </a:lnTo>
                        <a:lnTo>
                          <a:pt x="66" y="646"/>
                        </a:lnTo>
                        <a:lnTo>
                          <a:pt x="72" y="645"/>
                        </a:lnTo>
                        <a:lnTo>
                          <a:pt x="76" y="641"/>
                        </a:lnTo>
                        <a:lnTo>
                          <a:pt x="82" y="639"/>
                        </a:lnTo>
                        <a:lnTo>
                          <a:pt x="85" y="635"/>
                        </a:lnTo>
                        <a:lnTo>
                          <a:pt x="93" y="633"/>
                        </a:lnTo>
                        <a:lnTo>
                          <a:pt x="97" y="627"/>
                        </a:lnTo>
                        <a:lnTo>
                          <a:pt x="103" y="624"/>
                        </a:lnTo>
                        <a:lnTo>
                          <a:pt x="108" y="618"/>
                        </a:lnTo>
                        <a:lnTo>
                          <a:pt x="114" y="614"/>
                        </a:lnTo>
                        <a:lnTo>
                          <a:pt x="120" y="607"/>
                        </a:lnTo>
                        <a:lnTo>
                          <a:pt x="123" y="603"/>
                        </a:lnTo>
                        <a:lnTo>
                          <a:pt x="129" y="595"/>
                        </a:lnTo>
                        <a:lnTo>
                          <a:pt x="135" y="589"/>
                        </a:lnTo>
                        <a:lnTo>
                          <a:pt x="141" y="582"/>
                        </a:lnTo>
                        <a:lnTo>
                          <a:pt x="144" y="576"/>
                        </a:lnTo>
                        <a:lnTo>
                          <a:pt x="148" y="568"/>
                        </a:lnTo>
                        <a:lnTo>
                          <a:pt x="154" y="563"/>
                        </a:lnTo>
                        <a:lnTo>
                          <a:pt x="158" y="555"/>
                        </a:lnTo>
                        <a:lnTo>
                          <a:pt x="161" y="549"/>
                        </a:lnTo>
                        <a:lnTo>
                          <a:pt x="165" y="542"/>
                        </a:lnTo>
                        <a:lnTo>
                          <a:pt x="171" y="536"/>
                        </a:lnTo>
                        <a:lnTo>
                          <a:pt x="173" y="529"/>
                        </a:lnTo>
                        <a:lnTo>
                          <a:pt x="177" y="521"/>
                        </a:lnTo>
                        <a:lnTo>
                          <a:pt x="181" y="515"/>
                        </a:lnTo>
                        <a:lnTo>
                          <a:pt x="184" y="510"/>
                        </a:lnTo>
                        <a:lnTo>
                          <a:pt x="186" y="502"/>
                        </a:lnTo>
                        <a:lnTo>
                          <a:pt x="190" y="496"/>
                        </a:lnTo>
                        <a:lnTo>
                          <a:pt x="192" y="492"/>
                        </a:lnTo>
                        <a:lnTo>
                          <a:pt x="196" y="487"/>
                        </a:lnTo>
                        <a:lnTo>
                          <a:pt x="198" y="483"/>
                        </a:lnTo>
                        <a:lnTo>
                          <a:pt x="198" y="479"/>
                        </a:lnTo>
                        <a:lnTo>
                          <a:pt x="200" y="475"/>
                        </a:lnTo>
                        <a:lnTo>
                          <a:pt x="201" y="473"/>
                        </a:lnTo>
                        <a:lnTo>
                          <a:pt x="203" y="468"/>
                        </a:lnTo>
                        <a:lnTo>
                          <a:pt x="205" y="468"/>
                        </a:lnTo>
                        <a:lnTo>
                          <a:pt x="264" y="388"/>
                        </a:lnTo>
                        <a:lnTo>
                          <a:pt x="264" y="386"/>
                        </a:lnTo>
                        <a:lnTo>
                          <a:pt x="272" y="380"/>
                        </a:lnTo>
                        <a:lnTo>
                          <a:pt x="276" y="377"/>
                        </a:lnTo>
                        <a:lnTo>
                          <a:pt x="283" y="369"/>
                        </a:lnTo>
                        <a:lnTo>
                          <a:pt x="287" y="363"/>
                        </a:lnTo>
                        <a:lnTo>
                          <a:pt x="293" y="359"/>
                        </a:lnTo>
                        <a:lnTo>
                          <a:pt x="296" y="354"/>
                        </a:lnTo>
                        <a:lnTo>
                          <a:pt x="302" y="348"/>
                        </a:lnTo>
                        <a:lnTo>
                          <a:pt x="304" y="342"/>
                        </a:lnTo>
                        <a:lnTo>
                          <a:pt x="306" y="339"/>
                        </a:lnTo>
                        <a:lnTo>
                          <a:pt x="310" y="335"/>
                        </a:lnTo>
                        <a:lnTo>
                          <a:pt x="312" y="329"/>
                        </a:lnTo>
                        <a:lnTo>
                          <a:pt x="314" y="323"/>
                        </a:lnTo>
                        <a:lnTo>
                          <a:pt x="314" y="320"/>
                        </a:lnTo>
                        <a:lnTo>
                          <a:pt x="315" y="316"/>
                        </a:lnTo>
                        <a:lnTo>
                          <a:pt x="317" y="310"/>
                        </a:lnTo>
                        <a:lnTo>
                          <a:pt x="319" y="304"/>
                        </a:lnTo>
                        <a:lnTo>
                          <a:pt x="319" y="299"/>
                        </a:lnTo>
                        <a:lnTo>
                          <a:pt x="321" y="293"/>
                        </a:lnTo>
                        <a:lnTo>
                          <a:pt x="321" y="289"/>
                        </a:lnTo>
                        <a:lnTo>
                          <a:pt x="321" y="283"/>
                        </a:lnTo>
                        <a:lnTo>
                          <a:pt x="323" y="278"/>
                        </a:lnTo>
                        <a:lnTo>
                          <a:pt x="323" y="272"/>
                        </a:lnTo>
                        <a:lnTo>
                          <a:pt x="325" y="268"/>
                        </a:lnTo>
                        <a:lnTo>
                          <a:pt x="325" y="263"/>
                        </a:lnTo>
                        <a:lnTo>
                          <a:pt x="325" y="257"/>
                        </a:lnTo>
                        <a:lnTo>
                          <a:pt x="325" y="253"/>
                        </a:lnTo>
                        <a:lnTo>
                          <a:pt x="327" y="247"/>
                        </a:lnTo>
                        <a:lnTo>
                          <a:pt x="327" y="244"/>
                        </a:lnTo>
                        <a:lnTo>
                          <a:pt x="327" y="238"/>
                        </a:lnTo>
                        <a:lnTo>
                          <a:pt x="327" y="234"/>
                        </a:lnTo>
                        <a:lnTo>
                          <a:pt x="327" y="230"/>
                        </a:lnTo>
                        <a:lnTo>
                          <a:pt x="327" y="225"/>
                        </a:lnTo>
                        <a:lnTo>
                          <a:pt x="327" y="221"/>
                        </a:lnTo>
                        <a:lnTo>
                          <a:pt x="327" y="217"/>
                        </a:lnTo>
                        <a:lnTo>
                          <a:pt x="327" y="217"/>
                        </a:lnTo>
                        <a:lnTo>
                          <a:pt x="329" y="215"/>
                        </a:lnTo>
                        <a:lnTo>
                          <a:pt x="333" y="211"/>
                        </a:lnTo>
                        <a:lnTo>
                          <a:pt x="338" y="207"/>
                        </a:lnTo>
                        <a:lnTo>
                          <a:pt x="344" y="202"/>
                        </a:lnTo>
                        <a:lnTo>
                          <a:pt x="348" y="196"/>
                        </a:lnTo>
                        <a:lnTo>
                          <a:pt x="350" y="192"/>
                        </a:lnTo>
                        <a:lnTo>
                          <a:pt x="354" y="187"/>
                        </a:lnTo>
                        <a:lnTo>
                          <a:pt x="355" y="181"/>
                        </a:lnTo>
                        <a:lnTo>
                          <a:pt x="357" y="175"/>
                        </a:lnTo>
                        <a:lnTo>
                          <a:pt x="359" y="169"/>
                        </a:lnTo>
                        <a:lnTo>
                          <a:pt x="361" y="162"/>
                        </a:lnTo>
                        <a:lnTo>
                          <a:pt x="361" y="154"/>
                        </a:lnTo>
                        <a:lnTo>
                          <a:pt x="361" y="147"/>
                        </a:lnTo>
                        <a:lnTo>
                          <a:pt x="361" y="141"/>
                        </a:lnTo>
                        <a:lnTo>
                          <a:pt x="361" y="133"/>
                        </a:lnTo>
                        <a:lnTo>
                          <a:pt x="361" y="130"/>
                        </a:lnTo>
                        <a:lnTo>
                          <a:pt x="359" y="124"/>
                        </a:lnTo>
                        <a:lnTo>
                          <a:pt x="359" y="120"/>
                        </a:lnTo>
                        <a:lnTo>
                          <a:pt x="359" y="116"/>
                        </a:lnTo>
                        <a:lnTo>
                          <a:pt x="359" y="114"/>
                        </a:lnTo>
                        <a:lnTo>
                          <a:pt x="359" y="111"/>
                        </a:lnTo>
                        <a:lnTo>
                          <a:pt x="357" y="109"/>
                        </a:lnTo>
                        <a:lnTo>
                          <a:pt x="354" y="107"/>
                        </a:lnTo>
                        <a:lnTo>
                          <a:pt x="352" y="111"/>
                        </a:lnTo>
                        <a:lnTo>
                          <a:pt x="348" y="111"/>
                        </a:lnTo>
                        <a:lnTo>
                          <a:pt x="346" y="114"/>
                        </a:lnTo>
                        <a:lnTo>
                          <a:pt x="344" y="118"/>
                        </a:lnTo>
                        <a:lnTo>
                          <a:pt x="340" y="124"/>
                        </a:lnTo>
                        <a:lnTo>
                          <a:pt x="336" y="130"/>
                        </a:lnTo>
                        <a:lnTo>
                          <a:pt x="334" y="137"/>
                        </a:lnTo>
                        <a:lnTo>
                          <a:pt x="331" y="143"/>
                        </a:lnTo>
                        <a:lnTo>
                          <a:pt x="327" y="152"/>
                        </a:lnTo>
                        <a:lnTo>
                          <a:pt x="323" y="158"/>
                        </a:lnTo>
                        <a:lnTo>
                          <a:pt x="321" y="166"/>
                        </a:lnTo>
                        <a:lnTo>
                          <a:pt x="317" y="171"/>
                        </a:lnTo>
                        <a:lnTo>
                          <a:pt x="315" y="177"/>
                        </a:lnTo>
                        <a:lnTo>
                          <a:pt x="314" y="181"/>
                        </a:lnTo>
                        <a:lnTo>
                          <a:pt x="312" y="185"/>
                        </a:lnTo>
                        <a:lnTo>
                          <a:pt x="312" y="187"/>
                        </a:lnTo>
                        <a:lnTo>
                          <a:pt x="312" y="188"/>
                        </a:lnTo>
                        <a:lnTo>
                          <a:pt x="312" y="187"/>
                        </a:lnTo>
                        <a:lnTo>
                          <a:pt x="312" y="183"/>
                        </a:lnTo>
                        <a:lnTo>
                          <a:pt x="312" y="177"/>
                        </a:lnTo>
                        <a:lnTo>
                          <a:pt x="312" y="169"/>
                        </a:lnTo>
                        <a:lnTo>
                          <a:pt x="312" y="166"/>
                        </a:lnTo>
                        <a:lnTo>
                          <a:pt x="312" y="160"/>
                        </a:lnTo>
                        <a:lnTo>
                          <a:pt x="312" y="154"/>
                        </a:lnTo>
                        <a:lnTo>
                          <a:pt x="312" y="150"/>
                        </a:lnTo>
                        <a:lnTo>
                          <a:pt x="312" y="143"/>
                        </a:lnTo>
                        <a:lnTo>
                          <a:pt x="312" y="139"/>
                        </a:lnTo>
                        <a:lnTo>
                          <a:pt x="312" y="131"/>
                        </a:lnTo>
                        <a:lnTo>
                          <a:pt x="314" y="128"/>
                        </a:lnTo>
                        <a:lnTo>
                          <a:pt x="312" y="120"/>
                        </a:lnTo>
                        <a:lnTo>
                          <a:pt x="312" y="114"/>
                        </a:lnTo>
                        <a:lnTo>
                          <a:pt x="312" y="107"/>
                        </a:lnTo>
                        <a:lnTo>
                          <a:pt x="312" y="103"/>
                        </a:lnTo>
                        <a:lnTo>
                          <a:pt x="312" y="95"/>
                        </a:lnTo>
                        <a:lnTo>
                          <a:pt x="312" y="90"/>
                        </a:lnTo>
                        <a:lnTo>
                          <a:pt x="312" y="84"/>
                        </a:lnTo>
                        <a:lnTo>
                          <a:pt x="312" y="80"/>
                        </a:lnTo>
                        <a:lnTo>
                          <a:pt x="310" y="73"/>
                        </a:lnTo>
                        <a:lnTo>
                          <a:pt x="310" y="69"/>
                        </a:lnTo>
                        <a:lnTo>
                          <a:pt x="310" y="65"/>
                        </a:lnTo>
                        <a:lnTo>
                          <a:pt x="310" y="61"/>
                        </a:lnTo>
                        <a:lnTo>
                          <a:pt x="308" y="52"/>
                        </a:lnTo>
                        <a:lnTo>
                          <a:pt x="308" y="48"/>
                        </a:lnTo>
                        <a:lnTo>
                          <a:pt x="306" y="44"/>
                        </a:lnTo>
                        <a:lnTo>
                          <a:pt x="302" y="40"/>
                        </a:lnTo>
                        <a:lnTo>
                          <a:pt x="300" y="36"/>
                        </a:lnTo>
                        <a:lnTo>
                          <a:pt x="298" y="33"/>
                        </a:lnTo>
                        <a:lnTo>
                          <a:pt x="295" y="27"/>
                        </a:lnTo>
                        <a:lnTo>
                          <a:pt x="291" y="25"/>
                        </a:lnTo>
                        <a:lnTo>
                          <a:pt x="287" y="23"/>
                        </a:lnTo>
                        <a:lnTo>
                          <a:pt x="281" y="25"/>
                        </a:lnTo>
                        <a:lnTo>
                          <a:pt x="277" y="29"/>
                        </a:lnTo>
                        <a:lnTo>
                          <a:pt x="276" y="36"/>
                        </a:lnTo>
                        <a:lnTo>
                          <a:pt x="272" y="40"/>
                        </a:lnTo>
                        <a:lnTo>
                          <a:pt x="270" y="48"/>
                        </a:lnTo>
                        <a:lnTo>
                          <a:pt x="268" y="50"/>
                        </a:lnTo>
                        <a:lnTo>
                          <a:pt x="268" y="55"/>
                        </a:lnTo>
                        <a:lnTo>
                          <a:pt x="268" y="61"/>
                        </a:lnTo>
                        <a:lnTo>
                          <a:pt x="268" y="65"/>
                        </a:lnTo>
                        <a:lnTo>
                          <a:pt x="266" y="71"/>
                        </a:lnTo>
                        <a:lnTo>
                          <a:pt x="264" y="76"/>
                        </a:lnTo>
                        <a:lnTo>
                          <a:pt x="264" y="82"/>
                        </a:lnTo>
                        <a:lnTo>
                          <a:pt x="264" y="88"/>
                        </a:lnTo>
                        <a:lnTo>
                          <a:pt x="262" y="93"/>
                        </a:lnTo>
                        <a:lnTo>
                          <a:pt x="262" y="99"/>
                        </a:lnTo>
                        <a:lnTo>
                          <a:pt x="260" y="105"/>
                        </a:lnTo>
                        <a:lnTo>
                          <a:pt x="260" y="112"/>
                        </a:lnTo>
                        <a:lnTo>
                          <a:pt x="260" y="118"/>
                        </a:lnTo>
                        <a:lnTo>
                          <a:pt x="260" y="124"/>
                        </a:lnTo>
                        <a:lnTo>
                          <a:pt x="258" y="128"/>
                        </a:lnTo>
                        <a:lnTo>
                          <a:pt x="258" y="135"/>
                        </a:lnTo>
                        <a:lnTo>
                          <a:pt x="258" y="139"/>
                        </a:lnTo>
                        <a:lnTo>
                          <a:pt x="257" y="143"/>
                        </a:lnTo>
                        <a:lnTo>
                          <a:pt x="257" y="149"/>
                        </a:lnTo>
                        <a:lnTo>
                          <a:pt x="257" y="152"/>
                        </a:lnTo>
                        <a:lnTo>
                          <a:pt x="257" y="160"/>
                        </a:lnTo>
                        <a:lnTo>
                          <a:pt x="257" y="166"/>
                        </a:lnTo>
                        <a:lnTo>
                          <a:pt x="257" y="168"/>
                        </a:lnTo>
                        <a:lnTo>
                          <a:pt x="257" y="169"/>
                        </a:lnTo>
                        <a:lnTo>
                          <a:pt x="257" y="166"/>
                        </a:lnTo>
                        <a:lnTo>
                          <a:pt x="255" y="162"/>
                        </a:lnTo>
                        <a:lnTo>
                          <a:pt x="255" y="156"/>
                        </a:lnTo>
                        <a:lnTo>
                          <a:pt x="253" y="149"/>
                        </a:lnTo>
                        <a:lnTo>
                          <a:pt x="251" y="141"/>
                        </a:lnTo>
                        <a:lnTo>
                          <a:pt x="247" y="133"/>
                        </a:lnTo>
                        <a:lnTo>
                          <a:pt x="247" y="130"/>
                        </a:lnTo>
                        <a:lnTo>
                          <a:pt x="245" y="124"/>
                        </a:lnTo>
                        <a:lnTo>
                          <a:pt x="243" y="120"/>
                        </a:lnTo>
                        <a:lnTo>
                          <a:pt x="243" y="116"/>
                        </a:lnTo>
                        <a:lnTo>
                          <a:pt x="239" y="111"/>
                        </a:lnTo>
                        <a:lnTo>
                          <a:pt x="239" y="107"/>
                        </a:lnTo>
                        <a:lnTo>
                          <a:pt x="238" y="103"/>
                        </a:lnTo>
                        <a:lnTo>
                          <a:pt x="236" y="97"/>
                        </a:lnTo>
                        <a:lnTo>
                          <a:pt x="234" y="93"/>
                        </a:lnTo>
                        <a:lnTo>
                          <a:pt x="232" y="88"/>
                        </a:lnTo>
                        <a:lnTo>
                          <a:pt x="232" y="84"/>
                        </a:lnTo>
                        <a:lnTo>
                          <a:pt x="230" y="82"/>
                        </a:lnTo>
                        <a:lnTo>
                          <a:pt x="226" y="73"/>
                        </a:lnTo>
                        <a:lnTo>
                          <a:pt x="222" y="67"/>
                        </a:lnTo>
                        <a:lnTo>
                          <a:pt x="220" y="61"/>
                        </a:lnTo>
                        <a:lnTo>
                          <a:pt x="219" y="59"/>
                        </a:lnTo>
                        <a:lnTo>
                          <a:pt x="213" y="55"/>
                        </a:lnTo>
                        <a:lnTo>
                          <a:pt x="207" y="52"/>
                        </a:lnTo>
                        <a:lnTo>
                          <a:pt x="201" y="52"/>
                        </a:lnTo>
                        <a:lnTo>
                          <a:pt x="196" y="54"/>
                        </a:lnTo>
                        <a:lnTo>
                          <a:pt x="190" y="57"/>
                        </a:lnTo>
                        <a:lnTo>
                          <a:pt x="186" y="63"/>
                        </a:lnTo>
                        <a:lnTo>
                          <a:pt x="184" y="65"/>
                        </a:lnTo>
                        <a:lnTo>
                          <a:pt x="184" y="71"/>
                        </a:lnTo>
                        <a:lnTo>
                          <a:pt x="182" y="74"/>
                        </a:lnTo>
                        <a:lnTo>
                          <a:pt x="184" y="80"/>
                        </a:lnTo>
                        <a:lnTo>
                          <a:pt x="184" y="84"/>
                        </a:lnTo>
                        <a:lnTo>
                          <a:pt x="186" y="92"/>
                        </a:lnTo>
                        <a:lnTo>
                          <a:pt x="186" y="95"/>
                        </a:lnTo>
                        <a:lnTo>
                          <a:pt x="188" y="101"/>
                        </a:lnTo>
                        <a:lnTo>
                          <a:pt x="190" y="105"/>
                        </a:lnTo>
                        <a:lnTo>
                          <a:pt x="190" y="111"/>
                        </a:lnTo>
                        <a:lnTo>
                          <a:pt x="192" y="114"/>
                        </a:lnTo>
                        <a:lnTo>
                          <a:pt x="194" y="120"/>
                        </a:lnTo>
                        <a:lnTo>
                          <a:pt x="194" y="126"/>
                        </a:lnTo>
                        <a:lnTo>
                          <a:pt x="196" y="131"/>
                        </a:lnTo>
                        <a:lnTo>
                          <a:pt x="196" y="137"/>
                        </a:lnTo>
                        <a:lnTo>
                          <a:pt x="198" y="143"/>
                        </a:lnTo>
                        <a:lnTo>
                          <a:pt x="200" y="149"/>
                        </a:lnTo>
                        <a:lnTo>
                          <a:pt x="201" y="156"/>
                        </a:lnTo>
                        <a:lnTo>
                          <a:pt x="201" y="160"/>
                        </a:lnTo>
                        <a:lnTo>
                          <a:pt x="203" y="166"/>
                        </a:lnTo>
                        <a:lnTo>
                          <a:pt x="205" y="171"/>
                        </a:lnTo>
                        <a:lnTo>
                          <a:pt x="207" y="177"/>
                        </a:lnTo>
                        <a:lnTo>
                          <a:pt x="207" y="181"/>
                        </a:lnTo>
                        <a:lnTo>
                          <a:pt x="209" y="185"/>
                        </a:lnTo>
                        <a:lnTo>
                          <a:pt x="209" y="190"/>
                        </a:lnTo>
                        <a:lnTo>
                          <a:pt x="211" y="194"/>
                        </a:lnTo>
                        <a:lnTo>
                          <a:pt x="213" y="202"/>
                        </a:lnTo>
                        <a:lnTo>
                          <a:pt x="215" y="207"/>
                        </a:lnTo>
                        <a:lnTo>
                          <a:pt x="217" y="211"/>
                        </a:lnTo>
                        <a:lnTo>
                          <a:pt x="217" y="213"/>
                        </a:lnTo>
                        <a:lnTo>
                          <a:pt x="207" y="261"/>
                        </a:lnTo>
                        <a:lnTo>
                          <a:pt x="205" y="259"/>
                        </a:lnTo>
                        <a:lnTo>
                          <a:pt x="205" y="253"/>
                        </a:lnTo>
                        <a:lnTo>
                          <a:pt x="203" y="249"/>
                        </a:lnTo>
                        <a:lnTo>
                          <a:pt x="201" y="245"/>
                        </a:lnTo>
                        <a:lnTo>
                          <a:pt x="201" y="240"/>
                        </a:lnTo>
                        <a:lnTo>
                          <a:pt x="200" y="236"/>
                        </a:lnTo>
                        <a:lnTo>
                          <a:pt x="198" y="230"/>
                        </a:lnTo>
                        <a:lnTo>
                          <a:pt x="198" y="225"/>
                        </a:lnTo>
                        <a:lnTo>
                          <a:pt x="196" y="217"/>
                        </a:lnTo>
                        <a:lnTo>
                          <a:pt x="194" y="211"/>
                        </a:lnTo>
                        <a:lnTo>
                          <a:pt x="192" y="204"/>
                        </a:lnTo>
                        <a:lnTo>
                          <a:pt x="190" y="196"/>
                        </a:lnTo>
                        <a:lnTo>
                          <a:pt x="188" y="188"/>
                        </a:lnTo>
                        <a:lnTo>
                          <a:pt x="186" y="181"/>
                        </a:lnTo>
                        <a:lnTo>
                          <a:pt x="184" y="173"/>
                        </a:lnTo>
                        <a:lnTo>
                          <a:pt x="182" y="166"/>
                        </a:lnTo>
                        <a:lnTo>
                          <a:pt x="181" y="158"/>
                        </a:lnTo>
                        <a:lnTo>
                          <a:pt x="179" y="150"/>
                        </a:lnTo>
                        <a:lnTo>
                          <a:pt x="177" y="143"/>
                        </a:lnTo>
                        <a:lnTo>
                          <a:pt x="175" y="135"/>
                        </a:lnTo>
                        <a:lnTo>
                          <a:pt x="173" y="130"/>
                        </a:lnTo>
                        <a:lnTo>
                          <a:pt x="173" y="124"/>
                        </a:lnTo>
                        <a:lnTo>
                          <a:pt x="171" y="116"/>
                        </a:lnTo>
                        <a:lnTo>
                          <a:pt x="171" y="111"/>
                        </a:lnTo>
                        <a:lnTo>
                          <a:pt x="169" y="105"/>
                        </a:lnTo>
                        <a:lnTo>
                          <a:pt x="169" y="99"/>
                        </a:lnTo>
                        <a:lnTo>
                          <a:pt x="169" y="93"/>
                        </a:lnTo>
                        <a:lnTo>
                          <a:pt x="167" y="90"/>
                        </a:lnTo>
                        <a:lnTo>
                          <a:pt x="167" y="88"/>
                        </a:lnTo>
                        <a:lnTo>
                          <a:pt x="169" y="86"/>
                        </a:lnTo>
                        <a:lnTo>
                          <a:pt x="169" y="80"/>
                        </a:lnTo>
                        <a:lnTo>
                          <a:pt x="169" y="74"/>
                        </a:lnTo>
                        <a:lnTo>
                          <a:pt x="169" y="69"/>
                        </a:lnTo>
                        <a:lnTo>
                          <a:pt x="173" y="65"/>
                        </a:lnTo>
                        <a:lnTo>
                          <a:pt x="173" y="61"/>
                        </a:lnTo>
                        <a:lnTo>
                          <a:pt x="177" y="55"/>
                        </a:lnTo>
                        <a:lnTo>
                          <a:pt x="179" y="52"/>
                        </a:lnTo>
                        <a:lnTo>
                          <a:pt x="181" y="48"/>
                        </a:lnTo>
                        <a:lnTo>
                          <a:pt x="186" y="40"/>
                        </a:lnTo>
                        <a:lnTo>
                          <a:pt x="194" y="33"/>
                        </a:lnTo>
                        <a:lnTo>
                          <a:pt x="201" y="29"/>
                        </a:lnTo>
                        <a:lnTo>
                          <a:pt x="209" y="27"/>
                        </a:lnTo>
                        <a:lnTo>
                          <a:pt x="215" y="29"/>
                        </a:lnTo>
                        <a:lnTo>
                          <a:pt x="222" y="35"/>
                        </a:lnTo>
                        <a:lnTo>
                          <a:pt x="226" y="38"/>
                        </a:lnTo>
                        <a:lnTo>
                          <a:pt x="230" y="42"/>
                        </a:lnTo>
                        <a:lnTo>
                          <a:pt x="232" y="48"/>
                        </a:lnTo>
                        <a:lnTo>
                          <a:pt x="236" y="52"/>
                        </a:lnTo>
                        <a:lnTo>
                          <a:pt x="236" y="57"/>
                        </a:lnTo>
                        <a:lnTo>
                          <a:pt x="239" y="61"/>
                        </a:lnTo>
                        <a:lnTo>
                          <a:pt x="239" y="65"/>
                        </a:lnTo>
                        <a:lnTo>
                          <a:pt x="241" y="71"/>
                        </a:lnTo>
                        <a:lnTo>
                          <a:pt x="243" y="76"/>
                        </a:lnTo>
                        <a:lnTo>
                          <a:pt x="245" y="80"/>
                        </a:lnTo>
                        <a:lnTo>
                          <a:pt x="245" y="78"/>
                        </a:lnTo>
                        <a:lnTo>
                          <a:pt x="245" y="76"/>
                        </a:lnTo>
                        <a:lnTo>
                          <a:pt x="245" y="71"/>
                        </a:lnTo>
                        <a:lnTo>
                          <a:pt x="247" y="67"/>
                        </a:lnTo>
                        <a:lnTo>
                          <a:pt x="249" y="61"/>
                        </a:lnTo>
                        <a:lnTo>
                          <a:pt x="251" y="55"/>
                        </a:lnTo>
                        <a:lnTo>
                          <a:pt x="253" y="48"/>
                        </a:lnTo>
                        <a:lnTo>
                          <a:pt x="255" y="40"/>
                        </a:lnTo>
                        <a:lnTo>
                          <a:pt x="258" y="33"/>
                        </a:lnTo>
                        <a:lnTo>
                          <a:pt x="260" y="27"/>
                        </a:lnTo>
                        <a:lnTo>
                          <a:pt x="262" y="19"/>
                        </a:lnTo>
                        <a:lnTo>
                          <a:pt x="266" y="14"/>
                        </a:lnTo>
                        <a:lnTo>
                          <a:pt x="268" y="8"/>
                        </a:lnTo>
                        <a:lnTo>
                          <a:pt x="272" y="4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1" y="0"/>
                        </a:lnTo>
                        <a:lnTo>
                          <a:pt x="289" y="2"/>
                        </a:lnTo>
                        <a:lnTo>
                          <a:pt x="295" y="6"/>
                        </a:lnTo>
                        <a:lnTo>
                          <a:pt x="300" y="12"/>
                        </a:lnTo>
                        <a:lnTo>
                          <a:pt x="306" y="17"/>
                        </a:lnTo>
                        <a:lnTo>
                          <a:pt x="310" y="25"/>
                        </a:lnTo>
                        <a:lnTo>
                          <a:pt x="314" y="31"/>
                        </a:lnTo>
                        <a:lnTo>
                          <a:pt x="317" y="38"/>
                        </a:lnTo>
                        <a:lnTo>
                          <a:pt x="317" y="40"/>
                        </a:lnTo>
                        <a:lnTo>
                          <a:pt x="317" y="46"/>
                        </a:lnTo>
                        <a:lnTo>
                          <a:pt x="317" y="52"/>
                        </a:lnTo>
                        <a:lnTo>
                          <a:pt x="319" y="59"/>
                        </a:lnTo>
                        <a:lnTo>
                          <a:pt x="319" y="67"/>
                        </a:lnTo>
                        <a:lnTo>
                          <a:pt x="319" y="74"/>
                        </a:lnTo>
                        <a:lnTo>
                          <a:pt x="319" y="82"/>
                        </a:lnTo>
                        <a:lnTo>
                          <a:pt x="319" y="92"/>
                        </a:lnTo>
                        <a:lnTo>
                          <a:pt x="319" y="99"/>
                        </a:lnTo>
                        <a:lnTo>
                          <a:pt x="319" y="107"/>
                        </a:lnTo>
                        <a:lnTo>
                          <a:pt x="319" y="112"/>
                        </a:lnTo>
                        <a:lnTo>
                          <a:pt x="319" y="120"/>
                        </a:lnTo>
                        <a:lnTo>
                          <a:pt x="319" y="124"/>
                        </a:lnTo>
                        <a:lnTo>
                          <a:pt x="319" y="128"/>
                        </a:lnTo>
                        <a:lnTo>
                          <a:pt x="319" y="131"/>
                        </a:lnTo>
                        <a:lnTo>
                          <a:pt x="319" y="131"/>
                        </a:lnTo>
                        <a:lnTo>
                          <a:pt x="319" y="130"/>
                        </a:lnTo>
                        <a:lnTo>
                          <a:pt x="323" y="124"/>
                        </a:lnTo>
                        <a:lnTo>
                          <a:pt x="327" y="118"/>
                        </a:lnTo>
                        <a:lnTo>
                          <a:pt x="334" y="111"/>
                        </a:lnTo>
                        <a:lnTo>
                          <a:pt x="340" y="101"/>
                        </a:lnTo>
                        <a:lnTo>
                          <a:pt x="348" y="95"/>
                        </a:lnTo>
                        <a:lnTo>
                          <a:pt x="355" y="92"/>
                        </a:lnTo>
                        <a:lnTo>
                          <a:pt x="361" y="92"/>
                        </a:lnTo>
                        <a:lnTo>
                          <a:pt x="367" y="93"/>
                        </a:lnTo>
                        <a:lnTo>
                          <a:pt x="371" y="97"/>
                        </a:lnTo>
                        <a:lnTo>
                          <a:pt x="373" y="103"/>
                        </a:lnTo>
                        <a:lnTo>
                          <a:pt x="374" y="111"/>
                        </a:lnTo>
                        <a:lnTo>
                          <a:pt x="374" y="114"/>
                        </a:lnTo>
                        <a:lnTo>
                          <a:pt x="376" y="118"/>
                        </a:lnTo>
                        <a:lnTo>
                          <a:pt x="376" y="124"/>
                        </a:lnTo>
                        <a:lnTo>
                          <a:pt x="376" y="128"/>
                        </a:lnTo>
                        <a:lnTo>
                          <a:pt x="376" y="131"/>
                        </a:lnTo>
                        <a:lnTo>
                          <a:pt x="376" y="137"/>
                        </a:lnTo>
                        <a:lnTo>
                          <a:pt x="376" y="143"/>
                        </a:lnTo>
                        <a:lnTo>
                          <a:pt x="378" y="149"/>
                        </a:lnTo>
                        <a:lnTo>
                          <a:pt x="376" y="152"/>
                        </a:lnTo>
                        <a:lnTo>
                          <a:pt x="376" y="158"/>
                        </a:lnTo>
                        <a:lnTo>
                          <a:pt x="376" y="162"/>
                        </a:lnTo>
                        <a:lnTo>
                          <a:pt x="376" y="168"/>
                        </a:lnTo>
                        <a:lnTo>
                          <a:pt x="376" y="171"/>
                        </a:lnTo>
                        <a:lnTo>
                          <a:pt x="376" y="177"/>
                        </a:lnTo>
                        <a:lnTo>
                          <a:pt x="376" y="181"/>
                        </a:lnTo>
                        <a:lnTo>
                          <a:pt x="376" y="185"/>
                        </a:lnTo>
                        <a:lnTo>
                          <a:pt x="374" y="194"/>
                        </a:lnTo>
                        <a:lnTo>
                          <a:pt x="373" y="200"/>
                        </a:lnTo>
                        <a:lnTo>
                          <a:pt x="371" y="206"/>
                        </a:lnTo>
                        <a:lnTo>
                          <a:pt x="367" y="211"/>
                        </a:lnTo>
                        <a:lnTo>
                          <a:pt x="363" y="213"/>
                        </a:lnTo>
                        <a:lnTo>
                          <a:pt x="359" y="219"/>
                        </a:lnTo>
                        <a:lnTo>
                          <a:pt x="355" y="223"/>
                        </a:lnTo>
                        <a:lnTo>
                          <a:pt x="352" y="226"/>
                        </a:lnTo>
                        <a:lnTo>
                          <a:pt x="346" y="230"/>
                        </a:lnTo>
                        <a:lnTo>
                          <a:pt x="344" y="234"/>
                        </a:lnTo>
                        <a:lnTo>
                          <a:pt x="342" y="234"/>
                        </a:lnTo>
                        <a:lnTo>
                          <a:pt x="342" y="236"/>
                        </a:lnTo>
                        <a:lnTo>
                          <a:pt x="342" y="240"/>
                        </a:lnTo>
                        <a:lnTo>
                          <a:pt x="342" y="244"/>
                        </a:lnTo>
                        <a:lnTo>
                          <a:pt x="340" y="247"/>
                        </a:lnTo>
                        <a:lnTo>
                          <a:pt x="340" y="253"/>
                        </a:lnTo>
                        <a:lnTo>
                          <a:pt x="338" y="261"/>
                        </a:lnTo>
                        <a:lnTo>
                          <a:pt x="338" y="266"/>
                        </a:lnTo>
                        <a:lnTo>
                          <a:pt x="336" y="274"/>
                        </a:lnTo>
                        <a:lnTo>
                          <a:pt x="336" y="282"/>
                        </a:lnTo>
                        <a:lnTo>
                          <a:pt x="334" y="289"/>
                        </a:lnTo>
                        <a:lnTo>
                          <a:pt x="334" y="299"/>
                        </a:lnTo>
                        <a:lnTo>
                          <a:pt x="333" y="304"/>
                        </a:lnTo>
                        <a:lnTo>
                          <a:pt x="331" y="314"/>
                        </a:lnTo>
                        <a:lnTo>
                          <a:pt x="331" y="320"/>
                        </a:lnTo>
                        <a:lnTo>
                          <a:pt x="329" y="329"/>
                        </a:lnTo>
                        <a:lnTo>
                          <a:pt x="327" y="335"/>
                        </a:lnTo>
                        <a:lnTo>
                          <a:pt x="327" y="342"/>
                        </a:lnTo>
                        <a:lnTo>
                          <a:pt x="325" y="348"/>
                        </a:lnTo>
                        <a:lnTo>
                          <a:pt x="323" y="354"/>
                        </a:lnTo>
                        <a:lnTo>
                          <a:pt x="321" y="359"/>
                        </a:lnTo>
                        <a:lnTo>
                          <a:pt x="317" y="365"/>
                        </a:lnTo>
                        <a:lnTo>
                          <a:pt x="315" y="369"/>
                        </a:lnTo>
                        <a:lnTo>
                          <a:pt x="314" y="373"/>
                        </a:lnTo>
                        <a:lnTo>
                          <a:pt x="310" y="380"/>
                        </a:lnTo>
                        <a:lnTo>
                          <a:pt x="304" y="388"/>
                        </a:lnTo>
                        <a:lnTo>
                          <a:pt x="300" y="394"/>
                        </a:lnTo>
                        <a:lnTo>
                          <a:pt x="295" y="399"/>
                        </a:lnTo>
                        <a:lnTo>
                          <a:pt x="289" y="403"/>
                        </a:lnTo>
                        <a:lnTo>
                          <a:pt x="285" y="409"/>
                        </a:lnTo>
                        <a:lnTo>
                          <a:pt x="279" y="413"/>
                        </a:lnTo>
                        <a:lnTo>
                          <a:pt x="274" y="416"/>
                        </a:lnTo>
                        <a:lnTo>
                          <a:pt x="270" y="418"/>
                        </a:lnTo>
                        <a:lnTo>
                          <a:pt x="266" y="422"/>
                        </a:lnTo>
                        <a:lnTo>
                          <a:pt x="264" y="422"/>
                        </a:lnTo>
                        <a:lnTo>
                          <a:pt x="264" y="424"/>
                        </a:lnTo>
                        <a:lnTo>
                          <a:pt x="224" y="481"/>
                        </a:lnTo>
                        <a:lnTo>
                          <a:pt x="222" y="483"/>
                        </a:lnTo>
                        <a:lnTo>
                          <a:pt x="220" y="489"/>
                        </a:lnTo>
                        <a:lnTo>
                          <a:pt x="219" y="491"/>
                        </a:lnTo>
                        <a:lnTo>
                          <a:pt x="217" y="494"/>
                        </a:lnTo>
                        <a:lnTo>
                          <a:pt x="215" y="500"/>
                        </a:lnTo>
                        <a:lnTo>
                          <a:pt x="213" y="506"/>
                        </a:lnTo>
                        <a:lnTo>
                          <a:pt x="209" y="510"/>
                        </a:lnTo>
                        <a:lnTo>
                          <a:pt x="207" y="517"/>
                        </a:lnTo>
                        <a:lnTo>
                          <a:pt x="203" y="523"/>
                        </a:lnTo>
                        <a:lnTo>
                          <a:pt x="200" y="532"/>
                        </a:lnTo>
                        <a:lnTo>
                          <a:pt x="196" y="538"/>
                        </a:lnTo>
                        <a:lnTo>
                          <a:pt x="192" y="546"/>
                        </a:lnTo>
                        <a:lnTo>
                          <a:pt x="188" y="553"/>
                        </a:lnTo>
                        <a:lnTo>
                          <a:pt x="184" y="563"/>
                        </a:lnTo>
                        <a:lnTo>
                          <a:pt x="179" y="568"/>
                        </a:lnTo>
                        <a:lnTo>
                          <a:pt x="175" y="578"/>
                        </a:lnTo>
                        <a:lnTo>
                          <a:pt x="169" y="586"/>
                        </a:lnTo>
                        <a:lnTo>
                          <a:pt x="165" y="595"/>
                        </a:lnTo>
                        <a:lnTo>
                          <a:pt x="160" y="603"/>
                        </a:lnTo>
                        <a:lnTo>
                          <a:pt x="154" y="610"/>
                        </a:lnTo>
                        <a:lnTo>
                          <a:pt x="148" y="618"/>
                        </a:lnTo>
                        <a:lnTo>
                          <a:pt x="144" y="626"/>
                        </a:lnTo>
                        <a:lnTo>
                          <a:pt x="137" y="631"/>
                        </a:lnTo>
                        <a:lnTo>
                          <a:pt x="131" y="639"/>
                        </a:lnTo>
                        <a:lnTo>
                          <a:pt x="125" y="645"/>
                        </a:lnTo>
                        <a:lnTo>
                          <a:pt x="120" y="652"/>
                        </a:lnTo>
                        <a:lnTo>
                          <a:pt x="114" y="656"/>
                        </a:lnTo>
                        <a:lnTo>
                          <a:pt x="108" y="662"/>
                        </a:lnTo>
                        <a:lnTo>
                          <a:pt x="103" y="665"/>
                        </a:lnTo>
                        <a:lnTo>
                          <a:pt x="99" y="671"/>
                        </a:lnTo>
                        <a:lnTo>
                          <a:pt x="91" y="673"/>
                        </a:lnTo>
                        <a:lnTo>
                          <a:pt x="85" y="677"/>
                        </a:lnTo>
                        <a:lnTo>
                          <a:pt x="80" y="679"/>
                        </a:lnTo>
                        <a:lnTo>
                          <a:pt x="76" y="681"/>
                        </a:lnTo>
                        <a:lnTo>
                          <a:pt x="70" y="683"/>
                        </a:lnTo>
                        <a:lnTo>
                          <a:pt x="66" y="684"/>
                        </a:lnTo>
                        <a:lnTo>
                          <a:pt x="61" y="686"/>
                        </a:lnTo>
                        <a:lnTo>
                          <a:pt x="57" y="690"/>
                        </a:lnTo>
                        <a:lnTo>
                          <a:pt x="53" y="690"/>
                        </a:lnTo>
                        <a:lnTo>
                          <a:pt x="49" y="692"/>
                        </a:lnTo>
                        <a:lnTo>
                          <a:pt x="46" y="692"/>
                        </a:lnTo>
                        <a:lnTo>
                          <a:pt x="42" y="694"/>
                        </a:lnTo>
                        <a:lnTo>
                          <a:pt x="34" y="696"/>
                        </a:lnTo>
                        <a:lnTo>
                          <a:pt x="30" y="698"/>
                        </a:lnTo>
                        <a:lnTo>
                          <a:pt x="23" y="698"/>
                        </a:lnTo>
                        <a:lnTo>
                          <a:pt x="19" y="698"/>
                        </a:lnTo>
                        <a:lnTo>
                          <a:pt x="15" y="698"/>
                        </a:lnTo>
                        <a:lnTo>
                          <a:pt x="13" y="698"/>
                        </a:lnTo>
                        <a:lnTo>
                          <a:pt x="9" y="698"/>
                        </a:lnTo>
                        <a:lnTo>
                          <a:pt x="8" y="698"/>
                        </a:lnTo>
                        <a:lnTo>
                          <a:pt x="0" y="645"/>
                        </a:lnTo>
                        <a:lnTo>
                          <a:pt x="0" y="6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2" name=""/>
                <p:cNvSpPr/>
                <p:nvPr/>
              </p:nvSpPr>
              <p:spPr>
                <a:xfrm>
                  <a:off x="3236760" y="6483240"/>
                  <a:ext cx="466920" cy="297000"/>
                </a:xfrm>
                <a:custGeom>
                  <a:avLst/>
                  <a:gdLst/>
                  <a:ahLst/>
                  <a:rect l="l" t="t" r="r" b="b"/>
                  <a:pathLst>
                    <a:path w="445" h="325">
                      <a:moveTo>
                        <a:pt x="0" y="173"/>
                      </a:moveTo>
                      <a:lnTo>
                        <a:pt x="148" y="53"/>
                      </a:lnTo>
                      <a:lnTo>
                        <a:pt x="310" y="0"/>
                      </a:lnTo>
                      <a:lnTo>
                        <a:pt x="405" y="2"/>
                      </a:lnTo>
                      <a:lnTo>
                        <a:pt x="445" y="63"/>
                      </a:lnTo>
                      <a:lnTo>
                        <a:pt x="391" y="133"/>
                      </a:lnTo>
                      <a:lnTo>
                        <a:pt x="87" y="325"/>
                      </a:lnTo>
                      <a:lnTo>
                        <a:pt x="17" y="281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411280" y="6546960"/>
                  <a:ext cx="366840" cy="312480"/>
                </a:xfrm>
                <a:custGeom>
                  <a:avLst/>
                  <a:gdLst/>
                  <a:ahLst/>
                  <a:rect l="l" t="t" r="r" b="b"/>
                  <a:pathLst>
                    <a:path w="352" h="340">
                      <a:moveTo>
                        <a:pt x="0" y="27"/>
                      </a:moveTo>
                      <a:lnTo>
                        <a:pt x="82" y="0"/>
                      </a:lnTo>
                      <a:lnTo>
                        <a:pt x="230" y="69"/>
                      </a:lnTo>
                      <a:lnTo>
                        <a:pt x="258" y="162"/>
                      </a:lnTo>
                      <a:lnTo>
                        <a:pt x="348" y="238"/>
                      </a:lnTo>
                      <a:lnTo>
                        <a:pt x="352" y="297"/>
                      </a:lnTo>
                      <a:lnTo>
                        <a:pt x="302" y="335"/>
                      </a:lnTo>
                      <a:lnTo>
                        <a:pt x="156" y="340"/>
                      </a:lnTo>
                      <a:lnTo>
                        <a:pt x="53" y="306"/>
                      </a:lnTo>
                      <a:lnTo>
                        <a:pt x="15" y="255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86e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638440" y="5011560"/>
                  <a:ext cx="257040" cy="370080"/>
                </a:xfrm>
                <a:custGeom>
                  <a:avLst/>
                  <a:gdLst/>
                  <a:ahLst/>
                  <a:rect l="l" t="t" r="r" b="b"/>
                  <a:pathLst>
                    <a:path w="246" h="405">
                      <a:moveTo>
                        <a:pt x="0" y="331"/>
                      </a:moveTo>
                      <a:lnTo>
                        <a:pt x="90" y="0"/>
                      </a:lnTo>
                      <a:lnTo>
                        <a:pt x="246" y="6"/>
                      </a:lnTo>
                      <a:lnTo>
                        <a:pt x="94" y="405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403360" y="5545080"/>
                  <a:ext cx="855720" cy="890640"/>
                </a:xfrm>
                <a:custGeom>
                  <a:avLst/>
                  <a:gdLst/>
                  <a:ahLst/>
                  <a:rect l="l" t="t" r="r" b="b"/>
                  <a:pathLst>
                    <a:path w="820" h="972">
                      <a:moveTo>
                        <a:pt x="0" y="828"/>
                      </a:moveTo>
                      <a:lnTo>
                        <a:pt x="57" y="874"/>
                      </a:lnTo>
                      <a:lnTo>
                        <a:pt x="198" y="936"/>
                      </a:lnTo>
                      <a:lnTo>
                        <a:pt x="477" y="972"/>
                      </a:lnTo>
                      <a:lnTo>
                        <a:pt x="609" y="965"/>
                      </a:lnTo>
                      <a:lnTo>
                        <a:pt x="820" y="885"/>
                      </a:lnTo>
                      <a:lnTo>
                        <a:pt x="791" y="798"/>
                      </a:lnTo>
                      <a:lnTo>
                        <a:pt x="757" y="687"/>
                      </a:lnTo>
                      <a:lnTo>
                        <a:pt x="707" y="254"/>
                      </a:lnTo>
                      <a:lnTo>
                        <a:pt x="711" y="134"/>
                      </a:lnTo>
                      <a:lnTo>
                        <a:pt x="660" y="9"/>
                      </a:lnTo>
                      <a:lnTo>
                        <a:pt x="247" y="0"/>
                      </a:lnTo>
                      <a:lnTo>
                        <a:pt x="0" y="828"/>
                      </a:lnTo>
                      <a:lnTo>
                        <a:pt x="0" y="8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157560" y="6460920"/>
                  <a:ext cx="231840" cy="176400"/>
                </a:xfrm>
                <a:custGeom>
                  <a:avLst/>
                  <a:gdLst/>
                  <a:ahLst/>
                  <a:rect l="l" t="t" r="r" b="b"/>
                  <a:pathLst>
                    <a:path w="220" h="192">
                      <a:moveTo>
                        <a:pt x="0" y="89"/>
                      </a:moveTo>
                      <a:lnTo>
                        <a:pt x="117" y="0"/>
                      </a:lnTo>
                      <a:lnTo>
                        <a:pt x="220" y="80"/>
                      </a:lnTo>
                      <a:lnTo>
                        <a:pt x="167" y="186"/>
                      </a:lnTo>
                      <a:lnTo>
                        <a:pt x="66" y="192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471760" y="6503760"/>
                  <a:ext cx="212760" cy="147960"/>
                </a:xfrm>
                <a:custGeom>
                  <a:avLst/>
                  <a:gdLst/>
                  <a:ahLst/>
                  <a:rect l="l" t="t" r="r" b="b"/>
                  <a:pathLst>
                    <a:path w="203" h="161">
                      <a:moveTo>
                        <a:pt x="0" y="57"/>
                      </a:moveTo>
                      <a:lnTo>
                        <a:pt x="59" y="0"/>
                      </a:lnTo>
                      <a:lnTo>
                        <a:pt x="203" y="57"/>
                      </a:lnTo>
                      <a:lnTo>
                        <a:pt x="165" y="114"/>
                      </a:lnTo>
                      <a:lnTo>
                        <a:pt x="76" y="119"/>
                      </a:lnTo>
                      <a:lnTo>
                        <a:pt x="55" y="161"/>
                      </a:lnTo>
                      <a:lnTo>
                        <a:pt x="0" y="5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527200" y="5207040"/>
                  <a:ext cx="495360" cy="423720"/>
                </a:xfrm>
                <a:custGeom>
                  <a:avLst/>
                  <a:gdLst/>
                  <a:ahLst/>
                  <a:rect l="l" t="t" r="r" b="b"/>
                  <a:pathLst>
                    <a:path w="473" h="462">
                      <a:moveTo>
                        <a:pt x="473" y="11"/>
                      </a:moveTo>
                      <a:lnTo>
                        <a:pt x="359" y="462"/>
                      </a:lnTo>
                      <a:lnTo>
                        <a:pt x="253" y="446"/>
                      </a:lnTo>
                      <a:lnTo>
                        <a:pt x="80" y="353"/>
                      </a:lnTo>
                      <a:lnTo>
                        <a:pt x="0" y="133"/>
                      </a:lnTo>
                      <a:lnTo>
                        <a:pt x="86" y="68"/>
                      </a:lnTo>
                      <a:lnTo>
                        <a:pt x="183" y="119"/>
                      </a:lnTo>
                      <a:lnTo>
                        <a:pt x="196" y="140"/>
                      </a:lnTo>
                      <a:lnTo>
                        <a:pt x="238" y="0"/>
                      </a:lnTo>
                      <a:lnTo>
                        <a:pt x="473" y="11"/>
                      </a:lnTo>
                      <a:lnTo>
                        <a:pt x="473" y="11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195280" y="5788080"/>
                  <a:ext cx="501840" cy="539640"/>
                </a:xfrm>
                <a:custGeom>
                  <a:avLst/>
                  <a:gdLst/>
                  <a:ahLst/>
                  <a:rect l="l" t="t" r="r" b="b"/>
                  <a:pathLst>
                    <a:path w="479" h="589">
                      <a:moveTo>
                        <a:pt x="5" y="429"/>
                      </a:moveTo>
                      <a:lnTo>
                        <a:pt x="39" y="427"/>
                      </a:lnTo>
                      <a:lnTo>
                        <a:pt x="79" y="444"/>
                      </a:lnTo>
                      <a:lnTo>
                        <a:pt x="131" y="397"/>
                      </a:lnTo>
                      <a:lnTo>
                        <a:pt x="163" y="383"/>
                      </a:lnTo>
                      <a:lnTo>
                        <a:pt x="205" y="131"/>
                      </a:lnTo>
                      <a:lnTo>
                        <a:pt x="296" y="0"/>
                      </a:lnTo>
                      <a:lnTo>
                        <a:pt x="479" y="138"/>
                      </a:lnTo>
                      <a:lnTo>
                        <a:pt x="416" y="197"/>
                      </a:lnTo>
                      <a:lnTo>
                        <a:pt x="355" y="427"/>
                      </a:lnTo>
                      <a:lnTo>
                        <a:pt x="254" y="570"/>
                      </a:lnTo>
                      <a:lnTo>
                        <a:pt x="188" y="589"/>
                      </a:lnTo>
                      <a:lnTo>
                        <a:pt x="121" y="587"/>
                      </a:lnTo>
                      <a:lnTo>
                        <a:pt x="0" y="537"/>
                      </a:lnTo>
                      <a:lnTo>
                        <a:pt x="1" y="501"/>
                      </a:lnTo>
                      <a:lnTo>
                        <a:pt x="39" y="492"/>
                      </a:lnTo>
                      <a:lnTo>
                        <a:pt x="9" y="454"/>
                      </a:lnTo>
                      <a:lnTo>
                        <a:pt x="5" y="429"/>
                      </a:lnTo>
                      <a:lnTo>
                        <a:pt x="5" y="429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544840" y="6400800"/>
                  <a:ext cx="252360" cy="169920"/>
                </a:xfrm>
                <a:custGeom>
                  <a:avLst/>
                  <a:gdLst/>
                  <a:ahLst/>
                  <a:rect l="l" t="t" r="r" b="b"/>
                  <a:pathLst>
                    <a:path w="244" h="187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18"/>
                      </a:lnTo>
                      <a:lnTo>
                        <a:pt x="4" y="126"/>
                      </a:lnTo>
                      <a:lnTo>
                        <a:pt x="6" y="132"/>
                      </a:lnTo>
                      <a:lnTo>
                        <a:pt x="12" y="139"/>
                      </a:lnTo>
                      <a:lnTo>
                        <a:pt x="17" y="147"/>
                      </a:lnTo>
                      <a:lnTo>
                        <a:pt x="25" y="154"/>
                      </a:lnTo>
                      <a:lnTo>
                        <a:pt x="29" y="158"/>
                      </a:lnTo>
                      <a:lnTo>
                        <a:pt x="34" y="162"/>
                      </a:lnTo>
                      <a:lnTo>
                        <a:pt x="40" y="166"/>
                      </a:lnTo>
                      <a:lnTo>
                        <a:pt x="46" y="170"/>
                      </a:lnTo>
                      <a:lnTo>
                        <a:pt x="53" y="172"/>
                      </a:lnTo>
                      <a:lnTo>
                        <a:pt x="61" y="173"/>
                      </a:lnTo>
                      <a:lnTo>
                        <a:pt x="65" y="175"/>
                      </a:lnTo>
                      <a:lnTo>
                        <a:pt x="71" y="177"/>
                      </a:lnTo>
                      <a:lnTo>
                        <a:pt x="74" y="177"/>
                      </a:lnTo>
                      <a:lnTo>
                        <a:pt x="80" y="179"/>
                      </a:lnTo>
                      <a:lnTo>
                        <a:pt x="84" y="181"/>
                      </a:lnTo>
                      <a:lnTo>
                        <a:pt x="88" y="181"/>
                      </a:lnTo>
                      <a:lnTo>
                        <a:pt x="93" y="181"/>
                      </a:lnTo>
                      <a:lnTo>
                        <a:pt x="101" y="183"/>
                      </a:lnTo>
                      <a:lnTo>
                        <a:pt x="105" y="183"/>
                      </a:lnTo>
                      <a:lnTo>
                        <a:pt x="112" y="185"/>
                      </a:lnTo>
                      <a:lnTo>
                        <a:pt x="118" y="185"/>
                      </a:lnTo>
                      <a:lnTo>
                        <a:pt x="126" y="187"/>
                      </a:lnTo>
                      <a:lnTo>
                        <a:pt x="244" y="40"/>
                      </a:lnTo>
                      <a:lnTo>
                        <a:pt x="88" y="0"/>
                      </a:lnTo>
                      <a:lnTo>
                        <a:pt x="0" y="103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51000" y="6391080"/>
                  <a:ext cx="244440" cy="165240"/>
                </a:xfrm>
                <a:custGeom>
                  <a:avLst/>
                  <a:gdLst/>
                  <a:ahLst/>
                  <a:rect l="l" t="t" r="r" b="b"/>
                  <a:pathLst>
                    <a:path w="234" h="181">
                      <a:moveTo>
                        <a:pt x="0" y="40"/>
                      </a:moveTo>
                      <a:lnTo>
                        <a:pt x="114" y="181"/>
                      </a:lnTo>
                      <a:lnTo>
                        <a:pt x="116" y="181"/>
                      </a:lnTo>
                      <a:lnTo>
                        <a:pt x="120" y="181"/>
                      </a:lnTo>
                      <a:lnTo>
                        <a:pt x="124" y="181"/>
                      </a:lnTo>
                      <a:lnTo>
                        <a:pt x="129" y="181"/>
                      </a:lnTo>
                      <a:lnTo>
                        <a:pt x="135" y="179"/>
                      </a:lnTo>
                      <a:lnTo>
                        <a:pt x="139" y="177"/>
                      </a:lnTo>
                      <a:lnTo>
                        <a:pt x="143" y="177"/>
                      </a:lnTo>
                      <a:lnTo>
                        <a:pt x="148" y="177"/>
                      </a:lnTo>
                      <a:lnTo>
                        <a:pt x="152" y="175"/>
                      </a:lnTo>
                      <a:lnTo>
                        <a:pt x="156" y="173"/>
                      </a:lnTo>
                      <a:lnTo>
                        <a:pt x="160" y="171"/>
                      </a:lnTo>
                      <a:lnTo>
                        <a:pt x="165" y="167"/>
                      </a:lnTo>
                      <a:lnTo>
                        <a:pt x="169" y="165"/>
                      </a:lnTo>
                      <a:lnTo>
                        <a:pt x="175" y="162"/>
                      </a:lnTo>
                      <a:lnTo>
                        <a:pt x="179" y="160"/>
                      </a:lnTo>
                      <a:lnTo>
                        <a:pt x="184" y="154"/>
                      </a:lnTo>
                      <a:lnTo>
                        <a:pt x="190" y="150"/>
                      </a:lnTo>
                      <a:lnTo>
                        <a:pt x="194" y="145"/>
                      </a:lnTo>
                      <a:lnTo>
                        <a:pt x="200" y="139"/>
                      </a:lnTo>
                      <a:lnTo>
                        <a:pt x="205" y="133"/>
                      </a:lnTo>
                      <a:lnTo>
                        <a:pt x="211" y="127"/>
                      </a:lnTo>
                      <a:lnTo>
                        <a:pt x="217" y="120"/>
                      </a:lnTo>
                      <a:lnTo>
                        <a:pt x="222" y="112"/>
                      </a:lnTo>
                      <a:lnTo>
                        <a:pt x="224" y="108"/>
                      </a:lnTo>
                      <a:lnTo>
                        <a:pt x="228" y="105"/>
                      </a:lnTo>
                      <a:lnTo>
                        <a:pt x="230" y="99"/>
                      </a:lnTo>
                      <a:lnTo>
                        <a:pt x="234" y="95"/>
                      </a:lnTo>
                      <a:lnTo>
                        <a:pt x="124" y="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779560" y="5238720"/>
                  <a:ext cx="408240" cy="388800"/>
                </a:xfrm>
                <a:custGeom>
                  <a:avLst/>
                  <a:gdLst/>
                  <a:ahLst/>
                  <a:rect l="l" t="t" r="r" b="b"/>
                  <a:pathLst>
                    <a:path w="390" h="426">
                      <a:moveTo>
                        <a:pt x="221" y="0"/>
                      </a:moveTo>
                      <a:lnTo>
                        <a:pt x="219" y="0"/>
                      </a:lnTo>
                      <a:lnTo>
                        <a:pt x="211" y="0"/>
                      </a:lnTo>
                      <a:lnTo>
                        <a:pt x="208" y="0"/>
                      </a:lnTo>
                      <a:lnTo>
                        <a:pt x="202" y="0"/>
                      </a:lnTo>
                      <a:lnTo>
                        <a:pt x="196" y="2"/>
                      </a:lnTo>
                      <a:lnTo>
                        <a:pt x="191" y="4"/>
                      </a:lnTo>
                      <a:lnTo>
                        <a:pt x="183" y="4"/>
                      </a:lnTo>
                      <a:lnTo>
                        <a:pt x="177" y="6"/>
                      </a:lnTo>
                      <a:lnTo>
                        <a:pt x="168" y="8"/>
                      </a:lnTo>
                      <a:lnTo>
                        <a:pt x="160" y="11"/>
                      </a:lnTo>
                      <a:lnTo>
                        <a:pt x="156" y="11"/>
                      </a:lnTo>
                      <a:lnTo>
                        <a:pt x="151" y="13"/>
                      </a:lnTo>
                      <a:lnTo>
                        <a:pt x="147" y="15"/>
                      </a:lnTo>
                      <a:lnTo>
                        <a:pt x="143" y="17"/>
                      </a:lnTo>
                      <a:lnTo>
                        <a:pt x="137" y="19"/>
                      </a:lnTo>
                      <a:lnTo>
                        <a:pt x="134" y="21"/>
                      </a:lnTo>
                      <a:lnTo>
                        <a:pt x="128" y="23"/>
                      </a:lnTo>
                      <a:lnTo>
                        <a:pt x="124" y="27"/>
                      </a:lnTo>
                      <a:lnTo>
                        <a:pt x="118" y="29"/>
                      </a:lnTo>
                      <a:lnTo>
                        <a:pt x="115" y="30"/>
                      </a:lnTo>
                      <a:lnTo>
                        <a:pt x="111" y="32"/>
                      </a:lnTo>
                      <a:lnTo>
                        <a:pt x="105" y="36"/>
                      </a:lnTo>
                      <a:lnTo>
                        <a:pt x="101" y="38"/>
                      </a:lnTo>
                      <a:lnTo>
                        <a:pt x="96" y="42"/>
                      </a:lnTo>
                      <a:lnTo>
                        <a:pt x="92" y="44"/>
                      </a:lnTo>
                      <a:lnTo>
                        <a:pt x="86" y="48"/>
                      </a:lnTo>
                      <a:lnTo>
                        <a:pt x="82" y="51"/>
                      </a:lnTo>
                      <a:lnTo>
                        <a:pt x="78" y="55"/>
                      </a:lnTo>
                      <a:lnTo>
                        <a:pt x="73" y="59"/>
                      </a:lnTo>
                      <a:lnTo>
                        <a:pt x="69" y="63"/>
                      </a:lnTo>
                      <a:lnTo>
                        <a:pt x="63" y="67"/>
                      </a:lnTo>
                      <a:lnTo>
                        <a:pt x="59" y="72"/>
                      </a:lnTo>
                      <a:lnTo>
                        <a:pt x="56" y="76"/>
                      </a:lnTo>
                      <a:lnTo>
                        <a:pt x="52" y="82"/>
                      </a:lnTo>
                      <a:lnTo>
                        <a:pt x="48" y="87"/>
                      </a:lnTo>
                      <a:lnTo>
                        <a:pt x="44" y="91"/>
                      </a:lnTo>
                      <a:lnTo>
                        <a:pt x="40" y="97"/>
                      </a:lnTo>
                      <a:lnTo>
                        <a:pt x="37" y="103"/>
                      </a:lnTo>
                      <a:lnTo>
                        <a:pt x="33" y="108"/>
                      </a:lnTo>
                      <a:lnTo>
                        <a:pt x="29" y="114"/>
                      </a:lnTo>
                      <a:lnTo>
                        <a:pt x="25" y="122"/>
                      </a:lnTo>
                      <a:lnTo>
                        <a:pt x="23" y="127"/>
                      </a:lnTo>
                      <a:lnTo>
                        <a:pt x="19" y="133"/>
                      </a:lnTo>
                      <a:lnTo>
                        <a:pt x="18" y="141"/>
                      </a:lnTo>
                      <a:lnTo>
                        <a:pt x="16" y="148"/>
                      </a:lnTo>
                      <a:lnTo>
                        <a:pt x="12" y="156"/>
                      </a:lnTo>
                      <a:lnTo>
                        <a:pt x="10" y="163"/>
                      </a:lnTo>
                      <a:lnTo>
                        <a:pt x="8" y="171"/>
                      </a:lnTo>
                      <a:lnTo>
                        <a:pt x="6" y="181"/>
                      </a:lnTo>
                      <a:lnTo>
                        <a:pt x="6" y="190"/>
                      </a:lnTo>
                      <a:lnTo>
                        <a:pt x="2" y="198"/>
                      </a:lnTo>
                      <a:lnTo>
                        <a:pt x="2" y="205"/>
                      </a:lnTo>
                      <a:lnTo>
                        <a:pt x="0" y="213"/>
                      </a:lnTo>
                      <a:lnTo>
                        <a:pt x="0" y="222"/>
                      </a:lnTo>
                      <a:lnTo>
                        <a:pt x="0" y="230"/>
                      </a:lnTo>
                      <a:lnTo>
                        <a:pt x="0" y="238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4"/>
                      </a:lnTo>
                      <a:lnTo>
                        <a:pt x="2" y="272"/>
                      </a:lnTo>
                      <a:lnTo>
                        <a:pt x="2" y="278"/>
                      </a:lnTo>
                      <a:lnTo>
                        <a:pt x="2" y="283"/>
                      </a:lnTo>
                      <a:lnTo>
                        <a:pt x="4" y="291"/>
                      </a:lnTo>
                      <a:lnTo>
                        <a:pt x="6" y="297"/>
                      </a:lnTo>
                      <a:lnTo>
                        <a:pt x="8" y="302"/>
                      </a:lnTo>
                      <a:lnTo>
                        <a:pt x="8" y="308"/>
                      </a:lnTo>
                      <a:lnTo>
                        <a:pt x="10" y="314"/>
                      </a:lnTo>
                      <a:lnTo>
                        <a:pt x="12" y="317"/>
                      </a:lnTo>
                      <a:lnTo>
                        <a:pt x="16" y="323"/>
                      </a:lnTo>
                      <a:lnTo>
                        <a:pt x="16" y="329"/>
                      </a:lnTo>
                      <a:lnTo>
                        <a:pt x="19" y="333"/>
                      </a:lnTo>
                      <a:lnTo>
                        <a:pt x="21" y="338"/>
                      </a:lnTo>
                      <a:lnTo>
                        <a:pt x="23" y="342"/>
                      </a:lnTo>
                      <a:lnTo>
                        <a:pt x="27" y="346"/>
                      </a:lnTo>
                      <a:lnTo>
                        <a:pt x="29" y="352"/>
                      </a:lnTo>
                      <a:lnTo>
                        <a:pt x="31" y="355"/>
                      </a:lnTo>
                      <a:lnTo>
                        <a:pt x="33" y="359"/>
                      </a:lnTo>
                      <a:lnTo>
                        <a:pt x="38" y="367"/>
                      </a:lnTo>
                      <a:lnTo>
                        <a:pt x="44" y="374"/>
                      </a:lnTo>
                      <a:lnTo>
                        <a:pt x="50" y="380"/>
                      </a:lnTo>
                      <a:lnTo>
                        <a:pt x="56" y="386"/>
                      </a:lnTo>
                      <a:lnTo>
                        <a:pt x="61" y="392"/>
                      </a:lnTo>
                      <a:lnTo>
                        <a:pt x="67" y="397"/>
                      </a:lnTo>
                      <a:lnTo>
                        <a:pt x="71" y="401"/>
                      </a:lnTo>
                      <a:lnTo>
                        <a:pt x="77" y="405"/>
                      </a:lnTo>
                      <a:lnTo>
                        <a:pt x="82" y="407"/>
                      </a:lnTo>
                      <a:lnTo>
                        <a:pt x="86" y="411"/>
                      </a:lnTo>
                      <a:lnTo>
                        <a:pt x="90" y="412"/>
                      </a:lnTo>
                      <a:lnTo>
                        <a:pt x="96" y="416"/>
                      </a:lnTo>
                      <a:lnTo>
                        <a:pt x="97" y="416"/>
                      </a:lnTo>
                      <a:lnTo>
                        <a:pt x="101" y="420"/>
                      </a:lnTo>
                      <a:lnTo>
                        <a:pt x="105" y="422"/>
                      </a:lnTo>
                      <a:lnTo>
                        <a:pt x="107" y="422"/>
                      </a:lnTo>
                      <a:lnTo>
                        <a:pt x="162" y="426"/>
                      </a:lnTo>
                      <a:lnTo>
                        <a:pt x="263" y="395"/>
                      </a:lnTo>
                      <a:lnTo>
                        <a:pt x="318" y="314"/>
                      </a:lnTo>
                      <a:lnTo>
                        <a:pt x="331" y="255"/>
                      </a:lnTo>
                      <a:lnTo>
                        <a:pt x="388" y="213"/>
                      </a:lnTo>
                      <a:lnTo>
                        <a:pt x="390" y="181"/>
                      </a:lnTo>
                      <a:lnTo>
                        <a:pt x="337" y="146"/>
                      </a:lnTo>
                      <a:lnTo>
                        <a:pt x="316" y="10"/>
                      </a:lnTo>
                      <a:lnTo>
                        <a:pt x="221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79680" y="5589360"/>
                  <a:ext cx="338040" cy="328680"/>
                </a:xfrm>
                <a:custGeom>
                  <a:avLst/>
                  <a:gdLst/>
                  <a:ahLst/>
                  <a:rect l="l" t="t" r="r" b="b"/>
                  <a:pathLst>
                    <a:path w="324" h="361">
                      <a:moveTo>
                        <a:pt x="0" y="190"/>
                      </a:moveTo>
                      <a:lnTo>
                        <a:pt x="202" y="361"/>
                      </a:lnTo>
                      <a:lnTo>
                        <a:pt x="265" y="315"/>
                      </a:lnTo>
                      <a:lnTo>
                        <a:pt x="324" y="192"/>
                      </a:lnTo>
                      <a:lnTo>
                        <a:pt x="308" y="118"/>
                      </a:lnTo>
                      <a:lnTo>
                        <a:pt x="276" y="78"/>
                      </a:lnTo>
                      <a:lnTo>
                        <a:pt x="215" y="38"/>
                      </a:lnTo>
                      <a:lnTo>
                        <a:pt x="122" y="0"/>
                      </a:lnTo>
                      <a:lnTo>
                        <a:pt x="0" y="190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838240" y="561024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218" h="182">
                      <a:moveTo>
                        <a:pt x="0" y="23"/>
                      </a:moveTo>
                      <a:lnTo>
                        <a:pt x="41" y="99"/>
                      </a:lnTo>
                      <a:lnTo>
                        <a:pt x="62" y="182"/>
                      </a:lnTo>
                      <a:lnTo>
                        <a:pt x="218" y="157"/>
                      </a:lnTo>
                      <a:lnTo>
                        <a:pt x="218" y="93"/>
                      </a:lnTo>
                      <a:lnTo>
                        <a:pt x="193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27320" y="5657760"/>
                  <a:ext cx="106200" cy="177840"/>
                </a:xfrm>
                <a:custGeom>
                  <a:avLst/>
                  <a:gdLst/>
                  <a:ahLst/>
                  <a:rect l="l" t="t" r="r" b="b"/>
                  <a:pathLst>
                    <a:path w="103" h="194">
                      <a:moveTo>
                        <a:pt x="10" y="0"/>
                      </a:moveTo>
                      <a:lnTo>
                        <a:pt x="0" y="133"/>
                      </a:lnTo>
                      <a:lnTo>
                        <a:pt x="10" y="194"/>
                      </a:lnTo>
                      <a:lnTo>
                        <a:pt x="103" y="114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830320" y="5864040"/>
                  <a:ext cx="79560" cy="73080"/>
                </a:xfrm>
                <a:custGeom>
                  <a:avLst/>
                  <a:gdLst/>
                  <a:ahLst/>
                  <a:rect l="l" t="t" r="r" b="b"/>
                  <a:pathLst>
                    <a:path w="74" h="80">
                      <a:moveTo>
                        <a:pt x="15" y="0"/>
                      </a:moveTo>
                      <a:lnTo>
                        <a:pt x="46" y="0"/>
                      </a:lnTo>
                      <a:lnTo>
                        <a:pt x="74" y="33"/>
                      </a:lnTo>
                      <a:lnTo>
                        <a:pt x="72" y="61"/>
                      </a:lnTo>
                      <a:lnTo>
                        <a:pt x="51" y="80"/>
                      </a:lnTo>
                      <a:lnTo>
                        <a:pt x="15" y="76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090960" y="5835600"/>
                  <a:ext cx="56880" cy="88920"/>
                </a:xfrm>
                <a:custGeom>
                  <a:avLst/>
                  <a:gdLst/>
                  <a:ahLst/>
                  <a:rect l="l" t="t" r="r" b="b"/>
                  <a:pathLst>
                    <a:path w="53" h="95">
                      <a:moveTo>
                        <a:pt x="36" y="0"/>
                      </a:moveTo>
                      <a:lnTo>
                        <a:pt x="15" y="7"/>
                      </a:lnTo>
                      <a:lnTo>
                        <a:pt x="0" y="47"/>
                      </a:lnTo>
                      <a:lnTo>
                        <a:pt x="8" y="81"/>
                      </a:lnTo>
                      <a:lnTo>
                        <a:pt x="28" y="95"/>
                      </a:lnTo>
                      <a:lnTo>
                        <a:pt x="53" y="9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354040" y="5000400"/>
                  <a:ext cx="449280" cy="667080"/>
                </a:xfrm>
                <a:custGeom>
                  <a:avLst/>
                  <a:gdLst/>
                  <a:ahLst/>
                  <a:rect l="l" t="t" r="r" b="b"/>
                  <a:pathLst>
                    <a:path w="429" h="727">
                      <a:moveTo>
                        <a:pt x="355" y="364"/>
                      </a:moveTo>
                      <a:lnTo>
                        <a:pt x="353" y="363"/>
                      </a:lnTo>
                      <a:lnTo>
                        <a:pt x="348" y="357"/>
                      </a:lnTo>
                      <a:lnTo>
                        <a:pt x="344" y="353"/>
                      </a:lnTo>
                      <a:lnTo>
                        <a:pt x="340" y="349"/>
                      </a:lnTo>
                      <a:lnTo>
                        <a:pt x="334" y="345"/>
                      </a:lnTo>
                      <a:lnTo>
                        <a:pt x="330" y="342"/>
                      </a:lnTo>
                      <a:lnTo>
                        <a:pt x="323" y="336"/>
                      </a:lnTo>
                      <a:lnTo>
                        <a:pt x="317" y="332"/>
                      </a:lnTo>
                      <a:lnTo>
                        <a:pt x="310" y="330"/>
                      </a:lnTo>
                      <a:lnTo>
                        <a:pt x="304" y="326"/>
                      </a:lnTo>
                      <a:lnTo>
                        <a:pt x="296" y="325"/>
                      </a:lnTo>
                      <a:lnTo>
                        <a:pt x="289" y="325"/>
                      </a:lnTo>
                      <a:lnTo>
                        <a:pt x="281" y="325"/>
                      </a:lnTo>
                      <a:lnTo>
                        <a:pt x="275" y="328"/>
                      </a:lnTo>
                      <a:lnTo>
                        <a:pt x="268" y="330"/>
                      </a:lnTo>
                      <a:lnTo>
                        <a:pt x="260" y="334"/>
                      </a:lnTo>
                      <a:lnTo>
                        <a:pt x="256" y="338"/>
                      </a:lnTo>
                      <a:lnTo>
                        <a:pt x="251" y="340"/>
                      </a:lnTo>
                      <a:lnTo>
                        <a:pt x="243" y="345"/>
                      </a:lnTo>
                      <a:lnTo>
                        <a:pt x="239" y="353"/>
                      </a:lnTo>
                      <a:lnTo>
                        <a:pt x="237" y="355"/>
                      </a:lnTo>
                      <a:lnTo>
                        <a:pt x="235" y="359"/>
                      </a:lnTo>
                      <a:lnTo>
                        <a:pt x="235" y="363"/>
                      </a:lnTo>
                      <a:lnTo>
                        <a:pt x="235" y="368"/>
                      </a:lnTo>
                      <a:lnTo>
                        <a:pt x="235" y="374"/>
                      </a:lnTo>
                      <a:lnTo>
                        <a:pt x="235" y="382"/>
                      </a:lnTo>
                      <a:lnTo>
                        <a:pt x="235" y="383"/>
                      </a:lnTo>
                      <a:lnTo>
                        <a:pt x="235" y="389"/>
                      </a:lnTo>
                      <a:lnTo>
                        <a:pt x="235" y="393"/>
                      </a:lnTo>
                      <a:lnTo>
                        <a:pt x="237" y="397"/>
                      </a:lnTo>
                      <a:lnTo>
                        <a:pt x="237" y="404"/>
                      </a:lnTo>
                      <a:lnTo>
                        <a:pt x="239" y="412"/>
                      </a:lnTo>
                      <a:lnTo>
                        <a:pt x="243" y="418"/>
                      </a:lnTo>
                      <a:lnTo>
                        <a:pt x="247" y="425"/>
                      </a:lnTo>
                      <a:lnTo>
                        <a:pt x="251" y="429"/>
                      </a:lnTo>
                      <a:lnTo>
                        <a:pt x="256" y="433"/>
                      </a:lnTo>
                      <a:lnTo>
                        <a:pt x="262" y="437"/>
                      </a:lnTo>
                      <a:lnTo>
                        <a:pt x="268" y="440"/>
                      </a:lnTo>
                      <a:lnTo>
                        <a:pt x="273" y="442"/>
                      </a:lnTo>
                      <a:lnTo>
                        <a:pt x="279" y="444"/>
                      </a:lnTo>
                      <a:lnTo>
                        <a:pt x="283" y="446"/>
                      </a:lnTo>
                      <a:lnTo>
                        <a:pt x="289" y="446"/>
                      </a:lnTo>
                      <a:lnTo>
                        <a:pt x="292" y="448"/>
                      </a:lnTo>
                      <a:lnTo>
                        <a:pt x="296" y="448"/>
                      </a:lnTo>
                      <a:lnTo>
                        <a:pt x="298" y="448"/>
                      </a:lnTo>
                      <a:lnTo>
                        <a:pt x="298" y="450"/>
                      </a:lnTo>
                      <a:lnTo>
                        <a:pt x="298" y="450"/>
                      </a:lnTo>
                      <a:lnTo>
                        <a:pt x="294" y="458"/>
                      </a:lnTo>
                      <a:lnTo>
                        <a:pt x="292" y="461"/>
                      </a:lnTo>
                      <a:lnTo>
                        <a:pt x="291" y="467"/>
                      </a:lnTo>
                      <a:lnTo>
                        <a:pt x="289" y="473"/>
                      </a:lnTo>
                      <a:lnTo>
                        <a:pt x="287" y="480"/>
                      </a:lnTo>
                      <a:lnTo>
                        <a:pt x="285" y="482"/>
                      </a:lnTo>
                      <a:lnTo>
                        <a:pt x="285" y="486"/>
                      </a:lnTo>
                      <a:lnTo>
                        <a:pt x="285" y="490"/>
                      </a:lnTo>
                      <a:lnTo>
                        <a:pt x="285" y="496"/>
                      </a:lnTo>
                      <a:lnTo>
                        <a:pt x="283" y="499"/>
                      </a:lnTo>
                      <a:lnTo>
                        <a:pt x="283" y="503"/>
                      </a:lnTo>
                      <a:lnTo>
                        <a:pt x="283" y="509"/>
                      </a:lnTo>
                      <a:lnTo>
                        <a:pt x="283" y="513"/>
                      </a:lnTo>
                      <a:lnTo>
                        <a:pt x="283" y="518"/>
                      </a:lnTo>
                      <a:lnTo>
                        <a:pt x="283" y="522"/>
                      </a:lnTo>
                      <a:lnTo>
                        <a:pt x="283" y="528"/>
                      </a:lnTo>
                      <a:lnTo>
                        <a:pt x="285" y="534"/>
                      </a:lnTo>
                      <a:lnTo>
                        <a:pt x="285" y="537"/>
                      </a:lnTo>
                      <a:lnTo>
                        <a:pt x="287" y="545"/>
                      </a:lnTo>
                      <a:lnTo>
                        <a:pt x="289" y="551"/>
                      </a:lnTo>
                      <a:lnTo>
                        <a:pt x="291" y="556"/>
                      </a:lnTo>
                      <a:lnTo>
                        <a:pt x="292" y="560"/>
                      </a:lnTo>
                      <a:lnTo>
                        <a:pt x="294" y="568"/>
                      </a:lnTo>
                      <a:lnTo>
                        <a:pt x="296" y="572"/>
                      </a:lnTo>
                      <a:lnTo>
                        <a:pt x="300" y="579"/>
                      </a:lnTo>
                      <a:lnTo>
                        <a:pt x="302" y="585"/>
                      </a:lnTo>
                      <a:lnTo>
                        <a:pt x="306" y="593"/>
                      </a:lnTo>
                      <a:lnTo>
                        <a:pt x="310" y="600"/>
                      </a:lnTo>
                      <a:lnTo>
                        <a:pt x="313" y="606"/>
                      </a:lnTo>
                      <a:lnTo>
                        <a:pt x="317" y="613"/>
                      </a:lnTo>
                      <a:lnTo>
                        <a:pt x="321" y="621"/>
                      </a:lnTo>
                      <a:lnTo>
                        <a:pt x="325" y="627"/>
                      </a:lnTo>
                      <a:lnTo>
                        <a:pt x="330" y="634"/>
                      </a:lnTo>
                      <a:lnTo>
                        <a:pt x="334" y="642"/>
                      </a:lnTo>
                      <a:lnTo>
                        <a:pt x="338" y="648"/>
                      </a:lnTo>
                      <a:lnTo>
                        <a:pt x="344" y="655"/>
                      </a:lnTo>
                      <a:lnTo>
                        <a:pt x="348" y="663"/>
                      </a:lnTo>
                      <a:lnTo>
                        <a:pt x="351" y="669"/>
                      </a:lnTo>
                      <a:lnTo>
                        <a:pt x="355" y="674"/>
                      </a:lnTo>
                      <a:lnTo>
                        <a:pt x="359" y="682"/>
                      </a:lnTo>
                      <a:lnTo>
                        <a:pt x="363" y="688"/>
                      </a:lnTo>
                      <a:lnTo>
                        <a:pt x="367" y="691"/>
                      </a:lnTo>
                      <a:lnTo>
                        <a:pt x="370" y="697"/>
                      </a:lnTo>
                      <a:lnTo>
                        <a:pt x="374" y="703"/>
                      </a:lnTo>
                      <a:lnTo>
                        <a:pt x="378" y="708"/>
                      </a:lnTo>
                      <a:lnTo>
                        <a:pt x="384" y="714"/>
                      </a:lnTo>
                      <a:lnTo>
                        <a:pt x="387" y="722"/>
                      </a:lnTo>
                      <a:lnTo>
                        <a:pt x="389" y="726"/>
                      </a:lnTo>
                      <a:lnTo>
                        <a:pt x="391" y="727"/>
                      </a:lnTo>
                      <a:lnTo>
                        <a:pt x="389" y="726"/>
                      </a:lnTo>
                      <a:lnTo>
                        <a:pt x="384" y="726"/>
                      </a:lnTo>
                      <a:lnTo>
                        <a:pt x="380" y="724"/>
                      </a:lnTo>
                      <a:lnTo>
                        <a:pt x="376" y="722"/>
                      </a:lnTo>
                      <a:lnTo>
                        <a:pt x="372" y="722"/>
                      </a:lnTo>
                      <a:lnTo>
                        <a:pt x="367" y="722"/>
                      </a:lnTo>
                      <a:lnTo>
                        <a:pt x="361" y="718"/>
                      </a:lnTo>
                      <a:lnTo>
                        <a:pt x="355" y="718"/>
                      </a:lnTo>
                      <a:lnTo>
                        <a:pt x="348" y="716"/>
                      </a:lnTo>
                      <a:lnTo>
                        <a:pt x="342" y="714"/>
                      </a:lnTo>
                      <a:lnTo>
                        <a:pt x="334" y="712"/>
                      </a:lnTo>
                      <a:lnTo>
                        <a:pt x="327" y="708"/>
                      </a:lnTo>
                      <a:lnTo>
                        <a:pt x="317" y="707"/>
                      </a:lnTo>
                      <a:lnTo>
                        <a:pt x="311" y="705"/>
                      </a:lnTo>
                      <a:lnTo>
                        <a:pt x="302" y="701"/>
                      </a:lnTo>
                      <a:lnTo>
                        <a:pt x="294" y="697"/>
                      </a:lnTo>
                      <a:lnTo>
                        <a:pt x="287" y="693"/>
                      </a:lnTo>
                      <a:lnTo>
                        <a:pt x="279" y="691"/>
                      </a:lnTo>
                      <a:lnTo>
                        <a:pt x="271" y="688"/>
                      </a:lnTo>
                      <a:lnTo>
                        <a:pt x="264" y="684"/>
                      </a:lnTo>
                      <a:lnTo>
                        <a:pt x="256" y="680"/>
                      </a:lnTo>
                      <a:lnTo>
                        <a:pt x="249" y="674"/>
                      </a:lnTo>
                      <a:lnTo>
                        <a:pt x="243" y="670"/>
                      </a:lnTo>
                      <a:lnTo>
                        <a:pt x="235" y="665"/>
                      </a:lnTo>
                      <a:lnTo>
                        <a:pt x="230" y="661"/>
                      </a:lnTo>
                      <a:lnTo>
                        <a:pt x="224" y="655"/>
                      </a:lnTo>
                      <a:lnTo>
                        <a:pt x="218" y="651"/>
                      </a:lnTo>
                      <a:lnTo>
                        <a:pt x="214" y="646"/>
                      </a:lnTo>
                      <a:lnTo>
                        <a:pt x="211" y="640"/>
                      </a:lnTo>
                      <a:lnTo>
                        <a:pt x="209" y="634"/>
                      </a:lnTo>
                      <a:lnTo>
                        <a:pt x="207" y="634"/>
                      </a:lnTo>
                      <a:lnTo>
                        <a:pt x="203" y="636"/>
                      </a:lnTo>
                      <a:lnTo>
                        <a:pt x="197" y="638"/>
                      </a:lnTo>
                      <a:lnTo>
                        <a:pt x="192" y="642"/>
                      </a:lnTo>
                      <a:lnTo>
                        <a:pt x="188" y="644"/>
                      </a:lnTo>
                      <a:lnTo>
                        <a:pt x="184" y="646"/>
                      </a:lnTo>
                      <a:lnTo>
                        <a:pt x="180" y="646"/>
                      </a:lnTo>
                      <a:lnTo>
                        <a:pt x="176" y="648"/>
                      </a:lnTo>
                      <a:lnTo>
                        <a:pt x="171" y="648"/>
                      </a:lnTo>
                      <a:lnTo>
                        <a:pt x="167" y="648"/>
                      </a:lnTo>
                      <a:lnTo>
                        <a:pt x="161" y="648"/>
                      </a:lnTo>
                      <a:lnTo>
                        <a:pt x="157" y="648"/>
                      </a:lnTo>
                      <a:lnTo>
                        <a:pt x="152" y="646"/>
                      </a:lnTo>
                      <a:lnTo>
                        <a:pt x="148" y="644"/>
                      </a:lnTo>
                      <a:lnTo>
                        <a:pt x="142" y="640"/>
                      </a:lnTo>
                      <a:lnTo>
                        <a:pt x="137" y="638"/>
                      </a:lnTo>
                      <a:lnTo>
                        <a:pt x="131" y="632"/>
                      </a:lnTo>
                      <a:lnTo>
                        <a:pt x="123" y="629"/>
                      </a:lnTo>
                      <a:lnTo>
                        <a:pt x="118" y="623"/>
                      </a:lnTo>
                      <a:lnTo>
                        <a:pt x="114" y="619"/>
                      </a:lnTo>
                      <a:lnTo>
                        <a:pt x="108" y="613"/>
                      </a:lnTo>
                      <a:lnTo>
                        <a:pt x="102" y="608"/>
                      </a:lnTo>
                      <a:lnTo>
                        <a:pt x="98" y="604"/>
                      </a:lnTo>
                      <a:lnTo>
                        <a:pt x="95" y="600"/>
                      </a:lnTo>
                      <a:lnTo>
                        <a:pt x="89" y="594"/>
                      </a:lnTo>
                      <a:lnTo>
                        <a:pt x="87" y="593"/>
                      </a:lnTo>
                      <a:lnTo>
                        <a:pt x="68" y="623"/>
                      </a:lnTo>
                      <a:lnTo>
                        <a:pt x="64" y="621"/>
                      </a:lnTo>
                      <a:lnTo>
                        <a:pt x="59" y="617"/>
                      </a:lnTo>
                      <a:lnTo>
                        <a:pt x="53" y="613"/>
                      </a:lnTo>
                      <a:lnTo>
                        <a:pt x="49" y="610"/>
                      </a:lnTo>
                      <a:lnTo>
                        <a:pt x="43" y="604"/>
                      </a:lnTo>
                      <a:lnTo>
                        <a:pt x="40" y="600"/>
                      </a:lnTo>
                      <a:lnTo>
                        <a:pt x="32" y="593"/>
                      </a:lnTo>
                      <a:lnTo>
                        <a:pt x="26" y="587"/>
                      </a:lnTo>
                      <a:lnTo>
                        <a:pt x="21" y="579"/>
                      </a:lnTo>
                      <a:lnTo>
                        <a:pt x="17" y="572"/>
                      </a:lnTo>
                      <a:lnTo>
                        <a:pt x="13" y="568"/>
                      </a:lnTo>
                      <a:lnTo>
                        <a:pt x="11" y="564"/>
                      </a:lnTo>
                      <a:lnTo>
                        <a:pt x="9" y="558"/>
                      </a:lnTo>
                      <a:lnTo>
                        <a:pt x="7" y="555"/>
                      </a:lnTo>
                      <a:lnTo>
                        <a:pt x="5" y="549"/>
                      </a:lnTo>
                      <a:lnTo>
                        <a:pt x="3" y="543"/>
                      </a:lnTo>
                      <a:lnTo>
                        <a:pt x="2" y="537"/>
                      </a:lnTo>
                      <a:lnTo>
                        <a:pt x="2" y="534"/>
                      </a:lnTo>
                      <a:lnTo>
                        <a:pt x="0" y="526"/>
                      </a:lnTo>
                      <a:lnTo>
                        <a:pt x="0" y="520"/>
                      </a:lnTo>
                      <a:lnTo>
                        <a:pt x="0" y="515"/>
                      </a:lnTo>
                      <a:lnTo>
                        <a:pt x="0" y="511"/>
                      </a:lnTo>
                      <a:lnTo>
                        <a:pt x="0" y="507"/>
                      </a:lnTo>
                      <a:lnTo>
                        <a:pt x="0" y="503"/>
                      </a:lnTo>
                      <a:lnTo>
                        <a:pt x="0" y="498"/>
                      </a:lnTo>
                      <a:lnTo>
                        <a:pt x="0" y="492"/>
                      </a:lnTo>
                      <a:lnTo>
                        <a:pt x="0" y="488"/>
                      </a:lnTo>
                      <a:lnTo>
                        <a:pt x="0" y="482"/>
                      </a:lnTo>
                      <a:lnTo>
                        <a:pt x="0" y="477"/>
                      </a:lnTo>
                      <a:lnTo>
                        <a:pt x="0" y="471"/>
                      </a:lnTo>
                      <a:lnTo>
                        <a:pt x="0" y="465"/>
                      </a:lnTo>
                      <a:lnTo>
                        <a:pt x="2" y="460"/>
                      </a:lnTo>
                      <a:lnTo>
                        <a:pt x="2" y="452"/>
                      </a:lnTo>
                      <a:lnTo>
                        <a:pt x="3" y="446"/>
                      </a:lnTo>
                      <a:lnTo>
                        <a:pt x="3" y="440"/>
                      </a:lnTo>
                      <a:lnTo>
                        <a:pt x="3" y="435"/>
                      </a:lnTo>
                      <a:lnTo>
                        <a:pt x="5" y="427"/>
                      </a:lnTo>
                      <a:lnTo>
                        <a:pt x="7" y="420"/>
                      </a:lnTo>
                      <a:lnTo>
                        <a:pt x="7" y="412"/>
                      </a:lnTo>
                      <a:lnTo>
                        <a:pt x="9" y="406"/>
                      </a:lnTo>
                      <a:lnTo>
                        <a:pt x="9" y="399"/>
                      </a:lnTo>
                      <a:lnTo>
                        <a:pt x="11" y="391"/>
                      </a:lnTo>
                      <a:lnTo>
                        <a:pt x="11" y="385"/>
                      </a:lnTo>
                      <a:lnTo>
                        <a:pt x="15" y="378"/>
                      </a:lnTo>
                      <a:lnTo>
                        <a:pt x="17" y="372"/>
                      </a:lnTo>
                      <a:lnTo>
                        <a:pt x="17" y="364"/>
                      </a:lnTo>
                      <a:lnTo>
                        <a:pt x="19" y="357"/>
                      </a:lnTo>
                      <a:lnTo>
                        <a:pt x="21" y="349"/>
                      </a:lnTo>
                      <a:lnTo>
                        <a:pt x="22" y="342"/>
                      </a:lnTo>
                      <a:lnTo>
                        <a:pt x="24" y="334"/>
                      </a:lnTo>
                      <a:lnTo>
                        <a:pt x="26" y="328"/>
                      </a:lnTo>
                      <a:lnTo>
                        <a:pt x="28" y="321"/>
                      </a:lnTo>
                      <a:lnTo>
                        <a:pt x="30" y="313"/>
                      </a:lnTo>
                      <a:lnTo>
                        <a:pt x="32" y="306"/>
                      </a:lnTo>
                      <a:lnTo>
                        <a:pt x="34" y="300"/>
                      </a:lnTo>
                      <a:lnTo>
                        <a:pt x="36" y="292"/>
                      </a:lnTo>
                      <a:lnTo>
                        <a:pt x="40" y="285"/>
                      </a:lnTo>
                      <a:lnTo>
                        <a:pt x="41" y="277"/>
                      </a:lnTo>
                      <a:lnTo>
                        <a:pt x="43" y="271"/>
                      </a:lnTo>
                      <a:lnTo>
                        <a:pt x="45" y="264"/>
                      </a:lnTo>
                      <a:lnTo>
                        <a:pt x="49" y="256"/>
                      </a:lnTo>
                      <a:lnTo>
                        <a:pt x="51" y="250"/>
                      </a:lnTo>
                      <a:lnTo>
                        <a:pt x="53" y="243"/>
                      </a:lnTo>
                      <a:lnTo>
                        <a:pt x="57" y="237"/>
                      </a:lnTo>
                      <a:lnTo>
                        <a:pt x="59" y="230"/>
                      </a:lnTo>
                      <a:lnTo>
                        <a:pt x="62" y="222"/>
                      </a:lnTo>
                      <a:lnTo>
                        <a:pt x="64" y="216"/>
                      </a:lnTo>
                      <a:lnTo>
                        <a:pt x="68" y="211"/>
                      </a:lnTo>
                      <a:lnTo>
                        <a:pt x="70" y="203"/>
                      </a:lnTo>
                      <a:lnTo>
                        <a:pt x="74" y="197"/>
                      </a:lnTo>
                      <a:lnTo>
                        <a:pt x="76" y="192"/>
                      </a:lnTo>
                      <a:lnTo>
                        <a:pt x="79" y="188"/>
                      </a:lnTo>
                      <a:lnTo>
                        <a:pt x="81" y="180"/>
                      </a:lnTo>
                      <a:lnTo>
                        <a:pt x="85" y="174"/>
                      </a:lnTo>
                      <a:lnTo>
                        <a:pt x="89" y="171"/>
                      </a:lnTo>
                      <a:lnTo>
                        <a:pt x="93" y="167"/>
                      </a:lnTo>
                      <a:lnTo>
                        <a:pt x="95" y="161"/>
                      </a:lnTo>
                      <a:lnTo>
                        <a:pt x="98" y="155"/>
                      </a:lnTo>
                      <a:lnTo>
                        <a:pt x="102" y="152"/>
                      </a:lnTo>
                      <a:lnTo>
                        <a:pt x="106" y="148"/>
                      </a:lnTo>
                      <a:lnTo>
                        <a:pt x="110" y="144"/>
                      </a:lnTo>
                      <a:lnTo>
                        <a:pt x="114" y="138"/>
                      </a:lnTo>
                      <a:lnTo>
                        <a:pt x="116" y="135"/>
                      </a:lnTo>
                      <a:lnTo>
                        <a:pt x="119" y="131"/>
                      </a:lnTo>
                      <a:lnTo>
                        <a:pt x="127" y="123"/>
                      </a:lnTo>
                      <a:lnTo>
                        <a:pt x="137" y="116"/>
                      </a:lnTo>
                      <a:lnTo>
                        <a:pt x="140" y="112"/>
                      </a:lnTo>
                      <a:lnTo>
                        <a:pt x="144" y="108"/>
                      </a:lnTo>
                      <a:lnTo>
                        <a:pt x="148" y="104"/>
                      </a:lnTo>
                      <a:lnTo>
                        <a:pt x="154" y="100"/>
                      </a:lnTo>
                      <a:lnTo>
                        <a:pt x="157" y="97"/>
                      </a:lnTo>
                      <a:lnTo>
                        <a:pt x="163" y="95"/>
                      </a:lnTo>
                      <a:lnTo>
                        <a:pt x="167" y="91"/>
                      </a:lnTo>
                      <a:lnTo>
                        <a:pt x="173" y="87"/>
                      </a:lnTo>
                      <a:lnTo>
                        <a:pt x="176" y="83"/>
                      </a:lnTo>
                      <a:lnTo>
                        <a:pt x="180" y="81"/>
                      </a:lnTo>
                      <a:lnTo>
                        <a:pt x="186" y="78"/>
                      </a:lnTo>
                      <a:lnTo>
                        <a:pt x="190" y="76"/>
                      </a:lnTo>
                      <a:lnTo>
                        <a:pt x="195" y="72"/>
                      </a:lnTo>
                      <a:lnTo>
                        <a:pt x="199" y="68"/>
                      </a:lnTo>
                      <a:lnTo>
                        <a:pt x="205" y="66"/>
                      </a:lnTo>
                      <a:lnTo>
                        <a:pt x="211" y="64"/>
                      </a:lnTo>
                      <a:lnTo>
                        <a:pt x="214" y="60"/>
                      </a:lnTo>
                      <a:lnTo>
                        <a:pt x="218" y="59"/>
                      </a:lnTo>
                      <a:lnTo>
                        <a:pt x="224" y="55"/>
                      </a:lnTo>
                      <a:lnTo>
                        <a:pt x="228" y="53"/>
                      </a:lnTo>
                      <a:lnTo>
                        <a:pt x="233" y="51"/>
                      </a:lnTo>
                      <a:lnTo>
                        <a:pt x="239" y="49"/>
                      </a:lnTo>
                      <a:lnTo>
                        <a:pt x="243" y="47"/>
                      </a:lnTo>
                      <a:lnTo>
                        <a:pt x="249" y="45"/>
                      </a:lnTo>
                      <a:lnTo>
                        <a:pt x="252" y="41"/>
                      </a:lnTo>
                      <a:lnTo>
                        <a:pt x="256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4"/>
                      </a:lnTo>
                      <a:lnTo>
                        <a:pt x="275" y="30"/>
                      </a:lnTo>
                      <a:lnTo>
                        <a:pt x="279" y="30"/>
                      </a:lnTo>
                      <a:lnTo>
                        <a:pt x="285" y="28"/>
                      </a:lnTo>
                      <a:lnTo>
                        <a:pt x="289" y="24"/>
                      </a:lnTo>
                      <a:lnTo>
                        <a:pt x="292" y="24"/>
                      </a:lnTo>
                      <a:lnTo>
                        <a:pt x="296" y="22"/>
                      </a:lnTo>
                      <a:lnTo>
                        <a:pt x="302" y="21"/>
                      </a:lnTo>
                      <a:lnTo>
                        <a:pt x="310" y="17"/>
                      </a:lnTo>
                      <a:lnTo>
                        <a:pt x="317" y="15"/>
                      </a:lnTo>
                      <a:lnTo>
                        <a:pt x="323" y="13"/>
                      </a:lnTo>
                      <a:lnTo>
                        <a:pt x="330" y="9"/>
                      </a:lnTo>
                      <a:lnTo>
                        <a:pt x="336" y="9"/>
                      </a:lnTo>
                      <a:lnTo>
                        <a:pt x="344" y="7"/>
                      </a:lnTo>
                      <a:lnTo>
                        <a:pt x="348" y="5"/>
                      </a:lnTo>
                      <a:lnTo>
                        <a:pt x="353" y="5"/>
                      </a:lnTo>
                      <a:lnTo>
                        <a:pt x="357" y="3"/>
                      </a:lnTo>
                      <a:lnTo>
                        <a:pt x="361" y="3"/>
                      </a:lnTo>
                      <a:lnTo>
                        <a:pt x="367" y="2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89" y="0"/>
                      </a:lnTo>
                      <a:lnTo>
                        <a:pt x="395" y="0"/>
                      </a:lnTo>
                      <a:lnTo>
                        <a:pt x="401" y="0"/>
                      </a:lnTo>
                      <a:lnTo>
                        <a:pt x="406" y="2"/>
                      </a:lnTo>
                      <a:lnTo>
                        <a:pt x="410" y="2"/>
                      </a:lnTo>
                      <a:lnTo>
                        <a:pt x="416" y="3"/>
                      </a:lnTo>
                      <a:lnTo>
                        <a:pt x="418" y="3"/>
                      </a:lnTo>
                      <a:lnTo>
                        <a:pt x="422" y="5"/>
                      </a:lnTo>
                      <a:lnTo>
                        <a:pt x="427" y="7"/>
                      </a:lnTo>
                      <a:lnTo>
                        <a:pt x="429" y="7"/>
                      </a:lnTo>
                      <a:lnTo>
                        <a:pt x="427" y="7"/>
                      </a:lnTo>
                      <a:lnTo>
                        <a:pt x="425" y="11"/>
                      </a:lnTo>
                      <a:lnTo>
                        <a:pt x="424" y="15"/>
                      </a:lnTo>
                      <a:lnTo>
                        <a:pt x="420" y="21"/>
                      </a:lnTo>
                      <a:lnTo>
                        <a:pt x="414" y="26"/>
                      </a:lnTo>
                      <a:lnTo>
                        <a:pt x="408" y="34"/>
                      </a:lnTo>
                      <a:lnTo>
                        <a:pt x="406" y="38"/>
                      </a:lnTo>
                      <a:lnTo>
                        <a:pt x="403" y="43"/>
                      </a:lnTo>
                      <a:lnTo>
                        <a:pt x="401" y="47"/>
                      </a:lnTo>
                      <a:lnTo>
                        <a:pt x="397" y="53"/>
                      </a:lnTo>
                      <a:lnTo>
                        <a:pt x="393" y="59"/>
                      </a:lnTo>
                      <a:lnTo>
                        <a:pt x="391" y="62"/>
                      </a:lnTo>
                      <a:lnTo>
                        <a:pt x="387" y="66"/>
                      </a:lnTo>
                      <a:lnTo>
                        <a:pt x="384" y="72"/>
                      </a:lnTo>
                      <a:lnTo>
                        <a:pt x="380" y="78"/>
                      </a:lnTo>
                      <a:lnTo>
                        <a:pt x="378" y="83"/>
                      </a:lnTo>
                      <a:lnTo>
                        <a:pt x="374" y="87"/>
                      </a:lnTo>
                      <a:lnTo>
                        <a:pt x="372" y="93"/>
                      </a:lnTo>
                      <a:lnTo>
                        <a:pt x="368" y="98"/>
                      </a:lnTo>
                      <a:lnTo>
                        <a:pt x="365" y="104"/>
                      </a:lnTo>
                      <a:lnTo>
                        <a:pt x="363" y="108"/>
                      </a:lnTo>
                      <a:lnTo>
                        <a:pt x="359" y="114"/>
                      </a:lnTo>
                      <a:lnTo>
                        <a:pt x="357" y="117"/>
                      </a:lnTo>
                      <a:lnTo>
                        <a:pt x="355" y="123"/>
                      </a:lnTo>
                      <a:lnTo>
                        <a:pt x="353" y="127"/>
                      </a:lnTo>
                      <a:lnTo>
                        <a:pt x="351" y="133"/>
                      </a:lnTo>
                      <a:lnTo>
                        <a:pt x="349" y="136"/>
                      </a:lnTo>
                      <a:lnTo>
                        <a:pt x="348" y="140"/>
                      </a:lnTo>
                      <a:lnTo>
                        <a:pt x="346" y="146"/>
                      </a:lnTo>
                      <a:lnTo>
                        <a:pt x="344" y="152"/>
                      </a:lnTo>
                      <a:lnTo>
                        <a:pt x="342" y="157"/>
                      </a:lnTo>
                      <a:lnTo>
                        <a:pt x="340" y="163"/>
                      </a:lnTo>
                      <a:lnTo>
                        <a:pt x="338" y="171"/>
                      </a:lnTo>
                      <a:lnTo>
                        <a:pt x="338" y="178"/>
                      </a:lnTo>
                      <a:lnTo>
                        <a:pt x="336" y="184"/>
                      </a:lnTo>
                      <a:lnTo>
                        <a:pt x="334" y="192"/>
                      </a:lnTo>
                      <a:lnTo>
                        <a:pt x="332" y="199"/>
                      </a:lnTo>
                      <a:lnTo>
                        <a:pt x="332" y="207"/>
                      </a:lnTo>
                      <a:lnTo>
                        <a:pt x="330" y="212"/>
                      </a:lnTo>
                      <a:lnTo>
                        <a:pt x="330" y="222"/>
                      </a:lnTo>
                      <a:lnTo>
                        <a:pt x="329" y="230"/>
                      </a:lnTo>
                      <a:lnTo>
                        <a:pt x="327" y="237"/>
                      </a:lnTo>
                      <a:lnTo>
                        <a:pt x="327" y="243"/>
                      </a:lnTo>
                      <a:lnTo>
                        <a:pt x="325" y="250"/>
                      </a:lnTo>
                      <a:lnTo>
                        <a:pt x="323" y="256"/>
                      </a:lnTo>
                      <a:lnTo>
                        <a:pt x="323" y="264"/>
                      </a:lnTo>
                      <a:lnTo>
                        <a:pt x="321" y="269"/>
                      </a:lnTo>
                      <a:lnTo>
                        <a:pt x="321" y="275"/>
                      </a:lnTo>
                      <a:lnTo>
                        <a:pt x="319" y="281"/>
                      </a:lnTo>
                      <a:lnTo>
                        <a:pt x="319" y="287"/>
                      </a:lnTo>
                      <a:lnTo>
                        <a:pt x="319" y="290"/>
                      </a:lnTo>
                      <a:lnTo>
                        <a:pt x="317" y="296"/>
                      </a:lnTo>
                      <a:lnTo>
                        <a:pt x="317" y="298"/>
                      </a:lnTo>
                      <a:lnTo>
                        <a:pt x="317" y="302"/>
                      </a:lnTo>
                      <a:lnTo>
                        <a:pt x="317" y="306"/>
                      </a:lnTo>
                      <a:lnTo>
                        <a:pt x="317" y="307"/>
                      </a:lnTo>
                      <a:lnTo>
                        <a:pt x="365" y="357"/>
                      </a:lnTo>
                      <a:lnTo>
                        <a:pt x="355" y="364"/>
                      </a:lnTo>
                      <a:lnTo>
                        <a:pt x="35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736720" y="4994280"/>
                  <a:ext cx="530280" cy="328680"/>
                </a:xfrm>
                <a:custGeom>
                  <a:avLst/>
                  <a:gdLst/>
                  <a:ahLst/>
                  <a:rect l="l" t="t" r="r" b="b"/>
                  <a:pathLst>
                    <a:path w="507" h="359">
                      <a:moveTo>
                        <a:pt x="2" y="359"/>
                      </a:moveTo>
                      <a:lnTo>
                        <a:pt x="2" y="357"/>
                      </a:lnTo>
                      <a:lnTo>
                        <a:pt x="2" y="355"/>
                      </a:lnTo>
                      <a:lnTo>
                        <a:pt x="2" y="352"/>
                      </a:lnTo>
                      <a:lnTo>
                        <a:pt x="2" y="348"/>
                      </a:lnTo>
                      <a:lnTo>
                        <a:pt x="0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300"/>
                      </a:lnTo>
                      <a:lnTo>
                        <a:pt x="0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2" y="277"/>
                      </a:lnTo>
                      <a:lnTo>
                        <a:pt x="2" y="270"/>
                      </a:lnTo>
                      <a:lnTo>
                        <a:pt x="2" y="264"/>
                      </a:lnTo>
                      <a:lnTo>
                        <a:pt x="2" y="258"/>
                      </a:lnTo>
                      <a:lnTo>
                        <a:pt x="3" y="253"/>
                      </a:lnTo>
                      <a:lnTo>
                        <a:pt x="3" y="245"/>
                      </a:lnTo>
                      <a:lnTo>
                        <a:pt x="5" y="239"/>
                      </a:lnTo>
                      <a:lnTo>
                        <a:pt x="5" y="234"/>
                      </a:lnTo>
                      <a:lnTo>
                        <a:pt x="7" y="226"/>
                      </a:lnTo>
                      <a:lnTo>
                        <a:pt x="7" y="220"/>
                      </a:lnTo>
                      <a:lnTo>
                        <a:pt x="9" y="213"/>
                      </a:lnTo>
                      <a:lnTo>
                        <a:pt x="9" y="205"/>
                      </a:lnTo>
                      <a:lnTo>
                        <a:pt x="11" y="200"/>
                      </a:lnTo>
                      <a:lnTo>
                        <a:pt x="13" y="192"/>
                      </a:lnTo>
                      <a:lnTo>
                        <a:pt x="15" y="184"/>
                      </a:lnTo>
                      <a:lnTo>
                        <a:pt x="15" y="179"/>
                      </a:lnTo>
                      <a:lnTo>
                        <a:pt x="19" y="171"/>
                      </a:lnTo>
                      <a:lnTo>
                        <a:pt x="19" y="163"/>
                      </a:lnTo>
                      <a:lnTo>
                        <a:pt x="22" y="158"/>
                      </a:lnTo>
                      <a:lnTo>
                        <a:pt x="24" y="150"/>
                      </a:lnTo>
                      <a:lnTo>
                        <a:pt x="26" y="143"/>
                      </a:lnTo>
                      <a:lnTo>
                        <a:pt x="28" y="137"/>
                      </a:lnTo>
                      <a:lnTo>
                        <a:pt x="32" y="129"/>
                      </a:lnTo>
                      <a:lnTo>
                        <a:pt x="34" y="124"/>
                      </a:lnTo>
                      <a:lnTo>
                        <a:pt x="38" y="118"/>
                      </a:lnTo>
                      <a:lnTo>
                        <a:pt x="40" y="110"/>
                      </a:lnTo>
                      <a:lnTo>
                        <a:pt x="43" y="103"/>
                      </a:lnTo>
                      <a:lnTo>
                        <a:pt x="45" y="97"/>
                      </a:lnTo>
                      <a:lnTo>
                        <a:pt x="49" y="91"/>
                      </a:lnTo>
                      <a:lnTo>
                        <a:pt x="53" y="84"/>
                      </a:lnTo>
                      <a:lnTo>
                        <a:pt x="57" y="78"/>
                      </a:lnTo>
                      <a:lnTo>
                        <a:pt x="60" y="72"/>
                      </a:lnTo>
                      <a:lnTo>
                        <a:pt x="66" y="68"/>
                      </a:lnTo>
                      <a:lnTo>
                        <a:pt x="70" y="63"/>
                      </a:lnTo>
                      <a:lnTo>
                        <a:pt x="74" y="57"/>
                      </a:lnTo>
                      <a:lnTo>
                        <a:pt x="79" y="51"/>
                      </a:lnTo>
                      <a:lnTo>
                        <a:pt x="85" y="48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0" y="32"/>
                      </a:lnTo>
                      <a:lnTo>
                        <a:pt x="106" y="29"/>
                      </a:lnTo>
                      <a:lnTo>
                        <a:pt x="41" y="27"/>
                      </a:lnTo>
                      <a:lnTo>
                        <a:pt x="36" y="17"/>
                      </a:lnTo>
                      <a:lnTo>
                        <a:pt x="137" y="13"/>
                      </a:lnTo>
                      <a:lnTo>
                        <a:pt x="137" y="13"/>
                      </a:lnTo>
                      <a:lnTo>
                        <a:pt x="140" y="11"/>
                      </a:lnTo>
                      <a:lnTo>
                        <a:pt x="144" y="11"/>
                      </a:lnTo>
                      <a:lnTo>
                        <a:pt x="152" y="11"/>
                      </a:lnTo>
                      <a:lnTo>
                        <a:pt x="154" y="10"/>
                      </a:lnTo>
                      <a:lnTo>
                        <a:pt x="157" y="10"/>
                      </a:lnTo>
                      <a:lnTo>
                        <a:pt x="163" y="8"/>
                      </a:lnTo>
                      <a:lnTo>
                        <a:pt x="167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82" y="6"/>
                      </a:lnTo>
                      <a:lnTo>
                        <a:pt x="190" y="6"/>
                      </a:lnTo>
                      <a:lnTo>
                        <a:pt x="195" y="6"/>
                      </a:lnTo>
                      <a:lnTo>
                        <a:pt x="201" y="4"/>
                      </a:lnTo>
                      <a:lnTo>
                        <a:pt x="207" y="4"/>
                      </a:lnTo>
                      <a:lnTo>
                        <a:pt x="214" y="4"/>
                      </a:lnTo>
                      <a:lnTo>
                        <a:pt x="220" y="4"/>
                      </a:lnTo>
                      <a:lnTo>
                        <a:pt x="228" y="2"/>
                      </a:lnTo>
                      <a:lnTo>
                        <a:pt x="235" y="2"/>
                      </a:lnTo>
                      <a:lnTo>
                        <a:pt x="243" y="2"/>
                      </a:lnTo>
                      <a:lnTo>
                        <a:pt x="249" y="0"/>
                      </a:lnTo>
                      <a:lnTo>
                        <a:pt x="256" y="0"/>
                      </a:lnTo>
                      <a:lnTo>
                        <a:pt x="264" y="0"/>
                      </a:lnTo>
                      <a:lnTo>
                        <a:pt x="272" y="0"/>
                      </a:lnTo>
                      <a:lnTo>
                        <a:pt x="279" y="0"/>
                      </a:lnTo>
                      <a:lnTo>
                        <a:pt x="287" y="0"/>
                      </a:lnTo>
                      <a:lnTo>
                        <a:pt x="294" y="0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5" y="2"/>
                      </a:lnTo>
                      <a:lnTo>
                        <a:pt x="323" y="2"/>
                      </a:lnTo>
                      <a:lnTo>
                        <a:pt x="330" y="4"/>
                      </a:lnTo>
                      <a:lnTo>
                        <a:pt x="336" y="4"/>
                      </a:lnTo>
                      <a:lnTo>
                        <a:pt x="344" y="6"/>
                      </a:lnTo>
                      <a:lnTo>
                        <a:pt x="351" y="8"/>
                      </a:lnTo>
                      <a:lnTo>
                        <a:pt x="359" y="11"/>
                      </a:lnTo>
                      <a:lnTo>
                        <a:pt x="365" y="13"/>
                      </a:lnTo>
                      <a:lnTo>
                        <a:pt x="372" y="15"/>
                      </a:lnTo>
                      <a:lnTo>
                        <a:pt x="378" y="17"/>
                      </a:lnTo>
                      <a:lnTo>
                        <a:pt x="386" y="21"/>
                      </a:lnTo>
                      <a:lnTo>
                        <a:pt x="391" y="25"/>
                      </a:lnTo>
                      <a:lnTo>
                        <a:pt x="399" y="29"/>
                      </a:lnTo>
                      <a:lnTo>
                        <a:pt x="405" y="32"/>
                      </a:lnTo>
                      <a:lnTo>
                        <a:pt x="412" y="36"/>
                      </a:lnTo>
                      <a:lnTo>
                        <a:pt x="418" y="40"/>
                      </a:lnTo>
                      <a:lnTo>
                        <a:pt x="422" y="44"/>
                      </a:lnTo>
                      <a:lnTo>
                        <a:pt x="427" y="48"/>
                      </a:lnTo>
                      <a:lnTo>
                        <a:pt x="433" y="53"/>
                      </a:lnTo>
                      <a:lnTo>
                        <a:pt x="439" y="57"/>
                      </a:lnTo>
                      <a:lnTo>
                        <a:pt x="445" y="61"/>
                      </a:lnTo>
                      <a:lnTo>
                        <a:pt x="450" y="67"/>
                      </a:lnTo>
                      <a:lnTo>
                        <a:pt x="454" y="70"/>
                      </a:lnTo>
                      <a:lnTo>
                        <a:pt x="458" y="76"/>
                      </a:lnTo>
                      <a:lnTo>
                        <a:pt x="464" y="80"/>
                      </a:lnTo>
                      <a:lnTo>
                        <a:pt x="467" y="86"/>
                      </a:lnTo>
                      <a:lnTo>
                        <a:pt x="471" y="91"/>
                      </a:lnTo>
                      <a:lnTo>
                        <a:pt x="475" y="97"/>
                      </a:lnTo>
                      <a:lnTo>
                        <a:pt x="479" y="103"/>
                      </a:lnTo>
                      <a:lnTo>
                        <a:pt x="481" y="108"/>
                      </a:lnTo>
                      <a:lnTo>
                        <a:pt x="484" y="114"/>
                      </a:lnTo>
                      <a:lnTo>
                        <a:pt x="486" y="118"/>
                      </a:lnTo>
                      <a:lnTo>
                        <a:pt x="488" y="124"/>
                      </a:lnTo>
                      <a:lnTo>
                        <a:pt x="490" y="129"/>
                      </a:lnTo>
                      <a:lnTo>
                        <a:pt x="492" y="135"/>
                      </a:lnTo>
                      <a:lnTo>
                        <a:pt x="494" y="141"/>
                      </a:lnTo>
                      <a:lnTo>
                        <a:pt x="496" y="146"/>
                      </a:lnTo>
                      <a:lnTo>
                        <a:pt x="498" y="152"/>
                      </a:lnTo>
                      <a:lnTo>
                        <a:pt x="500" y="158"/>
                      </a:lnTo>
                      <a:lnTo>
                        <a:pt x="500" y="163"/>
                      </a:lnTo>
                      <a:lnTo>
                        <a:pt x="502" y="169"/>
                      </a:lnTo>
                      <a:lnTo>
                        <a:pt x="503" y="175"/>
                      </a:lnTo>
                      <a:lnTo>
                        <a:pt x="503" y="181"/>
                      </a:lnTo>
                      <a:lnTo>
                        <a:pt x="503" y="186"/>
                      </a:lnTo>
                      <a:lnTo>
                        <a:pt x="505" y="192"/>
                      </a:lnTo>
                      <a:lnTo>
                        <a:pt x="505" y="196"/>
                      </a:lnTo>
                      <a:lnTo>
                        <a:pt x="507" y="203"/>
                      </a:lnTo>
                      <a:lnTo>
                        <a:pt x="507" y="207"/>
                      </a:lnTo>
                      <a:lnTo>
                        <a:pt x="507" y="213"/>
                      </a:lnTo>
                      <a:lnTo>
                        <a:pt x="507" y="217"/>
                      </a:lnTo>
                      <a:lnTo>
                        <a:pt x="507" y="222"/>
                      </a:lnTo>
                      <a:lnTo>
                        <a:pt x="507" y="228"/>
                      </a:lnTo>
                      <a:lnTo>
                        <a:pt x="507" y="234"/>
                      </a:lnTo>
                      <a:lnTo>
                        <a:pt x="505" y="238"/>
                      </a:lnTo>
                      <a:lnTo>
                        <a:pt x="505" y="243"/>
                      </a:lnTo>
                      <a:lnTo>
                        <a:pt x="503" y="247"/>
                      </a:lnTo>
                      <a:lnTo>
                        <a:pt x="503" y="251"/>
                      </a:lnTo>
                      <a:lnTo>
                        <a:pt x="503" y="255"/>
                      </a:lnTo>
                      <a:lnTo>
                        <a:pt x="502" y="260"/>
                      </a:lnTo>
                      <a:lnTo>
                        <a:pt x="500" y="266"/>
                      </a:lnTo>
                      <a:lnTo>
                        <a:pt x="496" y="276"/>
                      </a:lnTo>
                      <a:lnTo>
                        <a:pt x="492" y="281"/>
                      </a:lnTo>
                      <a:lnTo>
                        <a:pt x="486" y="287"/>
                      </a:lnTo>
                      <a:lnTo>
                        <a:pt x="481" y="295"/>
                      </a:lnTo>
                      <a:lnTo>
                        <a:pt x="475" y="302"/>
                      </a:lnTo>
                      <a:lnTo>
                        <a:pt x="469" y="308"/>
                      </a:lnTo>
                      <a:lnTo>
                        <a:pt x="464" y="315"/>
                      </a:lnTo>
                      <a:lnTo>
                        <a:pt x="458" y="323"/>
                      </a:lnTo>
                      <a:lnTo>
                        <a:pt x="452" y="329"/>
                      </a:lnTo>
                      <a:lnTo>
                        <a:pt x="445" y="334"/>
                      </a:lnTo>
                      <a:lnTo>
                        <a:pt x="441" y="340"/>
                      </a:lnTo>
                      <a:lnTo>
                        <a:pt x="435" y="344"/>
                      </a:lnTo>
                      <a:lnTo>
                        <a:pt x="431" y="348"/>
                      </a:lnTo>
                      <a:lnTo>
                        <a:pt x="427" y="352"/>
                      </a:lnTo>
                      <a:lnTo>
                        <a:pt x="431" y="340"/>
                      </a:lnTo>
                      <a:lnTo>
                        <a:pt x="431" y="334"/>
                      </a:lnTo>
                      <a:lnTo>
                        <a:pt x="431" y="329"/>
                      </a:lnTo>
                      <a:lnTo>
                        <a:pt x="431" y="325"/>
                      </a:lnTo>
                      <a:lnTo>
                        <a:pt x="431" y="319"/>
                      </a:lnTo>
                      <a:lnTo>
                        <a:pt x="429" y="314"/>
                      </a:lnTo>
                      <a:lnTo>
                        <a:pt x="429" y="308"/>
                      </a:lnTo>
                      <a:lnTo>
                        <a:pt x="429" y="304"/>
                      </a:lnTo>
                      <a:lnTo>
                        <a:pt x="429" y="300"/>
                      </a:lnTo>
                      <a:lnTo>
                        <a:pt x="427" y="293"/>
                      </a:lnTo>
                      <a:lnTo>
                        <a:pt x="427" y="291"/>
                      </a:lnTo>
                      <a:lnTo>
                        <a:pt x="426" y="289"/>
                      </a:lnTo>
                      <a:lnTo>
                        <a:pt x="420" y="287"/>
                      </a:lnTo>
                      <a:lnTo>
                        <a:pt x="414" y="285"/>
                      </a:lnTo>
                      <a:lnTo>
                        <a:pt x="410" y="285"/>
                      </a:lnTo>
                      <a:lnTo>
                        <a:pt x="403" y="287"/>
                      </a:lnTo>
                      <a:lnTo>
                        <a:pt x="397" y="291"/>
                      </a:lnTo>
                      <a:lnTo>
                        <a:pt x="389" y="293"/>
                      </a:lnTo>
                      <a:lnTo>
                        <a:pt x="384" y="295"/>
                      </a:lnTo>
                      <a:lnTo>
                        <a:pt x="378" y="296"/>
                      </a:lnTo>
                      <a:lnTo>
                        <a:pt x="374" y="296"/>
                      </a:lnTo>
                      <a:lnTo>
                        <a:pt x="368" y="296"/>
                      </a:lnTo>
                      <a:lnTo>
                        <a:pt x="365" y="298"/>
                      </a:lnTo>
                      <a:lnTo>
                        <a:pt x="359" y="298"/>
                      </a:lnTo>
                      <a:lnTo>
                        <a:pt x="353" y="300"/>
                      </a:lnTo>
                      <a:lnTo>
                        <a:pt x="346" y="300"/>
                      </a:lnTo>
                      <a:lnTo>
                        <a:pt x="342" y="300"/>
                      </a:lnTo>
                      <a:lnTo>
                        <a:pt x="334" y="300"/>
                      </a:lnTo>
                      <a:lnTo>
                        <a:pt x="330" y="302"/>
                      </a:lnTo>
                      <a:lnTo>
                        <a:pt x="323" y="302"/>
                      </a:lnTo>
                      <a:lnTo>
                        <a:pt x="317" y="304"/>
                      </a:lnTo>
                      <a:lnTo>
                        <a:pt x="311" y="304"/>
                      </a:lnTo>
                      <a:lnTo>
                        <a:pt x="306" y="304"/>
                      </a:lnTo>
                      <a:lnTo>
                        <a:pt x="300" y="304"/>
                      </a:lnTo>
                      <a:lnTo>
                        <a:pt x="294" y="304"/>
                      </a:lnTo>
                      <a:lnTo>
                        <a:pt x="289" y="304"/>
                      </a:lnTo>
                      <a:lnTo>
                        <a:pt x="283" y="304"/>
                      </a:lnTo>
                      <a:lnTo>
                        <a:pt x="279" y="304"/>
                      </a:lnTo>
                      <a:lnTo>
                        <a:pt x="275" y="306"/>
                      </a:lnTo>
                      <a:lnTo>
                        <a:pt x="268" y="306"/>
                      </a:lnTo>
                      <a:lnTo>
                        <a:pt x="262" y="306"/>
                      </a:lnTo>
                      <a:lnTo>
                        <a:pt x="258" y="306"/>
                      </a:lnTo>
                      <a:lnTo>
                        <a:pt x="256" y="306"/>
                      </a:lnTo>
                      <a:lnTo>
                        <a:pt x="279" y="276"/>
                      </a:lnTo>
                      <a:lnTo>
                        <a:pt x="277" y="276"/>
                      </a:lnTo>
                      <a:lnTo>
                        <a:pt x="277" y="276"/>
                      </a:lnTo>
                      <a:lnTo>
                        <a:pt x="272" y="276"/>
                      </a:lnTo>
                      <a:lnTo>
                        <a:pt x="268" y="277"/>
                      </a:lnTo>
                      <a:lnTo>
                        <a:pt x="262" y="277"/>
                      </a:lnTo>
                      <a:lnTo>
                        <a:pt x="256" y="279"/>
                      </a:lnTo>
                      <a:lnTo>
                        <a:pt x="251" y="279"/>
                      </a:lnTo>
                      <a:lnTo>
                        <a:pt x="243" y="281"/>
                      </a:lnTo>
                      <a:lnTo>
                        <a:pt x="235" y="283"/>
                      </a:lnTo>
                      <a:lnTo>
                        <a:pt x="228" y="283"/>
                      </a:lnTo>
                      <a:lnTo>
                        <a:pt x="218" y="285"/>
                      </a:lnTo>
                      <a:lnTo>
                        <a:pt x="213" y="287"/>
                      </a:lnTo>
                      <a:lnTo>
                        <a:pt x="205" y="287"/>
                      </a:lnTo>
                      <a:lnTo>
                        <a:pt x="197" y="289"/>
                      </a:lnTo>
                      <a:lnTo>
                        <a:pt x="190" y="289"/>
                      </a:lnTo>
                      <a:lnTo>
                        <a:pt x="186" y="291"/>
                      </a:lnTo>
                      <a:lnTo>
                        <a:pt x="178" y="291"/>
                      </a:lnTo>
                      <a:lnTo>
                        <a:pt x="173" y="293"/>
                      </a:lnTo>
                      <a:lnTo>
                        <a:pt x="167" y="293"/>
                      </a:lnTo>
                      <a:lnTo>
                        <a:pt x="161" y="293"/>
                      </a:lnTo>
                      <a:lnTo>
                        <a:pt x="154" y="293"/>
                      </a:lnTo>
                      <a:lnTo>
                        <a:pt x="148" y="293"/>
                      </a:lnTo>
                      <a:lnTo>
                        <a:pt x="142" y="293"/>
                      </a:lnTo>
                      <a:lnTo>
                        <a:pt x="137" y="293"/>
                      </a:lnTo>
                      <a:lnTo>
                        <a:pt x="129" y="293"/>
                      </a:lnTo>
                      <a:lnTo>
                        <a:pt x="125" y="293"/>
                      </a:lnTo>
                      <a:lnTo>
                        <a:pt x="119" y="293"/>
                      </a:lnTo>
                      <a:lnTo>
                        <a:pt x="116" y="293"/>
                      </a:lnTo>
                      <a:lnTo>
                        <a:pt x="110" y="293"/>
                      </a:lnTo>
                      <a:lnTo>
                        <a:pt x="108" y="293"/>
                      </a:lnTo>
                      <a:lnTo>
                        <a:pt x="135" y="270"/>
                      </a:lnTo>
                      <a:lnTo>
                        <a:pt x="133" y="270"/>
                      </a:lnTo>
                      <a:lnTo>
                        <a:pt x="131" y="270"/>
                      </a:lnTo>
                      <a:lnTo>
                        <a:pt x="129" y="270"/>
                      </a:lnTo>
                      <a:lnTo>
                        <a:pt x="125" y="272"/>
                      </a:lnTo>
                      <a:lnTo>
                        <a:pt x="119" y="272"/>
                      </a:lnTo>
                      <a:lnTo>
                        <a:pt x="114" y="272"/>
                      </a:lnTo>
                      <a:lnTo>
                        <a:pt x="108" y="274"/>
                      </a:lnTo>
                      <a:lnTo>
                        <a:pt x="102" y="276"/>
                      </a:lnTo>
                      <a:lnTo>
                        <a:pt x="97" y="276"/>
                      </a:lnTo>
                      <a:lnTo>
                        <a:pt x="91" y="276"/>
                      </a:lnTo>
                      <a:lnTo>
                        <a:pt x="85" y="276"/>
                      </a:lnTo>
                      <a:lnTo>
                        <a:pt x="79" y="277"/>
                      </a:lnTo>
                      <a:lnTo>
                        <a:pt x="76" y="277"/>
                      </a:lnTo>
                      <a:lnTo>
                        <a:pt x="72" y="277"/>
                      </a:lnTo>
                      <a:lnTo>
                        <a:pt x="68" y="277"/>
                      </a:lnTo>
                      <a:lnTo>
                        <a:pt x="66" y="279"/>
                      </a:lnTo>
                      <a:lnTo>
                        <a:pt x="62" y="277"/>
                      </a:lnTo>
                      <a:lnTo>
                        <a:pt x="57" y="277"/>
                      </a:lnTo>
                      <a:lnTo>
                        <a:pt x="53" y="276"/>
                      </a:lnTo>
                      <a:lnTo>
                        <a:pt x="47" y="276"/>
                      </a:lnTo>
                      <a:lnTo>
                        <a:pt x="43" y="274"/>
                      </a:lnTo>
                      <a:lnTo>
                        <a:pt x="40" y="274"/>
                      </a:lnTo>
                      <a:lnTo>
                        <a:pt x="36" y="272"/>
                      </a:lnTo>
                      <a:lnTo>
                        <a:pt x="36" y="274"/>
                      </a:lnTo>
                      <a:lnTo>
                        <a:pt x="34" y="279"/>
                      </a:lnTo>
                      <a:lnTo>
                        <a:pt x="32" y="283"/>
                      </a:lnTo>
                      <a:lnTo>
                        <a:pt x="32" y="287"/>
                      </a:lnTo>
                      <a:lnTo>
                        <a:pt x="32" y="293"/>
                      </a:lnTo>
                      <a:lnTo>
                        <a:pt x="30" y="298"/>
                      </a:lnTo>
                      <a:lnTo>
                        <a:pt x="28" y="304"/>
                      </a:lnTo>
                      <a:lnTo>
                        <a:pt x="28" y="310"/>
                      </a:lnTo>
                      <a:lnTo>
                        <a:pt x="26" y="314"/>
                      </a:lnTo>
                      <a:lnTo>
                        <a:pt x="26" y="321"/>
                      </a:lnTo>
                      <a:lnTo>
                        <a:pt x="24" y="325"/>
                      </a:lnTo>
                      <a:lnTo>
                        <a:pt x="24" y="329"/>
                      </a:lnTo>
                      <a:lnTo>
                        <a:pt x="22" y="333"/>
                      </a:lnTo>
                      <a:lnTo>
                        <a:pt x="22" y="336"/>
                      </a:lnTo>
                      <a:lnTo>
                        <a:pt x="19" y="342"/>
                      </a:lnTo>
                      <a:lnTo>
                        <a:pt x="17" y="346"/>
                      </a:lnTo>
                      <a:lnTo>
                        <a:pt x="13" y="350"/>
                      </a:lnTo>
                      <a:lnTo>
                        <a:pt x="11" y="353"/>
                      </a:lnTo>
                      <a:lnTo>
                        <a:pt x="3" y="357"/>
                      </a:lnTo>
                      <a:lnTo>
                        <a:pt x="2" y="359"/>
                      </a:lnTo>
                      <a:lnTo>
                        <a:pt x="2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921040" y="5335560"/>
                  <a:ext cx="114120" cy="4284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0" y="21"/>
                      </a:moveTo>
                      <a:lnTo>
                        <a:pt x="50" y="0"/>
                      </a:lnTo>
                      <a:lnTo>
                        <a:pt x="111" y="48"/>
                      </a:lnTo>
                      <a:lnTo>
                        <a:pt x="40" y="25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2200" y="5261040"/>
                  <a:ext cx="541440" cy="385560"/>
                </a:xfrm>
                <a:custGeom>
                  <a:avLst/>
                  <a:gdLst/>
                  <a:ahLst/>
                  <a:rect l="l" t="t" r="r" b="b"/>
                  <a:pathLst>
                    <a:path w="521" h="422">
                      <a:moveTo>
                        <a:pt x="421" y="7"/>
                      </a:moveTo>
                      <a:lnTo>
                        <a:pt x="421" y="9"/>
                      </a:lnTo>
                      <a:lnTo>
                        <a:pt x="422" y="13"/>
                      </a:lnTo>
                      <a:lnTo>
                        <a:pt x="424" y="17"/>
                      </a:lnTo>
                      <a:lnTo>
                        <a:pt x="426" y="23"/>
                      </a:lnTo>
                      <a:lnTo>
                        <a:pt x="428" y="30"/>
                      </a:lnTo>
                      <a:lnTo>
                        <a:pt x="430" y="34"/>
                      </a:lnTo>
                      <a:lnTo>
                        <a:pt x="432" y="38"/>
                      </a:lnTo>
                      <a:lnTo>
                        <a:pt x="432" y="42"/>
                      </a:lnTo>
                      <a:lnTo>
                        <a:pt x="434" y="47"/>
                      </a:lnTo>
                      <a:lnTo>
                        <a:pt x="436" y="51"/>
                      </a:lnTo>
                      <a:lnTo>
                        <a:pt x="436" y="55"/>
                      </a:lnTo>
                      <a:lnTo>
                        <a:pt x="436" y="59"/>
                      </a:lnTo>
                      <a:lnTo>
                        <a:pt x="438" y="64"/>
                      </a:lnTo>
                      <a:lnTo>
                        <a:pt x="440" y="70"/>
                      </a:lnTo>
                      <a:lnTo>
                        <a:pt x="440" y="74"/>
                      </a:lnTo>
                      <a:lnTo>
                        <a:pt x="441" y="80"/>
                      </a:lnTo>
                      <a:lnTo>
                        <a:pt x="441" y="85"/>
                      </a:lnTo>
                      <a:lnTo>
                        <a:pt x="441" y="91"/>
                      </a:lnTo>
                      <a:lnTo>
                        <a:pt x="443" y="97"/>
                      </a:lnTo>
                      <a:lnTo>
                        <a:pt x="443" y="100"/>
                      </a:lnTo>
                      <a:lnTo>
                        <a:pt x="443" y="108"/>
                      </a:lnTo>
                      <a:lnTo>
                        <a:pt x="443" y="112"/>
                      </a:lnTo>
                      <a:lnTo>
                        <a:pt x="443" y="119"/>
                      </a:lnTo>
                      <a:lnTo>
                        <a:pt x="443" y="125"/>
                      </a:lnTo>
                      <a:lnTo>
                        <a:pt x="443" y="131"/>
                      </a:lnTo>
                      <a:lnTo>
                        <a:pt x="445" y="131"/>
                      </a:lnTo>
                      <a:lnTo>
                        <a:pt x="449" y="133"/>
                      </a:lnTo>
                      <a:lnTo>
                        <a:pt x="451" y="133"/>
                      </a:lnTo>
                      <a:lnTo>
                        <a:pt x="455" y="135"/>
                      </a:lnTo>
                      <a:lnTo>
                        <a:pt x="460" y="137"/>
                      </a:lnTo>
                      <a:lnTo>
                        <a:pt x="464" y="138"/>
                      </a:lnTo>
                      <a:lnTo>
                        <a:pt x="468" y="140"/>
                      </a:lnTo>
                      <a:lnTo>
                        <a:pt x="472" y="142"/>
                      </a:lnTo>
                      <a:lnTo>
                        <a:pt x="476" y="146"/>
                      </a:lnTo>
                      <a:lnTo>
                        <a:pt x="481" y="150"/>
                      </a:lnTo>
                      <a:lnTo>
                        <a:pt x="483" y="152"/>
                      </a:lnTo>
                      <a:lnTo>
                        <a:pt x="487" y="156"/>
                      </a:lnTo>
                      <a:lnTo>
                        <a:pt x="491" y="161"/>
                      </a:lnTo>
                      <a:lnTo>
                        <a:pt x="493" y="167"/>
                      </a:lnTo>
                      <a:lnTo>
                        <a:pt x="493" y="171"/>
                      </a:lnTo>
                      <a:lnTo>
                        <a:pt x="493" y="175"/>
                      </a:lnTo>
                      <a:lnTo>
                        <a:pt x="491" y="180"/>
                      </a:lnTo>
                      <a:lnTo>
                        <a:pt x="487" y="184"/>
                      </a:lnTo>
                      <a:lnTo>
                        <a:pt x="481" y="188"/>
                      </a:lnTo>
                      <a:lnTo>
                        <a:pt x="478" y="194"/>
                      </a:lnTo>
                      <a:lnTo>
                        <a:pt x="472" y="197"/>
                      </a:lnTo>
                      <a:lnTo>
                        <a:pt x="466" y="201"/>
                      </a:lnTo>
                      <a:lnTo>
                        <a:pt x="460" y="203"/>
                      </a:lnTo>
                      <a:lnTo>
                        <a:pt x="455" y="205"/>
                      </a:lnTo>
                      <a:lnTo>
                        <a:pt x="449" y="209"/>
                      </a:lnTo>
                      <a:lnTo>
                        <a:pt x="445" y="211"/>
                      </a:lnTo>
                      <a:lnTo>
                        <a:pt x="440" y="213"/>
                      </a:lnTo>
                      <a:lnTo>
                        <a:pt x="436" y="213"/>
                      </a:lnTo>
                      <a:lnTo>
                        <a:pt x="434" y="215"/>
                      </a:lnTo>
                      <a:lnTo>
                        <a:pt x="434" y="215"/>
                      </a:lnTo>
                      <a:lnTo>
                        <a:pt x="434" y="216"/>
                      </a:lnTo>
                      <a:lnTo>
                        <a:pt x="432" y="222"/>
                      </a:lnTo>
                      <a:lnTo>
                        <a:pt x="432" y="224"/>
                      </a:lnTo>
                      <a:lnTo>
                        <a:pt x="430" y="228"/>
                      </a:lnTo>
                      <a:lnTo>
                        <a:pt x="430" y="234"/>
                      </a:lnTo>
                      <a:lnTo>
                        <a:pt x="428" y="239"/>
                      </a:lnTo>
                      <a:lnTo>
                        <a:pt x="428" y="243"/>
                      </a:lnTo>
                      <a:lnTo>
                        <a:pt x="426" y="249"/>
                      </a:lnTo>
                      <a:lnTo>
                        <a:pt x="424" y="254"/>
                      </a:lnTo>
                      <a:lnTo>
                        <a:pt x="422" y="262"/>
                      </a:lnTo>
                      <a:lnTo>
                        <a:pt x="419" y="270"/>
                      </a:lnTo>
                      <a:lnTo>
                        <a:pt x="417" y="275"/>
                      </a:lnTo>
                      <a:lnTo>
                        <a:pt x="413" y="285"/>
                      </a:lnTo>
                      <a:lnTo>
                        <a:pt x="411" y="292"/>
                      </a:lnTo>
                      <a:lnTo>
                        <a:pt x="405" y="298"/>
                      </a:lnTo>
                      <a:lnTo>
                        <a:pt x="402" y="306"/>
                      </a:lnTo>
                      <a:lnTo>
                        <a:pt x="398" y="313"/>
                      </a:lnTo>
                      <a:lnTo>
                        <a:pt x="392" y="321"/>
                      </a:lnTo>
                      <a:lnTo>
                        <a:pt x="386" y="327"/>
                      </a:lnTo>
                      <a:lnTo>
                        <a:pt x="381" y="334"/>
                      </a:lnTo>
                      <a:lnTo>
                        <a:pt x="375" y="342"/>
                      </a:lnTo>
                      <a:lnTo>
                        <a:pt x="369" y="348"/>
                      </a:lnTo>
                      <a:lnTo>
                        <a:pt x="362" y="353"/>
                      </a:lnTo>
                      <a:lnTo>
                        <a:pt x="354" y="359"/>
                      </a:lnTo>
                      <a:lnTo>
                        <a:pt x="345" y="365"/>
                      </a:lnTo>
                      <a:lnTo>
                        <a:pt x="337" y="370"/>
                      </a:lnTo>
                      <a:lnTo>
                        <a:pt x="333" y="372"/>
                      </a:lnTo>
                      <a:lnTo>
                        <a:pt x="329" y="374"/>
                      </a:lnTo>
                      <a:lnTo>
                        <a:pt x="324" y="376"/>
                      </a:lnTo>
                      <a:lnTo>
                        <a:pt x="320" y="378"/>
                      </a:lnTo>
                      <a:lnTo>
                        <a:pt x="314" y="380"/>
                      </a:lnTo>
                      <a:lnTo>
                        <a:pt x="308" y="380"/>
                      </a:lnTo>
                      <a:lnTo>
                        <a:pt x="303" y="382"/>
                      </a:lnTo>
                      <a:lnTo>
                        <a:pt x="299" y="384"/>
                      </a:lnTo>
                      <a:lnTo>
                        <a:pt x="291" y="384"/>
                      </a:lnTo>
                      <a:lnTo>
                        <a:pt x="287" y="384"/>
                      </a:lnTo>
                      <a:lnTo>
                        <a:pt x="282" y="386"/>
                      </a:lnTo>
                      <a:lnTo>
                        <a:pt x="276" y="386"/>
                      </a:lnTo>
                      <a:lnTo>
                        <a:pt x="270" y="386"/>
                      </a:lnTo>
                      <a:lnTo>
                        <a:pt x="265" y="387"/>
                      </a:lnTo>
                      <a:lnTo>
                        <a:pt x="259" y="387"/>
                      </a:lnTo>
                      <a:lnTo>
                        <a:pt x="255" y="387"/>
                      </a:lnTo>
                      <a:lnTo>
                        <a:pt x="248" y="387"/>
                      </a:lnTo>
                      <a:lnTo>
                        <a:pt x="242" y="387"/>
                      </a:lnTo>
                      <a:lnTo>
                        <a:pt x="238" y="387"/>
                      </a:lnTo>
                      <a:lnTo>
                        <a:pt x="232" y="387"/>
                      </a:lnTo>
                      <a:lnTo>
                        <a:pt x="227" y="387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1" y="387"/>
                      </a:lnTo>
                      <a:lnTo>
                        <a:pt x="206" y="387"/>
                      </a:lnTo>
                      <a:lnTo>
                        <a:pt x="200" y="387"/>
                      </a:lnTo>
                      <a:lnTo>
                        <a:pt x="194" y="386"/>
                      </a:lnTo>
                      <a:lnTo>
                        <a:pt x="191" y="386"/>
                      </a:lnTo>
                      <a:lnTo>
                        <a:pt x="185" y="384"/>
                      </a:lnTo>
                      <a:lnTo>
                        <a:pt x="179" y="384"/>
                      </a:lnTo>
                      <a:lnTo>
                        <a:pt x="173" y="384"/>
                      </a:lnTo>
                      <a:lnTo>
                        <a:pt x="170" y="384"/>
                      </a:lnTo>
                      <a:lnTo>
                        <a:pt x="164" y="382"/>
                      </a:lnTo>
                      <a:lnTo>
                        <a:pt x="158" y="380"/>
                      </a:lnTo>
                      <a:lnTo>
                        <a:pt x="152" y="380"/>
                      </a:lnTo>
                      <a:lnTo>
                        <a:pt x="149" y="378"/>
                      </a:lnTo>
                      <a:lnTo>
                        <a:pt x="143" y="376"/>
                      </a:lnTo>
                      <a:lnTo>
                        <a:pt x="139" y="376"/>
                      </a:lnTo>
                      <a:lnTo>
                        <a:pt x="133" y="374"/>
                      </a:lnTo>
                      <a:lnTo>
                        <a:pt x="130" y="374"/>
                      </a:lnTo>
                      <a:lnTo>
                        <a:pt x="124" y="372"/>
                      </a:lnTo>
                      <a:lnTo>
                        <a:pt x="120" y="370"/>
                      </a:lnTo>
                      <a:lnTo>
                        <a:pt x="114" y="368"/>
                      </a:lnTo>
                      <a:lnTo>
                        <a:pt x="109" y="367"/>
                      </a:lnTo>
                      <a:lnTo>
                        <a:pt x="105" y="365"/>
                      </a:lnTo>
                      <a:lnTo>
                        <a:pt x="101" y="363"/>
                      </a:lnTo>
                      <a:lnTo>
                        <a:pt x="95" y="361"/>
                      </a:lnTo>
                      <a:lnTo>
                        <a:pt x="92" y="359"/>
                      </a:lnTo>
                      <a:lnTo>
                        <a:pt x="88" y="357"/>
                      </a:lnTo>
                      <a:lnTo>
                        <a:pt x="82" y="355"/>
                      </a:lnTo>
                      <a:lnTo>
                        <a:pt x="78" y="351"/>
                      </a:lnTo>
                      <a:lnTo>
                        <a:pt x="75" y="349"/>
                      </a:lnTo>
                      <a:lnTo>
                        <a:pt x="65" y="346"/>
                      </a:lnTo>
                      <a:lnTo>
                        <a:pt x="57" y="340"/>
                      </a:lnTo>
                      <a:lnTo>
                        <a:pt x="50" y="334"/>
                      </a:lnTo>
                      <a:lnTo>
                        <a:pt x="42" y="329"/>
                      </a:lnTo>
                      <a:lnTo>
                        <a:pt x="35" y="323"/>
                      </a:lnTo>
                      <a:lnTo>
                        <a:pt x="27" y="317"/>
                      </a:lnTo>
                      <a:lnTo>
                        <a:pt x="19" y="310"/>
                      </a:lnTo>
                      <a:lnTo>
                        <a:pt x="14" y="304"/>
                      </a:lnTo>
                      <a:lnTo>
                        <a:pt x="6" y="296"/>
                      </a:lnTo>
                      <a:lnTo>
                        <a:pt x="0" y="289"/>
                      </a:lnTo>
                      <a:lnTo>
                        <a:pt x="14" y="325"/>
                      </a:lnTo>
                      <a:lnTo>
                        <a:pt x="14" y="327"/>
                      </a:lnTo>
                      <a:lnTo>
                        <a:pt x="18" y="330"/>
                      </a:lnTo>
                      <a:lnTo>
                        <a:pt x="19" y="332"/>
                      </a:lnTo>
                      <a:lnTo>
                        <a:pt x="23" y="336"/>
                      </a:lnTo>
                      <a:lnTo>
                        <a:pt x="27" y="340"/>
                      </a:lnTo>
                      <a:lnTo>
                        <a:pt x="33" y="346"/>
                      </a:lnTo>
                      <a:lnTo>
                        <a:pt x="38" y="349"/>
                      </a:lnTo>
                      <a:lnTo>
                        <a:pt x="44" y="355"/>
                      </a:lnTo>
                      <a:lnTo>
                        <a:pt x="50" y="359"/>
                      </a:lnTo>
                      <a:lnTo>
                        <a:pt x="57" y="365"/>
                      </a:lnTo>
                      <a:lnTo>
                        <a:pt x="63" y="370"/>
                      </a:lnTo>
                      <a:lnTo>
                        <a:pt x="73" y="376"/>
                      </a:lnTo>
                      <a:lnTo>
                        <a:pt x="76" y="378"/>
                      </a:lnTo>
                      <a:lnTo>
                        <a:pt x="80" y="380"/>
                      </a:lnTo>
                      <a:lnTo>
                        <a:pt x="86" y="384"/>
                      </a:lnTo>
                      <a:lnTo>
                        <a:pt x="92" y="387"/>
                      </a:lnTo>
                      <a:lnTo>
                        <a:pt x="95" y="389"/>
                      </a:lnTo>
                      <a:lnTo>
                        <a:pt x="101" y="391"/>
                      </a:lnTo>
                      <a:lnTo>
                        <a:pt x="105" y="393"/>
                      </a:lnTo>
                      <a:lnTo>
                        <a:pt x="111" y="397"/>
                      </a:lnTo>
                      <a:lnTo>
                        <a:pt x="114" y="399"/>
                      </a:lnTo>
                      <a:lnTo>
                        <a:pt x="120" y="401"/>
                      </a:lnTo>
                      <a:lnTo>
                        <a:pt x="126" y="403"/>
                      </a:lnTo>
                      <a:lnTo>
                        <a:pt x="132" y="405"/>
                      </a:lnTo>
                      <a:lnTo>
                        <a:pt x="137" y="406"/>
                      </a:lnTo>
                      <a:lnTo>
                        <a:pt x="143" y="408"/>
                      </a:lnTo>
                      <a:lnTo>
                        <a:pt x="149" y="410"/>
                      </a:lnTo>
                      <a:lnTo>
                        <a:pt x="154" y="412"/>
                      </a:lnTo>
                      <a:lnTo>
                        <a:pt x="162" y="414"/>
                      </a:lnTo>
                      <a:lnTo>
                        <a:pt x="168" y="414"/>
                      </a:lnTo>
                      <a:lnTo>
                        <a:pt x="175" y="416"/>
                      </a:lnTo>
                      <a:lnTo>
                        <a:pt x="181" y="418"/>
                      </a:lnTo>
                      <a:lnTo>
                        <a:pt x="187" y="418"/>
                      </a:lnTo>
                      <a:lnTo>
                        <a:pt x="194" y="420"/>
                      </a:lnTo>
                      <a:lnTo>
                        <a:pt x="202" y="420"/>
                      </a:lnTo>
                      <a:lnTo>
                        <a:pt x="210" y="420"/>
                      </a:lnTo>
                      <a:lnTo>
                        <a:pt x="215" y="420"/>
                      </a:lnTo>
                      <a:lnTo>
                        <a:pt x="223" y="420"/>
                      </a:lnTo>
                      <a:lnTo>
                        <a:pt x="230" y="420"/>
                      </a:lnTo>
                      <a:lnTo>
                        <a:pt x="238" y="422"/>
                      </a:lnTo>
                      <a:lnTo>
                        <a:pt x="246" y="420"/>
                      </a:lnTo>
                      <a:lnTo>
                        <a:pt x="253" y="418"/>
                      </a:lnTo>
                      <a:lnTo>
                        <a:pt x="261" y="418"/>
                      </a:lnTo>
                      <a:lnTo>
                        <a:pt x="268" y="418"/>
                      </a:lnTo>
                      <a:lnTo>
                        <a:pt x="276" y="416"/>
                      </a:lnTo>
                      <a:lnTo>
                        <a:pt x="286" y="414"/>
                      </a:lnTo>
                      <a:lnTo>
                        <a:pt x="293" y="412"/>
                      </a:ln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318" y="405"/>
                      </a:lnTo>
                      <a:lnTo>
                        <a:pt x="324" y="401"/>
                      </a:lnTo>
                      <a:lnTo>
                        <a:pt x="333" y="399"/>
                      </a:lnTo>
                      <a:lnTo>
                        <a:pt x="339" y="395"/>
                      </a:lnTo>
                      <a:lnTo>
                        <a:pt x="345" y="391"/>
                      </a:lnTo>
                      <a:lnTo>
                        <a:pt x="352" y="389"/>
                      </a:lnTo>
                      <a:lnTo>
                        <a:pt x="358" y="387"/>
                      </a:lnTo>
                      <a:lnTo>
                        <a:pt x="364" y="384"/>
                      </a:lnTo>
                      <a:lnTo>
                        <a:pt x="369" y="380"/>
                      </a:lnTo>
                      <a:lnTo>
                        <a:pt x="375" y="376"/>
                      </a:lnTo>
                      <a:lnTo>
                        <a:pt x="381" y="374"/>
                      </a:lnTo>
                      <a:lnTo>
                        <a:pt x="384" y="370"/>
                      </a:lnTo>
                      <a:lnTo>
                        <a:pt x="390" y="367"/>
                      </a:lnTo>
                      <a:lnTo>
                        <a:pt x="394" y="363"/>
                      </a:lnTo>
                      <a:lnTo>
                        <a:pt x="400" y="361"/>
                      </a:lnTo>
                      <a:lnTo>
                        <a:pt x="407" y="353"/>
                      </a:lnTo>
                      <a:lnTo>
                        <a:pt x="415" y="346"/>
                      </a:lnTo>
                      <a:lnTo>
                        <a:pt x="421" y="338"/>
                      </a:lnTo>
                      <a:lnTo>
                        <a:pt x="426" y="332"/>
                      </a:lnTo>
                      <a:lnTo>
                        <a:pt x="432" y="325"/>
                      </a:lnTo>
                      <a:lnTo>
                        <a:pt x="436" y="317"/>
                      </a:lnTo>
                      <a:lnTo>
                        <a:pt x="440" y="311"/>
                      </a:lnTo>
                      <a:lnTo>
                        <a:pt x="443" y="304"/>
                      </a:lnTo>
                      <a:lnTo>
                        <a:pt x="445" y="298"/>
                      </a:lnTo>
                      <a:lnTo>
                        <a:pt x="449" y="291"/>
                      </a:lnTo>
                      <a:lnTo>
                        <a:pt x="449" y="285"/>
                      </a:lnTo>
                      <a:lnTo>
                        <a:pt x="451" y="279"/>
                      </a:lnTo>
                      <a:lnTo>
                        <a:pt x="453" y="272"/>
                      </a:lnTo>
                      <a:lnTo>
                        <a:pt x="453" y="268"/>
                      </a:lnTo>
                      <a:lnTo>
                        <a:pt x="453" y="262"/>
                      </a:lnTo>
                      <a:lnTo>
                        <a:pt x="453" y="258"/>
                      </a:lnTo>
                      <a:lnTo>
                        <a:pt x="453" y="253"/>
                      </a:lnTo>
                      <a:lnTo>
                        <a:pt x="453" y="249"/>
                      </a:lnTo>
                      <a:lnTo>
                        <a:pt x="453" y="247"/>
                      </a:lnTo>
                      <a:lnTo>
                        <a:pt x="453" y="243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3" y="239"/>
                      </a:lnTo>
                      <a:lnTo>
                        <a:pt x="455" y="237"/>
                      </a:lnTo>
                      <a:lnTo>
                        <a:pt x="459" y="234"/>
                      </a:lnTo>
                      <a:lnTo>
                        <a:pt x="462" y="234"/>
                      </a:lnTo>
                      <a:lnTo>
                        <a:pt x="468" y="230"/>
                      </a:lnTo>
                      <a:lnTo>
                        <a:pt x="474" y="226"/>
                      </a:lnTo>
                      <a:lnTo>
                        <a:pt x="481" y="222"/>
                      </a:lnTo>
                      <a:lnTo>
                        <a:pt x="487" y="216"/>
                      </a:lnTo>
                      <a:lnTo>
                        <a:pt x="495" y="211"/>
                      </a:lnTo>
                      <a:lnTo>
                        <a:pt x="500" y="205"/>
                      </a:lnTo>
                      <a:lnTo>
                        <a:pt x="506" y="201"/>
                      </a:lnTo>
                      <a:lnTo>
                        <a:pt x="510" y="196"/>
                      </a:lnTo>
                      <a:lnTo>
                        <a:pt x="514" y="188"/>
                      </a:lnTo>
                      <a:lnTo>
                        <a:pt x="518" y="182"/>
                      </a:lnTo>
                      <a:lnTo>
                        <a:pt x="519" y="177"/>
                      </a:lnTo>
                      <a:lnTo>
                        <a:pt x="521" y="171"/>
                      </a:lnTo>
                      <a:lnTo>
                        <a:pt x="519" y="163"/>
                      </a:lnTo>
                      <a:lnTo>
                        <a:pt x="518" y="157"/>
                      </a:lnTo>
                      <a:lnTo>
                        <a:pt x="514" y="152"/>
                      </a:lnTo>
                      <a:lnTo>
                        <a:pt x="510" y="146"/>
                      </a:lnTo>
                      <a:lnTo>
                        <a:pt x="504" y="142"/>
                      </a:lnTo>
                      <a:lnTo>
                        <a:pt x="499" y="137"/>
                      </a:lnTo>
                      <a:lnTo>
                        <a:pt x="493" y="133"/>
                      </a:lnTo>
                      <a:lnTo>
                        <a:pt x="487" y="129"/>
                      </a:lnTo>
                      <a:lnTo>
                        <a:pt x="481" y="125"/>
                      </a:lnTo>
                      <a:lnTo>
                        <a:pt x="476" y="121"/>
                      </a:lnTo>
                      <a:lnTo>
                        <a:pt x="470" y="118"/>
                      </a:lnTo>
                      <a:lnTo>
                        <a:pt x="466" y="116"/>
                      </a:lnTo>
                      <a:lnTo>
                        <a:pt x="459" y="112"/>
                      </a:lnTo>
                      <a:lnTo>
                        <a:pt x="457" y="112"/>
                      </a:lnTo>
                      <a:lnTo>
                        <a:pt x="457" y="110"/>
                      </a:lnTo>
                      <a:lnTo>
                        <a:pt x="457" y="108"/>
                      </a:lnTo>
                      <a:lnTo>
                        <a:pt x="457" y="104"/>
                      </a:lnTo>
                      <a:lnTo>
                        <a:pt x="457" y="99"/>
                      </a:lnTo>
                      <a:lnTo>
                        <a:pt x="455" y="93"/>
                      </a:lnTo>
                      <a:lnTo>
                        <a:pt x="455" y="85"/>
                      </a:lnTo>
                      <a:lnTo>
                        <a:pt x="453" y="76"/>
                      </a:lnTo>
                      <a:lnTo>
                        <a:pt x="453" y="68"/>
                      </a:lnTo>
                      <a:lnTo>
                        <a:pt x="453" y="64"/>
                      </a:lnTo>
                      <a:lnTo>
                        <a:pt x="453" y="59"/>
                      </a:lnTo>
                      <a:lnTo>
                        <a:pt x="451" y="55"/>
                      </a:lnTo>
                      <a:lnTo>
                        <a:pt x="451" y="51"/>
                      </a:lnTo>
                      <a:lnTo>
                        <a:pt x="449" y="45"/>
                      </a:lnTo>
                      <a:lnTo>
                        <a:pt x="449" y="42"/>
                      </a:lnTo>
                      <a:lnTo>
                        <a:pt x="447" y="36"/>
                      </a:lnTo>
                      <a:lnTo>
                        <a:pt x="447" y="32"/>
                      </a:lnTo>
                      <a:lnTo>
                        <a:pt x="445" y="26"/>
                      </a:lnTo>
                      <a:lnTo>
                        <a:pt x="445" y="23"/>
                      </a:lnTo>
                      <a:lnTo>
                        <a:pt x="445" y="19"/>
                      </a:lnTo>
                      <a:lnTo>
                        <a:pt x="443" y="15"/>
                      </a:lnTo>
                      <a:lnTo>
                        <a:pt x="441" y="5"/>
                      </a:lnTo>
                      <a:lnTo>
                        <a:pt x="440" y="0"/>
                      </a:lnTo>
                      <a:lnTo>
                        <a:pt x="421" y="7"/>
                      </a:lnTo>
                      <a:lnTo>
                        <a:pt x="42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830320" y="5443560"/>
                  <a:ext cx="192240" cy="127080"/>
                </a:xfrm>
                <a:custGeom>
                  <a:avLst/>
                  <a:gdLst/>
                  <a:ahLst/>
                  <a:rect l="l" t="t" r="r" b="b"/>
                  <a:pathLst>
                    <a:path w="182" h="139">
                      <a:moveTo>
                        <a:pt x="61" y="2"/>
                      </a:moveTo>
                      <a:lnTo>
                        <a:pt x="57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25" y="4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2" y="16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8" y="31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8" y="33"/>
                      </a:lnTo>
                      <a:lnTo>
                        <a:pt x="32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4" y="35"/>
                      </a:lnTo>
                      <a:lnTo>
                        <a:pt x="36" y="40"/>
                      </a:lnTo>
                      <a:lnTo>
                        <a:pt x="40" y="46"/>
                      </a:lnTo>
                      <a:lnTo>
                        <a:pt x="44" y="52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1" y="71"/>
                      </a:lnTo>
                      <a:lnTo>
                        <a:pt x="55" y="74"/>
                      </a:ln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5" y="88"/>
                      </a:lnTo>
                      <a:lnTo>
                        <a:pt x="68" y="93"/>
                      </a:lnTo>
                      <a:lnTo>
                        <a:pt x="74" y="97"/>
                      </a:lnTo>
                      <a:lnTo>
                        <a:pt x="78" y="101"/>
                      </a:lnTo>
                      <a:lnTo>
                        <a:pt x="82" y="105"/>
                      </a:lnTo>
                      <a:lnTo>
                        <a:pt x="85" y="111"/>
                      </a:lnTo>
                      <a:lnTo>
                        <a:pt x="91" y="114"/>
                      </a:lnTo>
                      <a:lnTo>
                        <a:pt x="95" y="118"/>
                      </a:lnTo>
                      <a:lnTo>
                        <a:pt x="101" y="120"/>
                      </a:lnTo>
                      <a:lnTo>
                        <a:pt x="106" y="124"/>
                      </a:lnTo>
                      <a:lnTo>
                        <a:pt x="110" y="128"/>
                      </a:lnTo>
                      <a:lnTo>
                        <a:pt x="116" y="130"/>
                      </a:lnTo>
                      <a:lnTo>
                        <a:pt x="123" y="131"/>
                      </a:lnTo>
                      <a:lnTo>
                        <a:pt x="129" y="133"/>
                      </a:lnTo>
                      <a:lnTo>
                        <a:pt x="135" y="135"/>
                      </a:lnTo>
                      <a:lnTo>
                        <a:pt x="165" y="139"/>
                      </a:lnTo>
                      <a:lnTo>
                        <a:pt x="182" y="131"/>
                      </a:lnTo>
                      <a:lnTo>
                        <a:pt x="181" y="131"/>
                      </a:lnTo>
                      <a:lnTo>
                        <a:pt x="177" y="131"/>
                      </a:lnTo>
                      <a:lnTo>
                        <a:pt x="173" y="131"/>
                      </a:lnTo>
                      <a:lnTo>
                        <a:pt x="167" y="131"/>
                      </a:lnTo>
                      <a:lnTo>
                        <a:pt x="161" y="130"/>
                      </a:lnTo>
                      <a:lnTo>
                        <a:pt x="158" y="130"/>
                      </a:lnTo>
                      <a:lnTo>
                        <a:pt x="154" y="128"/>
                      </a:lnTo>
                      <a:lnTo>
                        <a:pt x="150" y="128"/>
                      </a:lnTo>
                      <a:lnTo>
                        <a:pt x="144" y="126"/>
                      </a:lnTo>
                      <a:lnTo>
                        <a:pt x="141" y="126"/>
                      </a:lnTo>
                      <a:lnTo>
                        <a:pt x="135" y="124"/>
                      </a:lnTo>
                      <a:lnTo>
                        <a:pt x="131" y="122"/>
                      </a:lnTo>
                      <a:lnTo>
                        <a:pt x="123" y="118"/>
                      </a:lnTo>
                      <a:lnTo>
                        <a:pt x="120" y="116"/>
                      </a:lnTo>
                      <a:lnTo>
                        <a:pt x="114" y="112"/>
                      </a:lnTo>
                      <a:lnTo>
                        <a:pt x="108" y="111"/>
                      </a:lnTo>
                      <a:lnTo>
                        <a:pt x="103" y="105"/>
                      </a:lnTo>
                      <a:lnTo>
                        <a:pt x="97" y="101"/>
                      </a:lnTo>
                      <a:lnTo>
                        <a:pt x="93" y="95"/>
                      </a:lnTo>
                      <a:lnTo>
                        <a:pt x="87" y="90"/>
                      </a:lnTo>
                      <a:lnTo>
                        <a:pt x="82" y="84"/>
                      </a:lnTo>
                      <a:lnTo>
                        <a:pt x="78" y="78"/>
                      </a:lnTo>
                      <a:lnTo>
                        <a:pt x="72" y="71"/>
                      </a:lnTo>
                      <a:lnTo>
                        <a:pt x="68" y="63"/>
                      </a:lnTo>
                      <a:lnTo>
                        <a:pt x="66" y="59"/>
                      </a:lnTo>
                      <a:lnTo>
                        <a:pt x="65" y="54"/>
                      </a:lnTo>
                      <a:lnTo>
                        <a:pt x="61" y="50"/>
                      </a:lnTo>
                      <a:lnTo>
                        <a:pt x="61" y="46"/>
                      </a:lnTo>
                      <a:lnTo>
                        <a:pt x="57" y="40"/>
                      </a:lnTo>
                      <a:lnTo>
                        <a:pt x="57" y="35"/>
                      </a:lnTo>
                      <a:lnTo>
                        <a:pt x="55" y="31"/>
                      </a:lnTo>
                      <a:lnTo>
                        <a:pt x="53" y="27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70" y="17"/>
                      </a:lnTo>
                      <a:lnTo>
                        <a:pt x="70" y="12"/>
                      </a:lnTo>
                      <a:lnTo>
                        <a:pt x="68" y="6"/>
                      </a:lnTo>
                      <a:lnTo>
                        <a:pt x="65" y="2"/>
                      </a:lnTo>
                      <a:lnTo>
                        <a:pt x="61" y="2"/>
                      </a:lnTo>
                      <a:lnTo>
                        <a:pt x="6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813040" y="5594400"/>
                  <a:ext cx="271440" cy="204840"/>
                </a:xfrm>
                <a:custGeom>
                  <a:avLst/>
                  <a:gdLst/>
                  <a:ahLst/>
                  <a:rect l="l" t="t" r="r" b="b"/>
                  <a:pathLst>
                    <a:path w="260" h="224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4" y="40"/>
                      </a:lnTo>
                      <a:lnTo>
                        <a:pt x="7" y="43"/>
                      </a:lnTo>
                      <a:lnTo>
                        <a:pt x="13" y="51"/>
                      </a:lnTo>
                      <a:lnTo>
                        <a:pt x="15" y="55"/>
                      </a:lnTo>
                      <a:lnTo>
                        <a:pt x="19" y="59"/>
                      </a:lnTo>
                      <a:lnTo>
                        <a:pt x="21" y="64"/>
                      </a:lnTo>
                      <a:lnTo>
                        <a:pt x="25" y="70"/>
                      </a:lnTo>
                      <a:lnTo>
                        <a:pt x="28" y="74"/>
                      </a:lnTo>
                      <a:lnTo>
                        <a:pt x="32" y="81"/>
                      </a:lnTo>
                      <a:lnTo>
                        <a:pt x="36" y="87"/>
                      </a:lnTo>
                      <a:lnTo>
                        <a:pt x="40" y="95"/>
                      </a:lnTo>
                      <a:lnTo>
                        <a:pt x="44" y="100"/>
                      </a:lnTo>
                      <a:lnTo>
                        <a:pt x="47" y="108"/>
                      </a:lnTo>
                      <a:lnTo>
                        <a:pt x="51" y="116"/>
                      </a:lnTo>
                      <a:lnTo>
                        <a:pt x="55" y="123"/>
                      </a:lnTo>
                      <a:lnTo>
                        <a:pt x="57" y="129"/>
                      </a:lnTo>
                      <a:lnTo>
                        <a:pt x="61" y="138"/>
                      </a:lnTo>
                      <a:lnTo>
                        <a:pt x="63" y="142"/>
                      </a:lnTo>
                      <a:lnTo>
                        <a:pt x="64" y="146"/>
                      </a:lnTo>
                      <a:lnTo>
                        <a:pt x="64" y="150"/>
                      </a:lnTo>
                      <a:lnTo>
                        <a:pt x="66" y="155"/>
                      </a:lnTo>
                      <a:lnTo>
                        <a:pt x="68" y="163"/>
                      </a:lnTo>
                      <a:lnTo>
                        <a:pt x="70" y="171"/>
                      </a:lnTo>
                      <a:lnTo>
                        <a:pt x="72" y="174"/>
                      </a:lnTo>
                      <a:lnTo>
                        <a:pt x="72" y="178"/>
                      </a:lnTo>
                      <a:lnTo>
                        <a:pt x="74" y="184"/>
                      </a:lnTo>
                      <a:lnTo>
                        <a:pt x="74" y="188"/>
                      </a:lnTo>
                      <a:lnTo>
                        <a:pt x="74" y="192"/>
                      </a:lnTo>
                      <a:lnTo>
                        <a:pt x="76" y="197"/>
                      </a:lnTo>
                      <a:lnTo>
                        <a:pt x="76" y="201"/>
                      </a:lnTo>
                      <a:lnTo>
                        <a:pt x="78" y="207"/>
                      </a:lnTo>
                      <a:lnTo>
                        <a:pt x="78" y="211"/>
                      </a:lnTo>
                      <a:lnTo>
                        <a:pt x="78" y="214"/>
                      </a:lnTo>
                      <a:lnTo>
                        <a:pt x="78" y="218"/>
                      </a:lnTo>
                      <a:lnTo>
                        <a:pt x="78" y="224"/>
                      </a:lnTo>
                      <a:lnTo>
                        <a:pt x="260" y="184"/>
                      </a:lnTo>
                      <a:lnTo>
                        <a:pt x="258" y="182"/>
                      </a:lnTo>
                      <a:lnTo>
                        <a:pt x="258" y="178"/>
                      </a:lnTo>
                      <a:lnTo>
                        <a:pt x="258" y="174"/>
                      </a:lnTo>
                      <a:lnTo>
                        <a:pt x="258" y="171"/>
                      </a:lnTo>
                      <a:lnTo>
                        <a:pt x="258" y="167"/>
                      </a:lnTo>
                      <a:lnTo>
                        <a:pt x="258" y="163"/>
                      </a:lnTo>
                      <a:lnTo>
                        <a:pt x="256" y="157"/>
                      </a:lnTo>
                      <a:lnTo>
                        <a:pt x="256" y="154"/>
                      </a:lnTo>
                      <a:lnTo>
                        <a:pt x="256" y="148"/>
                      </a:lnTo>
                      <a:lnTo>
                        <a:pt x="255" y="142"/>
                      </a:lnTo>
                      <a:lnTo>
                        <a:pt x="255" y="136"/>
                      </a:lnTo>
                      <a:lnTo>
                        <a:pt x="253" y="129"/>
                      </a:lnTo>
                      <a:lnTo>
                        <a:pt x="253" y="123"/>
                      </a:lnTo>
                      <a:lnTo>
                        <a:pt x="253" y="116"/>
                      </a:lnTo>
                      <a:lnTo>
                        <a:pt x="251" y="108"/>
                      </a:lnTo>
                      <a:lnTo>
                        <a:pt x="249" y="102"/>
                      </a:lnTo>
                      <a:lnTo>
                        <a:pt x="249" y="95"/>
                      </a:lnTo>
                      <a:lnTo>
                        <a:pt x="247" y="87"/>
                      </a:lnTo>
                      <a:lnTo>
                        <a:pt x="245" y="79"/>
                      </a:lnTo>
                      <a:lnTo>
                        <a:pt x="243" y="72"/>
                      </a:lnTo>
                      <a:lnTo>
                        <a:pt x="241" y="64"/>
                      </a:lnTo>
                      <a:lnTo>
                        <a:pt x="239" y="57"/>
                      </a:lnTo>
                      <a:lnTo>
                        <a:pt x="237" y="49"/>
                      </a:lnTo>
                      <a:lnTo>
                        <a:pt x="236" y="41"/>
                      </a:lnTo>
                      <a:lnTo>
                        <a:pt x="234" y="34"/>
                      </a:lnTo>
                      <a:lnTo>
                        <a:pt x="232" y="26"/>
                      </a:lnTo>
                      <a:lnTo>
                        <a:pt x="228" y="19"/>
                      </a:lnTo>
                      <a:lnTo>
                        <a:pt x="224" y="13"/>
                      </a:lnTo>
                      <a:lnTo>
                        <a:pt x="222" y="5"/>
                      </a:lnTo>
                      <a:lnTo>
                        <a:pt x="218" y="0"/>
                      </a:lnTo>
                      <a:lnTo>
                        <a:pt x="194" y="13"/>
                      </a:lnTo>
                      <a:lnTo>
                        <a:pt x="194" y="13"/>
                      </a:lnTo>
                      <a:lnTo>
                        <a:pt x="194" y="17"/>
                      </a:lnTo>
                      <a:lnTo>
                        <a:pt x="198" y="21"/>
                      </a:lnTo>
                      <a:lnTo>
                        <a:pt x="199" y="28"/>
                      </a:lnTo>
                      <a:lnTo>
                        <a:pt x="201" y="32"/>
                      </a:lnTo>
                      <a:lnTo>
                        <a:pt x="203" y="36"/>
                      </a:lnTo>
                      <a:lnTo>
                        <a:pt x="205" y="40"/>
                      </a:lnTo>
                      <a:lnTo>
                        <a:pt x="207" y="45"/>
                      </a:lnTo>
                      <a:lnTo>
                        <a:pt x="211" y="49"/>
                      </a:lnTo>
                      <a:lnTo>
                        <a:pt x="213" y="57"/>
                      </a:lnTo>
                      <a:lnTo>
                        <a:pt x="215" y="60"/>
                      </a:lnTo>
                      <a:lnTo>
                        <a:pt x="217" y="68"/>
                      </a:lnTo>
                      <a:lnTo>
                        <a:pt x="218" y="72"/>
                      </a:lnTo>
                      <a:lnTo>
                        <a:pt x="220" y="78"/>
                      </a:lnTo>
                      <a:lnTo>
                        <a:pt x="222" y="83"/>
                      </a:lnTo>
                      <a:lnTo>
                        <a:pt x="226" y="91"/>
                      </a:lnTo>
                      <a:lnTo>
                        <a:pt x="226" y="97"/>
                      </a:lnTo>
                      <a:lnTo>
                        <a:pt x="228" y="102"/>
                      </a:lnTo>
                      <a:lnTo>
                        <a:pt x="230" y="108"/>
                      </a:lnTo>
                      <a:lnTo>
                        <a:pt x="232" y="116"/>
                      </a:lnTo>
                      <a:lnTo>
                        <a:pt x="234" y="119"/>
                      </a:lnTo>
                      <a:lnTo>
                        <a:pt x="234" y="125"/>
                      </a:lnTo>
                      <a:lnTo>
                        <a:pt x="236" y="131"/>
                      </a:lnTo>
                      <a:lnTo>
                        <a:pt x="236" y="136"/>
                      </a:lnTo>
                      <a:lnTo>
                        <a:pt x="236" y="142"/>
                      </a:lnTo>
                      <a:lnTo>
                        <a:pt x="237" y="148"/>
                      </a:lnTo>
                      <a:lnTo>
                        <a:pt x="237" y="152"/>
                      </a:lnTo>
                      <a:lnTo>
                        <a:pt x="237" y="157"/>
                      </a:lnTo>
                      <a:lnTo>
                        <a:pt x="97" y="195"/>
                      </a:lnTo>
                      <a:lnTo>
                        <a:pt x="97" y="193"/>
                      </a:lnTo>
                      <a:lnTo>
                        <a:pt x="97" y="190"/>
                      </a:lnTo>
                      <a:lnTo>
                        <a:pt x="95" y="186"/>
                      </a:lnTo>
                      <a:lnTo>
                        <a:pt x="95" y="178"/>
                      </a:lnTo>
                      <a:lnTo>
                        <a:pt x="95" y="174"/>
                      </a:lnTo>
                      <a:lnTo>
                        <a:pt x="93" y="171"/>
                      </a:lnTo>
                      <a:lnTo>
                        <a:pt x="93" y="165"/>
                      </a:lnTo>
                      <a:lnTo>
                        <a:pt x="93" y="161"/>
                      </a:lnTo>
                      <a:lnTo>
                        <a:pt x="91" y="157"/>
                      </a:lnTo>
                      <a:lnTo>
                        <a:pt x="91" y="152"/>
                      </a:lnTo>
                      <a:lnTo>
                        <a:pt x="89" y="146"/>
                      </a:lnTo>
                      <a:lnTo>
                        <a:pt x="89" y="140"/>
                      </a:lnTo>
                      <a:lnTo>
                        <a:pt x="85" y="135"/>
                      </a:lnTo>
                      <a:lnTo>
                        <a:pt x="85" y="129"/>
                      </a:lnTo>
                      <a:lnTo>
                        <a:pt x="83" y="123"/>
                      </a:lnTo>
                      <a:lnTo>
                        <a:pt x="82" y="116"/>
                      </a:lnTo>
                      <a:lnTo>
                        <a:pt x="80" y="110"/>
                      </a:lnTo>
                      <a:lnTo>
                        <a:pt x="78" y="104"/>
                      </a:lnTo>
                      <a:lnTo>
                        <a:pt x="74" y="98"/>
                      </a:lnTo>
                      <a:lnTo>
                        <a:pt x="72" y="91"/>
                      </a:lnTo>
                      <a:lnTo>
                        <a:pt x="68" y="85"/>
                      </a:lnTo>
                      <a:lnTo>
                        <a:pt x="66" y="79"/>
                      </a:lnTo>
                      <a:lnTo>
                        <a:pt x="63" y="72"/>
                      </a:lnTo>
                      <a:lnTo>
                        <a:pt x="59" y="66"/>
                      </a:lnTo>
                      <a:lnTo>
                        <a:pt x="55" y="60"/>
                      </a:lnTo>
                      <a:lnTo>
                        <a:pt x="51" y="55"/>
                      </a:lnTo>
                      <a:lnTo>
                        <a:pt x="47" y="49"/>
                      </a:lnTo>
                      <a:lnTo>
                        <a:pt x="44" y="45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182680" y="5602320"/>
                  <a:ext cx="642960" cy="738000"/>
                </a:xfrm>
                <a:custGeom>
                  <a:avLst/>
                  <a:gdLst/>
                  <a:ahLst/>
                  <a:rect l="l" t="t" r="r" b="b"/>
                  <a:pathLst>
                    <a:path w="616" h="806">
                      <a:moveTo>
                        <a:pt x="420" y="14"/>
                      </a:moveTo>
                      <a:lnTo>
                        <a:pt x="418" y="14"/>
                      </a:lnTo>
                      <a:lnTo>
                        <a:pt x="417" y="19"/>
                      </a:lnTo>
                      <a:lnTo>
                        <a:pt x="415" y="21"/>
                      </a:lnTo>
                      <a:lnTo>
                        <a:pt x="411" y="25"/>
                      </a:lnTo>
                      <a:lnTo>
                        <a:pt x="409" y="29"/>
                      </a:lnTo>
                      <a:lnTo>
                        <a:pt x="405" y="33"/>
                      </a:lnTo>
                      <a:lnTo>
                        <a:pt x="401" y="36"/>
                      </a:lnTo>
                      <a:lnTo>
                        <a:pt x="398" y="42"/>
                      </a:lnTo>
                      <a:lnTo>
                        <a:pt x="392" y="48"/>
                      </a:lnTo>
                      <a:lnTo>
                        <a:pt x="388" y="53"/>
                      </a:lnTo>
                      <a:lnTo>
                        <a:pt x="384" y="59"/>
                      </a:lnTo>
                      <a:lnTo>
                        <a:pt x="380" y="67"/>
                      </a:lnTo>
                      <a:lnTo>
                        <a:pt x="375" y="72"/>
                      </a:lnTo>
                      <a:lnTo>
                        <a:pt x="371" y="78"/>
                      </a:lnTo>
                      <a:lnTo>
                        <a:pt x="365" y="86"/>
                      </a:lnTo>
                      <a:lnTo>
                        <a:pt x="360" y="91"/>
                      </a:lnTo>
                      <a:lnTo>
                        <a:pt x="356" y="97"/>
                      </a:lnTo>
                      <a:lnTo>
                        <a:pt x="352" y="105"/>
                      </a:lnTo>
                      <a:lnTo>
                        <a:pt x="346" y="110"/>
                      </a:lnTo>
                      <a:lnTo>
                        <a:pt x="341" y="116"/>
                      </a:lnTo>
                      <a:lnTo>
                        <a:pt x="337" y="124"/>
                      </a:lnTo>
                      <a:lnTo>
                        <a:pt x="333" y="129"/>
                      </a:lnTo>
                      <a:lnTo>
                        <a:pt x="327" y="133"/>
                      </a:lnTo>
                      <a:lnTo>
                        <a:pt x="323" y="139"/>
                      </a:lnTo>
                      <a:lnTo>
                        <a:pt x="320" y="145"/>
                      </a:lnTo>
                      <a:lnTo>
                        <a:pt x="318" y="148"/>
                      </a:lnTo>
                      <a:lnTo>
                        <a:pt x="314" y="152"/>
                      </a:lnTo>
                      <a:lnTo>
                        <a:pt x="312" y="156"/>
                      </a:lnTo>
                      <a:lnTo>
                        <a:pt x="310" y="160"/>
                      </a:lnTo>
                      <a:lnTo>
                        <a:pt x="308" y="162"/>
                      </a:lnTo>
                      <a:lnTo>
                        <a:pt x="306" y="166"/>
                      </a:lnTo>
                      <a:lnTo>
                        <a:pt x="308" y="173"/>
                      </a:lnTo>
                      <a:lnTo>
                        <a:pt x="310" y="175"/>
                      </a:lnTo>
                      <a:lnTo>
                        <a:pt x="314" y="179"/>
                      </a:lnTo>
                      <a:lnTo>
                        <a:pt x="318" y="183"/>
                      </a:lnTo>
                      <a:lnTo>
                        <a:pt x="323" y="188"/>
                      </a:lnTo>
                      <a:lnTo>
                        <a:pt x="327" y="192"/>
                      </a:lnTo>
                      <a:lnTo>
                        <a:pt x="333" y="196"/>
                      </a:lnTo>
                      <a:lnTo>
                        <a:pt x="339" y="202"/>
                      </a:lnTo>
                      <a:lnTo>
                        <a:pt x="346" y="207"/>
                      </a:lnTo>
                      <a:lnTo>
                        <a:pt x="354" y="211"/>
                      </a:lnTo>
                      <a:lnTo>
                        <a:pt x="360" y="217"/>
                      </a:lnTo>
                      <a:lnTo>
                        <a:pt x="369" y="223"/>
                      </a:lnTo>
                      <a:lnTo>
                        <a:pt x="377" y="228"/>
                      </a:lnTo>
                      <a:lnTo>
                        <a:pt x="384" y="234"/>
                      </a:lnTo>
                      <a:lnTo>
                        <a:pt x="392" y="242"/>
                      </a:lnTo>
                      <a:lnTo>
                        <a:pt x="399" y="245"/>
                      </a:lnTo>
                      <a:lnTo>
                        <a:pt x="409" y="253"/>
                      </a:lnTo>
                      <a:lnTo>
                        <a:pt x="417" y="259"/>
                      </a:lnTo>
                      <a:lnTo>
                        <a:pt x="424" y="264"/>
                      </a:lnTo>
                      <a:lnTo>
                        <a:pt x="432" y="270"/>
                      </a:lnTo>
                      <a:lnTo>
                        <a:pt x="439" y="278"/>
                      </a:lnTo>
                      <a:lnTo>
                        <a:pt x="447" y="283"/>
                      </a:lnTo>
                      <a:lnTo>
                        <a:pt x="453" y="289"/>
                      </a:lnTo>
                      <a:lnTo>
                        <a:pt x="458" y="297"/>
                      </a:lnTo>
                      <a:lnTo>
                        <a:pt x="466" y="302"/>
                      </a:lnTo>
                      <a:lnTo>
                        <a:pt x="472" y="308"/>
                      </a:lnTo>
                      <a:lnTo>
                        <a:pt x="476" y="314"/>
                      </a:lnTo>
                      <a:lnTo>
                        <a:pt x="479" y="321"/>
                      </a:lnTo>
                      <a:lnTo>
                        <a:pt x="485" y="327"/>
                      </a:lnTo>
                      <a:lnTo>
                        <a:pt x="487" y="325"/>
                      </a:lnTo>
                      <a:lnTo>
                        <a:pt x="493" y="321"/>
                      </a:lnTo>
                      <a:lnTo>
                        <a:pt x="496" y="319"/>
                      </a:lnTo>
                      <a:lnTo>
                        <a:pt x="502" y="316"/>
                      </a:lnTo>
                      <a:lnTo>
                        <a:pt x="508" y="310"/>
                      </a:lnTo>
                      <a:lnTo>
                        <a:pt x="515" y="306"/>
                      </a:lnTo>
                      <a:lnTo>
                        <a:pt x="521" y="299"/>
                      </a:lnTo>
                      <a:lnTo>
                        <a:pt x="529" y="291"/>
                      </a:lnTo>
                      <a:lnTo>
                        <a:pt x="531" y="287"/>
                      </a:lnTo>
                      <a:lnTo>
                        <a:pt x="534" y="283"/>
                      </a:lnTo>
                      <a:lnTo>
                        <a:pt x="538" y="278"/>
                      </a:lnTo>
                      <a:lnTo>
                        <a:pt x="542" y="274"/>
                      </a:lnTo>
                      <a:lnTo>
                        <a:pt x="546" y="268"/>
                      </a:lnTo>
                      <a:lnTo>
                        <a:pt x="548" y="262"/>
                      </a:lnTo>
                      <a:lnTo>
                        <a:pt x="552" y="257"/>
                      </a:lnTo>
                      <a:lnTo>
                        <a:pt x="555" y="251"/>
                      </a:lnTo>
                      <a:lnTo>
                        <a:pt x="557" y="245"/>
                      </a:lnTo>
                      <a:lnTo>
                        <a:pt x="561" y="238"/>
                      </a:lnTo>
                      <a:lnTo>
                        <a:pt x="563" y="232"/>
                      </a:lnTo>
                      <a:lnTo>
                        <a:pt x="567" y="224"/>
                      </a:lnTo>
                      <a:lnTo>
                        <a:pt x="571" y="217"/>
                      </a:lnTo>
                      <a:lnTo>
                        <a:pt x="572" y="209"/>
                      </a:lnTo>
                      <a:lnTo>
                        <a:pt x="574" y="204"/>
                      </a:lnTo>
                      <a:lnTo>
                        <a:pt x="576" y="196"/>
                      </a:lnTo>
                      <a:lnTo>
                        <a:pt x="578" y="190"/>
                      </a:lnTo>
                      <a:lnTo>
                        <a:pt x="580" y="185"/>
                      </a:lnTo>
                      <a:lnTo>
                        <a:pt x="582" y="181"/>
                      </a:lnTo>
                      <a:lnTo>
                        <a:pt x="584" y="175"/>
                      </a:lnTo>
                      <a:lnTo>
                        <a:pt x="584" y="171"/>
                      </a:lnTo>
                      <a:lnTo>
                        <a:pt x="586" y="166"/>
                      </a:lnTo>
                      <a:lnTo>
                        <a:pt x="588" y="162"/>
                      </a:lnTo>
                      <a:lnTo>
                        <a:pt x="588" y="158"/>
                      </a:lnTo>
                      <a:lnTo>
                        <a:pt x="590" y="150"/>
                      </a:lnTo>
                      <a:lnTo>
                        <a:pt x="591" y="147"/>
                      </a:lnTo>
                      <a:lnTo>
                        <a:pt x="591" y="139"/>
                      </a:lnTo>
                      <a:lnTo>
                        <a:pt x="591" y="133"/>
                      </a:lnTo>
                      <a:lnTo>
                        <a:pt x="591" y="128"/>
                      </a:lnTo>
                      <a:lnTo>
                        <a:pt x="590" y="122"/>
                      </a:lnTo>
                      <a:lnTo>
                        <a:pt x="588" y="116"/>
                      </a:lnTo>
                      <a:lnTo>
                        <a:pt x="586" y="112"/>
                      </a:lnTo>
                      <a:lnTo>
                        <a:pt x="584" y="105"/>
                      </a:lnTo>
                      <a:lnTo>
                        <a:pt x="582" y="99"/>
                      </a:lnTo>
                      <a:lnTo>
                        <a:pt x="576" y="91"/>
                      </a:lnTo>
                      <a:lnTo>
                        <a:pt x="572" y="86"/>
                      </a:lnTo>
                      <a:lnTo>
                        <a:pt x="567" y="78"/>
                      </a:lnTo>
                      <a:lnTo>
                        <a:pt x="563" y="74"/>
                      </a:lnTo>
                      <a:lnTo>
                        <a:pt x="557" y="69"/>
                      </a:lnTo>
                      <a:lnTo>
                        <a:pt x="552" y="63"/>
                      </a:lnTo>
                      <a:lnTo>
                        <a:pt x="546" y="59"/>
                      </a:lnTo>
                      <a:lnTo>
                        <a:pt x="540" y="55"/>
                      </a:lnTo>
                      <a:lnTo>
                        <a:pt x="533" y="50"/>
                      </a:lnTo>
                      <a:lnTo>
                        <a:pt x="529" y="48"/>
                      </a:lnTo>
                      <a:lnTo>
                        <a:pt x="523" y="46"/>
                      </a:lnTo>
                      <a:lnTo>
                        <a:pt x="519" y="44"/>
                      </a:lnTo>
                      <a:lnTo>
                        <a:pt x="514" y="40"/>
                      </a:lnTo>
                      <a:lnTo>
                        <a:pt x="512" y="40"/>
                      </a:lnTo>
                      <a:lnTo>
                        <a:pt x="500" y="14"/>
                      </a:lnTo>
                      <a:lnTo>
                        <a:pt x="504" y="14"/>
                      </a:lnTo>
                      <a:lnTo>
                        <a:pt x="508" y="14"/>
                      </a:lnTo>
                      <a:lnTo>
                        <a:pt x="514" y="15"/>
                      </a:lnTo>
                      <a:lnTo>
                        <a:pt x="519" y="17"/>
                      </a:lnTo>
                      <a:lnTo>
                        <a:pt x="527" y="21"/>
                      </a:lnTo>
                      <a:lnTo>
                        <a:pt x="531" y="23"/>
                      </a:lnTo>
                      <a:lnTo>
                        <a:pt x="534" y="25"/>
                      </a:lnTo>
                      <a:lnTo>
                        <a:pt x="540" y="27"/>
                      </a:lnTo>
                      <a:lnTo>
                        <a:pt x="544" y="29"/>
                      </a:lnTo>
                      <a:lnTo>
                        <a:pt x="548" y="33"/>
                      </a:lnTo>
                      <a:lnTo>
                        <a:pt x="553" y="34"/>
                      </a:lnTo>
                      <a:lnTo>
                        <a:pt x="557" y="36"/>
                      </a:lnTo>
                      <a:lnTo>
                        <a:pt x="563" y="42"/>
                      </a:lnTo>
                      <a:lnTo>
                        <a:pt x="567" y="44"/>
                      </a:lnTo>
                      <a:lnTo>
                        <a:pt x="571" y="48"/>
                      </a:lnTo>
                      <a:lnTo>
                        <a:pt x="574" y="53"/>
                      </a:lnTo>
                      <a:lnTo>
                        <a:pt x="580" y="57"/>
                      </a:lnTo>
                      <a:lnTo>
                        <a:pt x="584" y="63"/>
                      </a:lnTo>
                      <a:lnTo>
                        <a:pt x="588" y="67"/>
                      </a:lnTo>
                      <a:lnTo>
                        <a:pt x="591" y="72"/>
                      </a:lnTo>
                      <a:lnTo>
                        <a:pt x="595" y="78"/>
                      </a:lnTo>
                      <a:lnTo>
                        <a:pt x="599" y="84"/>
                      </a:lnTo>
                      <a:lnTo>
                        <a:pt x="603" y="91"/>
                      </a:lnTo>
                      <a:lnTo>
                        <a:pt x="605" y="99"/>
                      </a:lnTo>
                      <a:lnTo>
                        <a:pt x="609" y="107"/>
                      </a:lnTo>
                      <a:lnTo>
                        <a:pt x="610" y="112"/>
                      </a:lnTo>
                      <a:lnTo>
                        <a:pt x="612" y="120"/>
                      </a:lnTo>
                      <a:lnTo>
                        <a:pt x="614" y="129"/>
                      </a:lnTo>
                      <a:lnTo>
                        <a:pt x="616" y="137"/>
                      </a:lnTo>
                      <a:lnTo>
                        <a:pt x="616" y="145"/>
                      </a:lnTo>
                      <a:lnTo>
                        <a:pt x="616" y="154"/>
                      </a:lnTo>
                      <a:lnTo>
                        <a:pt x="616" y="158"/>
                      </a:lnTo>
                      <a:lnTo>
                        <a:pt x="616" y="162"/>
                      </a:lnTo>
                      <a:lnTo>
                        <a:pt x="616" y="166"/>
                      </a:lnTo>
                      <a:lnTo>
                        <a:pt x="616" y="171"/>
                      </a:lnTo>
                      <a:lnTo>
                        <a:pt x="614" y="175"/>
                      </a:lnTo>
                      <a:lnTo>
                        <a:pt x="614" y="179"/>
                      </a:lnTo>
                      <a:lnTo>
                        <a:pt x="612" y="183"/>
                      </a:lnTo>
                      <a:lnTo>
                        <a:pt x="612" y="188"/>
                      </a:lnTo>
                      <a:lnTo>
                        <a:pt x="612" y="192"/>
                      </a:lnTo>
                      <a:lnTo>
                        <a:pt x="610" y="196"/>
                      </a:lnTo>
                      <a:lnTo>
                        <a:pt x="610" y="202"/>
                      </a:lnTo>
                      <a:lnTo>
                        <a:pt x="609" y="205"/>
                      </a:lnTo>
                      <a:lnTo>
                        <a:pt x="609" y="209"/>
                      </a:lnTo>
                      <a:lnTo>
                        <a:pt x="607" y="215"/>
                      </a:lnTo>
                      <a:lnTo>
                        <a:pt x="605" y="219"/>
                      </a:lnTo>
                      <a:lnTo>
                        <a:pt x="605" y="224"/>
                      </a:lnTo>
                      <a:lnTo>
                        <a:pt x="603" y="228"/>
                      </a:lnTo>
                      <a:lnTo>
                        <a:pt x="601" y="232"/>
                      </a:lnTo>
                      <a:lnTo>
                        <a:pt x="599" y="238"/>
                      </a:lnTo>
                      <a:lnTo>
                        <a:pt x="599" y="242"/>
                      </a:lnTo>
                      <a:lnTo>
                        <a:pt x="595" y="249"/>
                      </a:lnTo>
                      <a:lnTo>
                        <a:pt x="591" y="257"/>
                      </a:lnTo>
                      <a:lnTo>
                        <a:pt x="588" y="262"/>
                      </a:lnTo>
                      <a:lnTo>
                        <a:pt x="586" y="266"/>
                      </a:lnTo>
                      <a:lnTo>
                        <a:pt x="584" y="270"/>
                      </a:lnTo>
                      <a:lnTo>
                        <a:pt x="582" y="274"/>
                      </a:lnTo>
                      <a:lnTo>
                        <a:pt x="576" y="283"/>
                      </a:lnTo>
                      <a:lnTo>
                        <a:pt x="572" y="291"/>
                      </a:lnTo>
                      <a:lnTo>
                        <a:pt x="567" y="299"/>
                      </a:lnTo>
                      <a:lnTo>
                        <a:pt x="561" y="306"/>
                      </a:lnTo>
                      <a:lnTo>
                        <a:pt x="555" y="312"/>
                      </a:lnTo>
                      <a:lnTo>
                        <a:pt x="550" y="319"/>
                      </a:lnTo>
                      <a:lnTo>
                        <a:pt x="542" y="325"/>
                      </a:lnTo>
                      <a:lnTo>
                        <a:pt x="536" y="331"/>
                      </a:lnTo>
                      <a:lnTo>
                        <a:pt x="529" y="337"/>
                      </a:lnTo>
                      <a:lnTo>
                        <a:pt x="523" y="342"/>
                      </a:lnTo>
                      <a:lnTo>
                        <a:pt x="515" y="346"/>
                      </a:lnTo>
                      <a:lnTo>
                        <a:pt x="510" y="352"/>
                      </a:lnTo>
                      <a:lnTo>
                        <a:pt x="449" y="392"/>
                      </a:lnTo>
                      <a:lnTo>
                        <a:pt x="447" y="394"/>
                      </a:lnTo>
                      <a:lnTo>
                        <a:pt x="447" y="399"/>
                      </a:lnTo>
                      <a:lnTo>
                        <a:pt x="445" y="403"/>
                      </a:lnTo>
                      <a:lnTo>
                        <a:pt x="443" y="409"/>
                      </a:lnTo>
                      <a:lnTo>
                        <a:pt x="443" y="413"/>
                      </a:lnTo>
                      <a:lnTo>
                        <a:pt x="441" y="420"/>
                      </a:lnTo>
                      <a:lnTo>
                        <a:pt x="439" y="426"/>
                      </a:lnTo>
                      <a:lnTo>
                        <a:pt x="437" y="434"/>
                      </a:lnTo>
                      <a:lnTo>
                        <a:pt x="436" y="437"/>
                      </a:lnTo>
                      <a:lnTo>
                        <a:pt x="436" y="441"/>
                      </a:lnTo>
                      <a:lnTo>
                        <a:pt x="434" y="447"/>
                      </a:lnTo>
                      <a:lnTo>
                        <a:pt x="434" y="451"/>
                      </a:lnTo>
                      <a:lnTo>
                        <a:pt x="434" y="454"/>
                      </a:lnTo>
                      <a:lnTo>
                        <a:pt x="432" y="460"/>
                      </a:lnTo>
                      <a:lnTo>
                        <a:pt x="430" y="464"/>
                      </a:lnTo>
                      <a:lnTo>
                        <a:pt x="430" y="470"/>
                      </a:lnTo>
                      <a:lnTo>
                        <a:pt x="428" y="473"/>
                      </a:lnTo>
                      <a:lnTo>
                        <a:pt x="428" y="479"/>
                      </a:lnTo>
                      <a:lnTo>
                        <a:pt x="426" y="483"/>
                      </a:lnTo>
                      <a:lnTo>
                        <a:pt x="426" y="489"/>
                      </a:lnTo>
                      <a:lnTo>
                        <a:pt x="422" y="494"/>
                      </a:lnTo>
                      <a:lnTo>
                        <a:pt x="422" y="498"/>
                      </a:lnTo>
                      <a:lnTo>
                        <a:pt x="420" y="504"/>
                      </a:lnTo>
                      <a:lnTo>
                        <a:pt x="418" y="510"/>
                      </a:lnTo>
                      <a:lnTo>
                        <a:pt x="417" y="513"/>
                      </a:lnTo>
                      <a:lnTo>
                        <a:pt x="415" y="519"/>
                      </a:lnTo>
                      <a:lnTo>
                        <a:pt x="415" y="525"/>
                      </a:lnTo>
                      <a:lnTo>
                        <a:pt x="413" y="530"/>
                      </a:lnTo>
                      <a:lnTo>
                        <a:pt x="411" y="534"/>
                      </a:lnTo>
                      <a:lnTo>
                        <a:pt x="409" y="540"/>
                      </a:lnTo>
                      <a:lnTo>
                        <a:pt x="407" y="546"/>
                      </a:lnTo>
                      <a:lnTo>
                        <a:pt x="405" y="551"/>
                      </a:lnTo>
                      <a:lnTo>
                        <a:pt x="403" y="555"/>
                      </a:lnTo>
                      <a:lnTo>
                        <a:pt x="403" y="561"/>
                      </a:lnTo>
                      <a:lnTo>
                        <a:pt x="401" y="567"/>
                      </a:lnTo>
                      <a:lnTo>
                        <a:pt x="399" y="572"/>
                      </a:lnTo>
                      <a:lnTo>
                        <a:pt x="398" y="576"/>
                      </a:lnTo>
                      <a:lnTo>
                        <a:pt x="396" y="582"/>
                      </a:lnTo>
                      <a:lnTo>
                        <a:pt x="394" y="587"/>
                      </a:lnTo>
                      <a:lnTo>
                        <a:pt x="392" y="591"/>
                      </a:lnTo>
                      <a:lnTo>
                        <a:pt x="390" y="597"/>
                      </a:lnTo>
                      <a:lnTo>
                        <a:pt x="388" y="601"/>
                      </a:lnTo>
                      <a:lnTo>
                        <a:pt x="386" y="606"/>
                      </a:lnTo>
                      <a:lnTo>
                        <a:pt x="384" y="612"/>
                      </a:lnTo>
                      <a:lnTo>
                        <a:pt x="382" y="616"/>
                      </a:lnTo>
                      <a:lnTo>
                        <a:pt x="380" y="620"/>
                      </a:lnTo>
                      <a:lnTo>
                        <a:pt x="379" y="624"/>
                      </a:lnTo>
                      <a:lnTo>
                        <a:pt x="377" y="629"/>
                      </a:lnTo>
                      <a:lnTo>
                        <a:pt x="373" y="637"/>
                      </a:lnTo>
                      <a:lnTo>
                        <a:pt x="371" y="644"/>
                      </a:lnTo>
                      <a:lnTo>
                        <a:pt x="365" y="652"/>
                      </a:lnTo>
                      <a:lnTo>
                        <a:pt x="361" y="658"/>
                      </a:lnTo>
                      <a:lnTo>
                        <a:pt x="358" y="665"/>
                      </a:lnTo>
                      <a:lnTo>
                        <a:pt x="354" y="673"/>
                      </a:lnTo>
                      <a:lnTo>
                        <a:pt x="350" y="679"/>
                      </a:lnTo>
                      <a:lnTo>
                        <a:pt x="346" y="686"/>
                      </a:lnTo>
                      <a:lnTo>
                        <a:pt x="342" y="692"/>
                      </a:lnTo>
                      <a:lnTo>
                        <a:pt x="339" y="700"/>
                      </a:lnTo>
                      <a:lnTo>
                        <a:pt x="333" y="703"/>
                      </a:lnTo>
                      <a:lnTo>
                        <a:pt x="329" y="711"/>
                      </a:lnTo>
                      <a:lnTo>
                        <a:pt x="325" y="717"/>
                      </a:lnTo>
                      <a:lnTo>
                        <a:pt x="322" y="722"/>
                      </a:lnTo>
                      <a:lnTo>
                        <a:pt x="316" y="728"/>
                      </a:lnTo>
                      <a:lnTo>
                        <a:pt x="312" y="734"/>
                      </a:lnTo>
                      <a:lnTo>
                        <a:pt x="308" y="739"/>
                      </a:lnTo>
                      <a:lnTo>
                        <a:pt x="304" y="745"/>
                      </a:lnTo>
                      <a:lnTo>
                        <a:pt x="299" y="749"/>
                      </a:lnTo>
                      <a:lnTo>
                        <a:pt x="295" y="755"/>
                      </a:lnTo>
                      <a:lnTo>
                        <a:pt x="289" y="758"/>
                      </a:lnTo>
                      <a:lnTo>
                        <a:pt x="285" y="762"/>
                      </a:lnTo>
                      <a:lnTo>
                        <a:pt x="282" y="766"/>
                      </a:lnTo>
                      <a:lnTo>
                        <a:pt x="278" y="770"/>
                      </a:lnTo>
                      <a:lnTo>
                        <a:pt x="272" y="774"/>
                      </a:lnTo>
                      <a:lnTo>
                        <a:pt x="268" y="779"/>
                      </a:lnTo>
                      <a:lnTo>
                        <a:pt x="264" y="781"/>
                      </a:lnTo>
                      <a:lnTo>
                        <a:pt x="259" y="785"/>
                      </a:lnTo>
                      <a:lnTo>
                        <a:pt x="255" y="787"/>
                      </a:lnTo>
                      <a:lnTo>
                        <a:pt x="249" y="791"/>
                      </a:lnTo>
                      <a:lnTo>
                        <a:pt x="245" y="793"/>
                      </a:lnTo>
                      <a:lnTo>
                        <a:pt x="240" y="795"/>
                      </a:lnTo>
                      <a:lnTo>
                        <a:pt x="236" y="796"/>
                      </a:lnTo>
                      <a:lnTo>
                        <a:pt x="232" y="800"/>
                      </a:lnTo>
                      <a:lnTo>
                        <a:pt x="226" y="800"/>
                      </a:lnTo>
                      <a:lnTo>
                        <a:pt x="223" y="800"/>
                      </a:lnTo>
                      <a:lnTo>
                        <a:pt x="217" y="802"/>
                      </a:lnTo>
                      <a:lnTo>
                        <a:pt x="211" y="804"/>
                      </a:lnTo>
                      <a:lnTo>
                        <a:pt x="206" y="804"/>
                      </a:lnTo>
                      <a:lnTo>
                        <a:pt x="202" y="804"/>
                      </a:lnTo>
                      <a:lnTo>
                        <a:pt x="198" y="804"/>
                      </a:lnTo>
                      <a:lnTo>
                        <a:pt x="192" y="806"/>
                      </a:lnTo>
                      <a:lnTo>
                        <a:pt x="188" y="806"/>
                      </a:lnTo>
                      <a:lnTo>
                        <a:pt x="183" y="806"/>
                      </a:lnTo>
                      <a:lnTo>
                        <a:pt x="179" y="806"/>
                      </a:lnTo>
                      <a:lnTo>
                        <a:pt x="173" y="806"/>
                      </a:lnTo>
                      <a:lnTo>
                        <a:pt x="169" y="806"/>
                      </a:lnTo>
                      <a:lnTo>
                        <a:pt x="166" y="806"/>
                      </a:lnTo>
                      <a:lnTo>
                        <a:pt x="162" y="806"/>
                      </a:lnTo>
                      <a:lnTo>
                        <a:pt x="156" y="806"/>
                      </a:lnTo>
                      <a:lnTo>
                        <a:pt x="152" y="804"/>
                      </a:lnTo>
                      <a:lnTo>
                        <a:pt x="149" y="804"/>
                      </a:lnTo>
                      <a:lnTo>
                        <a:pt x="145" y="802"/>
                      </a:lnTo>
                      <a:lnTo>
                        <a:pt x="141" y="802"/>
                      </a:lnTo>
                      <a:lnTo>
                        <a:pt x="133" y="800"/>
                      </a:lnTo>
                      <a:lnTo>
                        <a:pt x="126" y="800"/>
                      </a:lnTo>
                      <a:lnTo>
                        <a:pt x="120" y="796"/>
                      </a:lnTo>
                      <a:lnTo>
                        <a:pt x="114" y="796"/>
                      </a:lnTo>
                      <a:lnTo>
                        <a:pt x="109" y="793"/>
                      </a:lnTo>
                      <a:lnTo>
                        <a:pt x="105" y="791"/>
                      </a:lnTo>
                      <a:lnTo>
                        <a:pt x="99" y="789"/>
                      </a:lnTo>
                      <a:lnTo>
                        <a:pt x="95" y="787"/>
                      </a:lnTo>
                      <a:lnTo>
                        <a:pt x="90" y="783"/>
                      </a:lnTo>
                      <a:lnTo>
                        <a:pt x="82" y="781"/>
                      </a:lnTo>
                      <a:lnTo>
                        <a:pt x="76" y="779"/>
                      </a:lnTo>
                      <a:lnTo>
                        <a:pt x="69" y="776"/>
                      </a:lnTo>
                      <a:lnTo>
                        <a:pt x="61" y="774"/>
                      </a:lnTo>
                      <a:lnTo>
                        <a:pt x="53" y="772"/>
                      </a:lnTo>
                      <a:lnTo>
                        <a:pt x="46" y="768"/>
                      </a:lnTo>
                      <a:lnTo>
                        <a:pt x="40" y="766"/>
                      </a:lnTo>
                      <a:lnTo>
                        <a:pt x="33" y="762"/>
                      </a:lnTo>
                      <a:lnTo>
                        <a:pt x="27" y="760"/>
                      </a:lnTo>
                      <a:lnTo>
                        <a:pt x="19" y="757"/>
                      </a:lnTo>
                      <a:lnTo>
                        <a:pt x="15" y="755"/>
                      </a:lnTo>
                      <a:lnTo>
                        <a:pt x="10" y="751"/>
                      </a:lnTo>
                      <a:lnTo>
                        <a:pt x="8" y="747"/>
                      </a:lnTo>
                      <a:lnTo>
                        <a:pt x="4" y="743"/>
                      </a:lnTo>
                      <a:lnTo>
                        <a:pt x="2" y="739"/>
                      </a:lnTo>
                      <a:lnTo>
                        <a:pt x="0" y="734"/>
                      </a:lnTo>
                      <a:lnTo>
                        <a:pt x="0" y="730"/>
                      </a:lnTo>
                      <a:lnTo>
                        <a:pt x="0" y="722"/>
                      </a:lnTo>
                      <a:lnTo>
                        <a:pt x="4" y="715"/>
                      </a:lnTo>
                      <a:lnTo>
                        <a:pt x="6" y="705"/>
                      </a:lnTo>
                      <a:lnTo>
                        <a:pt x="12" y="700"/>
                      </a:lnTo>
                      <a:lnTo>
                        <a:pt x="17" y="694"/>
                      </a:lnTo>
                      <a:lnTo>
                        <a:pt x="25" y="692"/>
                      </a:lnTo>
                      <a:lnTo>
                        <a:pt x="69" y="692"/>
                      </a:lnTo>
                      <a:lnTo>
                        <a:pt x="69" y="692"/>
                      </a:lnTo>
                      <a:lnTo>
                        <a:pt x="69" y="696"/>
                      </a:lnTo>
                      <a:lnTo>
                        <a:pt x="65" y="700"/>
                      </a:lnTo>
                      <a:lnTo>
                        <a:pt x="61" y="703"/>
                      </a:lnTo>
                      <a:lnTo>
                        <a:pt x="55" y="703"/>
                      </a:lnTo>
                      <a:lnTo>
                        <a:pt x="50" y="703"/>
                      </a:lnTo>
                      <a:lnTo>
                        <a:pt x="42" y="703"/>
                      </a:lnTo>
                      <a:lnTo>
                        <a:pt x="36" y="705"/>
                      </a:lnTo>
                      <a:lnTo>
                        <a:pt x="31" y="707"/>
                      </a:lnTo>
                      <a:lnTo>
                        <a:pt x="27" y="711"/>
                      </a:lnTo>
                      <a:lnTo>
                        <a:pt x="25" y="715"/>
                      </a:lnTo>
                      <a:lnTo>
                        <a:pt x="23" y="722"/>
                      </a:lnTo>
                      <a:lnTo>
                        <a:pt x="25" y="728"/>
                      </a:lnTo>
                      <a:lnTo>
                        <a:pt x="31" y="734"/>
                      </a:lnTo>
                      <a:lnTo>
                        <a:pt x="34" y="736"/>
                      </a:lnTo>
                      <a:lnTo>
                        <a:pt x="38" y="738"/>
                      </a:lnTo>
                      <a:lnTo>
                        <a:pt x="44" y="739"/>
                      </a:lnTo>
                      <a:lnTo>
                        <a:pt x="50" y="741"/>
                      </a:lnTo>
                      <a:lnTo>
                        <a:pt x="53" y="741"/>
                      </a:lnTo>
                      <a:lnTo>
                        <a:pt x="61" y="745"/>
                      </a:lnTo>
                      <a:lnTo>
                        <a:pt x="65" y="745"/>
                      </a:lnTo>
                      <a:lnTo>
                        <a:pt x="72" y="747"/>
                      </a:lnTo>
                      <a:lnTo>
                        <a:pt x="76" y="749"/>
                      </a:lnTo>
                      <a:lnTo>
                        <a:pt x="82" y="751"/>
                      </a:lnTo>
                      <a:lnTo>
                        <a:pt x="88" y="753"/>
                      </a:lnTo>
                      <a:lnTo>
                        <a:pt x="91" y="755"/>
                      </a:lnTo>
                      <a:lnTo>
                        <a:pt x="95" y="758"/>
                      </a:lnTo>
                      <a:lnTo>
                        <a:pt x="99" y="760"/>
                      </a:lnTo>
                      <a:lnTo>
                        <a:pt x="105" y="764"/>
                      </a:lnTo>
                      <a:lnTo>
                        <a:pt x="110" y="768"/>
                      </a:lnTo>
                      <a:lnTo>
                        <a:pt x="116" y="770"/>
                      </a:lnTo>
                      <a:lnTo>
                        <a:pt x="124" y="774"/>
                      </a:lnTo>
                      <a:lnTo>
                        <a:pt x="131" y="777"/>
                      </a:lnTo>
                      <a:lnTo>
                        <a:pt x="139" y="781"/>
                      </a:lnTo>
                      <a:lnTo>
                        <a:pt x="147" y="783"/>
                      </a:lnTo>
                      <a:lnTo>
                        <a:pt x="156" y="783"/>
                      </a:lnTo>
                      <a:lnTo>
                        <a:pt x="160" y="783"/>
                      </a:lnTo>
                      <a:lnTo>
                        <a:pt x="166" y="785"/>
                      </a:lnTo>
                      <a:lnTo>
                        <a:pt x="169" y="785"/>
                      </a:lnTo>
                      <a:lnTo>
                        <a:pt x="175" y="785"/>
                      </a:lnTo>
                      <a:lnTo>
                        <a:pt x="179" y="785"/>
                      </a:lnTo>
                      <a:lnTo>
                        <a:pt x="185" y="785"/>
                      </a:lnTo>
                      <a:lnTo>
                        <a:pt x="190" y="783"/>
                      </a:lnTo>
                      <a:lnTo>
                        <a:pt x="196" y="783"/>
                      </a:lnTo>
                      <a:lnTo>
                        <a:pt x="200" y="781"/>
                      </a:lnTo>
                      <a:lnTo>
                        <a:pt x="206" y="779"/>
                      </a:lnTo>
                      <a:lnTo>
                        <a:pt x="211" y="777"/>
                      </a:lnTo>
                      <a:lnTo>
                        <a:pt x="219" y="776"/>
                      </a:lnTo>
                      <a:lnTo>
                        <a:pt x="223" y="772"/>
                      </a:lnTo>
                      <a:lnTo>
                        <a:pt x="228" y="768"/>
                      </a:lnTo>
                      <a:lnTo>
                        <a:pt x="234" y="766"/>
                      </a:lnTo>
                      <a:lnTo>
                        <a:pt x="240" y="762"/>
                      </a:lnTo>
                      <a:lnTo>
                        <a:pt x="244" y="758"/>
                      </a:lnTo>
                      <a:lnTo>
                        <a:pt x="251" y="753"/>
                      </a:lnTo>
                      <a:lnTo>
                        <a:pt x="255" y="749"/>
                      </a:lnTo>
                      <a:lnTo>
                        <a:pt x="261" y="745"/>
                      </a:lnTo>
                      <a:lnTo>
                        <a:pt x="266" y="739"/>
                      </a:lnTo>
                      <a:lnTo>
                        <a:pt x="272" y="734"/>
                      </a:lnTo>
                      <a:lnTo>
                        <a:pt x="276" y="728"/>
                      </a:lnTo>
                      <a:lnTo>
                        <a:pt x="282" y="724"/>
                      </a:lnTo>
                      <a:lnTo>
                        <a:pt x="285" y="719"/>
                      </a:lnTo>
                      <a:lnTo>
                        <a:pt x="291" y="713"/>
                      </a:lnTo>
                      <a:lnTo>
                        <a:pt x="295" y="707"/>
                      </a:lnTo>
                      <a:lnTo>
                        <a:pt x="301" y="701"/>
                      </a:lnTo>
                      <a:lnTo>
                        <a:pt x="304" y="696"/>
                      </a:lnTo>
                      <a:lnTo>
                        <a:pt x="308" y="690"/>
                      </a:lnTo>
                      <a:lnTo>
                        <a:pt x="312" y="684"/>
                      </a:lnTo>
                      <a:lnTo>
                        <a:pt x="318" y="679"/>
                      </a:lnTo>
                      <a:lnTo>
                        <a:pt x="322" y="673"/>
                      </a:lnTo>
                      <a:lnTo>
                        <a:pt x="325" y="667"/>
                      </a:lnTo>
                      <a:lnTo>
                        <a:pt x="329" y="662"/>
                      </a:lnTo>
                      <a:lnTo>
                        <a:pt x="333" y="656"/>
                      </a:lnTo>
                      <a:lnTo>
                        <a:pt x="335" y="650"/>
                      </a:lnTo>
                      <a:lnTo>
                        <a:pt x="339" y="644"/>
                      </a:lnTo>
                      <a:lnTo>
                        <a:pt x="341" y="639"/>
                      </a:lnTo>
                      <a:lnTo>
                        <a:pt x="344" y="633"/>
                      </a:lnTo>
                      <a:lnTo>
                        <a:pt x="346" y="629"/>
                      </a:lnTo>
                      <a:lnTo>
                        <a:pt x="348" y="624"/>
                      </a:lnTo>
                      <a:lnTo>
                        <a:pt x="352" y="618"/>
                      </a:lnTo>
                      <a:lnTo>
                        <a:pt x="354" y="614"/>
                      </a:lnTo>
                      <a:lnTo>
                        <a:pt x="356" y="608"/>
                      </a:lnTo>
                      <a:lnTo>
                        <a:pt x="358" y="605"/>
                      </a:lnTo>
                      <a:lnTo>
                        <a:pt x="360" y="597"/>
                      </a:lnTo>
                      <a:lnTo>
                        <a:pt x="361" y="591"/>
                      </a:lnTo>
                      <a:lnTo>
                        <a:pt x="363" y="582"/>
                      </a:lnTo>
                      <a:lnTo>
                        <a:pt x="365" y="576"/>
                      </a:lnTo>
                      <a:lnTo>
                        <a:pt x="369" y="567"/>
                      </a:lnTo>
                      <a:lnTo>
                        <a:pt x="371" y="559"/>
                      </a:lnTo>
                      <a:lnTo>
                        <a:pt x="371" y="553"/>
                      </a:lnTo>
                      <a:lnTo>
                        <a:pt x="373" y="549"/>
                      </a:lnTo>
                      <a:lnTo>
                        <a:pt x="373" y="546"/>
                      </a:lnTo>
                      <a:lnTo>
                        <a:pt x="375" y="540"/>
                      </a:lnTo>
                      <a:lnTo>
                        <a:pt x="375" y="536"/>
                      </a:lnTo>
                      <a:lnTo>
                        <a:pt x="377" y="530"/>
                      </a:lnTo>
                      <a:lnTo>
                        <a:pt x="377" y="527"/>
                      </a:lnTo>
                      <a:lnTo>
                        <a:pt x="379" y="521"/>
                      </a:lnTo>
                      <a:lnTo>
                        <a:pt x="380" y="517"/>
                      </a:lnTo>
                      <a:lnTo>
                        <a:pt x="380" y="511"/>
                      </a:lnTo>
                      <a:lnTo>
                        <a:pt x="382" y="508"/>
                      </a:lnTo>
                      <a:lnTo>
                        <a:pt x="384" y="502"/>
                      </a:lnTo>
                      <a:lnTo>
                        <a:pt x="384" y="498"/>
                      </a:lnTo>
                      <a:lnTo>
                        <a:pt x="386" y="492"/>
                      </a:lnTo>
                      <a:lnTo>
                        <a:pt x="386" y="489"/>
                      </a:lnTo>
                      <a:lnTo>
                        <a:pt x="388" y="483"/>
                      </a:lnTo>
                      <a:lnTo>
                        <a:pt x="388" y="479"/>
                      </a:lnTo>
                      <a:lnTo>
                        <a:pt x="390" y="473"/>
                      </a:lnTo>
                      <a:lnTo>
                        <a:pt x="390" y="470"/>
                      </a:lnTo>
                      <a:lnTo>
                        <a:pt x="392" y="464"/>
                      </a:lnTo>
                      <a:lnTo>
                        <a:pt x="392" y="460"/>
                      </a:lnTo>
                      <a:lnTo>
                        <a:pt x="394" y="454"/>
                      </a:lnTo>
                      <a:lnTo>
                        <a:pt x="394" y="451"/>
                      </a:lnTo>
                      <a:lnTo>
                        <a:pt x="396" y="447"/>
                      </a:lnTo>
                      <a:lnTo>
                        <a:pt x="398" y="441"/>
                      </a:lnTo>
                      <a:lnTo>
                        <a:pt x="398" y="437"/>
                      </a:lnTo>
                      <a:lnTo>
                        <a:pt x="398" y="434"/>
                      </a:lnTo>
                      <a:lnTo>
                        <a:pt x="399" y="430"/>
                      </a:lnTo>
                      <a:lnTo>
                        <a:pt x="401" y="422"/>
                      </a:lnTo>
                      <a:lnTo>
                        <a:pt x="405" y="416"/>
                      </a:lnTo>
                      <a:lnTo>
                        <a:pt x="405" y="409"/>
                      </a:lnTo>
                      <a:lnTo>
                        <a:pt x="407" y="403"/>
                      </a:lnTo>
                      <a:lnTo>
                        <a:pt x="409" y="396"/>
                      </a:lnTo>
                      <a:lnTo>
                        <a:pt x="411" y="392"/>
                      </a:lnTo>
                      <a:lnTo>
                        <a:pt x="413" y="388"/>
                      </a:lnTo>
                      <a:lnTo>
                        <a:pt x="415" y="384"/>
                      </a:lnTo>
                      <a:lnTo>
                        <a:pt x="415" y="382"/>
                      </a:lnTo>
                      <a:lnTo>
                        <a:pt x="417" y="382"/>
                      </a:lnTo>
                      <a:lnTo>
                        <a:pt x="422" y="377"/>
                      </a:lnTo>
                      <a:lnTo>
                        <a:pt x="428" y="371"/>
                      </a:lnTo>
                      <a:lnTo>
                        <a:pt x="432" y="367"/>
                      </a:lnTo>
                      <a:lnTo>
                        <a:pt x="436" y="365"/>
                      </a:lnTo>
                      <a:lnTo>
                        <a:pt x="441" y="361"/>
                      </a:lnTo>
                      <a:lnTo>
                        <a:pt x="445" y="359"/>
                      </a:lnTo>
                      <a:lnTo>
                        <a:pt x="453" y="354"/>
                      </a:lnTo>
                      <a:lnTo>
                        <a:pt x="460" y="350"/>
                      </a:lnTo>
                      <a:lnTo>
                        <a:pt x="464" y="346"/>
                      </a:lnTo>
                      <a:lnTo>
                        <a:pt x="468" y="346"/>
                      </a:lnTo>
                      <a:lnTo>
                        <a:pt x="464" y="342"/>
                      </a:lnTo>
                      <a:lnTo>
                        <a:pt x="460" y="338"/>
                      </a:lnTo>
                      <a:lnTo>
                        <a:pt x="457" y="335"/>
                      </a:lnTo>
                      <a:lnTo>
                        <a:pt x="455" y="331"/>
                      </a:lnTo>
                      <a:lnTo>
                        <a:pt x="449" y="327"/>
                      </a:lnTo>
                      <a:lnTo>
                        <a:pt x="445" y="323"/>
                      </a:lnTo>
                      <a:lnTo>
                        <a:pt x="437" y="318"/>
                      </a:lnTo>
                      <a:lnTo>
                        <a:pt x="434" y="312"/>
                      </a:lnTo>
                      <a:lnTo>
                        <a:pt x="426" y="306"/>
                      </a:lnTo>
                      <a:lnTo>
                        <a:pt x="422" y="300"/>
                      </a:lnTo>
                      <a:lnTo>
                        <a:pt x="415" y="295"/>
                      </a:lnTo>
                      <a:lnTo>
                        <a:pt x="407" y="289"/>
                      </a:lnTo>
                      <a:lnTo>
                        <a:pt x="401" y="283"/>
                      </a:lnTo>
                      <a:lnTo>
                        <a:pt x="394" y="280"/>
                      </a:lnTo>
                      <a:lnTo>
                        <a:pt x="386" y="272"/>
                      </a:lnTo>
                      <a:lnTo>
                        <a:pt x="379" y="264"/>
                      </a:lnTo>
                      <a:lnTo>
                        <a:pt x="373" y="261"/>
                      </a:lnTo>
                      <a:lnTo>
                        <a:pt x="369" y="257"/>
                      </a:lnTo>
                      <a:lnTo>
                        <a:pt x="363" y="253"/>
                      </a:lnTo>
                      <a:lnTo>
                        <a:pt x="360" y="251"/>
                      </a:lnTo>
                      <a:lnTo>
                        <a:pt x="354" y="245"/>
                      </a:lnTo>
                      <a:lnTo>
                        <a:pt x="350" y="243"/>
                      </a:lnTo>
                      <a:lnTo>
                        <a:pt x="344" y="238"/>
                      </a:lnTo>
                      <a:lnTo>
                        <a:pt x="341" y="236"/>
                      </a:lnTo>
                      <a:lnTo>
                        <a:pt x="335" y="232"/>
                      </a:lnTo>
                      <a:lnTo>
                        <a:pt x="331" y="228"/>
                      </a:lnTo>
                      <a:lnTo>
                        <a:pt x="327" y="224"/>
                      </a:lnTo>
                      <a:lnTo>
                        <a:pt x="323" y="221"/>
                      </a:lnTo>
                      <a:lnTo>
                        <a:pt x="318" y="217"/>
                      </a:lnTo>
                      <a:lnTo>
                        <a:pt x="314" y="213"/>
                      </a:lnTo>
                      <a:lnTo>
                        <a:pt x="308" y="209"/>
                      </a:lnTo>
                      <a:lnTo>
                        <a:pt x="304" y="205"/>
                      </a:lnTo>
                      <a:lnTo>
                        <a:pt x="297" y="200"/>
                      </a:lnTo>
                      <a:lnTo>
                        <a:pt x="289" y="194"/>
                      </a:lnTo>
                      <a:lnTo>
                        <a:pt x="284" y="186"/>
                      </a:lnTo>
                      <a:lnTo>
                        <a:pt x="280" y="183"/>
                      </a:lnTo>
                      <a:lnTo>
                        <a:pt x="278" y="179"/>
                      </a:lnTo>
                      <a:lnTo>
                        <a:pt x="276" y="177"/>
                      </a:lnTo>
                      <a:lnTo>
                        <a:pt x="274" y="171"/>
                      </a:lnTo>
                      <a:lnTo>
                        <a:pt x="276" y="166"/>
                      </a:lnTo>
                      <a:lnTo>
                        <a:pt x="278" y="160"/>
                      </a:lnTo>
                      <a:lnTo>
                        <a:pt x="284" y="156"/>
                      </a:lnTo>
                      <a:lnTo>
                        <a:pt x="287" y="150"/>
                      </a:lnTo>
                      <a:lnTo>
                        <a:pt x="293" y="145"/>
                      </a:lnTo>
                      <a:lnTo>
                        <a:pt x="299" y="139"/>
                      </a:lnTo>
                      <a:lnTo>
                        <a:pt x="304" y="133"/>
                      </a:lnTo>
                      <a:lnTo>
                        <a:pt x="306" y="129"/>
                      </a:lnTo>
                      <a:lnTo>
                        <a:pt x="310" y="124"/>
                      </a:lnTo>
                      <a:lnTo>
                        <a:pt x="312" y="118"/>
                      </a:lnTo>
                      <a:lnTo>
                        <a:pt x="314" y="114"/>
                      </a:lnTo>
                      <a:lnTo>
                        <a:pt x="318" y="110"/>
                      </a:lnTo>
                      <a:lnTo>
                        <a:pt x="322" y="105"/>
                      </a:lnTo>
                      <a:lnTo>
                        <a:pt x="323" y="99"/>
                      </a:lnTo>
                      <a:lnTo>
                        <a:pt x="327" y="95"/>
                      </a:lnTo>
                      <a:lnTo>
                        <a:pt x="331" y="90"/>
                      </a:lnTo>
                      <a:lnTo>
                        <a:pt x="335" y="84"/>
                      </a:lnTo>
                      <a:lnTo>
                        <a:pt x="339" y="78"/>
                      </a:lnTo>
                      <a:lnTo>
                        <a:pt x="344" y="72"/>
                      </a:lnTo>
                      <a:lnTo>
                        <a:pt x="348" y="67"/>
                      </a:lnTo>
                      <a:lnTo>
                        <a:pt x="352" y="61"/>
                      </a:lnTo>
                      <a:lnTo>
                        <a:pt x="356" y="53"/>
                      </a:lnTo>
                      <a:lnTo>
                        <a:pt x="360" y="48"/>
                      </a:lnTo>
                      <a:lnTo>
                        <a:pt x="363" y="42"/>
                      </a:lnTo>
                      <a:lnTo>
                        <a:pt x="369" y="36"/>
                      </a:lnTo>
                      <a:lnTo>
                        <a:pt x="371" y="31"/>
                      </a:lnTo>
                      <a:lnTo>
                        <a:pt x="375" y="27"/>
                      </a:lnTo>
                      <a:lnTo>
                        <a:pt x="377" y="21"/>
                      </a:lnTo>
                      <a:lnTo>
                        <a:pt x="380" y="17"/>
                      </a:lnTo>
                      <a:lnTo>
                        <a:pt x="384" y="14"/>
                      </a:lnTo>
                      <a:lnTo>
                        <a:pt x="386" y="10"/>
                      </a:lnTo>
                      <a:lnTo>
                        <a:pt x="388" y="6"/>
                      </a:lnTo>
                      <a:lnTo>
                        <a:pt x="390" y="4"/>
                      </a:lnTo>
                      <a:lnTo>
                        <a:pt x="392" y="0"/>
                      </a:lnTo>
                      <a:lnTo>
                        <a:pt x="394" y="0"/>
                      </a:lnTo>
                      <a:lnTo>
                        <a:pt x="420" y="14"/>
                      </a:lnTo>
                      <a:lnTo>
                        <a:pt x="4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181240" y="5781600"/>
                  <a:ext cx="344520" cy="461880"/>
                </a:xfrm>
                <a:custGeom>
                  <a:avLst/>
                  <a:gdLst/>
                  <a:ahLst/>
                  <a:rect l="l" t="t" r="r" b="b"/>
                  <a:pathLst>
                    <a:path w="331" h="504">
                      <a:moveTo>
                        <a:pt x="331" y="21"/>
                      </a:moveTo>
                      <a:lnTo>
                        <a:pt x="329" y="21"/>
                      </a:lnTo>
                      <a:lnTo>
                        <a:pt x="327" y="25"/>
                      </a:lnTo>
                      <a:lnTo>
                        <a:pt x="322" y="28"/>
                      </a:lnTo>
                      <a:lnTo>
                        <a:pt x="318" y="38"/>
                      </a:lnTo>
                      <a:lnTo>
                        <a:pt x="314" y="40"/>
                      </a:lnTo>
                      <a:lnTo>
                        <a:pt x="310" y="46"/>
                      </a:lnTo>
                      <a:lnTo>
                        <a:pt x="308" y="49"/>
                      </a:lnTo>
                      <a:lnTo>
                        <a:pt x="305" y="53"/>
                      </a:lnTo>
                      <a:lnTo>
                        <a:pt x="299" y="59"/>
                      </a:lnTo>
                      <a:lnTo>
                        <a:pt x="297" y="65"/>
                      </a:lnTo>
                      <a:lnTo>
                        <a:pt x="291" y="70"/>
                      </a:lnTo>
                      <a:lnTo>
                        <a:pt x="289" y="76"/>
                      </a:lnTo>
                      <a:lnTo>
                        <a:pt x="284" y="80"/>
                      </a:lnTo>
                      <a:lnTo>
                        <a:pt x="280" y="85"/>
                      </a:lnTo>
                      <a:lnTo>
                        <a:pt x="276" y="91"/>
                      </a:lnTo>
                      <a:lnTo>
                        <a:pt x="272" y="97"/>
                      </a:lnTo>
                      <a:lnTo>
                        <a:pt x="268" y="103"/>
                      </a:lnTo>
                      <a:lnTo>
                        <a:pt x="265" y="108"/>
                      </a:lnTo>
                      <a:lnTo>
                        <a:pt x="261" y="112"/>
                      </a:lnTo>
                      <a:lnTo>
                        <a:pt x="259" y="118"/>
                      </a:lnTo>
                      <a:lnTo>
                        <a:pt x="253" y="122"/>
                      </a:lnTo>
                      <a:lnTo>
                        <a:pt x="251" y="125"/>
                      </a:lnTo>
                      <a:lnTo>
                        <a:pt x="247" y="129"/>
                      </a:lnTo>
                      <a:lnTo>
                        <a:pt x="246" y="135"/>
                      </a:lnTo>
                      <a:lnTo>
                        <a:pt x="240" y="142"/>
                      </a:lnTo>
                      <a:lnTo>
                        <a:pt x="238" y="146"/>
                      </a:lnTo>
                      <a:lnTo>
                        <a:pt x="236" y="148"/>
                      </a:lnTo>
                      <a:lnTo>
                        <a:pt x="234" y="154"/>
                      </a:lnTo>
                      <a:lnTo>
                        <a:pt x="232" y="158"/>
                      </a:lnTo>
                      <a:lnTo>
                        <a:pt x="230" y="165"/>
                      </a:lnTo>
                      <a:lnTo>
                        <a:pt x="228" y="167"/>
                      </a:lnTo>
                      <a:lnTo>
                        <a:pt x="228" y="171"/>
                      </a:lnTo>
                      <a:lnTo>
                        <a:pt x="227" y="175"/>
                      </a:lnTo>
                      <a:lnTo>
                        <a:pt x="225" y="181"/>
                      </a:lnTo>
                      <a:lnTo>
                        <a:pt x="225" y="184"/>
                      </a:lnTo>
                      <a:lnTo>
                        <a:pt x="223" y="188"/>
                      </a:lnTo>
                      <a:lnTo>
                        <a:pt x="223" y="194"/>
                      </a:lnTo>
                      <a:lnTo>
                        <a:pt x="221" y="200"/>
                      </a:lnTo>
                      <a:lnTo>
                        <a:pt x="221" y="203"/>
                      </a:lnTo>
                      <a:lnTo>
                        <a:pt x="219" y="209"/>
                      </a:lnTo>
                      <a:lnTo>
                        <a:pt x="217" y="215"/>
                      </a:lnTo>
                      <a:lnTo>
                        <a:pt x="217" y="220"/>
                      </a:lnTo>
                      <a:lnTo>
                        <a:pt x="215" y="226"/>
                      </a:lnTo>
                      <a:lnTo>
                        <a:pt x="215" y="234"/>
                      </a:lnTo>
                      <a:lnTo>
                        <a:pt x="213" y="238"/>
                      </a:lnTo>
                      <a:lnTo>
                        <a:pt x="213" y="245"/>
                      </a:lnTo>
                      <a:lnTo>
                        <a:pt x="211" y="251"/>
                      </a:lnTo>
                      <a:lnTo>
                        <a:pt x="209" y="257"/>
                      </a:lnTo>
                      <a:lnTo>
                        <a:pt x="208" y="262"/>
                      </a:lnTo>
                      <a:lnTo>
                        <a:pt x="208" y="270"/>
                      </a:lnTo>
                      <a:lnTo>
                        <a:pt x="206" y="276"/>
                      </a:lnTo>
                      <a:lnTo>
                        <a:pt x="206" y="283"/>
                      </a:lnTo>
                      <a:lnTo>
                        <a:pt x="204" y="289"/>
                      </a:lnTo>
                      <a:lnTo>
                        <a:pt x="204" y="295"/>
                      </a:lnTo>
                      <a:lnTo>
                        <a:pt x="202" y="300"/>
                      </a:lnTo>
                      <a:lnTo>
                        <a:pt x="200" y="308"/>
                      </a:lnTo>
                      <a:lnTo>
                        <a:pt x="200" y="314"/>
                      </a:lnTo>
                      <a:lnTo>
                        <a:pt x="198" y="321"/>
                      </a:lnTo>
                      <a:lnTo>
                        <a:pt x="196" y="325"/>
                      </a:lnTo>
                      <a:lnTo>
                        <a:pt x="196" y="333"/>
                      </a:lnTo>
                      <a:lnTo>
                        <a:pt x="194" y="338"/>
                      </a:lnTo>
                      <a:lnTo>
                        <a:pt x="194" y="346"/>
                      </a:lnTo>
                      <a:lnTo>
                        <a:pt x="192" y="350"/>
                      </a:lnTo>
                      <a:lnTo>
                        <a:pt x="192" y="355"/>
                      </a:lnTo>
                      <a:lnTo>
                        <a:pt x="190" y="361"/>
                      </a:lnTo>
                      <a:lnTo>
                        <a:pt x="190" y="367"/>
                      </a:lnTo>
                      <a:lnTo>
                        <a:pt x="189" y="372"/>
                      </a:lnTo>
                      <a:lnTo>
                        <a:pt x="189" y="378"/>
                      </a:lnTo>
                      <a:lnTo>
                        <a:pt x="189" y="382"/>
                      </a:lnTo>
                      <a:lnTo>
                        <a:pt x="189" y="388"/>
                      </a:lnTo>
                      <a:lnTo>
                        <a:pt x="187" y="391"/>
                      </a:lnTo>
                      <a:lnTo>
                        <a:pt x="185" y="395"/>
                      </a:lnTo>
                      <a:lnTo>
                        <a:pt x="185" y="399"/>
                      </a:lnTo>
                      <a:lnTo>
                        <a:pt x="185" y="403"/>
                      </a:lnTo>
                      <a:lnTo>
                        <a:pt x="183" y="410"/>
                      </a:lnTo>
                      <a:lnTo>
                        <a:pt x="183" y="416"/>
                      </a:lnTo>
                      <a:lnTo>
                        <a:pt x="181" y="420"/>
                      </a:lnTo>
                      <a:lnTo>
                        <a:pt x="181" y="426"/>
                      </a:lnTo>
                      <a:lnTo>
                        <a:pt x="181" y="428"/>
                      </a:lnTo>
                      <a:lnTo>
                        <a:pt x="181" y="429"/>
                      </a:lnTo>
                      <a:lnTo>
                        <a:pt x="168" y="403"/>
                      </a:lnTo>
                      <a:lnTo>
                        <a:pt x="95" y="462"/>
                      </a:lnTo>
                      <a:lnTo>
                        <a:pt x="93" y="462"/>
                      </a:lnTo>
                      <a:lnTo>
                        <a:pt x="90" y="458"/>
                      </a:lnTo>
                      <a:lnTo>
                        <a:pt x="82" y="454"/>
                      </a:lnTo>
                      <a:lnTo>
                        <a:pt x="74" y="450"/>
                      </a:lnTo>
                      <a:lnTo>
                        <a:pt x="71" y="448"/>
                      </a:lnTo>
                      <a:lnTo>
                        <a:pt x="65" y="447"/>
                      </a:lnTo>
                      <a:lnTo>
                        <a:pt x="61" y="445"/>
                      </a:lnTo>
                      <a:lnTo>
                        <a:pt x="55" y="445"/>
                      </a:lnTo>
                      <a:lnTo>
                        <a:pt x="48" y="445"/>
                      </a:lnTo>
                      <a:lnTo>
                        <a:pt x="40" y="448"/>
                      </a:lnTo>
                      <a:lnTo>
                        <a:pt x="36" y="454"/>
                      </a:lnTo>
                      <a:lnTo>
                        <a:pt x="36" y="462"/>
                      </a:lnTo>
                      <a:lnTo>
                        <a:pt x="40" y="469"/>
                      </a:lnTo>
                      <a:lnTo>
                        <a:pt x="48" y="477"/>
                      </a:lnTo>
                      <a:lnTo>
                        <a:pt x="54" y="483"/>
                      </a:lnTo>
                      <a:lnTo>
                        <a:pt x="59" y="488"/>
                      </a:lnTo>
                      <a:lnTo>
                        <a:pt x="65" y="492"/>
                      </a:lnTo>
                      <a:lnTo>
                        <a:pt x="67" y="496"/>
                      </a:lnTo>
                      <a:lnTo>
                        <a:pt x="54" y="504"/>
                      </a:lnTo>
                      <a:lnTo>
                        <a:pt x="36" y="490"/>
                      </a:lnTo>
                      <a:lnTo>
                        <a:pt x="35" y="490"/>
                      </a:lnTo>
                      <a:lnTo>
                        <a:pt x="31" y="486"/>
                      </a:lnTo>
                      <a:lnTo>
                        <a:pt x="23" y="481"/>
                      </a:lnTo>
                      <a:lnTo>
                        <a:pt x="16" y="475"/>
                      </a:lnTo>
                      <a:lnTo>
                        <a:pt x="8" y="467"/>
                      </a:lnTo>
                      <a:lnTo>
                        <a:pt x="4" y="460"/>
                      </a:lnTo>
                      <a:lnTo>
                        <a:pt x="0" y="452"/>
                      </a:lnTo>
                      <a:lnTo>
                        <a:pt x="2" y="445"/>
                      </a:lnTo>
                      <a:lnTo>
                        <a:pt x="8" y="437"/>
                      </a:lnTo>
                      <a:lnTo>
                        <a:pt x="14" y="433"/>
                      </a:lnTo>
                      <a:lnTo>
                        <a:pt x="21" y="428"/>
                      </a:lnTo>
                      <a:lnTo>
                        <a:pt x="29" y="426"/>
                      </a:lnTo>
                      <a:lnTo>
                        <a:pt x="36" y="426"/>
                      </a:lnTo>
                      <a:lnTo>
                        <a:pt x="44" y="426"/>
                      </a:lnTo>
                      <a:lnTo>
                        <a:pt x="52" y="426"/>
                      </a:lnTo>
                      <a:lnTo>
                        <a:pt x="59" y="428"/>
                      </a:lnTo>
                      <a:lnTo>
                        <a:pt x="63" y="428"/>
                      </a:lnTo>
                      <a:lnTo>
                        <a:pt x="71" y="429"/>
                      </a:lnTo>
                      <a:lnTo>
                        <a:pt x="76" y="433"/>
                      </a:lnTo>
                      <a:lnTo>
                        <a:pt x="82" y="435"/>
                      </a:lnTo>
                      <a:lnTo>
                        <a:pt x="86" y="437"/>
                      </a:lnTo>
                      <a:lnTo>
                        <a:pt x="92" y="441"/>
                      </a:lnTo>
                      <a:lnTo>
                        <a:pt x="93" y="441"/>
                      </a:lnTo>
                      <a:lnTo>
                        <a:pt x="95" y="443"/>
                      </a:lnTo>
                      <a:lnTo>
                        <a:pt x="95" y="441"/>
                      </a:lnTo>
                      <a:lnTo>
                        <a:pt x="97" y="439"/>
                      </a:lnTo>
                      <a:lnTo>
                        <a:pt x="101" y="433"/>
                      </a:lnTo>
                      <a:lnTo>
                        <a:pt x="105" y="429"/>
                      </a:lnTo>
                      <a:lnTo>
                        <a:pt x="111" y="424"/>
                      </a:lnTo>
                      <a:lnTo>
                        <a:pt x="116" y="416"/>
                      </a:lnTo>
                      <a:lnTo>
                        <a:pt x="120" y="410"/>
                      </a:lnTo>
                      <a:lnTo>
                        <a:pt x="126" y="405"/>
                      </a:lnTo>
                      <a:lnTo>
                        <a:pt x="130" y="397"/>
                      </a:lnTo>
                      <a:lnTo>
                        <a:pt x="135" y="391"/>
                      </a:lnTo>
                      <a:lnTo>
                        <a:pt x="143" y="388"/>
                      </a:lnTo>
                      <a:lnTo>
                        <a:pt x="151" y="386"/>
                      </a:lnTo>
                      <a:lnTo>
                        <a:pt x="158" y="382"/>
                      </a:lnTo>
                      <a:lnTo>
                        <a:pt x="164" y="382"/>
                      </a:lnTo>
                      <a:lnTo>
                        <a:pt x="168" y="380"/>
                      </a:lnTo>
                      <a:lnTo>
                        <a:pt x="170" y="380"/>
                      </a:lnTo>
                      <a:lnTo>
                        <a:pt x="170" y="378"/>
                      </a:lnTo>
                      <a:lnTo>
                        <a:pt x="171" y="371"/>
                      </a:lnTo>
                      <a:lnTo>
                        <a:pt x="171" y="367"/>
                      </a:lnTo>
                      <a:lnTo>
                        <a:pt x="171" y="361"/>
                      </a:lnTo>
                      <a:lnTo>
                        <a:pt x="173" y="353"/>
                      </a:lnTo>
                      <a:lnTo>
                        <a:pt x="175" y="348"/>
                      </a:lnTo>
                      <a:lnTo>
                        <a:pt x="175" y="342"/>
                      </a:lnTo>
                      <a:lnTo>
                        <a:pt x="175" y="338"/>
                      </a:lnTo>
                      <a:lnTo>
                        <a:pt x="175" y="334"/>
                      </a:lnTo>
                      <a:lnTo>
                        <a:pt x="177" y="331"/>
                      </a:lnTo>
                      <a:lnTo>
                        <a:pt x="177" y="325"/>
                      </a:lnTo>
                      <a:lnTo>
                        <a:pt x="177" y="321"/>
                      </a:lnTo>
                      <a:lnTo>
                        <a:pt x="179" y="315"/>
                      </a:lnTo>
                      <a:lnTo>
                        <a:pt x="179" y="312"/>
                      </a:lnTo>
                      <a:lnTo>
                        <a:pt x="179" y="308"/>
                      </a:lnTo>
                      <a:lnTo>
                        <a:pt x="181" y="302"/>
                      </a:lnTo>
                      <a:lnTo>
                        <a:pt x="181" y="296"/>
                      </a:lnTo>
                      <a:lnTo>
                        <a:pt x="183" y="293"/>
                      </a:lnTo>
                      <a:lnTo>
                        <a:pt x="185" y="287"/>
                      </a:lnTo>
                      <a:lnTo>
                        <a:pt x="185" y="283"/>
                      </a:lnTo>
                      <a:lnTo>
                        <a:pt x="185" y="277"/>
                      </a:lnTo>
                      <a:lnTo>
                        <a:pt x="187" y="272"/>
                      </a:lnTo>
                      <a:lnTo>
                        <a:pt x="187" y="266"/>
                      </a:lnTo>
                      <a:lnTo>
                        <a:pt x="189" y="262"/>
                      </a:lnTo>
                      <a:lnTo>
                        <a:pt x="189" y="255"/>
                      </a:lnTo>
                      <a:lnTo>
                        <a:pt x="190" y="251"/>
                      </a:lnTo>
                      <a:lnTo>
                        <a:pt x="190" y="245"/>
                      </a:lnTo>
                      <a:lnTo>
                        <a:pt x="192" y="239"/>
                      </a:lnTo>
                      <a:lnTo>
                        <a:pt x="192" y="234"/>
                      </a:lnTo>
                      <a:lnTo>
                        <a:pt x="194" y="230"/>
                      </a:lnTo>
                      <a:lnTo>
                        <a:pt x="194" y="224"/>
                      </a:lnTo>
                      <a:lnTo>
                        <a:pt x="196" y="219"/>
                      </a:lnTo>
                      <a:lnTo>
                        <a:pt x="196" y="213"/>
                      </a:lnTo>
                      <a:lnTo>
                        <a:pt x="198" y="209"/>
                      </a:lnTo>
                      <a:lnTo>
                        <a:pt x="198" y="203"/>
                      </a:lnTo>
                      <a:lnTo>
                        <a:pt x="200" y="200"/>
                      </a:lnTo>
                      <a:lnTo>
                        <a:pt x="200" y="196"/>
                      </a:lnTo>
                      <a:lnTo>
                        <a:pt x="202" y="192"/>
                      </a:lnTo>
                      <a:lnTo>
                        <a:pt x="202" y="186"/>
                      </a:lnTo>
                      <a:lnTo>
                        <a:pt x="204" y="182"/>
                      </a:lnTo>
                      <a:lnTo>
                        <a:pt x="204" y="177"/>
                      </a:lnTo>
                      <a:lnTo>
                        <a:pt x="206" y="173"/>
                      </a:lnTo>
                      <a:lnTo>
                        <a:pt x="208" y="165"/>
                      </a:lnTo>
                      <a:lnTo>
                        <a:pt x="208" y="160"/>
                      </a:lnTo>
                      <a:lnTo>
                        <a:pt x="209" y="152"/>
                      </a:lnTo>
                      <a:lnTo>
                        <a:pt x="211" y="146"/>
                      </a:lnTo>
                      <a:lnTo>
                        <a:pt x="213" y="142"/>
                      </a:lnTo>
                      <a:lnTo>
                        <a:pt x="215" y="139"/>
                      </a:lnTo>
                      <a:lnTo>
                        <a:pt x="217" y="131"/>
                      </a:lnTo>
                      <a:lnTo>
                        <a:pt x="223" y="123"/>
                      </a:lnTo>
                      <a:lnTo>
                        <a:pt x="225" y="118"/>
                      </a:lnTo>
                      <a:lnTo>
                        <a:pt x="227" y="114"/>
                      </a:lnTo>
                      <a:lnTo>
                        <a:pt x="230" y="108"/>
                      </a:lnTo>
                      <a:lnTo>
                        <a:pt x="234" y="103"/>
                      </a:lnTo>
                      <a:lnTo>
                        <a:pt x="236" y="97"/>
                      </a:lnTo>
                      <a:lnTo>
                        <a:pt x="240" y="91"/>
                      </a:lnTo>
                      <a:lnTo>
                        <a:pt x="244" y="85"/>
                      </a:lnTo>
                      <a:lnTo>
                        <a:pt x="247" y="80"/>
                      </a:lnTo>
                      <a:lnTo>
                        <a:pt x="251" y="74"/>
                      </a:lnTo>
                      <a:lnTo>
                        <a:pt x="255" y="68"/>
                      </a:lnTo>
                      <a:lnTo>
                        <a:pt x="259" y="63"/>
                      </a:lnTo>
                      <a:lnTo>
                        <a:pt x="265" y="57"/>
                      </a:lnTo>
                      <a:lnTo>
                        <a:pt x="266" y="51"/>
                      </a:lnTo>
                      <a:lnTo>
                        <a:pt x="270" y="46"/>
                      </a:lnTo>
                      <a:lnTo>
                        <a:pt x="276" y="40"/>
                      </a:lnTo>
                      <a:lnTo>
                        <a:pt x="280" y="34"/>
                      </a:lnTo>
                      <a:lnTo>
                        <a:pt x="282" y="30"/>
                      </a:lnTo>
                      <a:lnTo>
                        <a:pt x="286" y="25"/>
                      </a:lnTo>
                      <a:lnTo>
                        <a:pt x="287" y="21"/>
                      </a:lnTo>
                      <a:lnTo>
                        <a:pt x="291" y="17"/>
                      </a:lnTo>
                      <a:lnTo>
                        <a:pt x="295" y="9"/>
                      </a:lnTo>
                      <a:lnTo>
                        <a:pt x="301" y="4"/>
                      </a:lnTo>
                      <a:lnTo>
                        <a:pt x="303" y="2"/>
                      </a:lnTo>
                      <a:lnTo>
                        <a:pt x="305" y="0"/>
                      </a:lnTo>
                      <a:lnTo>
                        <a:pt x="331" y="21"/>
                      </a:lnTo>
                      <a:lnTo>
                        <a:pt x="33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419200" y="5581440"/>
                  <a:ext cx="854280" cy="868680"/>
                </a:xfrm>
                <a:custGeom>
                  <a:avLst/>
                  <a:gdLst/>
                  <a:ahLst/>
                  <a:rect l="l" t="t" r="r" b="b"/>
                  <a:pathLst>
                    <a:path w="820" h="949">
                      <a:moveTo>
                        <a:pt x="33" y="800"/>
                      </a:moveTo>
                      <a:lnTo>
                        <a:pt x="31" y="802"/>
                      </a:lnTo>
                      <a:lnTo>
                        <a:pt x="35" y="808"/>
                      </a:lnTo>
                      <a:lnTo>
                        <a:pt x="35" y="810"/>
                      </a:lnTo>
                      <a:lnTo>
                        <a:pt x="40" y="816"/>
                      </a:lnTo>
                      <a:lnTo>
                        <a:pt x="42" y="819"/>
                      </a:lnTo>
                      <a:lnTo>
                        <a:pt x="46" y="821"/>
                      </a:lnTo>
                      <a:lnTo>
                        <a:pt x="50" y="823"/>
                      </a:lnTo>
                      <a:lnTo>
                        <a:pt x="56" y="827"/>
                      </a:lnTo>
                      <a:lnTo>
                        <a:pt x="59" y="831"/>
                      </a:lnTo>
                      <a:lnTo>
                        <a:pt x="65" y="833"/>
                      </a:lnTo>
                      <a:lnTo>
                        <a:pt x="71" y="837"/>
                      </a:lnTo>
                      <a:lnTo>
                        <a:pt x="78" y="840"/>
                      </a:lnTo>
                      <a:lnTo>
                        <a:pt x="82" y="842"/>
                      </a:lnTo>
                      <a:lnTo>
                        <a:pt x="86" y="844"/>
                      </a:lnTo>
                      <a:lnTo>
                        <a:pt x="90" y="844"/>
                      </a:lnTo>
                      <a:lnTo>
                        <a:pt x="96" y="848"/>
                      </a:lnTo>
                      <a:lnTo>
                        <a:pt x="99" y="848"/>
                      </a:lnTo>
                      <a:lnTo>
                        <a:pt x="105" y="850"/>
                      </a:lnTo>
                      <a:lnTo>
                        <a:pt x="111" y="852"/>
                      </a:lnTo>
                      <a:lnTo>
                        <a:pt x="116" y="854"/>
                      </a:lnTo>
                      <a:lnTo>
                        <a:pt x="120" y="856"/>
                      </a:lnTo>
                      <a:lnTo>
                        <a:pt x="128" y="857"/>
                      </a:lnTo>
                      <a:lnTo>
                        <a:pt x="134" y="859"/>
                      </a:lnTo>
                      <a:lnTo>
                        <a:pt x="141" y="861"/>
                      </a:lnTo>
                      <a:lnTo>
                        <a:pt x="147" y="863"/>
                      </a:lnTo>
                      <a:lnTo>
                        <a:pt x="154" y="865"/>
                      </a:lnTo>
                      <a:lnTo>
                        <a:pt x="162" y="867"/>
                      </a:lnTo>
                      <a:lnTo>
                        <a:pt x="170" y="869"/>
                      </a:lnTo>
                      <a:lnTo>
                        <a:pt x="177" y="871"/>
                      </a:lnTo>
                      <a:lnTo>
                        <a:pt x="185" y="873"/>
                      </a:lnTo>
                      <a:lnTo>
                        <a:pt x="194" y="875"/>
                      </a:lnTo>
                      <a:lnTo>
                        <a:pt x="204" y="876"/>
                      </a:lnTo>
                      <a:lnTo>
                        <a:pt x="211" y="878"/>
                      </a:lnTo>
                      <a:lnTo>
                        <a:pt x="221" y="880"/>
                      </a:lnTo>
                      <a:lnTo>
                        <a:pt x="232" y="882"/>
                      </a:lnTo>
                      <a:lnTo>
                        <a:pt x="242" y="884"/>
                      </a:lnTo>
                      <a:lnTo>
                        <a:pt x="251" y="886"/>
                      </a:lnTo>
                      <a:lnTo>
                        <a:pt x="263" y="888"/>
                      </a:lnTo>
                      <a:lnTo>
                        <a:pt x="272" y="890"/>
                      </a:lnTo>
                      <a:lnTo>
                        <a:pt x="282" y="892"/>
                      </a:lnTo>
                      <a:lnTo>
                        <a:pt x="291" y="894"/>
                      </a:lnTo>
                      <a:lnTo>
                        <a:pt x="301" y="894"/>
                      </a:lnTo>
                      <a:lnTo>
                        <a:pt x="310" y="895"/>
                      </a:lnTo>
                      <a:lnTo>
                        <a:pt x="320" y="897"/>
                      </a:lnTo>
                      <a:lnTo>
                        <a:pt x="329" y="897"/>
                      </a:lnTo>
                      <a:lnTo>
                        <a:pt x="339" y="899"/>
                      </a:lnTo>
                      <a:lnTo>
                        <a:pt x="346" y="899"/>
                      </a:lnTo>
                      <a:lnTo>
                        <a:pt x="356" y="901"/>
                      </a:lnTo>
                      <a:lnTo>
                        <a:pt x="365" y="901"/>
                      </a:lnTo>
                      <a:lnTo>
                        <a:pt x="375" y="903"/>
                      </a:lnTo>
                      <a:lnTo>
                        <a:pt x="383" y="903"/>
                      </a:lnTo>
                      <a:lnTo>
                        <a:pt x="392" y="905"/>
                      </a:lnTo>
                      <a:lnTo>
                        <a:pt x="400" y="905"/>
                      </a:lnTo>
                      <a:lnTo>
                        <a:pt x="407" y="907"/>
                      </a:lnTo>
                      <a:lnTo>
                        <a:pt x="417" y="907"/>
                      </a:lnTo>
                      <a:lnTo>
                        <a:pt x="424" y="907"/>
                      </a:lnTo>
                      <a:lnTo>
                        <a:pt x="432" y="907"/>
                      </a:lnTo>
                      <a:lnTo>
                        <a:pt x="442" y="907"/>
                      </a:lnTo>
                      <a:lnTo>
                        <a:pt x="449" y="907"/>
                      </a:lnTo>
                      <a:lnTo>
                        <a:pt x="459" y="907"/>
                      </a:lnTo>
                      <a:lnTo>
                        <a:pt x="466" y="907"/>
                      </a:lnTo>
                      <a:lnTo>
                        <a:pt x="474" y="907"/>
                      </a:lnTo>
                      <a:lnTo>
                        <a:pt x="481" y="907"/>
                      </a:lnTo>
                      <a:lnTo>
                        <a:pt x="491" y="907"/>
                      </a:lnTo>
                      <a:lnTo>
                        <a:pt x="499" y="907"/>
                      </a:lnTo>
                      <a:lnTo>
                        <a:pt x="506" y="907"/>
                      </a:lnTo>
                      <a:lnTo>
                        <a:pt x="516" y="905"/>
                      </a:lnTo>
                      <a:lnTo>
                        <a:pt x="523" y="905"/>
                      </a:lnTo>
                      <a:lnTo>
                        <a:pt x="531" y="903"/>
                      </a:lnTo>
                      <a:lnTo>
                        <a:pt x="538" y="903"/>
                      </a:lnTo>
                      <a:lnTo>
                        <a:pt x="546" y="901"/>
                      </a:lnTo>
                      <a:lnTo>
                        <a:pt x="554" y="901"/>
                      </a:lnTo>
                      <a:lnTo>
                        <a:pt x="561" y="899"/>
                      </a:lnTo>
                      <a:lnTo>
                        <a:pt x="569" y="897"/>
                      </a:lnTo>
                      <a:lnTo>
                        <a:pt x="577" y="897"/>
                      </a:lnTo>
                      <a:lnTo>
                        <a:pt x="586" y="895"/>
                      </a:lnTo>
                      <a:lnTo>
                        <a:pt x="592" y="894"/>
                      </a:lnTo>
                      <a:lnTo>
                        <a:pt x="601" y="892"/>
                      </a:lnTo>
                      <a:lnTo>
                        <a:pt x="607" y="890"/>
                      </a:lnTo>
                      <a:lnTo>
                        <a:pt x="616" y="890"/>
                      </a:lnTo>
                      <a:lnTo>
                        <a:pt x="624" y="886"/>
                      </a:lnTo>
                      <a:lnTo>
                        <a:pt x="632" y="884"/>
                      </a:lnTo>
                      <a:lnTo>
                        <a:pt x="639" y="882"/>
                      </a:lnTo>
                      <a:lnTo>
                        <a:pt x="649" y="880"/>
                      </a:lnTo>
                      <a:lnTo>
                        <a:pt x="656" y="878"/>
                      </a:lnTo>
                      <a:lnTo>
                        <a:pt x="664" y="876"/>
                      </a:lnTo>
                      <a:lnTo>
                        <a:pt x="673" y="873"/>
                      </a:lnTo>
                      <a:lnTo>
                        <a:pt x="681" y="871"/>
                      </a:lnTo>
                      <a:lnTo>
                        <a:pt x="689" y="869"/>
                      </a:lnTo>
                      <a:lnTo>
                        <a:pt x="696" y="865"/>
                      </a:lnTo>
                      <a:lnTo>
                        <a:pt x="706" y="863"/>
                      </a:lnTo>
                      <a:lnTo>
                        <a:pt x="713" y="861"/>
                      </a:lnTo>
                      <a:lnTo>
                        <a:pt x="723" y="856"/>
                      </a:lnTo>
                      <a:lnTo>
                        <a:pt x="731" y="854"/>
                      </a:lnTo>
                      <a:lnTo>
                        <a:pt x="740" y="850"/>
                      </a:lnTo>
                      <a:lnTo>
                        <a:pt x="750" y="846"/>
                      </a:lnTo>
                      <a:lnTo>
                        <a:pt x="757" y="842"/>
                      </a:lnTo>
                      <a:lnTo>
                        <a:pt x="767" y="838"/>
                      </a:lnTo>
                      <a:lnTo>
                        <a:pt x="776" y="835"/>
                      </a:lnTo>
                      <a:lnTo>
                        <a:pt x="786" y="833"/>
                      </a:lnTo>
                      <a:lnTo>
                        <a:pt x="784" y="831"/>
                      </a:lnTo>
                      <a:lnTo>
                        <a:pt x="784" y="827"/>
                      </a:lnTo>
                      <a:lnTo>
                        <a:pt x="782" y="821"/>
                      </a:lnTo>
                      <a:lnTo>
                        <a:pt x="780" y="814"/>
                      </a:lnTo>
                      <a:lnTo>
                        <a:pt x="780" y="808"/>
                      </a:lnTo>
                      <a:lnTo>
                        <a:pt x="778" y="804"/>
                      </a:lnTo>
                      <a:lnTo>
                        <a:pt x="776" y="799"/>
                      </a:lnTo>
                      <a:lnTo>
                        <a:pt x="776" y="793"/>
                      </a:lnTo>
                      <a:lnTo>
                        <a:pt x="772" y="787"/>
                      </a:lnTo>
                      <a:lnTo>
                        <a:pt x="772" y="781"/>
                      </a:lnTo>
                      <a:lnTo>
                        <a:pt x="770" y="776"/>
                      </a:lnTo>
                      <a:lnTo>
                        <a:pt x="769" y="770"/>
                      </a:lnTo>
                      <a:lnTo>
                        <a:pt x="767" y="764"/>
                      </a:lnTo>
                      <a:lnTo>
                        <a:pt x="765" y="757"/>
                      </a:lnTo>
                      <a:lnTo>
                        <a:pt x="763" y="751"/>
                      </a:lnTo>
                      <a:lnTo>
                        <a:pt x="761" y="745"/>
                      </a:lnTo>
                      <a:lnTo>
                        <a:pt x="759" y="738"/>
                      </a:lnTo>
                      <a:lnTo>
                        <a:pt x="757" y="732"/>
                      </a:lnTo>
                      <a:lnTo>
                        <a:pt x="755" y="726"/>
                      </a:lnTo>
                      <a:lnTo>
                        <a:pt x="753" y="721"/>
                      </a:lnTo>
                      <a:lnTo>
                        <a:pt x="751" y="715"/>
                      </a:lnTo>
                      <a:lnTo>
                        <a:pt x="748" y="709"/>
                      </a:lnTo>
                      <a:lnTo>
                        <a:pt x="746" y="704"/>
                      </a:lnTo>
                      <a:lnTo>
                        <a:pt x="744" y="700"/>
                      </a:lnTo>
                      <a:lnTo>
                        <a:pt x="742" y="694"/>
                      </a:lnTo>
                      <a:lnTo>
                        <a:pt x="740" y="690"/>
                      </a:lnTo>
                      <a:lnTo>
                        <a:pt x="738" y="686"/>
                      </a:lnTo>
                      <a:lnTo>
                        <a:pt x="736" y="685"/>
                      </a:lnTo>
                      <a:lnTo>
                        <a:pt x="734" y="679"/>
                      </a:lnTo>
                      <a:lnTo>
                        <a:pt x="732" y="673"/>
                      </a:lnTo>
                      <a:lnTo>
                        <a:pt x="731" y="667"/>
                      </a:lnTo>
                      <a:lnTo>
                        <a:pt x="729" y="660"/>
                      </a:lnTo>
                      <a:lnTo>
                        <a:pt x="727" y="654"/>
                      </a:lnTo>
                      <a:lnTo>
                        <a:pt x="727" y="648"/>
                      </a:lnTo>
                      <a:lnTo>
                        <a:pt x="725" y="645"/>
                      </a:lnTo>
                      <a:lnTo>
                        <a:pt x="723" y="639"/>
                      </a:lnTo>
                      <a:lnTo>
                        <a:pt x="723" y="635"/>
                      </a:lnTo>
                      <a:lnTo>
                        <a:pt x="723" y="629"/>
                      </a:lnTo>
                      <a:lnTo>
                        <a:pt x="721" y="624"/>
                      </a:lnTo>
                      <a:lnTo>
                        <a:pt x="721" y="618"/>
                      </a:lnTo>
                      <a:lnTo>
                        <a:pt x="719" y="610"/>
                      </a:lnTo>
                      <a:lnTo>
                        <a:pt x="717" y="605"/>
                      </a:lnTo>
                      <a:lnTo>
                        <a:pt x="717" y="599"/>
                      </a:lnTo>
                      <a:lnTo>
                        <a:pt x="715" y="593"/>
                      </a:lnTo>
                      <a:lnTo>
                        <a:pt x="713" y="586"/>
                      </a:lnTo>
                      <a:lnTo>
                        <a:pt x="713" y="580"/>
                      </a:lnTo>
                      <a:lnTo>
                        <a:pt x="713" y="572"/>
                      </a:lnTo>
                      <a:lnTo>
                        <a:pt x="713" y="567"/>
                      </a:lnTo>
                      <a:lnTo>
                        <a:pt x="711" y="559"/>
                      </a:lnTo>
                      <a:lnTo>
                        <a:pt x="710" y="552"/>
                      </a:lnTo>
                      <a:lnTo>
                        <a:pt x="710" y="546"/>
                      </a:lnTo>
                      <a:lnTo>
                        <a:pt x="710" y="538"/>
                      </a:lnTo>
                      <a:lnTo>
                        <a:pt x="708" y="531"/>
                      </a:lnTo>
                      <a:lnTo>
                        <a:pt x="708" y="525"/>
                      </a:lnTo>
                      <a:lnTo>
                        <a:pt x="706" y="517"/>
                      </a:lnTo>
                      <a:lnTo>
                        <a:pt x="706" y="510"/>
                      </a:lnTo>
                      <a:lnTo>
                        <a:pt x="706" y="504"/>
                      </a:lnTo>
                      <a:lnTo>
                        <a:pt x="704" y="496"/>
                      </a:lnTo>
                      <a:lnTo>
                        <a:pt x="704" y="489"/>
                      </a:lnTo>
                      <a:lnTo>
                        <a:pt x="702" y="483"/>
                      </a:lnTo>
                      <a:lnTo>
                        <a:pt x="702" y="476"/>
                      </a:lnTo>
                      <a:lnTo>
                        <a:pt x="702" y="468"/>
                      </a:lnTo>
                      <a:lnTo>
                        <a:pt x="700" y="462"/>
                      </a:lnTo>
                      <a:lnTo>
                        <a:pt x="700" y="457"/>
                      </a:lnTo>
                      <a:lnTo>
                        <a:pt x="700" y="449"/>
                      </a:lnTo>
                      <a:lnTo>
                        <a:pt x="698" y="443"/>
                      </a:lnTo>
                      <a:lnTo>
                        <a:pt x="698" y="438"/>
                      </a:lnTo>
                      <a:lnTo>
                        <a:pt x="698" y="432"/>
                      </a:lnTo>
                      <a:lnTo>
                        <a:pt x="696" y="426"/>
                      </a:lnTo>
                      <a:lnTo>
                        <a:pt x="696" y="420"/>
                      </a:lnTo>
                      <a:lnTo>
                        <a:pt x="696" y="415"/>
                      </a:lnTo>
                      <a:lnTo>
                        <a:pt x="696" y="411"/>
                      </a:lnTo>
                      <a:lnTo>
                        <a:pt x="694" y="405"/>
                      </a:lnTo>
                      <a:lnTo>
                        <a:pt x="694" y="400"/>
                      </a:lnTo>
                      <a:lnTo>
                        <a:pt x="692" y="396"/>
                      </a:lnTo>
                      <a:lnTo>
                        <a:pt x="692" y="392"/>
                      </a:lnTo>
                      <a:lnTo>
                        <a:pt x="692" y="384"/>
                      </a:lnTo>
                      <a:lnTo>
                        <a:pt x="692" y="377"/>
                      </a:lnTo>
                      <a:lnTo>
                        <a:pt x="692" y="373"/>
                      </a:lnTo>
                      <a:lnTo>
                        <a:pt x="692" y="369"/>
                      </a:lnTo>
                      <a:lnTo>
                        <a:pt x="692" y="365"/>
                      </a:lnTo>
                      <a:lnTo>
                        <a:pt x="692" y="363"/>
                      </a:lnTo>
                      <a:lnTo>
                        <a:pt x="691" y="360"/>
                      </a:lnTo>
                      <a:lnTo>
                        <a:pt x="689" y="354"/>
                      </a:lnTo>
                      <a:lnTo>
                        <a:pt x="689" y="346"/>
                      </a:lnTo>
                      <a:lnTo>
                        <a:pt x="687" y="341"/>
                      </a:lnTo>
                      <a:lnTo>
                        <a:pt x="687" y="335"/>
                      </a:lnTo>
                      <a:lnTo>
                        <a:pt x="685" y="329"/>
                      </a:lnTo>
                      <a:lnTo>
                        <a:pt x="685" y="323"/>
                      </a:lnTo>
                      <a:lnTo>
                        <a:pt x="683" y="318"/>
                      </a:lnTo>
                      <a:lnTo>
                        <a:pt x="683" y="312"/>
                      </a:lnTo>
                      <a:lnTo>
                        <a:pt x="681" y="306"/>
                      </a:lnTo>
                      <a:lnTo>
                        <a:pt x="681" y="301"/>
                      </a:lnTo>
                      <a:lnTo>
                        <a:pt x="681" y="293"/>
                      </a:lnTo>
                      <a:lnTo>
                        <a:pt x="679" y="287"/>
                      </a:lnTo>
                      <a:lnTo>
                        <a:pt x="677" y="280"/>
                      </a:lnTo>
                      <a:lnTo>
                        <a:pt x="677" y="274"/>
                      </a:lnTo>
                      <a:lnTo>
                        <a:pt x="675" y="268"/>
                      </a:lnTo>
                      <a:lnTo>
                        <a:pt x="675" y="263"/>
                      </a:lnTo>
                      <a:lnTo>
                        <a:pt x="673" y="257"/>
                      </a:lnTo>
                      <a:lnTo>
                        <a:pt x="673" y="251"/>
                      </a:lnTo>
                      <a:lnTo>
                        <a:pt x="673" y="246"/>
                      </a:lnTo>
                      <a:lnTo>
                        <a:pt x="672" y="240"/>
                      </a:lnTo>
                      <a:lnTo>
                        <a:pt x="672" y="236"/>
                      </a:lnTo>
                      <a:lnTo>
                        <a:pt x="672" y="232"/>
                      </a:lnTo>
                      <a:lnTo>
                        <a:pt x="672" y="225"/>
                      </a:lnTo>
                      <a:lnTo>
                        <a:pt x="672" y="219"/>
                      </a:lnTo>
                      <a:lnTo>
                        <a:pt x="672" y="215"/>
                      </a:lnTo>
                      <a:lnTo>
                        <a:pt x="672" y="208"/>
                      </a:lnTo>
                      <a:lnTo>
                        <a:pt x="672" y="202"/>
                      </a:lnTo>
                      <a:lnTo>
                        <a:pt x="672" y="194"/>
                      </a:lnTo>
                      <a:lnTo>
                        <a:pt x="673" y="187"/>
                      </a:lnTo>
                      <a:lnTo>
                        <a:pt x="673" y="179"/>
                      </a:lnTo>
                      <a:lnTo>
                        <a:pt x="673" y="173"/>
                      </a:lnTo>
                      <a:lnTo>
                        <a:pt x="673" y="170"/>
                      </a:lnTo>
                      <a:lnTo>
                        <a:pt x="675" y="166"/>
                      </a:lnTo>
                      <a:lnTo>
                        <a:pt x="675" y="162"/>
                      </a:lnTo>
                      <a:lnTo>
                        <a:pt x="675" y="156"/>
                      </a:lnTo>
                      <a:lnTo>
                        <a:pt x="675" y="152"/>
                      </a:lnTo>
                      <a:lnTo>
                        <a:pt x="675" y="147"/>
                      </a:lnTo>
                      <a:lnTo>
                        <a:pt x="677" y="143"/>
                      </a:lnTo>
                      <a:lnTo>
                        <a:pt x="677" y="139"/>
                      </a:lnTo>
                      <a:lnTo>
                        <a:pt x="677" y="133"/>
                      </a:lnTo>
                      <a:lnTo>
                        <a:pt x="677" y="130"/>
                      </a:lnTo>
                      <a:lnTo>
                        <a:pt x="677" y="126"/>
                      </a:lnTo>
                      <a:lnTo>
                        <a:pt x="677" y="122"/>
                      </a:lnTo>
                      <a:lnTo>
                        <a:pt x="677" y="116"/>
                      </a:lnTo>
                      <a:lnTo>
                        <a:pt x="677" y="113"/>
                      </a:lnTo>
                      <a:lnTo>
                        <a:pt x="677" y="111"/>
                      </a:lnTo>
                      <a:lnTo>
                        <a:pt x="677" y="101"/>
                      </a:lnTo>
                      <a:lnTo>
                        <a:pt x="679" y="97"/>
                      </a:lnTo>
                      <a:lnTo>
                        <a:pt x="677" y="90"/>
                      </a:lnTo>
                      <a:lnTo>
                        <a:pt x="675" y="84"/>
                      </a:lnTo>
                      <a:lnTo>
                        <a:pt x="673" y="76"/>
                      </a:lnTo>
                      <a:lnTo>
                        <a:pt x="672" y="69"/>
                      </a:lnTo>
                      <a:lnTo>
                        <a:pt x="668" y="59"/>
                      </a:lnTo>
                      <a:lnTo>
                        <a:pt x="664" y="52"/>
                      </a:lnTo>
                      <a:lnTo>
                        <a:pt x="662" y="44"/>
                      </a:lnTo>
                      <a:lnTo>
                        <a:pt x="658" y="37"/>
                      </a:lnTo>
                      <a:lnTo>
                        <a:pt x="654" y="29"/>
                      </a:lnTo>
                      <a:lnTo>
                        <a:pt x="651" y="23"/>
                      </a:lnTo>
                      <a:lnTo>
                        <a:pt x="649" y="16"/>
                      </a:lnTo>
                      <a:lnTo>
                        <a:pt x="647" y="10"/>
                      </a:lnTo>
                      <a:lnTo>
                        <a:pt x="643" y="6"/>
                      </a:lnTo>
                      <a:lnTo>
                        <a:pt x="641" y="2"/>
                      </a:lnTo>
                      <a:lnTo>
                        <a:pt x="641" y="0"/>
                      </a:lnTo>
                      <a:lnTo>
                        <a:pt x="673" y="2"/>
                      </a:lnTo>
                      <a:lnTo>
                        <a:pt x="673" y="4"/>
                      </a:lnTo>
                      <a:lnTo>
                        <a:pt x="673" y="8"/>
                      </a:lnTo>
                      <a:lnTo>
                        <a:pt x="677" y="14"/>
                      </a:lnTo>
                      <a:lnTo>
                        <a:pt x="679" y="19"/>
                      </a:lnTo>
                      <a:lnTo>
                        <a:pt x="681" y="25"/>
                      </a:lnTo>
                      <a:lnTo>
                        <a:pt x="685" y="33"/>
                      </a:lnTo>
                      <a:lnTo>
                        <a:pt x="687" y="40"/>
                      </a:lnTo>
                      <a:lnTo>
                        <a:pt x="689" y="48"/>
                      </a:lnTo>
                      <a:lnTo>
                        <a:pt x="692" y="56"/>
                      </a:lnTo>
                      <a:lnTo>
                        <a:pt x="692" y="59"/>
                      </a:lnTo>
                      <a:lnTo>
                        <a:pt x="694" y="65"/>
                      </a:lnTo>
                      <a:lnTo>
                        <a:pt x="696" y="69"/>
                      </a:lnTo>
                      <a:lnTo>
                        <a:pt x="696" y="75"/>
                      </a:lnTo>
                      <a:lnTo>
                        <a:pt x="698" y="82"/>
                      </a:lnTo>
                      <a:lnTo>
                        <a:pt x="702" y="90"/>
                      </a:lnTo>
                      <a:lnTo>
                        <a:pt x="702" y="97"/>
                      </a:lnTo>
                      <a:lnTo>
                        <a:pt x="702" y="105"/>
                      </a:lnTo>
                      <a:lnTo>
                        <a:pt x="702" y="111"/>
                      </a:lnTo>
                      <a:lnTo>
                        <a:pt x="702" y="118"/>
                      </a:lnTo>
                      <a:lnTo>
                        <a:pt x="702" y="122"/>
                      </a:lnTo>
                      <a:lnTo>
                        <a:pt x="702" y="126"/>
                      </a:lnTo>
                      <a:lnTo>
                        <a:pt x="702" y="132"/>
                      </a:lnTo>
                      <a:lnTo>
                        <a:pt x="702" y="135"/>
                      </a:lnTo>
                      <a:lnTo>
                        <a:pt x="700" y="139"/>
                      </a:lnTo>
                      <a:lnTo>
                        <a:pt x="700" y="143"/>
                      </a:lnTo>
                      <a:lnTo>
                        <a:pt x="700" y="149"/>
                      </a:lnTo>
                      <a:lnTo>
                        <a:pt x="700" y="152"/>
                      </a:lnTo>
                      <a:lnTo>
                        <a:pt x="700" y="158"/>
                      </a:lnTo>
                      <a:lnTo>
                        <a:pt x="700" y="162"/>
                      </a:lnTo>
                      <a:lnTo>
                        <a:pt x="700" y="168"/>
                      </a:lnTo>
                      <a:lnTo>
                        <a:pt x="700" y="171"/>
                      </a:lnTo>
                      <a:lnTo>
                        <a:pt x="698" y="179"/>
                      </a:lnTo>
                      <a:lnTo>
                        <a:pt x="698" y="189"/>
                      </a:lnTo>
                      <a:lnTo>
                        <a:pt x="696" y="194"/>
                      </a:lnTo>
                      <a:lnTo>
                        <a:pt x="696" y="202"/>
                      </a:lnTo>
                      <a:lnTo>
                        <a:pt x="696" y="208"/>
                      </a:lnTo>
                      <a:lnTo>
                        <a:pt x="696" y="211"/>
                      </a:lnTo>
                      <a:lnTo>
                        <a:pt x="696" y="215"/>
                      </a:lnTo>
                      <a:lnTo>
                        <a:pt x="696" y="215"/>
                      </a:lnTo>
                      <a:lnTo>
                        <a:pt x="696" y="217"/>
                      </a:lnTo>
                      <a:lnTo>
                        <a:pt x="696" y="223"/>
                      </a:lnTo>
                      <a:lnTo>
                        <a:pt x="696" y="227"/>
                      </a:lnTo>
                      <a:lnTo>
                        <a:pt x="698" y="232"/>
                      </a:lnTo>
                      <a:lnTo>
                        <a:pt x="700" y="236"/>
                      </a:lnTo>
                      <a:lnTo>
                        <a:pt x="702" y="244"/>
                      </a:lnTo>
                      <a:lnTo>
                        <a:pt x="702" y="249"/>
                      </a:lnTo>
                      <a:lnTo>
                        <a:pt x="702" y="257"/>
                      </a:lnTo>
                      <a:lnTo>
                        <a:pt x="704" y="265"/>
                      </a:lnTo>
                      <a:lnTo>
                        <a:pt x="706" y="274"/>
                      </a:lnTo>
                      <a:lnTo>
                        <a:pt x="706" y="278"/>
                      </a:lnTo>
                      <a:lnTo>
                        <a:pt x="708" y="282"/>
                      </a:lnTo>
                      <a:lnTo>
                        <a:pt x="708" y="287"/>
                      </a:lnTo>
                      <a:lnTo>
                        <a:pt x="710" y="291"/>
                      </a:lnTo>
                      <a:lnTo>
                        <a:pt x="710" y="297"/>
                      </a:lnTo>
                      <a:lnTo>
                        <a:pt x="710" y="303"/>
                      </a:lnTo>
                      <a:lnTo>
                        <a:pt x="711" y="306"/>
                      </a:lnTo>
                      <a:lnTo>
                        <a:pt x="713" y="312"/>
                      </a:lnTo>
                      <a:lnTo>
                        <a:pt x="713" y="316"/>
                      </a:lnTo>
                      <a:lnTo>
                        <a:pt x="713" y="322"/>
                      </a:lnTo>
                      <a:lnTo>
                        <a:pt x="713" y="325"/>
                      </a:lnTo>
                      <a:lnTo>
                        <a:pt x="715" y="331"/>
                      </a:lnTo>
                      <a:lnTo>
                        <a:pt x="715" y="335"/>
                      </a:lnTo>
                      <a:lnTo>
                        <a:pt x="717" y="341"/>
                      </a:lnTo>
                      <a:lnTo>
                        <a:pt x="717" y="346"/>
                      </a:lnTo>
                      <a:lnTo>
                        <a:pt x="719" y="352"/>
                      </a:lnTo>
                      <a:lnTo>
                        <a:pt x="719" y="356"/>
                      </a:lnTo>
                      <a:lnTo>
                        <a:pt x="721" y="361"/>
                      </a:lnTo>
                      <a:lnTo>
                        <a:pt x="721" y="367"/>
                      </a:lnTo>
                      <a:lnTo>
                        <a:pt x="723" y="373"/>
                      </a:lnTo>
                      <a:lnTo>
                        <a:pt x="723" y="377"/>
                      </a:lnTo>
                      <a:lnTo>
                        <a:pt x="723" y="382"/>
                      </a:lnTo>
                      <a:lnTo>
                        <a:pt x="725" y="388"/>
                      </a:lnTo>
                      <a:lnTo>
                        <a:pt x="727" y="394"/>
                      </a:lnTo>
                      <a:lnTo>
                        <a:pt x="727" y="398"/>
                      </a:lnTo>
                      <a:lnTo>
                        <a:pt x="727" y="401"/>
                      </a:lnTo>
                      <a:lnTo>
                        <a:pt x="727" y="407"/>
                      </a:lnTo>
                      <a:lnTo>
                        <a:pt x="729" y="411"/>
                      </a:lnTo>
                      <a:lnTo>
                        <a:pt x="729" y="417"/>
                      </a:lnTo>
                      <a:lnTo>
                        <a:pt x="731" y="420"/>
                      </a:lnTo>
                      <a:lnTo>
                        <a:pt x="731" y="426"/>
                      </a:lnTo>
                      <a:lnTo>
                        <a:pt x="731" y="430"/>
                      </a:lnTo>
                      <a:lnTo>
                        <a:pt x="731" y="434"/>
                      </a:lnTo>
                      <a:lnTo>
                        <a:pt x="732" y="439"/>
                      </a:lnTo>
                      <a:lnTo>
                        <a:pt x="732" y="443"/>
                      </a:lnTo>
                      <a:lnTo>
                        <a:pt x="734" y="447"/>
                      </a:lnTo>
                      <a:lnTo>
                        <a:pt x="734" y="455"/>
                      </a:lnTo>
                      <a:lnTo>
                        <a:pt x="736" y="462"/>
                      </a:lnTo>
                      <a:lnTo>
                        <a:pt x="736" y="468"/>
                      </a:lnTo>
                      <a:lnTo>
                        <a:pt x="738" y="476"/>
                      </a:lnTo>
                      <a:lnTo>
                        <a:pt x="738" y="483"/>
                      </a:lnTo>
                      <a:lnTo>
                        <a:pt x="738" y="491"/>
                      </a:lnTo>
                      <a:lnTo>
                        <a:pt x="738" y="498"/>
                      </a:lnTo>
                      <a:lnTo>
                        <a:pt x="740" y="506"/>
                      </a:lnTo>
                      <a:lnTo>
                        <a:pt x="740" y="514"/>
                      </a:lnTo>
                      <a:lnTo>
                        <a:pt x="742" y="523"/>
                      </a:lnTo>
                      <a:lnTo>
                        <a:pt x="742" y="529"/>
                      </a:lnTo>
                      <a:lnTo>
                        <a:pt x="742" y="538"/>
                      </a:lnTo>
                      <a:lnTo>
                        <a:pt x="742" y="544"/>
                      </a:lnTo>
                      <a:lnTo>
                        <a:pt x="744" y="553"/>
                      </a:lnTo>
                      <a:lnTo>
                        <a:pt x="744" y="561"/>
                      </a:lnTo>
                      <a:lnTo>
                        <a:pt x="744" y="569"/>
                      </a:lnTo>
                      <a:lnTo>
                        <a:pt x="746" y="576"/>
                      </a:lnTo>
                      <a:lnTo>
                        <a:pt x="746" y="586"/>
                      </a:lnTo>
                      <a:lnTo>
                        <a:pt x="746" y="591"/>
                      </a:lnTo>
                      <a:lnTo>
                        <a:pt x="748" y="599"/>
                      </a:lnTo>
                      <a:lnTo>
                        <a:pt x="748" y="605"/>
                      </a:lnTo>
                      <a:lnTo>
                        <a:pt x="750" y="614"/>
                      </a:lnTo>
                      <a:lnTo>
                        <a:pt x="750" y="620"/>
                      </a:lnTo>
                      <a:lnTo>
                        <a:pt x="750" y="628"/>
                      </a:lnTo>
                      <a:lnTo>
                        <a:pt x="751" y="633"/>
                      </a:lnTo>
                      <a:lnTo>
                        <a:pt x="751" y="641"/>
                      </a:lnTo>
                      <a:lnTo>
                        <a:pt x="751" y="647"/>
                      </a:lnTo>
                      <a:lnTo>
                        <a:pt x="753" y="652"/>
                      </a:lnTo>
                      <a:lnTo>
                        <a:pt x="755" y="656"/>
                      </a:lnTo>
                      <a:lnTo>
                        <a:pt x="755" y="662"/>
                      </a:lnTo>
                      <a:lnTo>
                        <a:pt x="757" y="666"/>
                      </a:lnTo>
                      <a:lnTo>
                        <a:pt x="759" y="669"/>
                      </a:lnTo>
                      <a:lnTo>
                        <a:pt x="759" y="673"/>
                      </a:lnTo>
                      <a:lnTo>
                        <a:pt x="761" y="677"/>
                      </a:lnTo>
                      <a:lnTo>
                        <a:pt x="761" y="681"/>
                      </a:lnTo>
                      <a:lnTo>
                        <a:pt x="763" y="683"/>
                      </a:lnTo>
                      <a:lnTo>
                        <a:pt x="765" y="686"/>
                      </a:lnTo>
                      <a:lnTo>
                        <a:pt x="767" y="692"/>
                      </a:lnTo>
                      <a:lnTo>
                        <a:pt x="769" y="696"/>
                      </a:lnTo>
                      <a:lnTo>
                        <a:pt x="770" y="700"/>
                      </a:lnTo>
                      <a:lnTo>
                        <a:pt x="772" y="705"/>
                      </a:lnTo>
                      <a:lnTo>
                        <a:pt x="774" y="711"/>
                      </a:lnTo>
                      <a:lnTo>
                        <a:pt x="776" y="715"/>
                      </a:lnTo>
                      <a:lnTo>
                        <a:pt x="780" y="723"/>
                      </a:lnTo>
                      <a:lnTo>
                        <a:pt x="782" y="726"/>
                      </a:lnTo>
                      <a:lnTo>
                        <a:pt x="784" y="734"/>
                      </a:lnTo>
                      <a:lnTo>
                        <a:pt x="786" y="740"/>
                      </a:lnTo>
                      <a:lnTo>
                        <a:pt x="789" y="745"/>
                      </a:lnTo>
                      <a:lnTo>
                        <a:pt x="791" y="751"/>
                      </a:lnTo>
                      <a:lnTo>
                        <a:pt x="795" y="759"/>
                      </a:lnTo>
                      <a:lnTo>
                        <a:pt x="797" y="764"/>
                      </a:lnTo>
                      <a:lnTo>
                        <a:pt x="799" y="770"/>
                      </a:lnTo>
                      <a:lnTo>
                        <a:pt x="801" y="778"/>
                      </a:lnTo>
                      <a:lnTo>
                        <a:pt x="805" y="783"/>
                      </a:lnTo>
                      <a:lnTo>
                        <a:pt x="805" y="789"/>
                      </a:lnTo>
                      <a:lnTo>
                        <a:pt x="808" y="793"/>
                      </a:lnTo>
                      <a:lnTo>
                        <a:pt x="810" y="799"/>
                      </a:lnTo>
                      <a:lnTo>
                        <a:pt x="812" y="806"/>
                      </a:lnTo>
                      <a:lnTo>
                        <a:pt x="814" y="810"/>
                      </a:lnTo>
                      <a:lnTo>
                        <a:pt x="814" y="814"/>
                      </a:lnTo>
                      <a:lnTo>
                        <a:pt x="816" y="819"/>
                      </a:lnTo>
                      <a:lnTo>
                        <a:pt x="818" y="823"/>
                      </a:lnTo>
                      <a:lnTo>
                        <a:pt x="818" y="831"/>
                      </a:lnTo>
                      <a:lnTo>
                        <a:pt x="820" y="837"/>
                      </a:lnTo>
                      <a:lnTo>
                        <a:pt x="818" y="844"/>
                      </a:lnTo>
                      <a:lnTo>
                        <a:pt x="812" y="852"/>
                      </a:lnTo>
                      <a:lnTo>
                        <a:pt x="808" y="854"/>
                      </a:lnTo>
                      <a:lnTo>
                        <a:pt x="805" y="857"/>
                      </a:lnTo>
                      <a:lnTo>
                        <a:pt x="801" y="861"/>
                      </a:lnTo>
                      <a:lnTo>
                        <a:pt x="797" y="863"/>
                      </a:lnTo>
                      <a:lnTo>
                        <a:pt x="789" y="865"/>
                      </a:lnTo>
                      <a:lnTo>
                        <a:pt x="784" y="869"/>
                      </a:lnTo>
                      <a:lnTo>
                        <a:pt x="780" y="871"/>
                      </a:lnTo>
                      <a:lnTo>
                        <a:pt x="776" y="873"/>
                      </a:lnTo>
                      <a:lnTo>
                        <a:pt x="772" y="875"/>
                      </a:lnTo>
                      <a:lnTo>
                        <a:pt x="769" y="876"/>
                      </a:lnTo>
                      <a:lnTo>
                        <a:pt x="763" y="878"/>
                      </a:lnTo>
                      <a:lnTo>
                        <a:pt x="757" y="880"/>
                      </a:lnTo>
                      <a:lnTo>
                        <a:pt x="751" y="882"/>
                      </a:lnTo>
                      <a:lnTo>
                        <a:pt x="746" y="884"/>
                      </a:lnTo>
                      <a:lnTo>
                        <a:pt x="740" y="886"/>
                      </a:lnTo>
                      <a:lnTo>
                        <a:pt x="734" y="890"/>
                      </a:lnTo>
                      <a:lnTo>
                        <a:pt x="729" y="892"/>
                      </a:lnTo>
                      <a:lnTo>
                        <a:pt x="723" y="895"/>
                      </a:lnTo>
                      <a:lnTo>
                        <a:pt x="715" y="897"/>
                      </a:lnTo>
                      <a:lnTo>
                        <a:pt x="708" y="899"/>
                      </a:lnTo>
                      <a:lnTo>
                        <a:pt x="700" y="903"/>
                      </a:lnTo>
                      <a:lnTo>
                        <a:pt x="692" y="907"/>
                      </a:lnTo>
                      <a:lnTo>
                        <a:pt x="685" y="909"/>
                      </a:lnTo>
                      <a:lnTo>
                        <a:pt x="677" y="911"/>
                      </a:lnTo>
                      <a:lnTo>
                        <a:pt x="670" y="914"/>
                      </a:lnTo>
                      <a:lnTo>
                        <a:pt x="662" y="916"/>
                      </a:lnTo>
                      <a:lnTo>
                        <a:pt x="658" y="918"/>
                      </a:lnTo>
                      <a:lnTo>
                        <a:pt x="654" y="918"/>
                      </a:lnTo>
                      <a:lnTo>
                        <a:pt x="649" y="920"/>
                      </a:lnTo>
                      <a:lnTo>
                        <a:pt x="645" y="922"/>
                      </a:lnTo>
                      <a:lnTo>
                        <a:pt x="641" y="922"/>
                      </a:lnTo>
                      <a:lnTo>
                        <a:pt x="637" y="924"/>
                      </a:lnTo>
                      <a:lnTo>
                        <a:pt x="632" y="924"/>
                      </a:lnTo>
                      <a:lnTo>
                        <a:pt x="628" y="926"/>
                      </a:lnTo>
                      <a:lnTo>
                        <a:pt x="624" y="928"/>
                      </a:lnTo>
                      <a:lnTo>
                        <a:pt x="618" y="928"/>
                      </a:lnTo>
                      <a:lnTo>
                        <a:pt x="615" y="930"/>
                      </a:lnTo>
                      <a:lnTo>
                        <a:pt x="611" y="932"/>
                      </a:lnTo>
                      <a:lnTo>
                        <a:pt x="605" y="932"/>
                      </a:lnTo>
                      <a:lnTo>
                        <a:pt x="601" y="933"/>
                      </a:lnTo>
                      <a:lnTo>
                        <a:pt x="597" y="933"/>
                      </a:lnTo>
                      <a:lnTo>
                        <a:pt x="594" y="935"/>
                      </a:lnTo>
                      <a:lnTo>
                        <a:pt x="588" y="935"/>
                      </a:lnTo>
                      <a:lnTo>
                        <a:pt x="582" y="937"/>
                      </a:lnTo>
                      <a:lnTo>
                        <a:pt x="577" y="937"/>
                      </a:lnTo>
                      <a:lnTo>
                        <a:pt x="573" y="939"/>
                      </a:lnTo>
                      <a:lnTo>
                        <a:pt x="567" y="939"/>
                      </a:lnTo>
                      <a:lnTo>
                        <a:pt x="563" y="939"/>
                      </a:lnTo>
                      <a:lnTo>
                        <a:pt x="557" y="941"/>
                      </a:lnTo>
                      <a:lnTo>
                        <a:pt x="554" y="943"/>
                      </a:lnTo>
                      <a:lnTo>
                        <a:pt x="548" y="943"/>
                      </a:lnTo>
                      <a:lnTo>
                        <a:pt x="542" y="943"/>
                      </a:lnTo>
                      <a:lnTo>
                        <a:pt x="537" y="943"/>
                      </a:lnTo>
                      <a:lnTo>
                        <a:pt x="533" y="945"/>
                      </a:lnTo>
                      <a:lnTo>
                        <a:pt x="527" y="945"/>
                      </a:lnTo>
                      <a:lnTo>
                        <a:pt x="521" y="945"/>
                      </a:lnTo>
                      <a:lnTo>
                        <a:pt x="516" y="947"/>
                      </a:lnTo>
                      <a:lnTo>
                        <a:pt x="512" y="947"/>
                      </a:lnTo>
                      <a:lnTo>
                        <a:pt x="506" y="947"/>
                      </a:lnTo>
                      <a:lnTo>
                        <a:pt x="500" y="949"/>
                      </a:lnTo>
                      <a:lnTo>
                        <a:pt x="495" y="949"/>
                      </a:lnTo>
                      <a:lnTo>
                        <a:pt x="489" y="949"/>
                      </a:lnTo>
                      <a:lnTo>
                        <a:pt x="483" y="949"/>
                      </a:lnTo>
                      <a:lnTo>
                        <a:pt x="478" y="949"/>
                      </a:lnTo>
                      <a:lnTo>
                        <a:pt x="472" y="949"/>
                      </a:lnTo>
                      <a:lnTo>
                        <a:pt x="466" y="949"/>
                      </a:lnTo>
                      <a:lnTo>
                        <a:pt x="461" y="949"/>
                      </a:lnTo>
                      <a:lnTo>
                        <a:pt x="455" y="949"/>
                      </a:lnTo>
                      <a:lnTo>
                        <a:pt x="447" y="949"/>
                      </a:lnTo>
                      <a:lnTo>
                        <a:pt x="443" y="949"/>
                      </a:lnTo>
                      <a:lnTo>
                        <a:pt x="436" y="949"/>
                      </a:lnTo>
                      <a:lnTo>
                        <a:pt x="432" y="949"/>
                      </a:lnTo>
                      <a:lnTo>
                        <a:pt x="424" y="949"/>
                      </a:lnTo>
                      <a:lnTo>
                        <a:pt x="419" y="949"/>
                      </a:lnTo>
                      <a:lnTo>
                        <a:pt x="413" y="949"/>
                      </a:lnTo>
                      <a:lnTo>
                        <a:pt x="407" y="949"/>
                      </a:lnTo>
                      <a:lnTo>
                        <a:pt x="400" y="947"/>
                      </a:lnTo>
                      <a:lnTo>
                        <a:pt x="394" y="947"/>
                      </a:lnTo>
                      <a:lnTo>
                        <a:pt x="386" y="947"/>
                      </a:lnTo>
                      <a:lnTo>
                        <a:pt x="379" y="945"/>
                      </a:lnTo>
                      <a:lnTo>
                        <a:pt x="373" y="945"/>
                      </a:lnTo>
                      <a:lnTo>
                        <a:pt x="365" y="945"/>
                      </a:lnTo>
                      <a:lnTo>
                        <a:pt x="358" y="943"/>
                      </a:lnTo>
                      <a:lnTo>
                        <a:pt x="352" y="943"/>
                      </a:lnTo>
                      <a:lnTo>
                        <a:pt x="345" y="941"/>
                      </a:lnTo>
                      <a:lnTo>
                        <a:pt x="337" y="941"/>
                      </a:lnTo>
                      <a:lnTo>
                        <a:pt x="331" y="939"/>
                      </a:lnTo>
                      <a:lnTo>
                        <a:pt x="324" y="939"/>
                      </a:lnTo>
                      <a:lnTo>
                        <a:pt x="316" y="937"/>
                      </a:lnTo>
                      <a:lnTo>
                        <a:pt x="310" y="937"/>
                      </a:lnTo>
                      <a:lnTo>
                        <a:pt x="303" y="935"/>
                      </a:lnTo>
                      <a:lnTo>
                        <a:pt x="295" y="933"/>
                      </a:lnTo>
                      <a:lnTo>
                        <a:pt x="288" y="932"/>
                      </a:lnTo>
                      <a:lnTo>
                        <a:pt x="280" y="932"/>
                      </a:lnTo>
                      <a:lnTo>
                        <a:pt x="272" y="930"/>
                      </a:lnTo>
                      <a:lnTo>
                        <a:pt x="265" y="928"/>
                      </a:lnTo>
                      <a:lnTo>
                        <a:pt x="257" y="926"/>
                      </a:lnTo>
                      <a:lnTo>
                        <a:pt x="250" y="926"/>
                      </a:lnTo>
                      <a:lnTo>
                        <a:pt x="242" y="924"/>
                      </a:lnTo>
                      <a:lnTo>
                        <a:pt x="234" y="922"/>
                      </a:lnTo>
                      <a:lnTo>
                        <a:pt x="227" y="918"/>
                      </a:lnTo>
                      <a:lnTo>
                        <a:pt x="219" y="918"/>
                      </a:lnTo>
                      <a:lnTo>
                        <a:pt x="211" y="914"/>
                      </a:lnTo>
                      <a:lnTo>
                        <a:pt x="204" y="914"/>
                      </a:lnTo>
                      <a:lnTo>
                        <a:pt x="198" y="913"/>
                      </a:lnTo>
                      <a:lnTo>
                        <a:pt x="191" y="911"/>
                      </a:lnTo>
                      <a:lnTo>
                        <a:pt x="183" y="907"/>
                      </a:lnTo>
                      <a:lnTo>
                        <a:pt x="175" y="905"/>
                      </a:lnTo>
                      <a:lnTo>
                        <a:pt x="168" y="903"/>
                      </a:lnTo>
                      <a:lnTo>
                        <a:pt x="160" y="901"/>
                      </a:lnTo>
                      <a:lnTo>
                        <a:pt x="154" y="897"/>
                      </a:lnTo>
                      <a:lnTo>
                        <a:pt x="147" y="895"/>
                      </a:lnTo>
                      <a:lnTo>
                        <a:pt x="139" y="894"/>
                      </a:lnTo>
                      <a:lnTo>
                        <a:pt x="134" y="892"/>
                      </a:lnTo>
                      <a:lnTo>
                        <a:pt x="126" y="888"/>
                      </a:lnTo>
                      <a:lnTo>
                        <a:pt x="118" y="884"/>
                      </a:lnTo>
                      <a:lnTo>
                        <a:pt x="113" y="882"/>
                      </a:lnTo>
                      <a:lnTo>
                        <a:pt x="105" y="880"/>
                      </a:lnTo>
                      <a:lnTo>
                        <a:pt x="97" y="876"/>
                      </a:lnTo>
                      <a:lnTo>
                        <a:pt x="92" y="873"/>
                      </a:lnTo>
                      <a:lnTo>
                        <a:pt x="86" y="871"/>
                      </a:lnTo>
                      <a:lnTo>
                        <a:pt x="80" y="869"/>
                      </a:lnTo>
                      <a:lnTo>
                        <a:pt x="73" y="865"/>
                      </a:lnTo>
                      <a:lnTo>
                        <a:pt x="67" y="861"/>
                      </a:lnTo>
                      <a:lnTo>
                        <a:pt x="61" y="857"/>
                      </a:lnTo>
                      <a:lnTo>
                        <a:pt x="56" y="856"/>
                      </a:lnTo>
                      <a:lnTo>
                        <a:pt x="50" y="852"/>
                      </a:lnTo>
                      <a:lnTo>
                        <a:pt x="44" y="848"/>
                      </a:lnTo>
                      <a:lnTo>
                        <a:pt x="40" y="844"/>
                      </a:lnTo>
                      <a:lnTo>
                        <a:pt x="35" y="840"/>
                      </a:lnTo>
                      <a:lnTo>
                        <a:pt x="31" y="837"/>
                      </a:lnTo>
                      <a:lnTo>
                        <a:pt x="25" y="833"/>
                      </a:lnTo>
                      <a:lnTo>
                        <a:pt x="19" y="829"/>
                      </a:lnTo>
                      <a:lnTo>
                        <a:pt x="16" y="827"/>
                      </a:lnTo>
                      <a:lnTo>
                        <a:pt x="12" y="821"/>
                      </a:lnTo>
                      <a:lnTo>
                        <a:pt x="6" y="819"/>
                      </a:lnTo>
                      <a:lnTo>
                        <a:pt x="2" y="814"/>
                      </a:lnTo>
                      <a:lnTo>
                        <a:pt x="0" y="810"/>
                      </a:lnTo>
                      <a:lnTo>
                        <a:pt x="33" y="800"/>
                      </a:lnTo>
                      <a:lnTo>
                        <a:pt x="33" y="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081240" y="5819760"/>
                  <a:ext cx="52560" cy="114120"/>
                </a:xfrm>
                <a:custGeom>
                  <a:avLst/>
                  <a:gdLst/>
                  <a:ahLst/>
                  <a:rect l="l" t="t" r="r" b="b"/>
                  <a:pathLst>
                    <a:path w="50" h="123">
                      <a:moveTo>
                        <a:pt x="50" y="21"/>
                      </a:moveTo>
                      <a:lnTo>
                        <a:pt x="48" y="21"/>
                      </a:lnTo>
                      <a:lnTo>
                        <a:pt x="46" y="24"/>
                      </a:lnTo>
                      <a:lnTo>
                        <a:pt x="40" y="32"/>
                      </a:lnTo>
                      <a:lnTo>
                        <a:pt x="37" y="40"/>
                      </a:lnTo>
                      <a:lnTo>
                        <a:pt x="33" y="43"/>
                      </a:lnTo>
                      <a:lnTo>
                        <a:pt x="31" y="47"/>
                      </a:lnTo>
                      <a:lnTo>
                        <a:pt x="29" y="53"/>
                      </a:lnTo>
                      <a:lnTo>
                        <a:pt x="27" y="57"/>
                      </a:lnTo>
                      <a:lnTo>
                        <a:pt x="25" y="61"/>
                      </a:lnTo>
                      <a:lnTo>
                        <a:pt x="25" y="66"/>
                      </a:lnTo>
                      <a:lnTo>
                        <a:pt x="23" y="70"/>
                      </a:lnTo>
                      <a:lnTo>
                        <a:pt x="23" y="74"/>
                      </a:lnTo>
                      <a:lnTo>
                        <a:pt x="25" y="81"/>
                      </a:lnTo>
                      <a:lnTo>
                        <a:pt x="27" y="89"/>
                      </a:lnTo>
                      <a:lnTo>
                        <a:pt x="31" y="95"/>
                      </a:lnTo>
                      <a:lnTo>
                        <a:pt x="37" y="100"/>
                      </a:lnTo>
                      <a:lnTo>
                        <a:pt x="40" y="104"/>
                      </a:lnTo>
                      <a:lnTo>
                        <a:pt x="46" y="108"/>
                      </a:lnTo>
                      <a:lnTo>
                        <a:pt x="48" y="108"/>
                      </a:lnTo>
                      <a:lnTo>
                        <a:pt x="50" y="110"/>
                      </a:lnTo>
                      <a:lnTo>
                        <a:pt x="42" y="123"/>
                      </a:lnTo>
                      <a:lnTo>
                        <a:pt x="38" y="123"/>
                      </a:lnTo>
                      <a:lnTo>
                        <a:pt x="33" y="121"/>
                      </a:lnTo>
                      <a:lnTo>
                        <a:pt x="27" y="118"/>
                      </a:lnTo>
                      <a:lnTo>
                        <a:pt x="19" y="112"/>
                      </a:lnTo>
                      <a:lnTo>
                        <a:pt x="16" y="108"/>
                      </a:lnTo>
                      <a:lnTo>
                        <a:pt x="12" y="104"/>
                      </a:lnTo>
                      <a:lnTo>
                        <a:pt x="8" y="100"/>
                      </a:lnTo>
                      <a:lnTo>
                        <a:pt x="6" y="95"/>
                      </a:lnTo>
                      <a:lnTo>
                        <a:pt x="2" y="87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49"/>
                      </a:lnTo>
                      <a:lnTo>
                        <a:pt x="4" y="45"/>
                      </a:lnTo>
                      <a:lnTo>
                        <a:pt x="6" y="38"/>
                      </a:lnTo>
                      <a:lnTo>
                        <a:pt x="10" y="32"/>
                      </a:lnTo>
                      <a:lnTo>
                        <a:pt x="12" y="24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5" y="13"/>
                      </a:lnTo>
                      <a:lnTo>
                        <a:pt x="33" y="7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50" y="21"/>
                      </a:lnTo>
                      <a:lnTo>
                        <a:pt x="5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824200" y="5840280"/>
                  <a:ext cx="87120" cy="111240"/>
                </a:xfrm>
                <a:custGeom>
                  <a:avLst/>
                  <a:gdLst/>
                  <a:ahLst/>
                  <a:rect l="l" t="t" r="r" b="b"/>
                  <a:pathLst>
                    <a:path w="86" h="121">
                      <a:moveTo>
                        <a:pt x="73" y="32"/>
                      </a:moveTo>
                      <a:lnTo>
                        <a:pt x="71" y="30"/>
                      </a:lnTo>
                      <a:lnTo>
                        <a:pt x="67" y="30"/>
                      </a:lnTo>
                      <a:lnTo>
                        <a:pt x="61" y="30"/>
                      </a:lnTo>
                      <a:lnTo>
                        <a:pt x="55" y="32"/>
                      </a:lnTo>
                      <a:lnTo>
                        <a:pt x="48" y="32"/>
                      </a:lnTo>
                      <a:lnTo>
                        <a:pt x="42" y="36"/>
                      </a:lnTo>
                      <a:lnTo>
                        <a:pt x="36" y="38"/>
                      </a:lnTo>
                      <a:lnTo>
                        <a:pt x="35" y="41"/>
                      </a:lnTo>
                      <a:lnTo>
                        <a:pt x="31" y="45"/>
                      </a:lnTo>
                      <a:lnTo>
                        <a:pt x="29" y="51"/>
                      </a:lnTo>
                      <a:lnTo>
                        <a:pt x="27" y="57"/>
                      </a:lnTo>
                      <a:lnTo>
                        <a:pt x="25" y="62"/>
                      </a:lnTo>
                      <a:lnTo>
                        <a:pt x="23" y="68"/>
                      </a:lnTo>
                      <a:lnTo>
                        <a:pt x="23" y="76"/>
                      </a:lnTo>
                      <a:lnTo>
                        <a:pt x="25" y="81"/>
                      </a:lnTo>
                      <a:lnTo>
                        <a:pt x="27" y="87"/>
                      </a:lnTo>
                      <a:lnTo>
                        <a:pt x="31" y="89"/>
                      </a:lnTo>
                      <a:lnTo>
                        <a:pt x="36" y="91"/>
                      </a:lnTo>
                      <a:lnTo>
                        <a:pt x="42" y="91"/>
                      </a:lnTo>
                      <a:lnTo>
                        <a:pt x="50" y="93"/>
                      </a:lnTo>
                      <a:lnTo>
                        <a:pt x="55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1"/>
                      </a:lnTo>
                      <a:lnTo>
                        <a:pt x="67" y="91"/>
                      </a:lnTo>
                      <a:lnTo>
                        <a:pt x="71" y="91"/>
                      </a:lnTo>
                      <a:lnTo>
                        <a:pt x="76" y="91"/>
                      </a:lnTo>
                      <a:lnTo>
                        <a:pt x="82" y="93"/>
                      </a:lnTo>
                      <a:lnTo>
                        <a:pt x="84" y="95"/>
                      </a:lnTo>
                      <a:lnTo>
                        <a:pt x="86" y="98"/>
                      </a:lnTo>
                      <a:lnTo>
                        <a:pt x="84" y="100"/>
                      </a:lnTo>
                      <a:lnTo>
                        <a:pt x="82" y="104"/>
                      </a:lnTo>
                      <a:lnTo>
                        <a:pt x="80" y="108"/>
                      </a:lnTo>
                      <a:lnTo>
                        <a:pt x="76" y="112"/>
                      </a:lnTo>
                      <a:lnTo>
                        <a:pt x="69" y="116"/>
                      </a:lnTo>
                      <a:lnTo>
                        <a:pt x="63" y="117"/>
                      </a:lnTo>
                      <a:lnTo>
                        <a:pt x="57" y="119"/>
                      </a:lnTo>
                      <a:lnTo>
                        <a:pt x="52" y="121"/>
                      </a:lnTo>
                      <a:lnTo>
                        <a:pt x="46" y="119"/>
                      </a:lnTo>
                      <a:lnTo>
                        <a:pt x="40" y="119"/>
                      </a:lnTo>
                      <a:lnTo>
                        <a:pt x="35" y="117"/>
                      </a:lnTo>
                      <a:lnTo>
                        <a:pt x="29" y="116"/>
                      </a:lnTo>
                      <a:lnTo>
                        <a:pt x="23" y="112"/>
                      </a:lnTo>
                      <a:lnTo>
                        <a:pt x="19" y="108"/>
                      </a:lnTo>
                      <a:lnTo>
                        <a:pt x="16" y="104"/>
                      </a:lnTo>
                      <a:lnTo>
                        <a:pt x="10" y="98"/>
                      </a:lnTo>
                      <a:lnTo>
                        <a:pt x="8" y="93"/>
                      </a:lnTo>
                      <a:lnTo>
                        <a:pt x="4" y="89"/>
                      </a:lnTo>
                      <a:lnTo>
                        <a:pt x="2" y="81"/>
                      </a:lnTo>
                      <a:lnTo>
                        <a:pt x="2" y="77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2" y="38"/>
                      </a:lnTo>
                      <a:lnTo>
                        <a:pt x="6" y="32"/>
                      </a:lnTo>
                      <a:lnTo>
                        <a:pt x="8" y="26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6" y="11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0" y="3"/>
                      </a:lnTo>
                      <a:lnTo>
                        <a:pt x="57" y="7"/>
                      </a:lnTo>
                      <a:lnTo>
                        <a:pt x="61" y="15"/>
                      </a:lnTo>
                      <a:lnTo>
                        <a:pt x="65" y="20"/>
                      </a:lnTo>
                      <a:lnTo>
                        <a:pt x="69" y="26"/>
                      </a:lnTo>
                      <a:lnTo>
                        <a:pt x="71" y="30"/>
                      </a:lnTo>
                      <a:lnTo>
                        <a:pt x="73" y="32"/>
                      </a:lnTo>
                      <a:lnTo>
                        <a:pt x="7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863800" y="5844960"/>
                  <a:ext cx="58680" cy="8604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2" y="19"/>
                      </a:moveTo>
                      <a:lnTo>
                        <a:pt x="2" y="19"/>
                      </a:lnTo>
                      <a:lnTo>
                        <a:pt x="6" y="21"/>
                      </a:lnTo>
                      <a:lnTo>
                        <a:pt x="10" y="25"/>
                      </a:lnTo>
                      <a:lnTo>
                        <a:pt x="17" y="29"/>
                      </a:lnTo>
                      <a:lnTo>
                        <a:pt x="23" y="33"/>
                      </a:lnTo>
                      <a:lnTo>
                        <a:pt x="31" y="40"/>
                      </a:lnTo>
                      <a:lnTo>
                        <a:pt x="35" y="48"/>
                      </a:lnTo>
                      <a:lnTo>
                        <a:pt x="38" y="55"/>
                      </a:lnTo>
                      <a:lnTo>
                        <a:pt x="36" y="61"/>
                      </a:lnTo>
                      <a:lnTo>
                        <a:pt x="35" y="67"/>
                      </a:lnTo>
                      <a:lnTo>
                        <a:pt x="31" y="74"/>
                      </a:lnTo>
                      <a:lnTo>
                        <a:pt x="25" y="80"/>
                      </a:lnTo>
                      <a:lnTo>
                        <a:pt x="19" y="84"/>
                      </a:lnTo>
                      <a:lnTo>
                        <a:pt x="16" y="90"/>
                      </a:lnTo>
                      <a:lnTo>
                        <a:pt x="12" y="91"/>
                      </a:lnTo>
                      <a:lnTo>
                        <a:pt x="12" y="93"/>
                      </a:lnTo>
                      <a:lnTo>
                        <a:pt x="16" y="91"/>
                      </a:lnTo>
                      <a:lnTo>
                        <a:pt x="21" y="91"/>
                      </a:lnTo>
                      <a:lnTo>
                        <a:pt x="27" y="91"/>
                      </a:lnTo>
                      <a:lnTo>
                        <a:pt x="35" y="93"/>
                      </a:lnTo>
                      <a:lnTo>
                        <a:pt x="42" y="91"/>
                      </a:lnTo>
                      <a:lnTo>
                        <a:pt x="50" y="90"/>
                      </a:lnTo>
                      <a:lnTo>
                        <a:pt x="52" y="86"/>
                      </a:lnTo>
                      <a:lnTo>
                        <a:pt x="55" y="84"/>
                      </a:lnTo>
                      <a:lnTo>
                        <a:pt x="55" y="80"/>
                      </a:lnTo>
                      <a:lnTo>
                        <a:pt x="57" y="76"/>
                      </a:lnTo>
                      <a:lnTo>
                        <a:pt x="57" y="71"/>
                      </a:lnTo>
                      <a:lnTo>
                        <a:pt x="57" y="67"/>
                      </a:lnTo>
                      <a:lnTo>
                        <a:pt x="55" y="59"/>
                      </a:lnTo>
                      <a:lnTo>
                        <a:pt x="55" y="55"/>
                      </a:lnTo>
                      <a:lnTo>
                        <a:pt x="52" y="50"/>
                      </a:lnTo>
                      <a:lnTo>
                        <a:pt x="50" y="44"/>
                      </a:lnTo>
                      <a:lnTo>
                        <a:pt x="48" y="40"/>
                      </a:lnTo>
                      <a:lnTo>
                        <a:pt x="46" y="34"/>
                      </a:lnTo>
                      <a:lnTo>
                        <a:pt x="42" y="31"/>
                      </a:lnTo>
                      <a:lnTo>
                        <a:pt x="38" y="25"/>
                      </a:lnTo>
                      <a:lnTo>
                        <a:pt x="35" y="21"/>
                      </a:lnTo>
                      <a:lnTo>
                        <a:pt x="33" y="17"/>
                      </a:lnTo>
                      <a:lnTo>
                        <a:pt x="25" y="10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135240" y="5634000"/>
                  <a:ext cx="111240" cy="212760"/>
                </a:xfrm>
                <a:custGeom>
                  <a:avLst/>
                  <a:gdLst/>
                  <a:ahLst/>
                  <a:rect l="l" t="t" r="r" b="b"/>
                  <a:pathLst>
                    <a:path w="106" h="232">
                      <a:moveTo>
                        <a:pt x="11" y="54"/>
                      </a:moveTo>
                      <a:lnTo>
                        <a:pt x="15" y="57"/>
                      </a:lnTo>
                      <a:lnTo>
                        <a:pt x="19" y="59"/>
                      </a:lnTo>
                      <a:lnTo>
                        <a:pt x="24" y="65"/>
                      </a:lnTo>
                      <a:lnTo>
                        <a:pt x="30" y="71"/>
                      </a:lnTo>
                      <a:lnTo>
                        <a:pt x="36" y="78"/>
                      </a:lnTo>
                      <a:lnTo>
                        <a:pt x="44" y="84"/>
                      </a:lnTo>
                      <a:lnTo>
                        <a:pt x="51" y="93"/>
                      </a:lnTo>
                      <a:lnTo>
                        <a:pt x="57" y="101"/>
                      </a:lnTo>
                      <a:lnTo>
                        <a:pt x="64" y="109"/>
                      </a:lnTo>
                      <a:lnTo>
                        <a:pt x="68" y="114"/>
                      </a:lnTo>
                      <a:lnTo>
                        <a:pt x="74" y="122"/>
                      </a:lnTo>
                      <a:lnTo>
                        <a:pt x="78" y="128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1"/>
                      </a:lnTo>
                      <a:lnTo>
                        <a:pt x="76" y="143"/>
                      </a:lnTo>
                      <a:lnTo>
                        <a:pt x="72" y="145"/>
                      </a:lnTo>
                      <a:lnTo>
                        <a:pt x="68" y="149"/>
                      </a:lnTo>
                      <a:lnTo>
                        <a:pt x="63" y="154"/>
                      </a:lnTo>
                      <a:lnTo>
                        <a:pt x="57" y="158"/>
                      </a:lnTo>
                      <a:lnTo>
                        <a:pt x="51" y="162"/>
                      </a:lnTo>
                      <a:lnTo>
                        <a:pt x="45" y="168"/>
                      </a:lnTo>
                      <a:lnTo>
                        <a:pt x="40" y="173"/>
                      </a:lnTo>
                      <a:lnTo>
                        <a:pt x="34" y="177"/>
                      </a:lnTo>
                      <a:lnTo>
                        <a:pt x="28" y="181"/>
                      </a:lnTo>
                      <a:lnTo>
                        <a:pt x="23" y="185"/>
                      </a:lnTo>
                      <a:lnTo>
                        <a:pt x="19" y="188"/>
                      </a:lnTo>
                      <a:lnTo>
                        <a:pt x="15" y="192"/>
                      </a:lnTo>
                      <a:lnTo>
                        <a:pt x="11" y="194"/>
                      </a:lnTo>
                      <a:lnTo>
                        <a:pt x="9" y="196"/>
                      </a:lnTo>
                      <a:lnTo>
                        <a:pt x="9" y="198"/>
                      </a:lnTo>
                      <a:lnTo>
                        <a:pt x="11" y="232"/>
                      </a:lnTo>
                      <a:lnTo>
                        <a:pt x="13" y="230"/>
                      </a:lnTo>
                      <a:lnTo>
                        <a:pt x="15" y="228"/>
                      </a:lnTo>
                      <a:lnTo>
                        <a:pt x="21" y="225"/>
                      </a:lnTo>
                      <a:lnTo>
                        <a:pt x="26" y="221"/>
                      </a:lnTo>
                      <a:lnTo>
                        <a:pt x="34" y="213"/>
                      </a:lnTo>
                      <a:lnTo>
                        <a:pt x="44" y="207"/>
                      </a:lnTo>
                      <a:lnTo>
                        <a:pt x="47" y="204"/>
                      </a:lnTo>
                      <a:lnTo>
                        <a:pt x="51" y="200"/>
                      </a:lnTo>
                      <a:lnTo>
                        <a:pt x="57" y="196"/>
                      </a:lnTo>
                      <a:lnTo>
                        <a:pt x="61" y="192"/>
                      </a:lnTo>
                      <a:lnTo>
                        <a:pt x="64" y="188"/>
                      </a:lnTo>
                      <a:lnTo>
                        <a:pt x="70" y="185"/>
                      </a:lnTo>
                      <a:lnTo>
                        <a:pt x="74" y="181"/>
                      </a:lnTo>
                      <a:lnTo>
                        <a:pt x="78" y="175"/>
                      </a:lnTo>
                      <a:lnTo>
                        <a:pt x="85" y="168"/>
                      </a:lnTo>
                      <a:lnTo>
                        <a:pt x="93" y="160"/>
                      </a:lnTo>
                      <a:lnTo>
                        <a:pt x="99" y="154"/>
                      </a:lnTo>
                      <a:lnTo>
                        <a:pt x="102" y="147"/>
                      </a:lnTo>
                      <a:lnTo>
                        <a:pt x="104" y="143"/>
                      </a:lnTo>
                      <a:lnTo>
                        <a:pt x="106" y="139"/>
                      </a:lnTo>
                      <a:lnTo>
                        <a:pt x="104" y="133"/>
                      </a:lnTo>
                      <a:lnTo>
                        <a:pt x="101" y="128"/>
                      </a:lnTo>
                      <a:lnTo>
                        <a:pt x="97" y="120"/>
                      </a:lnTo>
                      <a:lnTo>
                        <a:pt x="91" y="112"/>
                      </a:lnTo>
                      <a:lnTo>
                        <a:pt x="87" y="107"/>
                      </a:lnTo>
                      <a:lnTo>
                        <a:pt x="85" y="101"/>
                      </a:lnTo>
                      <a:lnTo>
                        <a:pt x="82" y="97"/>
                      </a:lnTo>
                      <a:lnTo>
                        <a:pt x="78" y="92"/>
                      </a:lnTo>
                      <a:lnTo>
                        <a:pt x="74" y="86"/>
                      </a:lnTo>
                      <a:lnTo>
                        <a:pt x="70" y="80"/>
                      </a:lnTo>
                      <a:lnTo>
                        <a:pt x="66" y="76"/>
                      </a:lnTo>
                      <a:lnTo>
                        <a:pt x="64" y="71"/>
                      </a:lnTo>
                      <a:lnTo>
                        <a:pt x="59" y="65"/>
                      </a:lnTo>
                      <a:lnTo>
                        <a:pt x="55" y="59"/>
                      </a:lnTo>
                      <a:lnTo>
                        <a:pt x="51" y="54"/>
                      </a:lnTo>
                      <a:lnTo>
                        <a:pt x="47" y="48"/>
                      </a:lnTo>
                      <a:lnTo>
                        <a:pt x="42" y="42"/>
                      </a:lnTo>
                      <a:lnTo>
                        <a:pt x="38" y="38"/>
                      </a:lnTo>
                      <a:lnTo>
                        <a:pt x="34" y="33"/>
                      </a:lnTo>
                      <a:lnTo>
                        <a:pt x="30" y="29"/>
                      </a:lnTo>
                      <a:lnTo>
                        <a:pt x="26" y="23"/>
                      </a:lnTo>
                      <a:lnTo>
                        <a:pt x="21" y="19"/>
                      </a:lnTo>
                      <a:lnTo>
                        <a:pt x="17" y="14"/>
                      </a:lnTo>
                      <a:lnTo>
                        <a:pt x="13" y="12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11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035160" y="6384960"/>
                  <a:ext cx="692280" cy="40320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23" y="42"/>
                      </a:moveTo>
                      <a:lnTo>
                        <a:pt x="205" y="274"/>
                      </a:lnTo>
                      <a:lnTo>
                        <a:pt x="205" y="276"/>
                      </a:lnTo>
                      <a:lnTo>
                        <a:pt x="205" y="280"/>
                      </a:lnTo>
                      <a:lnTo>
                        <a:pt x="205" y="284"/>
                      </a:lnTo>
                      <a:lnTo>
                        <a:pt x="205" y="291"/>
                      </a:lnTo>
                      <a:lnTo>
                        <a:pt x="205" y="295"/>
                      </a:lnTo>
                      <a:lnTo>
                        <a:pt x="207" y="301"/>
                      </a:lnTo>
                      <a:lnTo>
                        <a:pt x="207" y="305"/>
                      </a:lnTo>
                      <a:lnTo>
                        <a:pt x="209" y="310"/>
                      </a:lnTo>
                      <a:lnTo>
                        <a:pt x="209" y="314"/>
                      </a:lnTo>
                      <a:lnTo>
                        <a:pt x="209" y="322"/>
                      </a:lnTo>
                      <a:lnTo>
                        <a:pt x="211" y="327"/>
                      </a:lnTo>
                      <a:lnTo>
                        <a:pt x="213" y="333"/>
                      </a:lnTo>
                      <a:lnTo>
                        <a:pt x="213" y="339"/>
                      </a:lnTo>
                      <a:lnTo>
                        <a:pt x="215" y="343"/>
                      </a:lnTo>
                      <a:lnTo>
                        <a:pt x="216" y="348"/>
                      </a:lnTo>
                      <a:lnTo>
                        <a:pt x="218" y="356"/>
                      </a:lnTo>
                      <a:lnTo>
                        <a:pt x="220" y="360"/>
                      </a:lnTo>
                      <a:lnTo>
                        <a:pt x="222" y="365"/>
                      </a:lnTo>
                      <a:lnTo>
                        <a:pt x="224" y="371"/>
                      </a:lnTo>
                      <a:lnTo>
                        <a:pt x="226" y="377"/>
                      </a:lnTo>
                      <a:lnTo>
                        <a:pt x="230" y="381"/>
                      </a:lnTo>
                      <a:lnTo>
                        <a:pt x="232" y="386"/>
                      </a:lnTo>
                      <a:lnTo>
                        <a:pt x="234" y="390"/>
                      </a:lnTo>
                      <a:lnTo>
                        <a:pt x="237" y="394"/>
                      </a:lnTo>
                      <a:lnTo>
                        <a:pt x="241" y="398"/>
                      </a:lnTo>
                      <a:lnTo>
                        <a:pt x="245" y="401"/>
                      </a:lnTo>
                      <a:lnTo>
                        <a:pt x="249" y="403"/>
                      </a:lnTo>
                      <a:lnTo>
                        <a:pt x="254" y="407"/>
                      </a:lnTo>
                      <a:lnTo>
                        <a:pt x="258" y="407"/>
                      </a:lnTo>
                      <a:lnTo>
                        <a:pt x="262" y="409"/>
                      </a:lnTo>
                      <a:lnTo>
                        <a:pt x="266" y="409"/>
                      </a:lnTo>
                      <a:lnTo>
                        <a:pt x="273" y="409"/>
                      </a:lnTo>
                      <a:lnTo>
                        <a:pt x="277" y="407"/>
                      </a:lnTo>
                      <a:lnTo>
                        <a:pt x="283" y="407"/>
                      </a:lnTo>
                      <a:lnTo>
                        <a:pt x="291" y="405"/>
                      </a:lnTo>
                      <a:lnTo>
                        <a:pt x="296" y="403"/>
                      </a:lnTo>
                      <a:lnTo>
                        <a:pt x="304" y="401"/>
                      </a:lnTo>
                      <a:lnTo>
                        <a:pt x="310" y="398"/>
                      </a:lnTo>
                      <a:lnTo>
                        <a:pt x="317" y="396"/>
                      </a:lnTo>
                      <a:lnTo>
                        <a:pt x="325" y="392"/>
                      </a:lnTo>
                      <a:lnTo>
                        <a:pt x="331" y="388"/>
                      </a:lnTo>
                      <a:lnTo>
                        <a:pt x="338" y="384"/>
                      </a:lnTo>
                      <a:lnTo>
                        <a:pt x="346" y="381"/>
                      </a:lnTo>
                      <a:lnTo>
                        <a:pt x="353" y="377"/>
                      </a:lnTo>
                      <a:lnTo>
                        <a:pt x="359" y="373"/>
                      </a:lnTo>
                      <a:lnTo>
                        <a:pt x="365" y="369"/>
                      </a:lnTo>
                      <a:lnTo>
                        <a:pt x="370" y="363"/>
                      </a:lnTo>
                      <a:lnTo>
                        <a:pt x="378" y="360"/>
                      </a:lnTo>
                      <a:lnTo>
                        <a:pt x="384" y="356"/>
                      </a:lnTo>
                      <a:lnTo>
                        <a:pt x="389" y="352"/>
                      </a:lnTo>
                      <a:lnTo>
                        <a:pt x="395" y="348"/>
                      </a:lnTo>
                      <a:lnTo>
                        <a:pt x="401" y="346"/>
                      </a:lnTo>
                      <a:lnTo>
                        <a:pt x="405" y="341"/>
                      </a:lnTo>
                      <a:lnTo>
                        <a:pt x="408" y="339"/>
                      </a:lnTo>
                      <a:lnTo>
                        <a:pt x="412" y="335"/>
                      </a:lnTo>
                      <a:lnTo>
                        <a:pt x="416" y="333"/>
                      </a:lnTo>
                      <a:lnTo>
                        <a:pt x="422" y="327"/>
                      </a:lnTo>
                      <a:lnTo>
                        <a:pt x="426" y="327"/>
                      </a:lnTo>
                      <a:lnTo>
                        <a:pt x="429" y="324"/>
                      </a:lnTo>
                      <a:lnTo>
                        <a:pt x="435" y="320"/>
                      </a:lnTo>
                      <a:lnTo>
                        <a:pt x="439" y="316"/>
                      </a:lnTo>
                      <a:lnTo>
                        <a:pt x="445" y="314"/>
                      </a:lnTo>
                      <a:lnTo>
                        <a:pt x="448" y="310"/>
                      </a:lnTo>
                      <a:lnTo>
                        <a:pt x="456" y="306"/>
                      </a:lnTo>
                      <a:lnTo>
                        <a:pt x="462" y="303"/>
                      </a:lnTo>
                      <a:lnTo>
                        <a:pt x="469" y="299"/>
                      </a:lnTo>
                      <a:lnTo>
                        <a:pt x="475" y="293"/>
                      </a:lnTo>
                      <a:lnTo>
                        <a:pt x="483" y="289"/>
                      </a:lnTo>
                      <a:lnTo>
                        <a:pt x="490" y="284"/>
                      </a:lnTo>
                      <a:lnTo>
                        <a:pt x="500" y="280"/>
                      </a:lnTo>
                      <a:lnTo>
                        <a:pt x="507" y="274"/>
                      </a:lnTo>
                      <a:lnTo>
                        <a:pt x="515" y="268"/>
                      </a:lnTo>
                      <a:lnTo>
                        <a:pt x="524" y="263"/>
                      </a:lnTo>
                      <a:lnTo>
                        <a:pt x="532" y="257"/>
                      </a:lnTo>
                      <a:lnTo>
                        <a:pt x="540" y="251"/>
                      </a:lnTo>
                      <a:lnTo>
                        <a:pt x="547" y="244"/>
                      </a:lnTo>
                      <a:lnTo>
                        <a:pt x="555" y="238"/>
                      </a:lnTo>
                      <a:lnTo>
                        <a:pt x="562" y="230"/>
                      </a:lnTo>
                      <a:lnTo>
                        <a:pt x="570" y="225"/>
                      </a:lnTo>
                      <a:lnTo>
                        <a:pt x="576" y="219"/>
                      </a:lnTo>
                      <a:lnTo>
                        <a:pt x="581" y="211"/>
                      </a:lnTo>
                      <a:lnTo>
                        <a:pt x="587" y="206"/>
                      </a:lnTo>
                      <a:lnTo>
                        <a:pt x="593" y="198"/>
                      </a:lnTo>
                      <a:lnTo>
                        <a:pt x="597" y="192"/>
                      </a:lnTo>
                      <a:lnTo>
                        <a:pt x="600" y="185"/>
                      </a:lnTo>
                      <a:lnTo>
                        <a:pt x="604" y="179"/>
                      </a:lnTo>
                      <a:lnTo>
                        <a:pt x="606" y="173"/>
                      </a:lnTo>
                      <a:lnTo>
                        <a:pt x="608" y="168"/>
                      </a:lnTo>
                      <a:lnTo>
                        <a:pt x="608" y="160"/>
                      </a:lnTo>
                      <a:lnTo>
                        <a:pt x="608" y="154"/>
                      </a:lnTo>
                      <a:lnTo>
                        <a:pt x="608" y="151"/>
                      </a:lnTo>
                      <a:lnTo>
                        <a:pt x="608" y="147"/>
                      </a:lnTo>
                      <a:lnTo>
                        <a:pt x="608" y="139"/>
                      </a:lnTo>
                      <a:lnTo>
                        <a:pt x="606" y="132"/>
                      </a:lnTo>
                      <a:lnTo>
                        <a:pt x="602" y="126"/>
                      </a:lnTo>
                      <a:lnTo>
                        <a:pt x="599" y="124"/>
                      </a:lnTo>
                      <a:lnTo>
                        <a:pt x="595" y="122"/>
                      </a:lnTo>
                      <a:lnTo>
                        <a:pt x="591" y="120"/>
                      </a:lnTo>
                      <a:lnTo>
                        <a:pt x="583" y="118"/>
                      </a:lnTo>
                      <a:lnTo>
                        <a:pt x="578" y="118"/>
                      </a:lnTo>
                      <a:lnTo>
                        <a:pt x="570" y="120"/>
                      </a:lnTo>
                      <a:lnTo>
                        <a:pt x="562" y="120"/>
                      </a:lnTo>
                      <a:lnTo>
                        <a:pt x="559" y="120"/>
                      </a:lnTo>
                      <a:lnTo>
                        <a:pt x="553" y="122"/>
                      </a:lnTo>
                      <a:lnTo>
                        <a:pt x="549" y="122"/>
                      </a:lnTo>
                      <a:lnTo>
                        <a:pt x="545" y="122"/>
                      </a:lnTo>
                      <a:lnTo>
                        <a:pt x="540" y="122"/>
                      </a:lnTo>
                      <a:lnTo>
                        <a:pt x="536" y="122"/>
                      </a:lnTo>
                      <a:lnTo>
                        <a:pt x="532" y="122"/>
                      </a:lnTo>
                      <a:lnTo>
                        <a:pt x="526" y="124"/>
                      </a:lnTo>
                      <a:lnTo>
                        <a:pt x="521" y="124"/>
                      </a:lnTo>
                      <a:lnTo>
                        <a:pt x="515" y="124"/>
                      </a:lnTo>
                      <a:lnTo>
                        <a:pt x="509" y="124"/>
                      </a:lnTo>
                      <a:lnTo>
                        <a:pt x="504" y="126"/>
                      </a:lnTo>
                      <a:lnTo>
                        <a:pt x="494" y="126"/>
                      </a:lnTo>
                      <a:lnTo>
                        <a:pt x="488" y="128"/>
                      </a:lnTo>
                      <a:lnTo>
                        <a:pt x="481" y="130"/>
                      </a:lnTo>
                      <a:lnTo>
                        <a:pt x="473" y="132"/>
                      </a:lnTo>
                      <a:lnTo>
                        <a:pt x="465" y="134"/>
                      </a:lnTo>
                      <a:lnTo>
                        <a:pt x="458" y="135"/>
                      </a:lnTo>
                      <a:lnTo>
                        <a:pt x="448" y="137"/>
                      </a:lnTo>
                      <a:lnTo>
                        <a:pt x="441" y="139"/>
                      </a:lnTo>
                      <a:lnTo>
                        <a:pt x="437" y="141"/>
                      </a:lnTo>
                      <a:lnTo>
                        <a:pt x="431" y="143"/>
                      </a:lnTo>
                      <a:lnTo>
                        <a:pt x="427" y="143"/>
                      </a:lnTo>
                      <a:lnTo>
                        <a:pt x="424" y="145"/>
                      </a:lnTo>
                      <a:lnTo>
                        <a:pt x="416" y="147"/>
                      </a:lnTo>
                      <a:lnTo>
                        <a:pt x="408" y="151"/>
                      </a:lnTo>
                      <a:lnTo>
                        <a:pt x="399" y="153"/>
                      </a:lnTo>
                      <a:lnTo>
                        <a:pt x="391" y="154"/>
                      </a:lnTo>
                      <a:lnTo>
                        <a:pt x="384" y="158"/>
                      </a:lnTo>
                      <a:lnTo>
                        <a:pt x="378" y="160"/>
                      </a:lnTo>
                      <a:lnTo>
                        <a:pt x="370" y="162"/>
                      </a:lnTo>
                      <a:lnTo>
                        <a:pt x="363" y="164"/>
                      </a:lnTo>
                      <a:lnTo>
                        <a:pt x="357" y="166"/>
                      </a:lnTo>
                      <a:lnTo>
                        <a:pt x="353" y="168"/>
                      </a:lnTo>
                      <a:lnTo>
                        <a:pt x="346" y="170"/>
                      </a:lnTo>
                      <a:lnTo>
                        <a:pt x="342" y="172"/>
                      </a:lnTo>
                      <a:lnTo>
                        <a:pt x="338" y="173"/>
                      </a:lnTo>
                      <a:lnTo>
                        <a:pt x="334" y="175"/>
                      </a:lnTo>
                      <a:lnTo>
                        <a:pt x="331" y="175"/>
                      </a:lnTo>
                      <a:lnTo>
                        <a:pt x="329" y="177"/>
                      </a:lnTo>
                      <a:lnTo>
                        <a:pt x="123" y="6"/>
                      </a:lnTo>
                      <a:lnTo>
                        <a:pt x="142" y="0"/>
                      </a:lnTo>
                      <a:lnTo>
                        <a:pt x="350" y="149"/>
                      </a:lnTo>
                      <a:lnTo>
                        <a:pt x="350" y="147"/>
                      </a:lnTo>
                      <a:lnTo>
                        <a:pt x="355" y="147"/>
                      </a:lnTo>
                      <a:lnTo>
                        <a:pt x="357" y="145"/>
                      </a:lnTo>
                      <a:lnTo>
                        <a:pt x="363" y="143"/>
                      </a:lnTo>
                      <a:lnTo>
                        <a:pt x="367" y="141"/>
                      </a:lnTo>
                      <a:lnTo>
                        <a:pt x="372" y="139"/>
                      </a:lnTo>
                      <a:lnTo>
                        <a:pt x="378" y="135"/>
                      </a:lnTo>
                      <a:lnTo>
                        <a:pt x="384" y="134"/>
                      </a:lnTo>
                      <a:lnTo>
                        <a:pt x="391" y="132"/>
                      </a:lnTo>
                      <a:lnTo>
                        <a:pt x="399" y="130"/>
                      </a:lnTo>
                      <a:lnTo>
                        <a:pt x="407" y="126"/>
                      </a:lnTo>
                      <a:lnTo>
                        <a:pt x="414" y="124"/>
                      </a:lnTo>
                      <a:lnTo>
                        <a:pt x="418" y="122"/>
                      </a:lnTo>
                      <a:lnTo>
                        <a:pt x="424" y="122"/>
                      </a:lnTo>
                      <a:lnTo>
                        <a:pt x="427" y="120"/>
                      </a:lnTo>
                      <a:lnTo>
                        <a:pt x="431" y="118"/>
                      </a:lnTo>
                      <a:lnTo>
                        <a:pt x="437" y="116"/>
                      </a:lnTo>
                      <a:lnTo>
                        <a:pt x="441" y="116"/>
                      </a:lnTo>
                      <a:lnTo>
                        <a:pt x="445" y="115"/>
                      </a:lnTo>
                      <a:lnTo>
                        <a:pt x="450" y="113"/>
                      </a:lnTo>
                      <a:lnTo>
                        <a:pt x="454" y="111"/>
                      </a:lnTo>
                      <a:lnTo>
                        <a:pt x="460" y="111"/>
                      </a:lnTo>
                      <a:lnTo>
                        <a:pt x="464" y="109"/>
                      </a:lnTo>
                      <a:lnTo>
                        <a:pt x="469" y="109"/>
                      </a:lnTo>
                      <a:lnTo>
                        <a:pt x="473" y="107"/>
                      </a:lnTo>
                      <a:lnTo>
                        <a:pt x="479" y="105"/>
                      </a:lnTo>
                      <a:lnTo>
                        <a:pt x="483" y="105"/>
                      </a:lnTo>
                      <a:lnTo>
                        <a:pt x="488" y="103"/>
                      </a:lnTo>
                      <a:lnTo>
                        <a:pt x="492" y="101"/>
                      </a:lnTo>
                      <a:lnTo>
                        <a:pt x="498" y="101"/>
                      </a:lnTo>
                      <a:lnTo>
                        <a:pt x="504" y="101"/>
                      </a:lnTo>
                      <a:lnTo>
                        <a:pt x="507" y="101"/>
                      </a:lnTo>
                      <a:lnTo>
                        <a:pt x="513" y="99"/>
                      </a:lnTo>
                      <a:lnTo>
                        <a:pt x="517" y="97"/>
                      </a:lnTo>
                      <a:lnTo>
                        <a:pt x="523" y="97"/>
                      </a:lnTo>
                      <a:lnTo>
                        <a:pt x="528" y="97"/>
                      </a:lnTo>
                      <a:lnTo>
                        <a:pt x="532" y="97"/>
                      </a:lnTo>
                      <a:lnTo>
                        <a:pt x="536" y="96"/>
                      </a:lnTo>
                      <a:lnTo>
                        <a:pt x="542" y="96"/>
                      </a:lnTo>
                      <a:lnTo>
                        <a:pt x="547" y="96"/>
                      </a:lnTo>
                      <a:lnTo>
                        <a:pt x="551" y="96"/>
                      </a:lnTo>
                      <a:lnTo>
                        <a:pt x="555" y="96"/>
                      </a:lnTo>
                      <a:lnTo>
                        <a:pt x="561" y="96"/>
                      </a:lnTo>
                      <a:lnTo>
                        <a:pt x="564" y="96"/>
                      </a:lnTo>
                      <a:lnTo>
                        <a:pt x="570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83" y="97"/>
                      </a:lnTo>
                      <a:lnTo>
                        <a:pt x="591" y="97"/>
                      </a:lnTo>
                      <a:lnTo>
                        <a:pt x="599" y="99"/>
                      </a:lnTo>
                      <a:lnTo>
                        <a:pt x="604" y="99"/>
                      </a:lnTo>
                      <a:lnTo>
                        <a:pt x="612" y="101"/>
                      </a:lnTo>
                      <a:lnTo>
                        <a:pt x="618" y="103"/>
                      </a:lnTo>
                      <a:lnTo>
                        <a:pt x="623" y="105"/>
                      </a:lnTo>
                      <a:lnTo>
                        <a:pt x="629" y="107"/>
                      </a:lnTo>
                      <a:lnTo>
                        <a:pt x="635" y="111"/>
                      </a:lnTo>
                      <a:lnTo>
                        <a:pt x="639" y="113"/>
                      </a:lnTo>
                      <a:lnTo>
                        <a:pt x="642" y="115"/>
                      </a:lnTo>
                      <a:lnTo>
                        <a:pt x="644" y="118"/>
                      </a:lnTo>
                      <a:lnTo>
                        <a:pt x="648" y="122"/>
                      </a:lnTo>
                      <a:lnTo>
                        <a:pt x="654" y="128"/>
                      </a:lnTo>
                      <a:lnTo>
                        <a:pt x="659" y="135"/>
                      </a:lnTo>
                      <a:lnTo>
                        <a:pt x="661" y="143"/>
                      </a:lnTo>
                      <a:lnTo>
                        <a:pt x="661" y="151"/>
                      </a:lnTo>
                      <a:lnTo>
                        <a:pt x="661" y="158"/>
                      </a:lnTo>
                      <a:lnTo>
                        <a:pt x="663" y="168"/>
                      </a:lnTo>
                      <a:lnTo>
                        <a:pt x="661" y="173"/>
                      </a:lnTo>
                      <a:lnTo>
                        <a:pt x="659" y="183"/>
                      </a:lnTo>
                      <a:lnTo>
                        <a:pt x="658" y="189"/>
                      </a:lnTo>
                      <a:lnTo>
                        <a:pt x="656" y="198"/>
                      </a:lnTo>
                      <a:lnTo>
                        <a:pt x="652" y="200"/>
                      </a:lnTo>
                      <a:lnTo>
                        <a:pt x="650" y="206"/>
                      </a:lnTo>
                      <a:lnTo>
                        <a:pt x="646" y="210"/>
                      </a:lnTo>
                      <a:lnTo>
                        <a:pt x="642" y="215"/>
                      </a:lnTo>
                      <a:lnTo>
                        <a:pt x="637" y="219"/>
                      </a:lnTo>
                      <a:lnTo>
                        <a:pt x="633" y="225"/>
                      </a:lnTo>
                      <a:lnTo>
                        <a:pt x="627" y="230"/>
                      </a:lnTo>
                      <a:lnTo>
                        <a:pt x="621" y="236"/>
                      </a:lnTo>
                      <a:lnTo>
                        <a:pt x="616" y="240"/>
                      </a:lnTo>
                      <a:lnTo>
                        <a:pt x="608" y="246"/>
                      </a:lnTo>
                      <a:lnTo>
                        <a:pt x="600" y="251"/>
                      </a:lnTo>
                      <a:lnTo>
                        <a:pt x="593" y="259"/>
                      </a:lnTo>
                      <a:lnTo>
                        <a:pt x="585" y="263"/>
                      </a:lnTo>
                      <a:lnTo>
                        <a:pt x="578" y="270"/>
                      </a:lnTo>
                      <a:lnTo>
                        <a:pt x="568" y="276"/>
                      </a:lnTo>
                      <a:lnTo>
                        <a:pt x="561" y="284"/>
                      </a:lnTo>
                      <a:lnTo>
                        <a:pt x="557" y="286"/>
                      </a:lnTo>
                      <a:lnTo>
                        <a:pt x="551" y="287"/>
                      </a:lnTo>
                      <a:lnTo>
                        <a:pt x="547" y="291"/>
                      </a:lnTo>
                      <a:lnTo>
                        <a:pt x="543" y="295"/>
                      </a:lnTo>
                      <a:lnTo>
                        <a:pt x="538" y="297"/>
                      </a:lnTo>
                      <a:lnTo>
                        <a:pt x="534" y="301"/>
                      </a:lnTo>
                      <a:lnTo>
                        <a:pt x="528" y="303"/>
                      </a:lnTo>
                      <a:lnTo>
                        <a:pt x="524" y="306"/>
                      </a:lnTo>
                      <a:lnTo>
                        <a:pt x="521" y="308"/>
                      </a:lnTo>
                      <a:lnTo>
                        <a:pt x="515" y="312"/>
                      </a:lnTo>
                      <a:lnTo>
                        <a:pt x="511" y="314"/>
                      </a:lnTo>
                      <a:lnTo>
                        <a:pt x="507" y="318"/>
                      </a:lnTo>
                      <a:lnTo>
                        <a:pt x="498" y="322"/>
                      </a:lnTo>
                      <a:lnTo>
                        <a:pt x="490" y="329"/>
                      </a:lnTo>
                      <a:lnTo>
                        <a:pt x="486" y="331"/>
                      </a:lnTo>
                      <a:lnTo>
                        <a:pt x="481" y="333"/>
                      </a:lnTo>
                      <a:lnTo>
                        <a:pt x="479" y="335"/>
                      </a:lnTo>
                      <a:lnTo>
                        <a:pt x="475" y="339"/>
                      </a:lnTo>
                      <a:lnTo>
                        <a:pt x="465" y="343"/>
                      </a:lnTo>
                      <a:lnTo>
                        <a:pt x="460" y="346"/>
                      </a:lnTo>
                      <a:lnTo>
                        <a:pt x="452" y="350"/>
                      </a:lnTo>
                      <a:lnTo>
                        <a:pt x="445" y="356"/>
                      </a:lnTo>
                      <a:lnTo>
                        <a:pt x="439" y="360"/>
                      </a:lnTo>
                      <a:lnTo>
                        <a:pt x="433" y="363"/>
                      </a:lnTo>
                      <a:lnTo>
                        <a:pt x="429" y="363"/>
                      </a:lnTo>
                      <a:lnTo>
                        <a:pt x="424" y="367"/>
                      </a:lnTo>
                      <a:lnTo>
                        <a:pt x="420" y="369"/>
                      </a:lnTo>
                      <a:lnTo>
                        <a:pt x="416" y="373"/>
                      </a:lnTo>
                      <a:lnTo>
                        <a:pt x="412" y="375"/>
                      </a:lnTo>
                      <a:lnTo>
                        <a:pt x="408" y="379"/>
                      </a:lnTo>
                      <a:lnTo>
                        <a:pt x="403" y="381"/>
                      </a:lnTo>
                      <a:lnTo>
                        <a:pt x="399" y="384"/>
                      </a:lnTo>
                      <a:lnTo>
                        <a:pt x="393" y="388"/>
                      </a:lnTo>
                      <a:lnTo>
                        <a:pt x="388" y="392"/>
                      </a:lnTo>
                      <a:lnTo>
                        <a:pt x="382" y="396"/>
                      </a:lnTo>
                      <a:lnTo>
                        <a:pt x="376" y="400"/>
                      </a:lnTo>
                      <a:lnTo>
                        <a:pt x="370" y="403"/>
                      </a:lnTo>
                      <a:lnTo>
                        <a:pt x="365" y="407"/>
                      </a:lnTo>
                      <a:lnTo>
                        <a:pt x="357" y="411"/>
                      </a:lnTo>
                      <a:lnTo>
                        <a:pt x="351" y="415"/>
                      </a:lnTo>
                      <a:lnTo>
                        <a:pt x="346" y="417"/>
                      </a:lnTo>
                      <a:lnTo>
                        <a:pt x="340" y="420"/>
                      </a:lnTo>
                      <a:lnTo>
                        <a:pt x="332" y="424"/>
                      </a:lnTo>
                      <a:lnTo>
                        <a:pt x="327" y="426"/>
                      </a:lnTo>
                      <a:lnTo>
                        <a:pt x="321" y="430"/>
                      </a:lnTo>
                      <a:lnTo>
                        <a:pt x="315" y="432"/>
                      </a:lnTo>
                      <a:lnTo>
                        <a:pt x="308" y="434"/>
                      </a:lnTo>
                      <a:lnTo>
                        <a:pt x="304" y="436"/>
                      </a:lnTo>
                      <a:lnTo>
                        <a:pt x="296" y="438"/>
                      </a:lnTo>
                      <a:lnTo>
                        <a:pt x="292" y="439"/>
                      </a:lnTo>
                      <a:lnTo>
                        <a:pt x="287" y="439"/>
                      </a:lnTo>
                      <a:lnTo>
                        <a:pt x="283" y="441"/>
                      </a:lnTo>
                      <a:lnTo>
                        <a:pt x="279" y="441"/>
                      </a:lnTo>
                      <a:lnTo>
                        <a:pt x="275" y="441"/>
                      </a:lnTo>
                      <a:lnTo>
                        <a:pt x="266" y="438"/>
                      </a:lnTo>
                      <a:lnTo>
                        <a:pt x="258" y="436"/>
                      </a:lnTo>
                      <a:lnTo>
                        <a:pt x="251" y="434"/>
                      </a:lnTo>
                      <a:lnTo>
                        <a:pt x="245" y="430"/>
                      </a:lnTo>
                      <a:lnTo>
                        <a:pt x="237" y="426"/>
                      </a:lnTo>
                      <a:lnTo>
                        <a:pt x="230" y="422"/>
                      </a:lnTo>
                      <a:lnTo>
                        <a:pt x="222" y="417"/>
                      </a:lnTo>
                      <a:lnTo>
                        <a:pt x="216" y="411"/>
                      </a:lnTo>
                      <a:lnTo>
                        <a:pt x="211" y="405"/>
                      </a:lnTo>
                      <a:lnTo>
                        <a:pt x="205" y="400"/>
                      </a:lnTo>
                      <a:lnTo>
                        <a:pt x="201" y="392"/>
                      </a:lnTo>
                      <a:lnTo>
                        <a:pt x="197" y="388"/>
                      </a:lnTo>
                      <a:lnTo>
                        <a:pt x="192" y="381"/>
                      </a:lnTo>
                      <a:lnTo>
                        <a:pt x="190" y="375"/>
                      </a:lnTo>
                      <a:lnTo>
                        <a:pt x="188" y="369"/>
                      </a:lnTo>
                      <a:lnTo>
                        <a:pt x="188" y="363"/>
                      </a:lnTo>
                      <a:lnTo>
                        <a:pt x="186" y="358"/>
                      </a:lnTo>
                      <a:lnTo>
                        <a:pt x="184" y="350"/>
                      </a:lnTo>
                      <a:lnTo>
                        <a:pt x="184" y="343"/>
                      </a:lnTo>
                      <a:lnTo>
                        <a:pt x="184" y="337"/>
                      </a:lnTo>
                      <a:lnTo>
                        <a:pt x="184" y="331"/>
                      </a:lnTo>
                      <a:lnTo>
                        <a:pt x="184" y="324"/>
                      </a:lnTo>
                      <a:lnTo>
                        <a:pt x="184" y="316"/>
                      </a:lnTo>
                      <a:lnTo>
                        <a:pt x="184" y="310"/>
                      </a:lnTo>
                      <a:lnTo>
                        <a:pt x="184" y="303"/>
                      </a:lnTo>
                      <a:lnTo>
                        <a:pt x="184" y="297"/>
                      </a:lnTo>
                      <a:lnTo>
                        <a:pt x="184" y="293"/>
                      </a:lnTo>
                      <a:lnTo>
                        <a:pt x="184" y="287"/>
                      </a:lnTo>
                      <a:lnTo>
                        <a:pt x="184" y="282"/>
                      </a:lnTo>
                      <a:lnTo>
                        <a:pt x="184" y="280"/>
                      </a:lnTo>
                      <a:lnTo>
                        <a:pt x="0" y="54"/>
                      </a:lnTo>
                      <a:lnTo>
                        <a:pt x="23" y="42"/>
                      </a:lnTo>
                      <a:lnTo>
                        <a:pt x="23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233520" y="6526080"/>
                  <a:ext cx="192240" cy="130320"/>
                </a:xfrm>
                <a:custGeom>
                  <a:avLst/>
                  <a:gdLst/>
                  <a:ahLst/>
                  <a:rect l="l" t="t" r="r" b="b"/>
                  <a:pathLst>
                    <a:path w="182" h="143">
                      <a:moveTo>
                        <a:pt x="0" y="118"/>
                      </a:move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5" y="101"/>
                      </a:lnTo>
                      <a:lnTo>
                        <a:pt x="97" y="97"/>
                      </a:lnTo>
                      <a:lnTo>
                        <a:pt x="99" y="92"/>
                      </a:lnTo>
                      <a:lnTo>
                        <a:pt x="101" y="84"/>
                      </a:lnTo>
                      <a:lnTo>
                        <a:pt x="104" y="76"/>
                      </a:lnTo>
                      <a:lnTo>
                        <a:pt x="106" y="73"/>
                      </a:lnTo>
                      <a:lnTo>
                        <a:pt x="108" y="69"/>
                      </a:lnTo>
                      <a:lnTo>
                        <a:pt x="110" y="63"/>
                      </a:lnTo>
                      <a:lnTo>
                        <a:pt x="112" y="59"/>
                      </a:lnTo>
                      <a:lnTo>
                        <a:pt x="114" y="56"/>
                      </a:lnTo>
                      <a:lnTo>
                        <a:pt x="116" y="52"/>
                      </a:lnTo>
                      <a:lnTo>
                        <a:pt x="118" y="46"/>
                      </a:lnTo>
                      <a:lnTo>
                        <a:pt x="122" y="42"/>
                      </a:lnTo>
                      <a:lnTo>
                        <a:pt x="123" y="37"/>
                      </a:lnTo>
                      <a:lnTo>
                        <a:pt x="127" y="33"/>
                      </a:lnTo>
                      <a:lnTo>
                        <a:pt x="129" y="29"/>
                      </a:lnTo>
                      <a:lnTo>
                        <a:pt x="131" y="25"/>
                      </a:lnTo>
                      <a:lnTo>
                        <a:pt x="137" y="16"/>
                      </a:lnTo>
                      <a:lnTo>
                        <a:pt x="142" y="10"/>
                      </a:lnTo>
                      <a:lnTo>
                        <a:pt x="148" y="4"/>
                      </a:lnTo>
                      <a:lnTo>
                        <a:pt x="154" y="0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9" y="2"/>
                      </a:lnTo>
                      <a:lnTo>
                        <a:pt x="175" y="4"/>
                      </a:lnTo>
                      <a:lnTo>
                        <a:pt x="171" y="10"/>
                      </a:lnTo>
                      <a:lnTo>
                        <a:pt x="165" y="14"/>
                      </a:lnTo>
                      <a:lnTo>
                        <a:pt x="160" y="21"/>
                      </a:lnTo>
                      <a:lnTo>
                        <a:pt x="158" y="23"/>
                      </a:lnTo>
                      <a:lnTo>
                        <a:pt x="154" y="27"/>
                      </a:lnTo>
                      <a:lnTo>
                        <a:pt x="150" y="33"/>
                      </a:lnTo>
                      <a:lnTo>
                        <a:pt x="148" y="37"/>
                      </a:lnTo>
                      <a:lnTo>
                        <a:pt x="144" y="40"/>
                      </a:lnTo>
                      <a:lnTo>
                        <a:pt x="142" y="46"/>
                      </a:lnTo>
                      <a:lnTo>
                        <a:pt x="139" y="50"/>
                      </a:lnTo>
                      <a:lnTo>
                        <a:pt x="135" y="56"/>
                      </a:lnTo>
                      <a:lnTo>
                        <a:pt x="133" y="59"/>
                      </a:lnTo>
                      <a:lnTo>
                        <a:pt x="131" y="67"/>
                      </a:lnTo>
                      <a:lnTo>
                        <a:pt x="127" y="73"/>
                      </a:lnTo>
                      <a:lnTo>
                        <a:pt x="125" y="78"/>
                      </a:lnTo>
                      <a:lnTo>
                        <a:pt x="123" y="84"/>
                      </a:lnTo>
                      <a:lnTo>
                        <a:pt x="122" y="92"/>
                      </a:lnTo>
                      <a:lnTo>
                        <a:pt x="118" y="97"/>
                      </a:lnTo>
                      <a:lnTo>
                        <a:pt x="118" y="105"/>
                      </a:lnTo>
                      <a:lnTo>
                        <a:pt x="116" y="113"/>
                      </a:lnTo>
                      <a:lnTo>
                        <a:pt x="114" y="118"/>
                      </a:lnTo>
                      <a:lnTo>
                        <a:pt x="114" y="126"/>
                      </a:lnTo>
                      <a:lnTo>
                        <a:pt x="114" y="133"/>
                      </a:lnTo>
                      <a:lnTo>
                        <a:pt x="112" y="133"/>
                      </a:lnTo>
                      <a:lnTo>
                        <a:pt x="110" y="133"/>
                      </a:lnTo>
                      <a:lnTo>
                        <a:pt x="106" y="133"/>
                      </a:lnTo>
                      <a:lnTo>
                        <a:pt x="101" y="133"/>
                      </a:lnTo>
                      <a:lnTo>
                        <a:pt x="93" y="133"/>
                      </a:lnTo>
                      <a:lnTo>
                        <a:pt x="87" y="133"/>
                      </a:lnTo>
                      <a:lnTo>
                        <a:pt x="80" y="133"/>
                      </a:lnTo>
                      <a:lnTo>
                        <a:pt x="72" y="133"/>
                      </a:lnTo>
                      <a:lnTo>
                        <a:pt x="68" y="133"/>
                      </a:lnTo>
                      <a:lnTo>
                        <a:pt x="63" y="133"/>
                      </a:lnTo>
                      <a:lnTo>
                        <a:pt x="59" y="133"/>
                      </a:lnTo>
                      <a:lnTo>
                        <a:pt x="55" y="133"/>
                      </a:lnTo>
                      <a:lnTo>
                        <a:pt x="49" y="133"/>
                      </a:lnTo>
                      <a:lnTo>
                        <a:pt x="45" y="133"/>
                      </a:lnTo>
                      <a:lnTo>
                        <a:pt x="42" y="133"/>
                      </a:lnTo>
                      <a:lnTo>
                        <a:pt x="38" y="135"/>
                      </a:lnTo>
                      <a:lnTo>
                        <a:pt x="32" y="135"/>
                      </a:lnTo>
                      <a:lnTo>
                        <a:pt x="28" y="135"/>
                      </a:lnTo>
                      <a:lnTo>
                        <a:pt x="25" y="137"/>
                      </a:lnTo>
                      <a:lnTo>
                        <a:pt x="21" y="137"/>
                      </a:lnTo>
                      <a:lnTo>
                        <a:pt x="15" y="139"/>
                      </a:lnTo>
                      <a:lnTo>
                        <a:pt x="9" y="143"/>
                      </a:lnTo>
                      <a:lnTo>
                        <a:pt x="0" y="118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84280" y="6404040"/>
                  <a:ext cx="4334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519">
                      <a:moveTo>
                        <a:pt x="245" y="10"/>
                      </a:moveTo>
                      <a:lnTo>
                        <a:pt x="101" y="173"/>
                      </a:lnTo>
                      <a:lnTo>
                        <a:pt x="97" y="173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5"/>
                      </a:lnTo>
                      <a:lnTo>
                        <a:pt x="74" y="175"/>
                      </a:lnTo>
                      <a:lnTo>
                        <a:pt x="71" y="177"/>
                      </a:lnTo>
                      <a:lnTo>
                        <a:pt x="65" y="177"/>
                      </a:lnTo>
                      <a:lnTo>
                        <a:pt x="61" y="179"/>
                      </a:lnTo>
                      <a:lnTo>
                        <a:pt x="53" y="183"/>
                      </a:lnTo>
                      <a:lnTo>
                        <a:pt x="48" y="187"/>
                      </a:lnTo>
                      <a:lnTo>
                        <a:pt x="46" y="187"/>
                      </a:lnTo>
                      <a:lnTo>
                        <a:pt x="46" y="190"/>
                      </a:lnTo>
                      <a:lnTo>
                        <a:pt x="44" y="192"/>
                      </a:lnTo>
                      <a:lnTo>
                        <a:pt x="44" y="198"/>
                      </a:lnTo>
                      <a:lnTo>
                        <a:pt x="42" y="202"/>
                      </a:lnTo>
                      <a:lnTo>
                        <a:pt x="42" y="207"/>
                      </a:lnTo>
                      <a:lnTo>
                        <a:pt x="40" y="213"/>
                      </a:lnTo>
                      <a:lnTo>
                        <a:pt x="40" y="221"/>
                      </a:lnTo>
                      <a:lnTo>
                        <a:pt x="40" y="228"/>
                      </a:lnTo>
                      <a:lnTo>
                        <a:pt x="40" y="236"/>
                      </a:lnTo>
                      <a:lnTo>
                        <a:pt x="40" y="240"/>
                      </a:lnTo>
                      <a:lnTo>
                        <a:pt x="40" y="245"/>
                      </a:lnTo>
                      <a:lnTo>
                        <a:pt x="40" y="249"/>
                      </a:lnTo>
                      <a:lnTo>
                        <a:pt x="40" y="253"/>
                      </a:lnTo>
                      <a:lnTo>
                        <a:pt x="40" y="257"/>
                      </a:lnTo>
                      <a:lnTo>
                        <a:pt x="40" y="263"/>
                      </a:lnTo>
                      <a:lnTo>
                        <a:pt x="40" y="266"/>
                      </a:lnTo>
                      <a:lnTo>
                        <a:pt x="40" y="272"/>
                      </a:lnTo>
                      <a:lnTo>
                        <a:pt x="40" y="276"/>
                      </a:lnTo>
                      <a:lnTo>
                        <a:pt x="40" y="282"/>
                      </a:lnTo>
                      <a:lnTo>
                        <a:pt x="40" y="287"/>
                      </a:lnTo>
                      <a:lnTo>
                        <a:pt x="40" y="291"/>
                      </a:lnTo>
                      <a:lnTo>
                        <a:pt x="40" y="297"/>
                      </a:lnTo>
                      <a:lnTo>
                        <a:pt x="40" y="301"/>
                      </a:lnTo>
                      <a:lnTo>
                        <a:pt x="40" y="306"/>
                      </a:lnTo>
                      <a:lnTo>
                        <a:pt x="40" y="312"/>
                      </a:lnTo>
                      <a:lnTo>
                        <a:pt x="40" y="316"/>
                      </a:lnTo>
                      <a:lnTo>
                        <a:pt x="42" y="320"/>
                      </a:lnTo>
                      <a:lnTo>
                        <a:pt x="42" y="325"/>
                      </a:lnTo>
                      <a:lnTo>
                        <a:pt x="42" y="331"/>
                      </a:lnTo>
                      <a:lnTo>
                        <a:pt x="42" y="335"/>
                      </a:lnTo>
                      <a:lnTo>
                        <a:pt x="42" y="340"/>
                      </a:lnTo>
                      <a:lnTo>
                        <a:pt x="44" y="344"/>
                      </a:lnTo>
                      <a:lnTo>
                        <a:pt x="44" y="350"/>
                      </a:lnTo>
                      <a:lnTo>
                        <a:pt x="44" y="354"/>
                      </a:lnTo>
                      <a:lnTo>
                        <a:pt x="44" y="358"/>
                      </a:lnTo>
                      <a:lnTo>
                        <a:pt x="46" y="363"/>
                      </a:lnTo>
                      <a:lnTo>
                        <a:pt x="46" y="367"/>
                      </a:lnTo>
                      <a:lnTo>
                        <a:pt x="48" y="375"/>
                      </a:lnTo>
                      <a:lnTo>
                        <a:pt x="48" y="382"/>
                      </a:lnTo>
                      <a:lnTo>
                        <a:pt x="50" y="390"/>
                      </a:lnTo>
                      <a:lnTo>
                        <a:pt x="52" y="397"/>
                      </a:lnTo>
                      <a:lnTo>
                        <a:pt x="53" y="403"/>
                      </a:lnTo>
                      <a:lnTo>
                        <a:pt x="55" y="409"/>
                      </a:lnTo>
                      <a:lnTo>
                        <a:pt x="59" y="413"/>
                      </a:lnTo>
                      <a:lnTo>
                        <a:pt x="61" y="418"/>
                      </a:lnTo>
                      <a:lnTo>
                        <a:pt x="67" y="424"/>
                      </a:lnTo>
                      <a:lnTo>
                        <a:pt x="74" y="432"/>
                      </a:lnTo>
                      <a:lnTo>
                        <a:pt x="80" y="434"/>
                      </a:lnTo>
                      <a:lnTo>
                        <a:pt x="84" y="437"/>
                      </a:lnTo>
                      <a:lnTo>
                        <a:pt x="90" y="439"/>
                      </a:lnTo>
                      <a:lnTo>
                        <a:pt x="95" y="443"/>
                      </a:lnTo>
                      <a:lnTo>
                        <a:pt x="101" y="445"/>
                      </a:lnTo>
                      <a:lnTo>
                        <a:pt x="107" y="449"/>
                      </a:lnTo>
                      <a:lnTo>
                        <a:pt x="114" y="451"/>
                      </a:lnTo>
                      <a:lnTo>
                        <a:pt x="122" y="454"/>
                      </a:lnTo>
                      <a:lnTo>
                        <a:pt x="128" y="456"/>
                      </a:lnTo>
                      <a:lnTo>
                        <a:pt x="135" y="458"/>
                      </a:lnTo>
                      <a:lnTo>
                        <a:pt x="143" y="462"/>
                      </a:lnTo>
                      <a:lnTo>
                        <a:pt x="150" y="464"/>
                      </a:lnTo>
                      <a:lnTo>
                        <a:pt x="158" y="466"/>
                      </a:lnTo>
                      <a:lnTo>
                        <a:pt x="166" y="466"/>
                      </a:lnTo>
                      <a:lnTo>
                        <a:pt x="173" y="468"/>
                      </a:lnTo>
                      <a:lnTo>
                        <a:pt x="183" y="470"/>
                      </a:lnTo>
                      <a:lnTo>
                        <a:pt x="188" y="472"/>
                      </a:lnTo>
                      <a:lnTo>
                        <a:pt x="198" y="473"/>
                      </a:lnTo>
                      <a:lnTo>
                        <a:pt x="206" y="473"/>
                      </a:lnTo>
                      <a:lnTo>
                        <a:pt x="213" y="475"/>
                      </a:lnTo>
                      <a:lnTo>
                        <a:pt x="221" y="475"/>
                      </a:lnTo>
                      <a:lnTo>
                        <a:pt x="228" y="475"/>
                      </a:lnTo>
                      <a:lnTo>
                        <a:pt x="236" y="477"/>
                      </a:lnTo>
                      <a:lnTo>
                        <a:pt x="244" y="477"/>
                      </a:lnTo>
                      <a:lnTo>
                        <a:pt x="251" y="477"/>
                      </a:lnTo>
                      <a:lnTo>
                        <a:pt x="257" y="477"/>
                      </a:lnTo>
                      <a:lnTo>
                        <a:pt x="265" y="477"/>
                      </a:lnTo>
                      <a:lnTo>
                        <a:pt x="272" y="477"/>
                      </a:lnTo>
                      <a:lnTo>
                        <a:pt x="276" y="477"/>
                      </a:lnTo>
                      <a:lnTo>
                        <a:pt x="282" y="475"/>
                      </a:lnTo>
                      <a:lnTo>
                        <a:pt x="287" y="475"/>
                      </a:lnTo>
                      <a:lnTo>
                        <a:pt x="293" y="473"/>
                      </a:lnTo>
                      <a:lnTo>
                        <a:pt x="297" y="473"/>
                      </a:lnTo>
                      <a:lnTo>
                        <a:pt x="303" y="472"/>
                      </a:lnTo>
                      <a:lnTo>
                        <a:pt x="308" y="470"/>
                      </a:lnTo>
                      <a:lnTo>
                        <a:pt x="312" y="470"/>
                      </a:lnTo>
                      <a:lnTo>
                        <a:pt x="318" y="468"/>
                      </a:lnTo>
                      <a:lnTo>
                        <a:pt x="322" y="466"/>
                      </a:lnTo>
                      <a:lnTo>
                        <a:pt x="325" y="464"/>
                      </a:lnTo>
                      <a:lnTo>
                        <a:pt x="329" y="462"/>
                      </a:lnTo>
                      <a:lnTo>
                        <a:pt x="337" y="458"/>
                      </a:lnTo>
                      <a:lnTo>
                        <a:pt x="344" y="454"/>
                      </a:lnTo>
                      <a:lnTo>
                        <a:pt x="350" y="451"/>
                      </a:lnTo>
                      <a:lnTo>
                        <a:pt x="354" y="445"/>
                      </a:lnTo>
                      <a:lnTo>
                        <a:pt x="358" y="441"/>
                      </a:lnTo>
                      <a:lnTo>
                        <a:pt x="363" y="437"/>
                      </a:lnTo>
                      <a:lnTo>
                        <a:pt x="363" y="432"/>
                      </a:lnTo>
                      <a:lnTo>
                        <a:pt x="367" y="428"/>
                      </a:lnTo>
                      <a:lnTo>
                        <a:pt x="367" y="424"/>
                      </a:lnTo>
                      <a:lnTo>
                        <a:pt x="367" y="420"/>
                      </a:lnTo>
                      <a:lnTo>
                        <a:pt x="365" y="415"/>
                      </a:lnTo>
                      <a:lnTo>
                        <a:pt x="361" y="411"/>
                      </a:lnTo>
                      <a:lnTo>
                        <a:pt x="356" y="403"/>
                      </a:lnTo>
                      <a:lnTo>
                        <a:pt x="350" y="396"/>
                      </a:lnTo>
                      <a:lnTo>
                        <a:pt x="346" y="392"/>
                      </a:lnTo>
                      <a:lnTo>
                        <a:pt x="342" y="386"/>
                      </a:lnTo>
                      <a:lnTo>
                        <a:pt x="339" y="382"/>
                      </a:lnTo>
                      <a:lnTo>
                        <a:pt x="335" y="378"/>
                      </a:lnTo>
                      <a:lnTo>
                        <a:pt x="331" y="373"/>
                      </a:lnTo>
                      <a:lnTo>
                        <a:pt x="327" y="369"/>
                      </a:lnTo>
                      <a:lnTo>
                        <a:pt x="323" y="365"/>
                      </a:lnTo>
                      <a:lnTo>
                        <a:pt x="322" y="361"/>
                      </a:lnTo>
                      <a:lnTo>
                        <a:pt x="316" y="356"/>
                      </a:lnTo>
                      <a:lnTo>
                        <a:pt x="312" y="352"/>
                      </a:lnTo>
                      <a:lnTo>
                        <a:pt x="308" y="346"/>
                      </a:lnTo>
                      <a:lnTo>
                        <a:pt x="304" y="342"/>
                      </a:lnTo>
                      <a:lnTo>
                        <a:pt x="297" y="335"/>
                      </a:lnTo>
                      <a:lnTo>
                        <a:pt x="291" y="329"/>
                      </a:lnTo>
                      <a:lnTo>
                        <a:pt x="285" y="323"/>
                      </a:lnTo>
                      <a:lnTo>
                        <a:pt x="282" y="320"/>
                      </a:lnTo>
                      <a:lnTo>
                        <a:pt x="280" y="316"/>
                      </a:lnTo>
                      <a:lnTo>
                        <a:pt x="236" y="225"/>
                      </a:lnTo>
                      <a:lnTo>
                        <a:pt x="380" y="34"/>
                      </a:lnTo>
                      <a:lnTo>
                        <a:pt x="417" y="38"/>
                      </a:lnTo>
                      <a:lnTo>
                        <a:pt x="263" y="232"/>
                      </a:lnTo>
                      <a:lnTo>
                        <a:pt x="289" y="301"/>
                      </a:lnTo>
                      <a:lnTo>
                        <a:pt x="289" y="301"/>
                      </a:lnTo>
                      <a:lnTo>
                        <a:pt x="293" y="304"/>
                      </a:lnTo>
                      <a:lnTo>
                        <a:pt x="297" y="306"/>
                      </a:lnTo>
                      <a:lnTo>
                        <a:pt x="304" y="312"/>
                      </a:lnTo>
                      <a:lnTo>
                        <a:pt x="308" y="314"/>
                      </a:lnTo>
                      <a:lnTo>
                        <a:pt x="312" y="316"/>
                      </a:lnTo>
                      <a:lnTo>
                        <a:pt x="318" y="320"/>
                      </a:lnTo>
                      <a:lnTo>
                        <a:pt x="322" y="321"/>
                      </a:lnTo>
                      <a:lnTo>
                        <a:pt x="325" y="325"/>
                      </a:lnTo>
                      <a:lnTo>
                        <a:pt x="331" y="329"/>
                      </a:lnTo>
                      <a:lnTo>
                        <a:pt x="335" y="333"/>
                      </a:lnTo>
                      <a:lnTo>
                        <a:pt x="341" y="337"/>
                      </a:lnTo>
                      <a:lnTo>
                        <a:pt x="346" y="340"/>
                      </a:lnTo>
                      <a:lnTo>
                        <a:pt x="350" y="344"/>
                      </a:lnTo>
                      <a:lnTo>
                        <a:pt x="354" y="350"/>
                      </a:lnTo>
                      <a:lnTo>
                        <a:pt x="360" y="354"/>
                      </a:lnTo>
                      <a:lnTo>
                        <a:pt x="363" y="359"/>
                      </a:lnTo>
                      <a:lnTo>
                        <a:pt x="369" y="363"/>
                      </a:lnTo>
                      <a:lnTo>
                        <a:pt x="373" y="369"/>
                      </a:lnTo>
                      <a:lnTo>
                        <a:pt x="377" y="375"/>
                      </a:lnTo>
                      <a:lnTo>
                        <a:pt x="380" y="378"/>
                      </a:lnTo>
                      <a:lnTo>
                        <a:pt x="384" y="384"/>
                      </a:lnTo>
                      <a:lnTo>
                        <a:pt x="386" y="390"/>
                      </a:lnTo>
                      <a:lnTo>
                        <a:pt x="390" y="396"/>
                      </a:lnTo>
                      <a:lnTo>
                        <a:pt x="392" y="399"/>
                      </a:lnTo>
                      <a:lnTo>
                        <a:pt x="394" y="405"/>
                      </a:lnTo>
                      <a:lnTo>
                        <a:pt x="394" y="411"/>
                      </a:lnTo>
                      <a:lnTo>
                        <a:pt x="396" y="416"/>
                      </a:lnTo>
                      <a:lnTo>
                        <a:pt x="396" y="420"/>
                      </a:lnTo>
                      <a:lnTo>
                        <a:pt x="396" y="426"/>
                      </a:lnTo>
                      <a:lnTo>
                        <a:pt x="394" y="430"/>
                      </a:lnTo>
                      <a:lnTo>
                        <a:pt x="394" y="435"/>
                      </a:lnTo>
                      <a:lnTo>
                        <a:pt x="394" y="439"/>
                      </a:lnTo>
                      <a:lnTo>
                        <a:pt x="392" y="445"/>
                      </a:lnTo>
                      <a:lnTo>
                        <a:pt x="392" y="449"/>
                      </a:lnTo>
                      <a:lnTo>
                        <a:pt x="392" y="453"/>
                      </a:lnTo>
                      <a:lnTo>
                        <a:pt x="386" y="460"/>
                      </a:lnTo>
                      <a:lnTo>
                        <a:pt x="384" y="468"/>
                      </a:lnTo>
                      <a:lnTo>
                        <a:pt x="379" y="473"/>
                      </a:lnTo>
                      <a:lnTo>
                        <a:pt x="375" y="481"/>
                      </a:lnTo>
                      <a:lnTo>
                        <a:pt x="367" y="487"/>
                      </a:lnTo>
                      <a:lnTo>
                        <a:pt x="361" y="491"/>
                      </a:lnTo>
                      <a:lnTo>
                        <a:pt x="354" y="494"/>
                      </a:lnTo>
                      <a:lnTo>
                        <a:pt x="346" y="498"/>
                      </a:lnTo>
                      <a:lnTo>
                        <a:pt x="341" y="500"/>
                      </a:lnTo>
                      <a:lnTo>
                        <a:pt x="335" y="502"/>
                      </a:lnTo>
                      <a:lnTo>
                        <a:pt x="329" y="502"/>
                      </a:lnTo>
                      <a:lnTo>
                        <a:pt x="325" y="504"/>
                      </a:lnTo>
                      <a:lnTo>
                        <a:pt x="320" y="506"/>
                      </a:lnTo>
                      <a:lnTo>
                        <a:pt x="314" y="506"/>
                      </a:lnTo>
                      <a:lnTo>
                        <a:pt x="308" y="508"/>
                      </a:lnTo>
                      <a:lnTo>
                        <a:pt x="303" y="508"/>
                      </a:lnTo>
                      <a:lnTo>
                        <a:pt x="297" y="508"/>
                      </a:lnTo>
                      <a:lnTo>
                        <a:pt x="289" y="510"/>
                      </a:lnTo>
                      <a:lnTo>
                        <a:pt x="282" y="510"/>
                      </a:lnTo>
                      <a:lnTo>
                        <a:pt x="274" y="511"/>
                      </a:lnTo>
                      <a:lnTo>
                        <a:pt x="266" y="511"/>
                      </a:lnTo>
                      <a:lnTo>
                        <a:pt x="259" y="513"/>
                      </a:lnTo>
                      <a:lnTo>
                        <a:pt x="253" y="513"/>
                      </a:lnTo>
                      <a:lnTo>
                        <a:pt x="249" y="515"/>
                      </a:lnTo>
                      <a:lnTo>
                        <a:pt x="245" y="515"/>
                      </a:lnTo>
                      <a:lnTo>
                        <a:pt x="242" y="515"/>
                      </a:lnTo>
                      <a:lnTo>
                        <a:pt x="236" y="515"/>
                      </a:lnTo>
                      <a:lnTo>
                        <a:pt x="232" y="517"/>
                      </a:lnTo>
                      <a:lnTo>
                        <a:pt x="226" y="517"/>
                      </a:lnTo>
                      <a:lnTo>
                        <a:pt x="223" y="517"/>
                      </a:lnTo>
                      <a:lnTo>
                        <a:pt x="217" y="517"/>
                      </a:lnTo>
                      <a:lnTo>
                        <a:pt x="213" y="519"/>
                      </a:lnTo>
                      <a:lnTo>
                        <a:pt x="209" y="519"/>
                      </a:lnTo>
                      <a:lnTo>
                        <a:pt x="206" y="519"/>
                      </a:lnTo>
                      <a:lnTo>
                        <a:pt x="200" y="519"/>
                      </a:lnTo>
                      <a:lnTo>
                        <a:pt x="196" y="519"/>
                      </a:lnTo>
                      <a:lnTo>
                        <a:pt x="190" y="519"/>
                      </a:lnTo>
                      <a:lnTo>
                        <a:pt x="187" y="519"/>
                      </a:lnTo>
                      <a:lnTo>
                        <a:pt x="181" y="519"/>
                      </a:lnTo>
                      <a:lnTo>
                        <a:pt x="177" y="519"/>
                      </a:lnTo>
                      <a:lnTo>
                        <a:pt x="171" y="519"/>
                      </a:lnTo>
                      <a:lnTo>
                        <a:pt x="168" y="519"/>
                      </a:lnTo>
                      <a:lnTo>
                        <a:pt x="164" y="519"/>
                      </a:lnTo>
                      <a:lnTo>
                        <a:pt x="158" y="517"/>
                      </a:lnTo>
                      <a:lnTo>
                        <a:pt x="154" y="517"/>
                      </a:lnTo>
                      <a:lnTo>
                        <a:pt x="149" y="515"/>
                      </a:lnTo>
                      <a:lnTo>
                        <a:pt x="145" y="515"/>
                      </a:lnTo>
                      <a:lnTo>
                        <a:pt x="139" y="513"/>
                      </a:lnTo>
                      <a:lnTo>
                        <a:pt x="135" y="513"/>
                      </a:lnTo>
                      <a:lnTo>
                        <a:pt x="131" y="511"/>
                      </a:lnTo>
                      <a:lnTo>
                        <a:pt x="126" y="511"/>
                      </a:lnTo>
                      <a:lnTo>
                        <a:pt x="122" y="510"/>
                      </a:lnTo>
                      <a:lnTo>
                        <a:pt x="116" y="508"/>
                      </a:lnTo>
                      <a:lnTo>
                        <a:pt x="112" y="508"/>
                      </a:lnTo>
                      <a:lnTo>
                        <a:pt x="103" y="502"/>
                      </a:lnTo>
                      <a:lnTo>
                        <a:pt x="95" y="498"/>
                      </a:lnTo>
                      <a:lnTo>
                        <a:pt x="92" y="496"/>
                      </a:lnTo>
                      <a:lnTo>
                        <a:pt x="86" y="494"/>
                      </a:lnTo>
                      <a:lnTo>
                        <a:pt x="82" y="491"/>
                      </a:lnTo>
                      <a:lnTo>
                        <a:pt x="78" y="489"/>
                      </a:lnTo>
                      <a:lnTo>
                        <a:pt x="71" y="481"/>
                      </a:lnTo>
                      <a:lnTo>
                        <a:pt x="65" y="475"/>
                      </a:lnTo>
                      <a:lnTo>
                        <a:pt x="59" y="472"/>
                      </a:lnTo>
                      <a:lnTo>
                        <a:pt x="57" y="468"/>
                      </a:lnTo>
                      <a:lnTo>
                        <a:pt x="53" y="462"/>
                      </a:lnTo>
                      <a:lnTo>
                        <a:pt x="52" y="458"/>
                      </a:lnTo>
                      <a:lnTo>
                        <a:pt x="48" y="454"/>
                      </a:lnTo>
                      <a:lnTo>
                        <a:pt x="44" y="449"/>
                      </a:lnTo>
                      <a:lnTo>
                        <a:pt x="42" y="445"/>
                      </a:lnTo>
                      <a:lnTo>
                        <a:pt x="40" y="441"/>
                      </a:lnTo>
                      <a:lnTo>
                        <a:pt x="36" y="434"/>
                      </a:lnTo>
                      <a:lnTo>
                        <a:pt x="34" y="428"/>
                      </a:lnTo>
                      <a:lnTo>
                        <a:pt x="31" y="424"/>
                      </a:lnTo>
                      <a:lnTo>
                        <a:pt x="29" y="418"/>
                      </a:lnTo>
                      <a:lnTo>
                        <a:pt x="27" y="411"/>
                      </a:lnTo>
                      <a:lnTo>
                        <a:pt x="25" y="407"/>
                      </a:lnTo>
                      <a:lnTo>
                        <a:pt x="23" y="401"/>
                      </a:lnTo>
                      <a:lnTo>
                        <a:pt x="21" y="396"/>
                      </a:lnTo>
                      <a:lnTo>
                        <a:pt x="19" y="390"/>
                      </a:lnTo>
                      <a:lnTo>
                        <a:pt x="17" y="384"/>
                      </a:lnTo>
                      <a:lnTo>
                        <a:pt x="15" y="378"/>
                      </a:lnTo>
                      <a:lnTo>
                        <a:pt x="14" y="375"/>
                      </a:lnTo>
                      <a:lnTo>
                        <a:pt x="12" y="367"/>
                      </a:lnTo>
                      <a:lnTo>
                        <a:pt x="12" y="361"/>
                      </a:lnTo>
                      <a:lnTo>
                        <a:pt x="10" y="356"/>
                      </a:lnTo>
                      <a:lnTo>
                        <a:pt x="10" y="352"/>
                      </a:lnTo>
                      <a:lnTo>
                        <a:pt x="8" y="344"/>
                      </a:lnTo>
                      <a:lnTo>
                        <a:pt x="6" y="340"/>
                      </a:lnTo>
                      <a:lnTo>
                        <a:pt x="6" y="335"/>
                      </a:lnTo>
                      <a:lnTo>
                        <a:pt x="4" y="329"/>
                      </a:lnTo>
                      <a:lnTo>
                        <a:pt x="4" y="323"/>
                      </a:lnTo>
                      <a:lnTo>
                        <a:pt x="2" y="318"/>
                      </a:lnTo>
                      <a:lnTo>
                        <a:pt x="2" y="312"/>
                      </a:lnTo>
                      <a:lnTo>
                        <a:pt x="2" y="308"/>
                      </a:lnTo>
                      <a:lnTo>
                        <a:pt x="2" y="302"/>
                      </a:lnTo>
                      <a:lnTo>
                        <a:pt x="0" y="297"/>
                      </a:lnTo>
                      <a:lnTo>
                        <a:pt x="0" y="291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0" y="276"/>
                      </a:lnTo>
                      <a:lnTo>
                        <a:pt x="0" y="270"/>
                      </a:lnTo>
                      <a:lnTo>
                        <a:pt x="0" y="266"/>
                      </a:lnTo>
                      <a:lnTo>
                        <a:pt x="0" y="261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38"/>
                      </a:lnTo>
                      <a:lnTo>
                        <a:pt x="2" y="232"/>
                      </a:lnTo>
                      <a:lnTo>
                        <a:pt x="2" y="228"/>
                      </a:lnTo>
                      <a:lnTo>
                        <a:pt x="2" y="225"/>
                      </a:lnTo>
                      <a:lnTo>
                        <a:pt x="2" y="219"/>
                      </a:lnTo>
                      <a:lnTo>
                        <a:pt x="2" y="215"/>
                      </a:lnTo>
                      <a:lnTo>
                        <a:pt x="4" y="213"/>
                      </a:lnTo>
                      <a:lnTo>
                        <a:pt x="4" y="206"/>
                      </a:lnTo>
                      <a:lnTo>
                        <a:pt x="6" y="200"/>
                      </a:lnTo>
                      <a:lnTo>
                        <a:pt x="8" y="192"/>
                      </a:lnTo>
                      <a:lnTo>
                        <a:pt x="10" y="187"/>
                      </a:lnTo>
                      <a:lnTo>
                        <a:pt x="10" y="181"/>
                      </a:lnTo>
                      <a:lnTo>
                        <a:pt x="14" y="177"/>
                      </a:lnTo>
                      <a:lnTo>
                        <a:pt x="17" y="169"/>
                      </a:lnTo>
                      <a:lnTo>
                        <a:pt x="21" y="166"/>
                      </a:lnTo>
                      <a:lnTo>
                        <a:pt x="25" y="164"/>
                      </a:lnTo>
                      <a:lnTo>
                        <a:pt x="31" y="162"/>
                      </a:lnTo>
                      <a:lnTo>
                        <a:pt x="34" y="158"/>
                      </a:lnTo>
                      <a:lnTo>
                        <a:pt x="40" y="158"/>
                      </a:lnTo>
                      <a:lnTo>
                        <a:pt x="46" y="154"/>
                      </a:lnTo>
                      <a:lnTo>
                        <a:pt x="52" y="152"/>
                      </a:lnTo>
                      <a:lnTo>
                        <a:pt x="55" y="150"/>
                      </a:lnTo>
                      <a:lnTo>
                        <a:pt x="61" y="150"/>
                      </a:lnTo>
                      <a:lnTo>
                        <a:pt x="67" y="149"/>
                      </a:lnTo>
                      <a:lnTo>
                        <a:pt x="71" y="147"/>
                      </a:lnTo>
                      <a:lnTo>
                        <a:pt x="74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6" y="145"/>
                      </a:lnTo>
                      <a:lnTo>
                        <a:pt x="219" y="0"/>
                      </a:lnTo>
                      <a:lnTo>
                        <a:pt x="245" y="10"/>
                      </a:lnTo>
                      <a:lnTo>
                        <a:pt x="2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467080" y="6553080"/>
                  <a:ext cx="185400" cy="130320"/>
                </a:xfrm>
                <a:custGeom>
                  <a:avLst/>
                  <a:gdLst/>
                  <a:ahLst/>
                  <a:rect l="l" t="t" r="r" b="b"/>
                  <a:pathLst>
                    <a:path w="177" h="1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8" y="23"/>
                      </a:lnTo>
                      <a:lnTo>
                        <a:pt x="10" y="28"/>
                      </a:lnTo>
                      <a:lnTo>
                        <a:pt x="11" y="32"/>
                      </a:lnTo>
                      <a:lnTo>
                        <a:pt x="13" y="38"/>
                      </a:lnTo>
                      <a:lnTo>
                        <a:pt x="15" y="44"/>
                      </a:lnTo>
                      <a:lnTo>
                        <a:pt x="19" y="51"/>
                      </a:lnTo>
                      <a:lnTo>
                        <a:pt x="21" y="57"/>
                      </a:lnTo>
                      <a:lnTo>
                        <a:pt x="25" y="63"/>
                      </a:lnTo>
                      <a:lnTo>
                        <a:pt x="29" y="70"/>
                      </a:lnTo>
                      <a:lnTo>
                        <a:pt x="32" y="78"/>
                      </a:lnTo>
                      <a:lnTo>
                        <a:pt x="34" y="83"/>
                      </a:lnTo>
                      <a:lnTo>
                        <a:pt x="38" y="89"/>
                      </a:lnTo>
                      <a:lnTo>
                        <a:pt x="40" y="95"/>
                      </a:lnTo>
                      <a:lnTo>
                        <a:pt x="44" y="102"/>
                      </a:lnTo>
                      <a:lnTo>
                        <a:pt x="46" y="108"/>
                      </a:lnTo>
                      <a:lnTo>
                        <a:pt x="49" y="114"/>
                      </a:lnTo>
                      <a:lnTo>
                        <a:pt x="53" y="120"/>
                      </a:lnTo>
                      <a:lnTo>
                        <a:pt x="55" y="125"/>
                      </a:lnTo>
                      <a:lnTo>
                        <a:pt x="59" y="131"/>
                      </a:lnTo>
                      <a:lnTo>
                        <a:pt x="65" y="137"/>
                      </a:lnTo>
                      <a:lnTo>
                        <a:pt x="67" y="140"/>
                      </a:lnTo>
                      <a:lnTo>
                        <a:pt x="70" y="142"/>
                      </a:lnTo>
                      <a:lnTo>
                        <a:pt x="72" y="137"/>
                      </a:lnTo>
                      <a:lnTo>
                        <a:pt x="76" y="129"/>
                      </a:lnTo>
                      <a:lnTo>
                        <a:pt x="76" y="125"/>
                      </a:lnTo>
                      <a:lnTo>
                        <a:pt x="78" y="120"/>
                      </a:lnTo>
                      <a:lnTo>
                        <a:pt x="80" y="116"/>
                      </a:lnTo>
                      <a:lnTo>
                        <a:pt x="82" y="112"/>
                      </a:lnTo>
                      <a:lnTo>
                        <a:pt x="82" y="106"/>
                      </a:lnTo>
                      <a:lnTo>
                        <a:pt x="82" y="102"/>
                      </a:lnTo>
                      <a:lnTo>
                        <a:pt x="84" y="97"/>
                      </a:lnTo>
                      <a:lnTo>
                        <a:pt x="86" y="95"/>
                      </a:lnTo>
                      <a:lnTo>
                        <a:pt x="86" y="89"/>
                      </a:lnTo>
                      <a:lnTo>
                        <a:pt x="86" y="87"/>
                      </a:lnTo>
                      <a:lnTo>
                        <a:pt x="175" y="78"/>
                      </a:lnTo>
                      <a:lnTo>
                        <a:pt x="177" y="47"/>
                      </a:lnTo>
                      <a:lnTo>
                        <a:pt x="175" y="47"/>
                      </a:lnTo>
                      <a:lnTo>
                        <a:pt x="173" y="47"/>
                      </a:lnTo>
                      <a:lnTo>
                        <a:pt x="169" y="47"/>
                      </a:lnTo>
                      <a:lnTo>
                        <a:pt x="163" y="47"/>
                      </a:lnTo>
                      <a:lnTo>
                        <a:pt x="156" y="47"/>
                      </a:lnTo>
                      <a:lnTo>
                        <a:pt x="148" y="49"/>
                      </a:lnTo>
                      <a:lnTo>
                        <a:pt x="141" y="49"/>
                      </a:lnTo>
                      <a:lnTo>
                        <a:pt x="133" y="49"/>
                      </a:lnTo>
                      <a:lnTo>
                        <a:pt x="127" y="49"/>
                      </a:lnTo>
                      <a:lnTo>
                        <a:pt x="124" y="49"/>
                      </a:lnTo>
                      <a:lnTo>
                        <a:pt x="118" y="49"/>
                      </a:lnTo>
                      <a:lnTo>
                        <a:pt x="114" y="51"/>
                      </a:lnTo>
                      <a:lnTo>
                        <a:pt x="106" y="51"/>
                      </a:lnTo>
                      <a:lnTo>
                        <a:pt x="101" y="51"/>
                      </a:lnTo>
                      <a:lnTo>
                        <a:pt x="93" y="51"/>
                      </a:lnTo>
                      <a:lnTo>
                        <a:pt x="87" y="53"/>
                      </a:lnTo>
                      <a:lnTo>
                        <a:pt x="82" y="53"/>
                      </a:lnTo>
                      <a:lnTo>
                        <a:pt x="80" y="53"/>
                      </a:lnTo>
                      <a:lnTo>
                        <a:pt x="76" y="55"/>
                      </a:lnTo>
                      <a:lnTo>
                        <a:pt x="72" y="59"/>
                      </a:lnTo>
                      <a:lnTo>
                        <a:pt x="68" y="64"/>
                      </a:lnTo>
                      <a:lnTo>
                        <a:pt x="65" y="72"/>
                      </a:lnTo>
                      <a:lnTo>
                        <a:pt x="61" y="78"/>
                      </a:lnTo>
                      <a:lnTo>
                        <a:pt x="61" y="85"/>
                      </a:lnTo>
                      <a:lnTo>
                        <a:pt x="59" y="89"/>
                      </a:lnTo>
                      <a:lnTo>
                        <a:pt x="59" y="91"/>
                      </a:lnTo>
                      <a:lnTo>
                        <a:pt x="1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 rot="20280600">
                <a:off x="3357360" y="552744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0"/>
                    </a:moveTo>
                    <a:cubicBezTo>
                      <a:pt x="30" y="21"/>
                      <a:pt x="61" y="42"/>
                      <a:pt x="72" y="45"/>
                    </a:cubicBezTo>
                    <a:cubicBezTo>
                      <a:pt x="83" y="48"/>
                      <a:pt x="74" y="33"/>
                      <a:pt x="66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3126960" y="5471640"/>
                <a:ext cx="15228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"/>
          <p:cNvGrpSpPr/>
          <p:nvPr/>
        </p:nvGrpSpPr>
        <p:grpSpPr>
          <a:xfrm>
            <a:off x="4379040" y="2134440"/>
            <a:ext cx="2737800" cy="4508640"/>
            <a:chOff x="4379040" y="2134440"/>
            <a:chExt cx="2737800" cy="4508640"/>
          </a:xfrm>
        </p:grpSpPr>
        <p:pic>
          <p:nvPicPr>
            <p:cNvPr id="778" name="" descr=""/>
            <p:cNvPicPr/>
            <p:nvPr/>
          </p:nvPicPr>
          <p:blipFill>
            <a:blip r:embed="rId3"/>
            <a:stretch/>
          </p:blipFill>
          <p:spPr>
            <a:xfrm rot="193200">
              <a:off x="5522400" y="2550600"/>
              <a:ext cx="1520640" cy="26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" name=""/>
            <p:cNvGrpSpPr/>
            <p:nvPr/>
          </p:nvGrpSpPr>
          <p:grpSpPr>
            <a:xfrm>
              <a:off x="4379040" y="2134440"/>
              <a:ext cx="1515600" cy="4508640"/>
              <a:chOff x="4379040" y="2134440"/>
              <a:chExt cx="1515600" cy="450864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4577400" y="4703400"/>
                <a:ext cx="1266120" cy="1939680"/>
                <a:chOff x="4577400" y="4703400"/>
                <a:chExt cx="1266120" cy="1939680"/>
              </a:xfrm>
            </p:grpSpPr>
            <p:sp>
              <p:nvSpPr>
                <p:cNvPr id="781" name=""/>
                <p:cNvSpPr/>
                <p:nvPr/>
              </p:nvSpPr>
              <p:spPr>
                <a:xfrm flipH="1" rot="193800">
                  <a:off x="5299920" y="470628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193800">
                  <a:off x="5306400" y="4721040"/>
                  <a:ext cx="115560" cy="13140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93800">
                  <a:off x="5308560" y="4720680"/>
                  <a:ext cx="161640" cy="36180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93800">
                  <a:off x="4975920" y="4784040"/>
                  <a:ext cx="144000" cy="6768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93800">
                  <a:off x="5121000" y="4942800"/>
                  <a:ext cx="450360" cy="41400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rot="193800">
                  <a:off x="5252760" y="4937400"/>
                  <a:ext cx="137520" cy="10764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193800">
                  <a:off x="4620240" y="5036040"/>
                  <a:ext cx="117900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93800">
                  <a:off x="5169240" y="5372280"/>
                  <a:ext cx="8820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93800">
                  <a:off x="5315760" y="5025600"/>
                  <a:ext cx="137880" cy="4716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93800">
                  <a:off x="4988160" y="5130000"/>
                  <a:ext cx="91800" cy="15840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193800">
                  <a:off x="5289480" y="5216760"/>
                  <a:ext cx="90000" cy="2664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193800">
                  <a:off x="5162400" y="5569560"/>
                  <a:ext cx="55440" cy="3780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193800">
                  <a:off x="5153400" y="5680800"/>
                  <a:ext cx="24840" cy="2340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193800">
                  <a:off x="5116680" y="5713920"/>
                  <a:ext cx="252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193800">
                  <a:off x="5387400" y="5890680"/>
                  <a:ext cx="229680" cy="7272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rot="193800">
                  <a:off x="5646600" y="5966280"/>
                  <a:ext cx="110880" cy="11016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rot="193800">
                  <a:off x="5267160" y="61758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193800">
                  <a:off x="4998240" y="6096240"/>
                  <a:ext cx="56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193800">
                  <a:off x="5337360" y="6207120"/>
                  <a:ext cx="198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193800">
                  <a:off x="4678560" y="6295320"/>
                  <a:ext cx="19656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193800">
                  <a:off x="5235120" y="5437800"/>
                  <a:ext cx="77400" cy="8820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rot="193800">
                  <a:off x="5354280" y="5694120"/>
                  <a:ext cx="72720" cy="9792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193800">
                  <a:off x="5204880" y="5727600"/>
                  <a:ext cx="105840" cy="7884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193800">
                  <a:off x="5051520" y="5780520"/>
                  <a:ext cx="82440" cy="10116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193800">
                  <a:off x="5112720" y="5972040"/>
                  <a:ext cx="97920" cy="10404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rot="193800">
                  <a:off x="4963320" y="6139080"/>
                  <a:ext cx="60120" cy="5004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rot="193800">
                  <a:off x="5250240" y="6199560"/>
                  <a:ext cx="110880" cy="6732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rot="193800">
                  <a:off x="5351400" y="6004440"/>
                  <a:ext cx="372960" cy="19656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rot="193800">
                  <a:off x="5013000" y="4790880"/>
                  <a:ext cx="239040" cy="20592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rot="193800">
                  <a:off x="4974120" y="4783680"/>
                  <a:ext cx="139320" cy="7092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193800">
                  <a:off x="5277240" y="4992840"/>
                  <a:ext cx="288360" cy="35676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rot="193800">
                  <a:off x="5240880" y="4930560"/>
                  <a:ext cx="34416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rot="193800">
                  <a:off x="5137200" y="4986360"/>
                  <a:ext cx="118800" cy="3276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rot="193800">
                  <a:off x="5109840" y="5000760"/>
                  <a:ext cx="455040" cy="35856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193800">
                  <a:off x="5115240" y="5290920"/>
                  <a:ext cx="347400" cy="21384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rot="193800">
                  <a:off x="5034240" y="5627880"/>
                  <a:ext cx="178920" cy="13140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rot="193800">
                  <a:off x="5047560" y="5653800"/>
                  <a:ext cx="118800" cy="6480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rot="193800">
                  <a:off x="5044320" y="5686920"/>
                  <a:ext cx="96480" cy="9612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193800">
                  <a:off x="5046120" y="5617800"/>
                  <a:ext cx="80640" cy="5364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193800">
                  <a:off x="5226480" y="547884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193800">
                  <a:off x="5104080" y="5533200"/>
                  <a:ext cx="110880" cy="10728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193800">
                  <a:off x="5208840" y="56347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193800">
                  <a:off x="5305320" y="5571000"/>
                  <a:ext cx="142560" cy="23904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193800">
                  <a:off x="5061600" y="578988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193800">
                  <a:off x="4986000" y="5827320"/>
                  <a:ext cx="66240" cy="26100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193800">
                  <a:off x="5345640" y="5884920"/>
                  <a:ext cx="42480" cy="7416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193800">
                  <a:off x="5295240" y="6006960"/>
                  <a:ext cx="66240" cy="15048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rot="193800">
                  <a:off x="5222160" y="5982120"/>
                  <a:ext cx="74520" cy="23796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193800">
                  <a:off x="5145480" y="58122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rot="193800">
                  <a:off x="4956480" y="5968080"/>
                  <a:ext cx="209160" cy="18504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rot="193800">
                  <a:off x="4618800" y="6129360"/>
                  <a:ext cx="358560" cy="18216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193800">
                  <a:off x="5295240" y="6177240"/>
                  <a:ext cx="410760" cy="45216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 rot="193800">
                  <a:off x="5266800" y="6239520"/>
                  <a:ext cx="232920" cy="37404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rot="193800">
                  <a:off x="5321880" y="5862600"/>
                  <a:ext cx="472680" cy="34560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rot="193800">
                  <a:off x="4602240" y="6005160"/>
                  <a:ext cx="59472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93800">
                  <a:off x="5285160" y="5436720"/>
                  <a:ext cx="109080" cy="128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93800">
                  <a:off x="5258520" y="5129640"/>
                  <a:ext cx="51840" cy="6480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93800">
                  <a:off x="5098680" y="504288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93800">
                  <a:off x="5272920" y="514548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93800">
                  <a:off x="5114520" y="506952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193800">
                  <a:off x="4947120" y="5041080"/>
                  <a:ext cx="40284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4379040" y="2134440"/>
                <a:ext cx="1515600" cy="2925000"/>
                <a:chOff x="4379040" y="2134440"/>
                <a:chExt cx="1515600" cy="2925000"/>
              </a:xfrm>
            </p:grpSpPr>
            <p:pic>
              <p:nvPicPr>
                <p:cNvPr id="84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93200">
                  <a:off x="4528440" y="2169360"/>
                  <a:ext cx="1306080" cy="217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44" name=""/>
                <p:cNvGrpSpPr/>
                <p:nvPr/>
              </p:nvGrpSpPr>
              <p:grpSpPr>
                <a:xfrm>
                  <a:off x="4379040" y="3593160"/>
                  <a:ext cx="1012320" cy="1466280"/>
                  <a:chOff x="4379040" y="3593160"/>
                  <a:chExt cx="1012320" cy="14662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flipH="1" rot="20872200">
                    <a:off x="4892760" y="3622680"/>
                    <a:ext cx="835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189">
                        <a:moveTo>
                          <a:pt x="0" y="160"/>
                        </a:moveTo>
                        <a:lnTo>
                          <a:pt x="60" y="189"/>
                        </a:lnTo>
                        <a:lnTo>
                          <a:pt x="170" y="146"/>
                        </a:lnTo>
                        <a:lnTo>
                          <a:pt x="224" y="89"/>
                        </a:lnTo>
                        <a:lnTo>
                          <a:pt x="238" y="0"/>
                        </a:lnTo>
                        <a:lnTo>
                          <a:pt x="190" y="26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 rot="20872200">
                    <a:off x="4744080" y="3724920"/>
                    <a:ext cx="864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3">
                        <a:moveTo>
                          <a:pt x="0" y="17"/>
                        </a:moveTo>
                        <a:lnTo>
                          <a:pt x="37" y="77"/>
                        </a:lnTo>
                        <a:lnTo>
                          <a:pt x="111" y="83"/>
                        </a:lnTo>
                        <a:lnTo>
                          <a:pt x="206" y="49"/>
                        </a:lnTo>
                        <a:lnTo>
                          <a:pt x="246" y="6"/>
                        </a:lnTo>
                        <a:lnTo>
                          <a:pt x="183" y="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20872200">
                    <a:off x="4944960" y="3722040"/>
                    <a:ext cx="2703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6">
                        <a:moveTo>
                          <a:pt x="35" y="347"/>
                        </a:moveTo>
                        <a:lnTo>
                          <a:pt x="109" y="539"/>
                        </a:lnTo>
                        <a:lnTo>
                          <a:pt x="0" y="640"/>
                        </a:lnTo>
                        <a:lnTo>
                          <a:pt x="32" y="706"/>
                        </a:lnTo>
                        <a:lnTo>
                          <a:pt x="769" y="180"/>
                        </a:lnTo>
                        <a:lnTo>
                          <a:pt x="769" y="129"/>
                        </a:lnTo>
                        <a:lnTo>
                          <a:pt x="626" y="160"/>
                        </a:lnTo>
                        <a:lnTo>
                          <a:pt x="557" y="123"/>
                        </a:lnTo>
                        <a:lnTo>
                          <a:pt x="497" y="0"/>
                        </a:lnTo>
                        <a:lnTo>
                          <a:pt x="247" y="111"/>
                        </a:lnTo>
                        <a:lnTo>
                          <a:pt x="63" y="252"/>
                        </a:lnTo>
                        <a:lnTo>
                          <a:pt x="35" y="347"/>
                        </a:lnTo>
                        <a:lnTo>
                          <a:pt x="35" y="347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 rot="20872200">
                    <a:off x="4487400" y="3869640"/>
                    <a:ext cx="794880" cy="11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1" h="2798">
                        <a:moveTo>
                          <a:pt x="0" y="382"/>
                        </a:moveTo>
                        <a:lnTo>
                          <a:pt x="0" y="462"/>
                        </a:lnTo>
                        <a:lnTo>
                          <a:pt x="40" y="554"/>
                        </a:lnTo>
                        <a:lnTo>
                          <a:pt x="146" y="620"/>
                        </a:lnTo>
                        <a:lnTo>
                          <a:pt x="376" y="677"/>
                        </a:lnTo>
                        <a:lnTo>
                          <a:pt x="382" y="769"/>
                        </a:lnTo>
                        <a:lnTo>
                          <a:pt x="370" y="804"/>
                        </a:lnTo>
                        <a:lnTo>
                          <a:pt x="275" y="892"/>
                        </a:lnTo>
                        <a:lnTo>
                          <a:pt x="224" y="1030"/>
                        </a:lnTo>
                        <a:lnTo>
                          <a:pt x="230" y="1157"/>
                        </a:lnTo>
                        <a:lnTo>
                          <a:pt x="298" y="1289"/>
                        </a:lnTo>
                        <a:lnTo>
                          <a:pt x="413" y="1383"/>
                        </a:lnTo>
                        <a:lnTo>
                          <a:pt x="608" y="1452"/>
                        </a:lnTo>
                        <a:lnTo>
                          <a:pt x="766" y="1432"/>
                        </a:lnTo>
                        <a:lnTo>
                          <a:pt x="809" y="1461"/>
                        </a:lnTo>
                        <a:lnTo>
                          <a:pt x="795" y="1478"/>
                        </a:lnTo>
                        <a:lnTo>
                          <a:pt x="740" y="1524"/>
                        </a:lnTo>
                        <a:lnTo>
                          <a:pt x="746" y="1696"/>
                        </a:lnTo>
                        <a:lnTo>
                          <a:pt x="671" y="1690"/>
                        </a:lnTo>
                        <a:lnTo>
                          <a:pt x="442" y="1782"/>
                        </a:lnTo>
                        <a:lnTo>
                          <a:pt x="267" y="1960"/>
                        </a:lnTo>
                        <a:lnTo>
                          <a:pt x="187" y="2161"/>
                        </a:lnTo>
                        <a:lnTo>
                          <a:pt x="207" y="2299"/>
                        </a:lnTo>
                        <a:lnTo>
                          <a:pt x="290" y="2391"/>
                        </a:lnTo>
                        <a:lnTo>
                          <a:pt x="422" y="2405"/>
                        </a:lnTo>
                        <a:lnTo>
                          <a:pt x="626" y="2342"/>
                        </a:lnTo>
                        <a:lnTo>
                          <a:pt x="746" y="2250"/>
                        </a:lnTo>
                        <a:lnTo>
                          <a:pt x="826" y="2170"/>
                        </a:lnTo>
                        <a:lnTo>
                          <a:pt x="933" y="1986"/>
                        </a:lnTo>
                        <a:lnTo>
                          <a:pt x="956" y="1923"/>
                        </a:lnTo>
                        <a:lnTo>
                          <a:pt x="1151" y="2055"/>
                        </a:lnTo>
                        <a:lnTo>
                          <a:pt x="1119" y="2078"/>
                        </a:lnTo>
                        <a:lnTo>
                          <a:pt x="766" y="2264"/>
                        </a:lnTo>
                        <a:lnTo>
                          <a:pt x="611" y="2416"/>
                        </a:lnTo>
                        <a:lnTo>
                          <a:pt x="514" y="2592"/>
                        </a:lnTo>
                        <a:lnTo>
                          <a:pt x="494" y="2695"/>
                        </a:lnTo>
                        <a:lnTo>
                          <a:pt x="528" y="2726"/>
                        </a:lnTo>
                        <a:lnTo>
                          <a:pt x="907" y="2798"/>
                        </a:lnTo>
                        <a:lnTo>
                          <a:pt x="993" y="2769"/>
                        </a:lnTo>
                        <a:lnTo>
                          <a:pt x="996" y="2769"/>
                        </a:lnTo>
                        <a:lnTo>
                          <a:pt x="1001" y="2761"/>
                        </a:lnTo>
                        <a:lnTo>
                          <a:pt x="1007" y="2749"/>
                        </a:lnTo>
                        <a:lnTo>
                          <a:pt x="1004" y="2735"/>
                        </a:lnTo>
                        <a:lnTo>
                          <a:pt x="795" y="2569"/>
                        </a:lnTo>
                        <a:lnTo>
                          <a:pt x="798" y="2526"/>
                        </a:lnTo>
                        <a:lnTo>
                          <a:pt x="944" y="2345"/>
                        </a:lnTo>
                        <a:lnTo>
                          <a:pt x="1214" y="2144"/>
                        </a:lnTo>
                        <a:lnTo>
                          <a:pt x="1231" y="2112"/>
                        </a:lnTo>
                        <a:lnTo>
                          <a:pt x="1237" y="2043"/>
                        </a:lnTo>
                        <a:lnTo>
                          <a:pt x="1154" y="1857"/>
                        </a:lnTo>
                        <a:lnTo>
                          <a:pt x="1521" y="1931"/>
                        </a:lnTo>
                        <a:lnTo>
                          <a:pt x="1529" y="1940"/>
                        </a:lnTo>
                        <a:lnTo>
                          <a:pt x="1549" y="1960"/>
                        </a:lnTo>
                        <a:lnTo>
                          <a:pt x="1564" y="1986"/>
                        </a:lnTo>
                        <a:lnTo>
                          <a:pt x="1572" y="2012"/>
                        </a:lnTo>
                        <a:lnTo>
                          <a:pt x="1653" y="2173"/>
                        </a:lnTo>
                        <a:lnTo>
                          <a:pt x="1791" y="2307"/>
                        </a:lnTo>
                        <a:lnTo>
                          <a:pt x="2037" y="2416"/>
                        </a:lnTo>
                        <a:lnTo>
                          <a:pt x="2080" y="2434"/>
                        </a:lnTo>
                        <a:lnTo>
                          <a:pt x="2118" y="2373"/>
                        </a:lnTo>
                        <a:lnTo>
                          <a:pt x="2261" y="1926"/>
                        </a:lnTo>
                        <a:lnTo>
                          <a:pt x="2232" y="1906"/>
                        </a:lnTo>
                        <a:lnTo>
                          <a:pt x="1940" y="2147"/>
                        </a:lnTo>
                        <a:lnTo>
                          <a:pt x="1707" y="1992"/>
                        </a:lnTo>
                        <a:lnTo>
                          <a:pt x="1618" y="1954"/>
                        </a:lnTo>
                        <a:lnTo>
                          <a:pt x="1667" y="1914"/>
                        </a:lnTo>
                        <a:lnTo>
                          <a:pt x="1656" y="1831"/>
                        </a:lnTo>
                        <a:lnTo>
                          <a:pt x="1613" y="1828"/>
                        </a:lnTo>
                        <a:lnTo>
                          <a:pt x="1561" y="1848"/>
                        </a:lnTo>
                        <a:lnTo>
                          <a:pt x="1349" y="1731"/>
                        </a:lnTo>
                        <a:lnTo>
                          <a:pt x="1085" y="1538"/>
                        </a:lnTo>
                        <a:lnTo>
                          <a:pt x="1044" y="1406"/>
                        </a:lnTo>
                        <a:lnTo>
                          <a:pt x="1283" y="1277"/>
                        </a:lnTo>
                        <a:lnTo>
                          <a:pt x="1320" y="1237"/>
                        </a:lnTo>
                        <a:lnTo>
                          <a:pt x="1478" y="1214"/>
                        </a:lnTo>
                        <a:lnTo>
                          <a:pt x="1515" y="1266"/>
                        </a:lnTo>
                        <a:lnTo>
                          <a:pt x="1555" y="1277"/>
                        </a:lnTo>
                        <a:lnTo>
                          <a:pt x="1564" y="1234"/>
                        </a:lnTo>
                        <a:lnTo>
                          <a:pt x="1590" y="1191"/>
                        </a:lnTo>
                        <a:lnTo>
                          <a:pt x="1572" y="1157"/>
                        </a:lnTo>
                        <a:lnTo>
                          <a:pt x="1590" y="1088"/>
                        </a:lnTo>
                        <a:lnTo>
                          <a:pt x="1558" y="1062"/>
                        </a:lnTo>
                        <a:lnTo>
                          <a:pt x="1541" y="981"/>
                        </a:lnTo>
                        <a:lnTo>
                          <a:pt x="1492" y="956"/>
                        </a:lnTo>
                        <a:lnTo>
                          <a:pt x="1271" y="1159"/>
                        </a:lnTo>
                        <a:lnTo>
                          <a:pt x="881" y="1286"/>
                        </a:lnTo>
                        <a:lnTo>
                          <a:pt x="832" y="1105"/>
                        </a:lnTo>
                        <a:lnTo>
                          <a:pt x="709" y="918"/>
                        </a:lnTo>
                        <a:lnTo>
                          <a:pt x="542" y="812"/>
                        </a:lnTo>
                        <a:lnTo>
                          <a:pt x="465" y="786"/>
                        </a:lnTo>
                        <a:lnTo>
                          <a:pt x="488" y="694"/>
                        </a:lnTo>
                        <a:lnTo>
                          <a:pt x="614" y="671"/>
                        </a:lnTo>
                        <a:lnTo>
                          <a:pt x="815" y="574"/>
                        </a:lnTo>
                        <a:lnTo>
                          <a:pt x="878" y="594"/>
                        </a:lnTo>
                        <a:lnTo>
                          <a:pt x="930" y="542"/>
                        </a:lnTo>
                        <a:lnTo>
                          <a:pt x="849" y="448"/>
                        </a:lnTo>
                        <a:lnTo>
                          <a:pt x="881" y="387"/>
                        </a:lnTo>
                        <a:lnTo>
                          <a:pt x="910" y="321"/>
                        </a:lnTo>
                        <a:lnTo>
                          <a:pt x="881" y="298"/>
                        </a:lnTo>
                        <a:lnTo>
                          <a:pt x="786" y="327"/>
                        </a:lnTo>
                        <a:lnTo>
                          <a:pt x="772" y="307"/>
                        </a:lnTo>
                        <a:lnTo>
                          <a:pt x="674" y="95"/>
                        </a:lnTo>
                        <a:lnTo>
                          <a:pt x="565" y="0"/>
                        </a:lnTo>
                        <a:lnTo>
                          <a:pt x="0" y="382"/>
                        </a:lnTo>
                        <a:lnTo>
                          <a:pt x="0" y="382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 rot="20872200">
                    <a:off x="5049720" y="4097160"/>
                    <a:ext cx="38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3">
                        <a:moveTo>
                          <a:pt x="3" y="75"/>
                        </a:moveTo>
                        <a:lnTo>
                          <a:pt x="9" y="72"/>
                        </a:lnTo>
                        <a:lnTo>
                          <a:pt x="20" y="66"/>
                        </a:lnTo>
                        <a:lnTo>
                          <a:pt x="34" y="63"/>
                        </a:lnTo>
                        <a:lnTo>
                          <a:pt x="49" y="63"/>
                        </a:lnTo>
                        <a:lnTo>
                          <a:pt x="60" y="66"/>
                        </a:lnTo>
                        <a:lnTo>
                          <a:pt x="75" y="75"/>
                        </a:lnTo>
                        <a:lnTo>
                          <a:pt x="86" y="80"/>
                        </a:lnTo>
                        <a:lnTo>
                          <a:pt x="89" y="83"/>
                        </a:lnTo>
                        <a:lnTo>
                          <a:pt x="109" y="9"/>
                        </a:lnTo>
                        <a:lnTo>
                          <a:pt x="0" y="0"/>
                        </a:lnTo>
                        <a:lnTo>
                          <a:pt x="3" y="75"/>
                        </a:lnTo>
                        <a:lnTo>
                          <a:pt x="3" y="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20872200">
                    <a:off x="4946040" y="4233240"/>
                    <a:ext cx="209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448">
                        <a:moveTo>
                          <a:pt x="0" y="0"/>
                        </a:moveTo>
                        <a:lnTo>
                          <a:pt x="80" y="170"/>
                        </a:lnTo>
                        <a:lnTo>
                          <a:pt x="86" y="221"/>
                        </a:lnTo>
                        <a:lnTo>
                          <a:pt x="106" y="224"/>
                        </a:lnTo>
                        <a:lnTo>
                          <a:pt x="149" y="233"/>
                        </a:lnTo>
                        <a:lnTo>
                          <a:pt x="192" y="247"/>
                        </a:lnTo>
                        <a:lnTo>
                          <a:pt x="218" y="262"/>
                        </a:lnTo>
                        <a:lnTo>
                          <a:pt x="264" y="296"/>
                        </a:lnTo>
                        <a:lnTo>
                          <a:pt x="362" y="351"/>
                        </a:lnTo>
                        <a:lnTo>
                          <a:pt x="453" y="399"/>
                        </a:lnTo>
                        <a:lnTo>
                          <a:pt x="496" y="422"/>
                        </a:lnTo>
                        <a:lnTo>
                          <a:pt x="560" y="448"/>
                        </a:lnTo>
                        <a:lnTo>
                          <a:pt x="597" y="437"/>
                        </a:lnTo>
                        <a:lnTo>
                          <a:pt x="508" y="371"/>
                        </a:lnTo>
                        <a:lnTo>
                          <a:pt x="69" y="4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 rot="20872200">
                    <a:off x="4975920" y="3787560"/>
                    <a:ext cx="15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123">
                        <a:moveTo>
                          <a:pt x="0" y="123"/>
                        </a:moveTo>
                        <a:lnTo>
                          <a:pt x="17" y="106"/>
                        </a:lnTo>
                        <a:lnTo>
                          <a:pt x="60" y="66"/>
                        </a:lnTo>
                        <a:lnTo>
                          <a:pt x="123" y="23"/>
                        </a:lnTo>
                        <a:lnTo>
                          <a:pt x="192" y="0"/>
                        </a:lnTo>
                        <a:lnTo>
                          <a:pt x="253" y="0"/>
                        </a:lnTo>
                        <a:lnTo>
                          <a:pt x="307" y="11"/>
                        </a:lnTo>
                        <a:lnTo>
                          <a:pt x="347" y="25"/>
                        </a:lnTo>
                        <a:lnTo>
                          <a:pt x="370" y="37"/>
                        </a:lnTo>
                        <a:lnTo>
                          <a:pt x="387" y="40"/>
                        </a:lnTo>
                        <a:lnTo>
                          <a:pt x="408" y="40"/>
                        </a:lnTo>
                        <a:lnTo>
                          <a:pt x="422" y="40"/>
                        </a:lnTo>
                        <a:lnTo>
                          <a:pt x="428" y="40"/>
                        </a:lnTo>
                        <a:lnTo>
                          <a:pt x="422" y="43"/>
                        </a:lnTo>
                        <a:lnTo>
                          <a:pt x="408" y="48"/>
                        </a:lnTo>
                        <a:lnTo>
                          <a:pt x="387" y="54"/>
                        </a:lnTo>
                        <a:lnTo>
                          <a:pt x="362" y="57"/>
                        </a:lnTo>
                        <a:lnTo>
                          <a:pt x="327" y="54"/>
                        </a:lnTo>
                        <a:lnTo>
                          <a:pt x="284" y="48"/>
                        </a:lnTo>
                        <a:lnTo>
                          <a:pt x="233" y="43"/>
                        </a:lnTo>
                        <a:lnTo>
                          <a:pt x="187" y="43"/>
                        </a:lnTo>
                        <a:lnTo>
                          <a:pt x="129" y="60"/>
                        </a:lnTo>
                        <a:lnTo>
                          <a:pt x="69" y="86"/>
                        </a:lnTo>
                        <a:lnTo>
                          <a:pt x="17" y="112"/>
                        </a:lnTo>
                        <a:lnTo>
                          <a:pt x="0" y="12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 rot="20872200">
                    <a:off x="4956120" y="3958560"/>
                    <a:ext cx="78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2">
                        <a:moveTo>
                          <a:pt x="195" y="37"/>
                        </a:moveTo>
                        <a:lnTo>
                          <a:pt x="155" y="9"/>
                        </a:lnTo>
                        <a:lnTo>
                          <a:pt x="103" y="0"/>
                        </a:lnTo>
                        <a:lnTo>
                          <a:pt x="48" y="3"/>
                        </a:lnTo>
                        <a:lnTo>
                          <a:pt x="5" y="23"/>
                        </a:lnTo>
                        <a:lnTo>
                          <a:pt x="0" y="57"/>
                        </a:lnTo>
                        <a:lnTo>
                          <a:pt x="37" y="106"/>
                        </a:lnTo>
                        <a:lnTo>
                          <a:pt x="100" y="143"/>
                        </a:lnTo>
                        <a:lnTo>
                          <a:pt x="172" y="152"/>
                        </a:lnTo>
                        <a:lnTo>
                          <a:pt x="218" y="129"/>
                        </a:lnTo>
                        <a:lnTo>
                          <a:pt x="223" y="95"/>
                        </a:lnTo>
                        <a:lnTo>
                          <a:pt x="212" y="60"/>
                        </a:lnTo>
                        <a:lnTo>
                          <a:pt x="195" y="37"/>
                        </a:lnTo>
                        <a:lnTo>
                          <a:pt x="195" y="3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 rot="20872200">
                    <a:off x="4940280" y="386208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37" y="0"/>
                        </a:moveTo>
                        <a:lnTo>
                          <a:pt x="17" y="0"/>
                        </a:lnTo>
                        <a:lnTo>
                          <a:pt x="6" y="9"/>
                        </a:lnTo>
                        <a:lnTo>
                          <a:pt x="0" y="21"/>
                        </a:lnTo>
                        <a:lnTo>
                          <a:pt x="9" y="29"/>
                        </a:lnTo>
                        <a:lnTo>
                          <a:pt x="26" y="38"/>
                        </a:lnTo>
                        <a:lnTo>
                          <a:pt x="52" y="43"/>
                        </a:lnTo>
                        <a:lnTo>
                          <a:pt x="75" y="52"/>
                        </a:lnTo>
                        <a:lnTo>
                          <a:pt x="92" y="64"/>
                        </a:lnTo>
                        <a:lnTo>
                          <a:pt x="106" y="78"/>
                        </a:lnTo>
                        <a:lnTo>
                          <a:pt x="123" y="95"/>
                        </a:lnTo>
                        <a:lnTo>
                          <a:pt x="138" y="107"/>
                        </a:lnTo>
                        <a:lnTo>
                          <a:pt x="146" y="104"/>
                        </a:lnTo>
                        <a:lnTo>
                          <a:pt x="138" y="81"/>
                        </a:lnTo>
                        <a:lnTo>
                          <a:pt x="109" y="49"/>
                        </a:lnTo>
                        <a:lnTo>
                          <a:pt x="72" y="15"/>
                        </a:lnTo>
                        <a:lnTo>
                          <a:pt x="37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 rot="20872200">
                    <a:off x="5104800" y="4189680"/>
                    <a:ext cx="26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3">
                        <a:moveTo>
                          <a:pt x="23" y="0"/>
                        </a:moveTo>
                        <a:lnTo>
                          <a:pt x="9" y="2"/>
                        </a:lnTo>
                        <a:lnTo>
                          <a:pt x="0" y="11"/>
                        </a:lnTo>
                        <a:lnTo>
                          <a:pt x="0" y="22"/>
                        </a:lnTo>
                        <a:lnTo>
                          <a:pt x="6" y="34"/>
                        </a:lnTo>
                        <a:lnTo>
                          <a:pt x="23" y="48"/>
                        </a:lnTo>
                        <a:lnTo>
                          <a:pt x="46" y="60"/>
                        </a:lnTo>
                        <a:lnTo>
                          <a:pt x="66" y="63"/>
                        </a:lnTo>
                        <a:lnTo>
                          <a:pt x="75" y="51"/>
                        </a:lnTo>
                        <a:lnTo>
                          <a:pt x="66" y="31"/>
                        </a:lnTo>
                        <a:lnTo>
                          <a:pt x="52" y="14"/>
                        </a:lnTo>
                        <a:lnTo>
                          <a:pt x="31" y="2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 rot="20872200">
                    <a:off x="5033880" y="4158720"/>
                    <a:ext cx="50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4">
                        <a:moveTo>
                          <a:pt x="51" y="0"/>
                        </a:moveTo>
                        <a:lnTo>
                          <a:pt x="31" y="3"/>
                        </a:lnTo>
                        <a:lnTo>
                          <a:pt x="14" y="12"/>
                        </a:lnTo>
                        <a:lnTo>
                          <a:pt x="0" y="26"/>
                        </a:lnTo>
                        <a:lnTo>
                          <a:pt x="0" y="43"/>
                        </a:lnTo>
                        <a:lnTo>
                          <a:pt x="26" y="61"/>
                        </a:lnTo>
                        <a:lnTo>
                          <a:pt x="74" y="81"/>
                        </a:lnTo>
                        <a:lnTo>
                          <a:pt x="120" y="84"/>
                        </a:lnTo>
                        <a:lnTo>
                          <a:pt x="143" y="66"/>
                        </a:lnTo>
                        <a:lnTo>
                          <a:pt x="126" y="38"/>
                        </a:lnTo>
                        <a:lnTo>
                          <a:pt x="95" y="18"/>
                        </a:lnTo>
                        <a:lnTo>
                          <a:pt x="63" y="6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rot="20872200">
                    <a:off x="4942080" y="4384800"/>
                    <a:ext cx="19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7">
                        <a:moveTo>
                          <a:pt x="26" y="0"/>
                        </a:moveTo>
                        <a:lnTo>
                          <a:pt x="9" y="3"/>
                        </a:lnTo>
                        <a:lnTo>
                          <a:pt x="3" y="11"/>
                        </a:lnTo>
                        <a:lnTo>
                          <a:pt x="0" y="29"/>
                        </a:lnTo>
                        <a:lnTo>
                          <a:pt x="6" y="49"/>
                        </a:lnTo>
                        <a:lnTo>
                          <a:pt x="11" y="69"/>
                        </a:lnTo>
                        <a:lnTo>
                          <a:pt x="17" y="89"/>
                        </a:lnTo>
                        <a:lnTo>
                          <a:pt x="26" y="97"/>
                        </a:lnTo>
                        <a:lnTo>
                          <a:pt x="40" y="92"/>
                        </a:lnTo>
                        <a:lnTo>
                          <a:pt x="52" y="69"/>
                        </a:lnTo>
                        <a:lnTo>
                          <a:pt x="57" y="43"/>
                        </a:lnTo>
                        <a:lnTo>
                          <a:pt x="49" y="17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rot="20872200">
                    <a:off x="4721040" y="4316400"/>
                    <a:ext cx="30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3">
                        <a:moveTo>
                          <a:pt x="32" y="0"/>
                        </a:moveTo>
                        <a:lnTo>
                          <a:pt x="15" y="5"/>
                        </a:lnTo>
                        <a:lnTo>
                          <a:pt x="6" y="17"/>
                        </a:lnTo>
                        <a:lnTo>
                          <a:pt x="0" y="28"/>
                        </a:lnTo>
                        <a:lnTo>
                          <a:pt x="9" y="37"/>
                        </a:lnTo>
                        <a:lnTo>
                          <a:pt x="20" y="40"/>
                        </a:lnTo>
                        <a:lnTo>
                          <a:pt x="29" y="43"/>
                        </a:lnTo>
                        <a:lnTo>
                          <a:pt x="35" y="48"/>
                        </a:lnTo>
                        <a:lnTo>
                          <a:pt x="35" y="63"/>
                        </a:lnTo>
                        <a:lnTo>
                          <a:pt x="29" y="77"/>
                        </a:lnTo>
                        <a:lnTo>
                          <a:pt x="29" y="91"/>
                        </a:lnTo>
                        <a:lnTo>
                          <a:pt x="35" y="97"/>
                        </a:lnTo>
                        <a:lnTo>
                          <a:pt x="49" y="103"/>
                        </a:lnTo>
                        <a:lnTo>
                          <a:pt x="63" y="100"/>
                        </a:lnTo>
                        <a:lnTo>
                          <a:pt x="75" y="97"/>
                        </a:lnTo>
                        <a:lnTo>
                          <a:pt x="84" y="86"/>
                        </a:lnTo>
                        <a:lnTo>
                          <a:pt x="89" y="71"/>
                        </a:lnTo>
                        <a:lnTo>
                          <a:pt x="81" y="57"/>
                        </a:lnTo>
                        <a:lnTo>
                          <a:pt x="66" y="46"/>
                        </a:lnTo>
                        <a:lnTo>
                          <a:pt x="49" y="40"/>
                        </a:lnTo>
                        <a:lnTo>
                          <a:pt x="43" y="37"/>
                        </a:lnTo>
                        <a:lnTo>
                          <a:pt x="43" y="31"/>
                        </a:lnTo>
                        <a:lnTo>
                          <a:pt x="46" y="17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rot="20872200">
                    <a:off x="5062680" y="4522320"/>
                    <a:ext cx="86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6">
                        <a:moveTo>
                          <a:pt x="203" y="3"/>
                        </a:moveTo>
                        <a:lnTo>
                          <a:pt x="152" y="14"/>
                        </a:lnTo>
                        <a:lnTo>
                          <a:pt x="92" y="40"/>
                        </a:lnTo>
                        <a:lnTo>
                          <a:pt x="34" y="78"/>
                        </a:lnTo>
                        <a:lnTo>
                          <a:pt x="0" y="118"/>
                        </a:lnTo>
                        <a:lnTo>
                          <a:pt x="0" y="152"/>
                        </a:lnTo>
                        <a:lnTo>
                          <a:pt x="31" y="166"/>
                        </a:lnTo>
                        <a:lnTo>
                          <a:pt x="74" y="161"/>
                        </a:lnTo>
                        <a:lnTo>
                          <a:pt x="123" y="144"/>
                        </a:lnTo>
                        <a:lnTo>
                          <a:pt x="169" y="115"/>
                        </a:lnTo>
                        <a:lnTo>
                          <a:pt x="212" y="89"/>
                        </a:lnTo>
                        <a:lnTo>
                          <a:pt x="241" y="60"/>
                        </a:lnTo>
                        <a:lnTo>
                          <a:pt x="247" y="32"/>
                        </a:lnTo>
                        <a:lnTo>
                          <a:pt x="232" y="9"/>
                        </a:lnTo>
                        <a:lnTo>
                          <a:pt x="218" y="3"/>
                        </a:lnTo>
                        <a:lnTo>
                          <a:pt x="209" y="0"/>
                        </a:lnTo>
                        <a:lnTo>
                          <a:pt x="203" y="3"/>
                        </a:lnTo>
                        <a:lnTo>
                          <a:pt x="203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20872200">
                    <a:off x="5201640" y="4580280"/>
                    <a:ext cx="493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330">
                        <a:moveTo>
                          <a:pt x="92" y="26"/>
                        </a:moveTo>
                        <a:lnTo>
                          <a:pt x="63" y="57"/>
                        </a:lnTo>
                        <a:lnTo>
                          <a:pt x="37" y="103"/>
                        </a:lnTo>
                        <a:lnTo>
                          <a:pt x="14" y="158"/>
                        </a:lnTo>
                        <a:lnTo>
                          <a:pt x="3" y="218"/>
                        </a:lnTo>
                        <a:lnTo>
                          <a:pt x="0" y="272"/>
                        </a:lnTo>
                        <a:lnTo>
                          <a:pt x="3" y="313"/>
                        </a:lnTo>
                        <a:lnTo>
                          <a:pt x="17" y="330"/>
                        </a:lnTo>
                        <a:lnTo>
                          <a:pt x="40" y="318"/>
                        </a:lnTo>
                        <a:lnTo>
                          <a:pt x="63" y="270"/>
                        </a:lnTo>
                        <a:lnTo>
                          <a:pt x="89" y="198"/>
                        </a:lnTo>
                        <a:lnTo>
                          <a:pt x="109" y="129"/>
                        </a:lnTo>
                        <a:lnTo>
                          <a:pt x="126" y="95"/>
                        </a:lnTo>
                        <a:lnTo>
                          <a:pt x="135" y="74"/>
                        </a:lnTo>
                        <a:lnTo>
                          <a:pt x="141" y="43"/>
                        </a:lnTo>
                        <a:lnTo>
                          <a:pt x="141" y="14"/>
                        </a:lnTo>
                        <a:lnTo>
                          <a:pt x="132" y="0"/>
                        </a:lnTo>
                        <a:lnTo>
                          <a:pt x="118" y="0"/>
                        </a:lnTo>
                        <a:lnTo>
                          <a:pt x="106" y="8"/>
                        </a:lnTo>
                        <a:lnTo>
                          <a:pt x="95" y="20"/>
                        </a:lnTo>
                        <a:lnTo>
                          <a:pt x="92" y="26"/>
                        </a:lnTo>
                        <a:lnTo>
                          <a:pt x="92" y="26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 rot="20872200">
                    <a:off x="4926600" y="4493520"/>
                    <a:ext cx="8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2">
                        <a:moveTo>
                          <a:pt x="49" y="0"/>
                        </a:moveTo>
                        <a:lnTo>
                          <a:pt x="17" y="14"/>
                        </a:lnTo>
                        <a:lnTo>
                          <a:pt x="0" y="31"/>
                        </a:lnTo>
                        <a:lnTo>
                          <a:pt x="0" y="57"/>
                        </a:lnTo>
                        <a:lnTo>
                          <a:pt x="26" y="94"/>
                        </a:lnTo>
                        <a:lnTo>
                          <a:pt x="80" y="152"/>
                        </a:lnTo>
                        <a:lnTo>
                          <a:pt x="155" y="223"/>
                        </a:lnTo>
                        <a:lnTo>
                          <a:pt x="215" y="272"/>
                        </a:lnTo>
                        <a:lnTo>
                          <a:pt x="233" y="264"/>
                        </a:lnTo>
                        <a:lnTo>
                          <a:pt x="201" y="195"/>
                        </a:lnTo>
                        <a:lnTo>
                          <a:pt x="146" y="106"/>
                        </a:lnTo>
                        <a:lnTo>
                          <a:pt x="89" y="28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 rot="20872200">
                    <a:off x="4855680" y="4523760"/>
                    <a:ext cx="604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2">
                        <a:moveTo>
                          <a:pt x="32" y="0"/>
                        </a:moveTo>
                        <a:lnTo>
                          <a:pt x="15" y="6"/>
                        </a:lnTo>
                        <a:lnTo>
                          <a:pt x="3" y="20"/>
                        </a:lnTo>
                        <a:lnTo>
                          <a:pt x="0" y="37"/>
                        </a:lnTo>
                        <a:lnTo>
                          <a:pt x="6" y="60"/>
                        </a:lnTo>
                        <a:lnTo>
                          <a:pt x="41" y="86"/>
                        </a:lnTo>
                        <a:lnTo>
                          <a:pt x="104" y="115"/>
                        </a:lnTo>
                        <a:lnTo>
                          <a:pt x="155" y="132"/>
                        </a:lnTo>
                        <a:lnTo>
                          <a:pt x="173" y="126"/>
                        </a:lnTo>
                        <a:lnTo>
                          <a:pt x="141" y="92"/>
                        </a:lnTo>
                        <a:lnTo>
                          <a:pt x="95" y="52"/>
                        </a:lnTo>
                        <a:lnTo>
                          <a:pt x="49" y="14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20872200">
                    <a:off x="4755600" y="4645440"/>
                    <a:ext cx="18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1">
                        <a:moveTo>
                          <a:pt x="51" y="0"/>
                        </a:moveTo>
                        <a:lnTo>
                          <a:pt x="31" y="9"/>
                        </a:lnTo>
                        <a:lnTo>
                          <a:pt x="14" y="18"/>
                        </a:lnTo>
                        <a:lnTo>
                          <a:pt x="0" y="29"/>
                        </a:lnTo>
                        <a:lnTo>
                          <a:pt x="2" y="38"/>
                        </a:lnTo>
                        <a:lnTo>
                          <a:pt x="14" y="41"/>
                        </a:lnTo>
                        <a:lnTo>
                          <a:pt x="25" y="41"/>
                        </a:lnTo>
                        <a:lnTo>
                          <a:pt x="37" y="38"/>
                        </a:lnTo>
                        <a:lnTo>
                          <a:pt x="48" y="35"/>
                        </a:lnTo>
                        <a:lnTo>
                          <a:pt x="54" y="23"/>
                        </a:lnTo>
                        <a:lnTo>
                          <a:pt x="54" y="15"/>
                        </a:lnTo>
                        <a:lnTo>
                          <a:pt x="51" y="3"/>
                        </a:lnTo>
                        <a:lnTo>
                          <a:pt x="51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rot="20872200">
                    <a:off x="4912560" y="4686480"/>
                    <a:ext cx="20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40" y="0"/>
                        </a:moveTo>
                        <a:lnTo>
                          <a:pt x="22" y="12"/>
                        </a:lnTo>
                        <a:lnTo>
                          <a:pt x="5" y="29"/>
                        </a:lnTo>
                        <a:lnTo>
                          <a:pt x="0" y="43"/>
                        </a:lnTo>
                        <a:lnTo>
                          <a:pt x="8" y="52"/>
                        </a:lnTo>
                        <a:lnTo>
                          <a:pt x="25" y="52"/>
                        </a:lnTo>
                        <a:lnTo>
                          <a:pt x="43" y="49"/>
                        </a:lnTo>
                        <a:lnTo>
                          <a:pt x="54" y="43"/>
                        </a:lnTo>
                        <a:lnTo>
                          <a:pt x="60" y="35"/>
                        </a:lnTo>
                        <a:lnTo>
                          <a:pt x="57" y="23"/>
                        </a:lnTo>
                        <a:lnTo>
                          <a:pt x="48" y="12"/>
                        </a:lnTo>
                        <a:lnTo>
                          <a:pt x="43" y="3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 rot="20872200">
                    <a:off x="5086440" y="4851720"/>
                    <a:ext cx="759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2">
                        <a:moveTo>
                          <a:pt x="89" y="0"/>
                        </a:moveTo>
                        <a:lnTo>
                          <a:pt x="61" y="17"/>
                        </a:lnTo>
                        <a:lnTo>
                          <a:pt x="23" y="40"/>
                        </a:lnTo>
                        <a:lnTo>
                          <a:pt x="0" y="58"/>
                        </a:lnTo>
                        <a:lnTo>
                          <a:pt x="9" y="72"/>
                        </a:lnTo>
                        <a:lnTo>
                          <a:pt x="58" y="95"/>
                        </a:lnTo>
                        <a:lnTo>
                          <a:pt x="135" y="132"/>
                        </a:lnTo>
                        <a:lnTo>
                          <a:pt x="198" y="152"/>
                        </a:lnTo>
                        <a:lnTo>
                          <a:pt x="216" y="132"/>
                        </a:lnTo>
                        <a:lnTo>
                          <a:pt x="184" y="86"/>
                        </a:lnTo>
                        <a:lnTo>
                          <a:pt x="141" y="43"/>
                        </a:lnTo>
                        <a:lnTo>
                          <a:pt x="104" y="12"/>
                        </a:lnTo>
                        <a:lnTo>
                          <a:pt x="89" y="0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rot="20872200">
                    <a:off x="4625640" y="4762800"/>
                    <a:ext cx="424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64">
                        <a:moveTo>
                          <a:pt x="60" y="55"/>
                        </a:moveTo>
                        <a:lnTo>
                          <a:pt x="40" y="69"/>
                        </a:lnTo>
                        <a:lnTo>
                          <a:pt x="20" y="84"/>
                        </a:lnTo>
                        <a:lnTo>
                          <a:pt x="3" y="98"/>
                        </a:lnTo>
                        <a:lnTo>
                          <a:pt x="0" y="112"/>
                        </a:lnTo>
                        <a:lnTo>
                          <a:pt x="6" y="132"/>
                        </a:lnTo>
                        <a:lnTo>
                          <a:pt x="15" y="152"/>
                        </a:lnTo>
                        <a:lnTo>
                          <a:pt x="29" y="164"/>
                        </a:lnTo>
                        <a:lnTo>
                          <a:pt x="43" y="161"/>
                        </a:lnTo>
                        <a:lnTo>
                          <a:pt x="63" y="124"/>
                        </a:lnTo>
                        <a:lnTo>
                          <a:pt x="92" y="69"/>
                        </a:lnTo>
                        <a:lnTo>
                          <a:pt x="115" y="18"/>
                        </a:lnTo>
                        <a:lnTo>
                          <a:pt x="121" y="0"/>
                        </a:lnTo>
                        <a:lnTo>
                          <a:pt x="106" y="9"/>
                        </a:lnTo>
                        <a:lnTo>
                          <a:pt x="86" y="29"/>
                        </a:lnTo>
                        <a:lnTo>
                          <a:pt x="69" y="46"/>
                        </a:lnTo>
                        <a:lnTo>
                          <a:pt x="60" y="55"/>
                        </a:lnTo>
                        <a:lnTo>
                          <a:pt x="60" y="55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 rot="20872200">
                    <a:off x="5002200" y="4549680"/>
                    <a:ext cx="1807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605">
                        <a:moveTo>
                          <a:pt x="413" y="0"/>
                        </a:moveTo>
                        <a:lnTo>
                          <a:pt x="410" y="31"/>
                        </a:lnTo>
                        <a:lnTo>
                          <a:pt x="407" y="106"/>
                        </a:lnTo>
                        <a:lnTo>
                          <a:pt x="396" y="198"/>
                        </a:lnTo>
                        <a:lnTo>
                          <a:pt x="367" y="269"/>
                        </a:lnTo>
                        <a:lnTo>
                          <a:pt x="327" y="318"/>
                        </a:lnTo>
                        <a:lnTo>
                          <a:pt x="284" y="347"/>
                        </a:lnTo>
                        <a:lnTo>
                          <a:pt x="253" y="364"/>
                        </a:lnTo>
                        <a:lnTo>
                          <a:pt x="238" y="370"/>
                        </a:lnTo>
                        <a:lnTo>
                          <a:pt x="169" y="344"/>
                        </a:lnTo>
                        <a:lnTo>
                          <a:pt x="52" y="252"/>
                        </a:lnTo>
                        <a:lnTo>
                          <a:pt x="14" y="232"/>
                        </a:lnTo>
                        <a:lnTo>
                          <a:pt x="12" y="232"/>
                        </a:lnTo>
                        <a:lnTo>
                          <a:pt x="9" y="238"/>
                        </a:lnTo>
                        <a:lnTo>
                          <a:pt x="6" y="246"/>
                        </a:lnTo>
                        <a:lnTo>
                          <a:pt x="6" y="261"/>
                        </a:lnTo>
                        <a:lnTo>
                          <a:pt x="9" y="284"/>
                        </a:lnTo>
                        <a:lnTo>
                          <a:pt x="17" y="315"/>
                        </a:lnTo>
                        <a:lnTo>
                          <a:pt x="32" y="347"/>
                        </a:lnTo>
                        <a:lnTo>
                          <a:pt x="55" y="370"/>
                        </a:lnTo>
                        <a:lnTo>
                          <a:pt x="86" y="390"/>
                        </a:lnTo>
                        <a:lnTo>
                          <a:pt x="129" y="410"/>
                        </a:lnTo>
                        <a:lnTo>
                          <a:pt x="164" y="427"/>
                        </a:lnTo>
                        <a:lnTo>
                          <a:pt x="175" y="436"/>
                        </a:lnTo>
                        <a:lnTo>
                          <a:pt x="172" y="442"/>
                        </a:lnTo>
                        <a:lnTo>
                          <a:pt x="158" y="459"/>
                        </a:lnTo>
                        <a:lnTo>
                          <a:pt x="135" y="487"/>
                        </a:lnTo>
                        <a:lnTo>
                          <a:pt x="103" y="519"/>
                        </a:lnTo>
                        <a:lnTo>
                          <a:pt x="69" y="551"/>
                        </a:lnTo>
                        <a:lnTo>
                          <a:pt x="34" y="576"/>
                        </a:lnTo>
                        <a:lnTo>
                          <a:pt x="9" y="597"/>
                        </a:lnTo>
                        <a:lnTo>
                          <a:pt x="0" y="605"/>
                        </a:lnTo>
                        <a:lnTo>
                          <a:pt x="135" y="568"/>
                        </a:lnTo>
                        <a:lnTo>
                          <a:pt x="336" y="462"/>
                        </a:lnTo>
                        <a:lnTo>
                          <a:pt x="459" y="295"/>
                        </a:lnTo>
                        <a:lnTo>
                          <a:pt x="514" y="134"/>
                        </a:lnTo>
                        <a:lnTo>
                          <a:pt x="413" y="0"/>
                        </a:lnTo>
                        <a:lnTo>
                          <a:pt x="413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 rot="20872200">
                    <a:off x="4720320" y="468108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0" y="6"/>
                        </a:moveTo>
                        <a:lnTo>
                          <a:pt x="5" y="17"/>
                        </a:lnTo>
                        <a:lnTo>
                          <a:pt x="25" y="43"/>
                        </a:lnTo>
                        <a:lnTo>
                          <a:pt x="51" y="72"/>
                        </a:lnTo>
                        <a:lnTo>
                          <a:pt x="80" y="92"/>
                        </a:lnTo>
                        <a:lnTo>
                          <a:pt x="114" y="95"/>
                        </a:lnTo>
                        <a:lnTo>
                          <a:pt x="146" y="92"/>
                        </a:lnTo>
                        <a:lnTo>
                          <a:pt x="169" y="86"/>
                        </a:lnTo>
                        <a:lnTo>
                          <a:pt x="180" y="86"/>
                        </a:lnTo>
                        <a:lnTo>
                          <a:pt x="48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rot="20872200">
                    <a:off x="4929120" y="4708800"/>
                    <a:ext cx="48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2">
                        <a:moveTo>
                          <a:pt x="77" y="0"/>
                        </a:moveTo>
                        <a:lnTo>
                          <a:pt x="60" y="14"/>
                        </a:lnTo>
                        <a:lnTo>
                          <a:pt x="32" y="52"/>
                        </a:lnTo>
                        <a:lnTo>
                          <a:pt x="6" y="89"/>
                        </a:lnTo>
                        <a:lnTo>
                          <a:pt x="0" y="112"/>
                        </a:lnTo>
                        <a:lnTo>
                          <a:pt x="9" y="118"/>
                        </a:lnTo>
                        <a:lnTo>
                          <a:pt x="23" y="126"/>
                        </a:lnTo>
                        <a:lnTo>
                          <a:pt x="32" y="129"/>
                        </a:lnTo>
                        <a:lnTo>
                          <a:pt x="37" y="132"/>
                        </a:lnTo>
                        <a:lnTo>
                          <a:pt x="138" y="43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rot="20872200">
                    <a:off x="4924800" y="3945960"/>
                    <a:ext cx="277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393">
                        <a:moveTo>
                          <a:pt x="784" y="273"/>
                        </a:moveTo>
                        <a:lnTo>
                          <a:pt x="775" y="270"/>
                        </a:lnTo>
                        <a:lnTo>
                          <a:pt x="769" y="267"/>
                        </a:lnTo>
                        <a:lnTo>
                          <a:pt x="763" y="267"/>
                        </a:lnTo>
                        <a:lnTo>
                          <a:pt x="763" y="267"/>
                        </a:lnTo>
                        <a:lnTo>
                          <a:pt x="758" y="273"/>
                        </a:lnTo>
                        <a:lnTo>
                          <a:pt x="752" y="273"/>
                        </a:lnTo>
                        <a:lnTo>
                          <a:pt x="758" y="258"/>
                        </a:lnTo>
                        <a:lnTo>
                          <a:pt x="763" y="241"/>
                        </a:lnTo>
                        <a:lnTo>
                          <a:pt x="766" y="227"/>
                        </a:lnTo>
                        <a:lnTo>
                          <a:pt x="769" y="212"/>
                        </a:lnTo>
                        <a:lnTo>
                          <a:pt x="775" y="175"/>
                        </a:lnTo>
                        <a:lnTo>
                          <a:pt x="772" y="146"/>
                        </a:lnTo>
                        <a:lnTo>
                          <a:pt x="769" y="118"/>
                        </a:lnTo>
                        <a:lnTo>
                          <a:pt x="769" y="100"/>
                        </a:lnTo>
                        <a:lnTo>
                          <a:pt x="746" y="55"/>
                        </a:lnTo>
                        <a:lnTo>
                          <a:pt x="718" y="20"/>
                        </a:lnTo>
                        <a:lnTo>
                          <a:pt x="680" y="3"/>
                        </a:lnTo>
                        <a:lnTo>
                          <a:pt x="637" y="0"/>
                        </a:lnTo>
                        <a:lnTo>
                          <a:pt x="672" y="14"/>
                        </a:lnTo>
                        <a:lnTo>
                          <a:pt x="697" y="37"/>
                        </a:lnTo>
                        <a:lnTo>
                          <a:pt x="718" y="69"/>
                        </a:lnTo>
                        <a:lnTo>
                          <a:pt x="732" y="109"/>
                        </a:lnTo>
                        <a:lnTo>
                          <a:pt x="735" y="126"/>
                        </a:lnTo>
                        <a:lnTo>
                          <a:pt x="738" y="149"/>
                        </a:lnTo>
                        <a:lnTo>
                          <a:pt x="738" y="175"/>
                        </a:lnTo>
                        <a:lnTo>
                          <a:pt x="735" y="207"/>
                        </a:lnTo>
                        <a:lnTo>
                          <a:pt x="726" y="238"/>
                        </a:lnTo>
                        <a:lnTo>
                          <a:pt x="715" y="270"/>
                        </a:lnTo>
                        <a:lnTo>
                          <a:pt x="695" y="296"/>
                        </a:lnTo>
                        <a:lnTo>
                          <a:pt x="669" y="316"/>
                        </a:lnTo>
                        <a:lnTo>
                          <a:pt x="603" y="344"/>
                        </a:lnTo>
                        <a:lnTo>
                          <a:pt x="545" y="356"/>
                        </a:lnTo>
                        <a:lnTo>
                          <a:pt x="499" y="359"/>
                        </a:lnTo>
                        <a:lnTo>
                          <a:pt x="488" y="359"/>
                        </a:lnTo>
                        <a:lnTo>
                          <a:pt x="471" y="356"/>
                        </a:lnTo>
                        <a:lnTo>
                          <a:pt x="428" y="353"/>
                        </a:lnTo>
                        <a:lnTo>
                          <a:pt x="365" y="347"/>
                        </a:lnTo>
                        <a:lnTo>
                          <a:pt x="293" y="336"/>
                        </a:lnTo>
                        <a:lnTo>
                          <a:pt x="256" y="327"/>
                        </a:lnTo>
                        <a:lnTo>
                          <a:pt x="218" y="316"/>
                        </a:lnTo>
                        <a:lnTo>
                          <a:pt x="184" y="301"/>
                        </a:lnTo>
                        <a:lnTo>
                          <a:pt x="152" y="290"/>
                        </a:lnTo>
                        <a:lnTo>
                          <a:pt x="124" y="273"/>
                        </a:lnTo>
                        <a:lnTo>
                          <a:pt x="103" y="258"/>
                        </a:lnTo>
                        <a:lnTo>
                          <a:pt x="86" y="244"/>
                        </a:lnTo>
                        <a:lnTo>
                          <a:pt x="75" y="235"/>
                        </a:lnTo>
                        <a:lnTo>
                          <a:pt x="46" y="201"/>
                        </a:lnTo>
                        <a:lnTo>
                          <a:pt x="29" y="169"/>
                        </a:lnTo>
                        <a:lnTo>
                          <a:pt x="15" y="135"/>
                        </a:lnTo>
                        <a:lnTo>
                          <a:pt x="6" y="95"/>
                        </a:lnTo>
                        <a:lnTo>
                          <a:pt x="0" y="135"/>
                        </a:lnTo>
                        <a:lnTo>
                          <a:pt x="3" y="178"/>
                        </a:lnTo>
                        <a:lnTo>
                          <a:pt x="17" y="218"/>
                        </a:lnTo>
                        <a:lnTo>
                          <a:pt x="49" y="258"/>
                        </a:lnTo>
                        <a:lnTo>
                          <a:pt x="63" y="270"/>
                        </a:lnTo>
                        <a:lnTo>
                          <a:pt x="83" y="287"/>
                        </a:lnTo>
                        <a:lnTo>
                          <a:pt x="106" y="304"/>
                        </a:lnTo>
                        <a:lnTo>
                          <a:pt x="138" y="321"/>
                        </a:lnTo>
                        <a:lnTo>
                          <a:pt x="169" y="336"/>
                        </a:lnTo>
                        <a:lnTo>
                          <a:pt x="207" y="350"/>
                        </a:lnTo>
                        <a:lnTo>
                          <a:pt x="244" y="362"/>
                        </a:lnTo>
                        <a:lnTo>
                          <a:pt x="287" y="370"/>
                        </a:lnTo>
                        <a:lnTo>
                          <a:pt x="359" y="382"/>
                        </a:lnTo>
                        <a:lnTo>
                          <a:pt x="425" y="390"/>
                        </a:lnTo>
                        <a:lnTo>
                          <a:pt x="468" y="393"/>
                        </a:lnTo>
                        <a:lnTo>
                          <a:pt x="488" y="393"/>
                        </a:lnTo>
                        <a:lnTo>
                          <a:pt x="502" y="393"/>
                        </a:lnTo>
                        <a:lnTo>
                          <a:pt x="548" y="390"/>
                        </a:lnTo>
                        <a:lnTo>
                          <a:pt x="614" y="379"/>
                        </a:lnTo>
                        <a:lnTo>
                          <a:pt x="689" y="350"/>
                        </a:lnTo>
                        <a:lnTo>
                          <a:pt x="695" y="342"/>
                        </a:lnTo>
                        <a:lnTo>
                          <a:pt x="706" y="336"/>
                        </a:lnTo>
                        <a:lnTo>
                          <a:pt x="712" y="330"/>
                        </a:lnTo>
                        <a:lnTo>
                          <a:pt x="720" y="321"/>
                        </a:lnTo>
                        <a:lnTo>
                          <a:pt x="723" y="324"/>
                        </a:lnTo>
                        <a:lnTo>
                          <a:pt x="726" y="324"/>
                        </a:lnTo>
                        <a:lnTo>
                          <a:pt x="732" y="321"/>
                        </a:lnTo>
                        <a:lnTo>
                          <a:pt x="743" y="319"/>
                        </a:lnTo>
                        <a:lnTo>
                          <a:pt x="752" y="316"/>
                        </a:lnTo>
                        <a:lnTo>
                          <a:pt x="758" y="313"/>
                        </a:lnTo>
                        <a:lnTo>
                          <a:pt x="761" y="313"/>
                        </a:lnTo>
                        <a:lnTo>
                          <a:pt x="769" y="307"/>
                        </a:lnTo>
                        <a:lnTo>
                          <a:pt x="778" y="301"/>
                        </a:lnTo>
                        <a:lnTo>
                          <a:pt x="786" y="296"/>
                        </a:lnTo>
                        <a:lnTo>
                          <a:pt x="789" y="290"/>
                        </a:lnTo>
                        <a:lnTo>
                          <a:pt x="789" y="287"/>
                        </a:lnTo>
                        <a:lnTo>
                          <a:pt x="786" y="278"/>
                        </a:lnTo>
                        <a:lnTo>
                          <a:pt x="784" y="273"/>
                        </a:lnTo>
                        <a:lnTo>
                          <a:pt x="784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 rot="20872200">
                    <a:off x="4966560" y="3884760"/>
                    <a:ext cx="291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2">
                        <a:moveTo>
                          <a:pt x="71" y="0"/>
                        </a:moveTo>
                        <a:lnTo>
                          <a:pt x="60" y="0"/>
                        </a:lnTo>
                        <a:lnTo>
                          <a:pt x="48" y="2"/>
                        </a:lnTo>
                        <a:lnTo>
                          <a:pt x="40" y="8"/>
                        </a:lnTo>
                        <a:lnTo>
                          <a:pt x="34" y="14"/>
                        </a:lnTo>
                        <a:lnTo>
                          <a:pt x="28" y="23"/>
                        </a:lnTo>
                        <a:lnTo>
                          <a:pt x="20" y="37"/>
                        </a:lnTo>
                        <a:lnTo>
                          <a:pt x="11" y="51"/>
                        </a:lnTo>
                        <a:lnTo>
                          <a:pt x="11" y="57"/>
                        </a:lnTo>
                        <a:lnTo>
                          <a:pt x="8" y="60"/>
                        </a:lnTo>
                        <a:lnTo>
                          <a:pt x="8" y="66"/>
                        </a:lnTo>
                        <a:lnTo>
                          <a:pt x="3" y="77"/>
                        </a:lnTo>
                        <a:lnTo>
                          <a:pt x="0" y="89"/>
                        </a:lnTo>
                        <a:lnTo>
                          <a:pt x="0" y="103"/>
                        </a:lnTo>
                        <a:lnTo>
                          <a:pt x="0" y="117"/>
                        </a:lnTo>
                        <a:lnTo>
                          <a:pt x="3" y="129"/>
                        </a:lnTo>
                        <a:lnTo>
                          <a:pt x="8" y="137"/>
                        </a:lnTo>
                        <a:lnTo>
                          <a:pt x="17" y="143"/>
                        </a:lnTo>
                        <a:lnTo>
                          <a:pt x="25" y="149"/>
                        </a:lnTo>
                        <a:lnTo>
                          <a:pt x="37" y="152"/>
                        </a:lnTo>
                        <a:lnTo>
                          <a:pt x="48" y="152"/>
                        </a:lnTo>
                        <a:lnTo>
                          <a:pt x="51" y="149"/>
                        </a:lnTo>
                        <a:lnTo>
                          <a:pt x="63" y="146"/>
                        </a:lnTo>
                        <a:lnTo>
                          <a:pt x="71" y="134"/>
                        </a:lnTo>
                        <a:lnTo>
                          <a:pt x="77" y="117"/>
                        </a:lnTo>
                        <a:lnTo>
                          <a:pt x="77" y="111"/>
                        </a:lnTo>
                        <a:lnTo>
                          <a:pt x="80" y="97"/>
                        </a:lnTo>
                        <a:lnTo>
                          <a:pt x="83" y="77"/>
                        </a:lnTo>
                        <a:lnTo>
                          <a:pt x="83" y="63"/>
                        </a:lnTo>
                        <a:lnTo>
                          <a:pt x="80" y="54"/>
                        </a:lnTo>
                        <a:lnTo>
                          <a:pt x="71" y="45"/>
                        </a:lnTo>
                        <a:lnTo>
                          <a:pt x="66" y="37"/>
                        </a:lnTo>
                        <a:lnTo>
                          <a:pt x="60" y="34"/>
                        </a:lnTo>
                        <a:lnTo>
                          <a:pt x="60" y="25"/>
                        </a:lnTo>
                        <a:lnTo>
                          <a:pt x="63" y="23"/>
                        </a:lnTo>
                        <a:lnTo>
                          <a:pt x="60" y="20"/>
                        </a:lnTo>
                        <a:lnTo>
                          <a:pt x="63" y="17"/>
                        </a:lnTo>
                        <a:lnTo>
                          <a:pt x="63" y="11"/>
                        </a:lnTo>
                        <a:lnTo>
                          <a:pt x="63" y="11"/>
                        </a:lnTo>
                        <a:lnTo>
                          <a:pt x="66" y="5"/>
                        </a:lnTo>
                        <a:lnTo>
                          <a:pt x="71" y="0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 rot="20872200">
                    <a:off x="4865760" y="3969360"/>
                    <a:ext cx="53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5">
                        <a:moveTo>
                          <a:pt x="0" y="52"/>
                        </a:moveTo>
                        <a:lnTo>
                          <a:pt x="8" y="58"/>
                        </a:lnTo>
                        <a:lnTo>
                          <a:pt x="17" y="61"/>
                        </a:lnTo>
                        <a:lnTo>
                          <a:pt x="28" y="61"/>
                        </a:lnTo>
                        <a:lnTo>
                          <a:pt x="40" y="61"/>
                        </a:lnTo>
                        <a:lnTo>
                          <a:pt x="49" y="55"/>
                        </a:lnTo>
                        <a:lnTo>
                          <a:pt x="60" y="49"/>
                        </a:lnTo>
                        <a:lnTo>
                          <a:pt x="71" y="40"/>
                        </a:lnTo>
                        <a:lnTo>
                          <a:pt x="86" y="38"/>
                        </a:lnTo>
                        <a:lnTo>
                          <a:pt x="94" y="35"/>
                        </a:lnTo>
                        <a:lnTo>
                          <a:pt x="103" y="38"/>
                        </a:lnTo>
                        <a:lnTo>
                          <a:pt x="109" y="40"/>
                        </a:lnTo>
                        <a:lnTo>
                          <a:pt x="109" y="43"/>
                        </a:lnTo>
                        <a:lnTo>
                          <a:pt x="112" y="43"/>
                        </a:lnTo>
                        <a:lnTo>
                          <a:pt x="115" y="46"/>
                        </a:lnTo>
                        <a:lnTo>
                          <a:pt x="115" y="49"/>
                        </a:lnTo>
                        <a:lnTo>
                          <a:pt x="115" y="61"/>
                        </a:lnTo>
                        <a:lnTo>
                          <a:pt x="112" y="72"/>
                        </a:lnTo>
                        <a:lnTo>
                          <a:pt x="109" y="84"/>
                        </a:lnTo>
                        <a:lnTo>
                          <a:pt x="100" y="92"/>
                        </a:lnTo>
                        <a:lnTo>
                          <a:pt x="97" y="98"/>
                        </a:lnTo>
                        <a:lnTo>
                          <a:pt x="94" y="106"/>
                        </a:lnTo>
                        <a:lnTo>
                          <a:pt x="92" y="115"/>
                        </a:lnTo>
                        <a:lnTo>
                          <a:pt x="89" y="124"/>
                        </a:lnTo>
                        <a:lnTo>
                          <a:pt x="89" y="135"/>
                        </a:lnTo>
                        <a:lnTo>
                          <a:pt x="100" y="135"/>
                        </a:lnTo>
                        <a:lnTo>
                          <a:pt x="112" y="132"/>
                        </a:lnTo>
                        <a:lnTo>
                          <a:pt x="120" y="127"/>
                        </a:lnTo>
                        <a:lnTo>
                          <a:pt x="129" y="121"/>
                        </a:lnTo>
                        <a:lnTo>
                          <a:pt x="132" y="112"/>
                        </a:lnTo>
                        <a:lnTo>
                          <a:pt x="140" y="101"/>
                        </a:lnTo>
                        <a:lnTo>
                          <a:pt x="146" y="84"/>
                        </a:lnTo>
                        <a:lnTo>
                          <a:pt x="152" y="63"/>
                        </a:lnTo>
                        <a:lnTo>
                          <a:pt x="149" y="40"/>
                        </a:lnTo>
                        <a:lnTo>
                          <a:pt x="140" y="26"/>
                        </a:lnTo>
                        <a:lnTo>
                          <a:pt x="135" y="15"/>
                        </a:lnTo>
                        <a:lnTo>
                          <a:pt x="132" y="12"/>
                        </a:lnTo>
                        <a:lnTo>
                          <a:pt x="129" y="12"/>
                        </a:lnTo>
                        <a:lnTo>
                          <a:pt x="126" y="9"/>
                        </a:lnTo>
                        <a:lnTo>
                          <a:pt x="123" y="6"/>
                        </a:lnTo>
                        <a:lnTo>
                          <a:pt x="115" y="3"/>
                        </a:lnTo>
                        <a:lnTo>
                          <a:pt x="106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74" y="3"/>
                        </a:lnTo>
                        <a:lnTo>
                          <a:pt x="57" y="9"/>
                        </a:lnTo>
                        <a:lnTo>
                          <a:pt x="43" y="18"/>
                        </a:lnTo>
                        <a:lnTo>
                          <a:pt x="31" y="23"/>
                        </a:lnTo>
                        <a:lnTo>
                          <a:pt x="26" y="26"/>
                        </a:lnTo>
                        <a:lnTo>
                          <a:pt x="17" y="32"/>
                        </a:lnTo>
                        <a:lnTo>
                          <a:pt x="11" y="38"/>
                        </a:lnTo>
                        <a:lnTo>
                          <a:pt x="6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 rot="20872200">
                    <a:off x="4876560" y="4020120"/>
                    <a:ext cx="478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00">
                        <a:moveTo>
                          <a:pt x="0" y="140"/>
                        </a:moveTo>
                        <a:lnTo>
                          <a:pt x="0" y="155"/>
                        </a:lnTo>
                        <a:lnTo>
                          <a:pt x="5" y="166"/>
                        </a:lnTo>
                        <a:lnTo>
                          <a:pt x="11" y="178"/>
                        </a:lnTo>
                        <a:lnTo>
                          <a:pt x="23" y="186"/>
                        </a:lnTo>
                        <a:lnTo>
                          <a:pt x="34" y="192"/>
                        </a:lnTo>
                        <a:lnTo>
                          <a:pt x="54" y="198"/>
                        </a:lnTo>
                        <a:lnTo>
                          <a:pt x="80" y="200"/>
                        </a:lnTo>
                        <a:lnTo>
                          <a:pt x="109" y="192"/>
                        </a:lnTo>
                        <a:lnTo>
                          <a:pt x="126" y="169"/>
                        </a:lnTo>
                        <a:lnTo>
                          <a:pt x="135" y="152"/>
                        </a:lnTo>
                        <a:lnTo>
                          <a:pt x="137" y="134"/>
                        </a:lnTo>
                        <a:lnTo>
                          <a:pt x="137" y="132"/>
                        </a:lnTo>
                        <a:lnTo>
                          <a:pt x="137" y="129"/>
                        </a:lnTo>
                        <a:lnTo>
                          <a:pt x="137" y="126"/>
                        </a:lnTo>
                        <a:lnTo>
                          <a:pt x="137" y="120"/>
                        </a:lnTo>
                        <a:lnTo>
                          <a:pt x="137" y="109"/>
                        </a:lnTo>
                        <a:lnTo>
                          <a:pt x="135" y="100"/>
                        </a:lnTo>
                        <a:lnTo>
                          <a:pt x="132" y="89"/>
                        </a:lnTo>
                        <a:lnTo>
                          <a:pt x="123" y="77"/>
                        </a:lnTo>
                        <a:lnTo>
                          <a:pt x="117" y="68"/>
                        </a:lnTo>
                        <a:lnTo>
                          <a:pt x="97" y="54"/>
                        </a:lnTo>
                        <a:lnTo>
                          <a:pt x="80" y="43"/>
                        </a:lnTo>
                        <a:lnTo>
                          <a:pt x="69" y="34"/>
                        </a:lnTo>
                        <a:lnTo>
                          <a:pt x="63" y="28"/>
                        </a:lnTo>
                        <a:lnTo>
                          <a:pt x="57" y="23"/>
                        </a:lnTo>
                        <a:lnTo>
                          <a:pt x="54" y="20"/>
                        </a:lnTo>
                        <a:lnTo>
                          <a:pt x="51" y="11"/>
                        </a:lnTo>
                        <a:lnTo>
                          <a:pt x="54" y="0"/>
                        </a:lnTo>
                        <a:lnTo>
                          <a:pt x="46" y="2"/>
                        </a:lnTo>
                        <a:lnTo>
                          <a:pt x="40" y="2"/>
                        </a:lnTo>
                        <a:lnTo>
                          <a:pt x="34" y="8"/>
                        </a:lnTo>
                        <a:lnTo>
                          <a:pt x="28" y="14"/>
                        </a:lnTo>
                        <a:lnTo>
                          <a:pt x="26" y="23"/>
                        </a:lnTo>
                        <a:lnTo>
                          <a:pt x="28" y="34"/>
                        </a:lnTo>
                        <a:lnTo>
                          <a:pt x="31" y="43"/>
                        </a:lnTo>
                        <a:lnTo>
                          <a:pt x="37" y="51"/>
                        </a:lnTo>
                        <a:lnTo>
                          <a:pt x="46" y="60"/>
                        </a:lnTo>
                        <a:lnTo>
                          <a:pt x="60" y="71"/>
                        </a:lnTo>
                        <a:lnTo>
                          <a:pt x="74" y="83"/>
                        </a:lnTo>
                        <a:lnTo>
                          <a:pt x="89" y="94"/>
                        </a:lnTo>
                        <a:lnTo>
                          <a:pt x="100" y="106"/>
                        </a:lnTo>
                        <a:lnTo>
                          <a:pt x="103" y="114"/>
                        </a:lnTo>
                        <a:lnTo>
                          <a:pt x="106" y="123"/>
                        </a:lnTo>
                        <a:lnTo>
                          <a:pt x="106" y="129"/>
                        </a:lnTo>
                        <a:lnTo>
                          <a:pt x="103" y="129"/>
                        </a:lnTo>
                        <a:lnTo>
                          <a:pt x="100" y="140"/>
                        </a:lnTo>
                        <a:lnTo>
                          <a:pt x="94" y="152"/>
                        </a:lnTo>
                        <a:lnTo>
                          <a:pt x="86" y="160"/>
                        </a:lnTo>
                        <a:lnTo>
                          <a:pt x="74" y="163"/>
                        </a:lnTo>
                        <a:lnTo>
                          <a:pt x="63" y="163"/>
                        </a:lnTo>
                        <a:lnTo>
                          <a:pt x="48" y="160"/>
                        </a:lnTo>
                        <a:lnTo>
                          <a:pt x="43" y="155"/>
                        </a:lnTo>
                        <a:lnTo>
                          <a:pt x="31" y="149"/>
                        </a:lnTo>
                        <a:lnTo>
                          <a:pt x="23" y="146"/>
                        </a:lnTo>
                        <a:lnTo>
                          <a:pt x="11" y="143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 rot="20872200">
                    <a:off x="4900320" y="3796560"/>
                    <a:ext cx="3114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6" h="539">
                        <a:moveTo>
                          <a:pt x="881" y="327"/>
                        </a:moveTo>
                        <a:lnTo>
                          <a:pt x="866" y="292"/>
                        </a:lnTo>
                        <a:lnTo>
                          <a:pt x="846" y="244"/>
                        </a:lnTo>
                        <a:lnTo>
                          <a:pt x="823" y="198"/>
                        </a:lnTo>
                        <a:lnTo>
                          <a:pt x="812" y="183"/>
                        </a:lnTo>
                        <a:lnTo>
                          <a:pt x="806" y="178"/>
                        </a:lnTo>
                        <a:lnTo>
                          <a:pt x="797" y="163"/>
                        </a:lnTo>
                        <a:lnTo>
                          <a:pt x="783" y="146"/>
                        </a:lnTo>
                        <a:lnTo>
                          <a:pt x="766" y="126"/>
                        </a:lnTo>
                        <a:lnTo>
                          <a:pt x="746" y="106"/>
                        </a:lnTo>
                        <a:lnTo>
                          <a:pt x="723" y="89"/>
                        </a:lnTo>
                        <a:lnTo>
                          <a:pt x="706" y="74"/>
                        </a:lnTo>
                        <a:lnTo>
                          <a:pt x="691" y="66"/>
                        </a:lnTo>
                        <a:lnTo>
                          <a:pt x="688" y="66"/>
                        </a:lnTo>
                        <a:lnTo>
                          <a:pt x="686" y="63"/>
                        </a:lnTo>
                        <a:lnTo>
                          <a:pt x="700" y="49"/>
                        </a:lnTo>
                        <a:lnTo>
                          <a:pt x="714" y="34"/>
                        </a:lnTo>
                        <a:lnTo>
                          <a:pt x="731" y="17"/>
                        </a:lnTo>
                        <a:lnTo>
                          <a:pt x="746" y="0"/>
                        </a:lnTo>
                        <a:lnTo>
                          <a:pt x="714" y="11"/>
                        </a:lnTo>
                        <a:lnTo>
                          <a:pt x="691" y="23"/>
                        </a:lnTo>
                        <a:lnTo>
                          <a:pt x="663" y="37"/>
                        </a:lnTo>
                        <a:lnTo>
                          <a:pt x="634" y="57"/>
                        </a:lnTo>
                        <a:lnTo>
                          <a:pt x="571" y="100"/>
                        </a:lnTo>
                        <a:lnTo>
                          <a:pt x="479" y="166"/>
                        </a:lnTo>
                        <a:lnTo>
                          <a:pt x="396" y="226"/>
                        </a:lnTo>
                        <a:lnTo>
                          <a:pt x="358" y="255"/>
                        </a:lnTo>
                        <a:lnTo>
                          <a:pt x="350" y="261"/>
                        </a:lnTo>
                        <a:lnTo>
                          <a:pt x="324" y="281"/>
                        </a:lnTo>
                        <a:lnTo>
                          <a:pt x="284" y="307"/>
                        </a:lnTo>
                        <a:lnTo>
                          <a:pt x="241" y="338"/>
                        </a:lnTo>
                        <a:lnTo>
                          <a:pt x="192" y="370"/>
                        </a:lnTo>
                        <a:lnTo>
                          <a:pt x="146" y="402"/>
                        </a:lnTo>
                        <a:lnTo>
                          <a:pt x="106" y="425"/>
                        </a:lnTo>
                        <a:lnTo>
                          <a:pt x="80" y="445"/>
                        </a:lnTo>
                        <a:lnTo>
                          <a:pt x="51" y="465"/>
                        </a:lnTo>
                        <a:lnTo>
                          <a:pt x="31" y="488"/>
                        </a:lnTo>
                        <a:lnTo>
                          <a:pt x="14" y="511"/>
                        </a:lnTo>
                        <a:lnTo>
                          <a:pt x="0" y="539"/>
                        </a:lnTo>
                        <a:lnTo>
                          <a:pt x="26" y="522"/>
                        </a:lnTo>
                        <a:lnTo>
                          <a:pt x="49" y="508"/>
                        </a:lnTo>
                        <a:lnTo>
                          <a:pt x="74" y="491"/>
                        </a:lnTo>
                        <a:lnTo>
                          <a:pt x="103" y="473"/>
                        </a:lnTo>
                        <a:lnTo>
                          <a:pt x="126" y="456"/>
                        </a:lnTo>
                        <a:lnTo>
                          <a:pt x="166" y="433"/>
                        </a:lnTo>
                        <a:lnTo>
                          <a:pt x="212" y="402"/>
                        </a:lnTo>
                        <a:lnTo>
                          <a:pt x="261" y="367"/>
                        </a:lnTo>
                        <a:lnTo>
                          <a:pt x="304" y="336"/>
                        </a:lnTo>
                        <a:lnTo>
                          <a:pt x="344" y="307"/>
                        </a:lnTo>
                        <a:lnTo>
                          <a:pt x="370" y="290"/>
                        </a:lnTo>
                        <a:lnTo>
                          <a:pt x="381" y="281"/>
                        </a:lnTo>
                        <a:lnTo>
                          <a:pt x="416" y="255"/>
                        </a:lnTo>
                        <a:lnTo>
                          <a:pt x="499" y="195"/>
                        </a:lnTo>
                        <a:lnTo>
                          <a:pt x="591" y="129"/>
                        </a:lnTo>
                        <a:lnTo>
                          <a:pt x="651" y="86"/>
                        </a:lnTo>
                        <a:lnTo>
                          <a:pt x="654" y="86"/>
                        </a:lnTo>
                        <a:lnTo>
                          <a:pt x="657" y="83"/>
                        </a:lnTo>
                        <a:lnTo>
                          <a:pt x="660" y="86"/>
                        </a:lnTo>
                        <a:lnTo>
                          <a:pt x="665" y="92"/>
                        </a:lnTo>
                        <a:lnTo>
                          <a:pt x="668" y="94"/>
                        </a:lnTo>
                        <a:lnTo>
                          <a:pt x="674" y="97"/>
                        </a:lnTo>
                        <a:lnTo>
                          <a:pt x="686" y="106"/>
                        </a:lnTo>
                        <a:lnTo>
                          <a:pt x="703" y="117"/>
                        </a:lnTo>
                        <a:lnTo>
                          <a:pt x="720" y="132"/>
                        </a:lnTo>
                        <a:lnTo>
                          <a:pt x="740" y="149"/>
                        </a:lnTo>
                        <a:lnTo>
                          <a:pt x="754" y="169"/>
                        </a:lnTo>
                        <a:lnTo>
                          <a:pt x="769" y="186"/>
                        </a:lnTo>
                        <a:lnTo>
                          <a:pt x="777" y="198"/>
                        </a:lnTo>
                        <a:lnTo>
                          <a:pt x="780" y="204"/>
                        </a:lnTo>
                        <a:lnTo>
                          <a:pt x="792" y="218"/>
                        </a:lnTo>
                        <a:lnTo>
                          <a:pt x="812" y="261"/>
                        </a:lnTo>
                        <a:lnTo>
                          <a:pt x="835" y="307"/>
                        </a:lnTo>
                        <a:lnTo>
                          <a:pt x="846" y="338"/>
                        </a:lnTo>
                        <a:lnTo>
                          <a:pt x="852" y="353"/>
                        </a:lnTo>
                        <a:lnTo>
                          <a:pt x="861" y="367"/>
                        </a:lnTo>
                        <a:lnTo>
                          <a:pt x="869" y="376"/>
                        </a:lnTo>
                        <a:lnTo>
                          <a:pt x="884" y="390"/>
                        </a:lnTo>
                        <a:lnTo>
                          <a:pt x="886" y="373"/>
                        </a:lnTo>
                        <a:lnTo>
                          <a:pt x="886" y="359"/>
                        </a:lnTo>
                        <a:lnTo>
                          <a:pt x="884" y="341"/>
                        </a:lnTo>
                        <a:lnTo>
                          <a:pt x="881" y="327"/>
                        </a:lnTo>
                        <a:lnTo>
                          <a:pt x="881" y="3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 rot="20872200">
                    <a:off x="4947120" y="3756600"/>
                    <a:ext cx="2761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2">
                        <a:moveTo>
                          <a:pt x="769" y="31"/>
                        </a:moveTo>
                        <a:lnTo>
                          <a:pt x="760" y="34"/>
                        </a:lnTo>
                        <a:lnTo>
                          <a:pt x="757" y="34"/>
                        </a:lnTo>
                        <a:lnTo>
                          <a:pt x="752" y="37"/>
                        </a:lnTo>
                        <a:lnTo>
                          <a:pt x="749" y="37"/>
                        </a:lnTo>
                        <a:lnTo>
                          <a:pt x="743" y="37"/>
                        </a:lnTo>
                        <a:lnTo>
                          <a:pt x="726" y="43"/>
                        </a:lnTo>
                        <a:lnTo>
                          <a:pt x="709" y="48"/>
                        </a:lnTo>
                        <a:lnTo>
                          <a:pt x="688" y="48"/>
                        </a:lnTo>
                        <a:lnTo>
                          <a:pt x="668" y="48"/>
                        </a:lnTo>
                        <a:lnTo>
                          <a:pt x="654" y="48"/>
                        </a:lnTo>
                        <a:lnTo>
                          <a:pt x="631" y="43"/>
                        </a:lnTo>
                        <a:lnTo>
                          <a:pt x="605" y="34"/>
                        </a:lnTo>
                        <a:lnTo>
                          <a:pt x="577" y="22"/>
                        </a:lnTo>
                        <a:lnTo>
                          <a:pt x="542" y="11"/>
                        </a:lnTo>
                        <a:lnTo>
                          <a:pt x="502" y="5"/>
                        </a:lnTo>
                        <a:lnTo>
                          <a:pt x="462" y="0"/>
                        </a:lnTo>
                        <a:lnTo>
                          <a:pt x="422" y="5"/>
                        </a:lnTo>
                        <a:lnTo>
                          <a:pt x="344" y="28"/>
                        </a:lnTo>
                        <a:lnTo>
                          <a:pt x="290" y="60"/>
                        </a:lnTo>
                        <a:lnTo>
                          <a:pt x="255" y="88"/>
                        </a:lnTo>
                        <a:lnTo>
                          <a:pt x="244" y="100"/>
                        </a:lnTo>
                        <a:lnTo>
                          <a:pt x="232" y="111"/>
                        </a:lnTo>
                        <a:lnTo>
                          <a:pt x="204" y="146"/>
                        </a:lnTo>
                        <a:lnTo>
                          <a:pt x="166" y="198"/>
                        </a:lnTo>
                        <a:lnTo>
                          <a:pt x="138" y="269"/>
                        </a:lnTo>
                        <a:lnTo>
                          <a:pt x="126" y="307"/>
                        </a:lnTo>
                        <a:lnTo>
                          <a:pt x="120" y="347"/>
                        </a:lnTo>
                        <a:lnTo>
                          <a:pt x="117" y="387"/>
                        </a:lnTo>
                        <a:lnTo>
                          <a:pt x="117" y="421"/>
                        </a:lnTo>
                        <a:lnTo>
                          <a:pt x="109" y="444"/>
                        </a:lnTo>
                        <a:lnTo>
                          <a:pt x="95" y="464"/>
                        </a:lnTo>
                        <a:lnTo>
                          <a:pt x="80" y="479"/>
                        </a:lnTo>
                        <a:lnTo>
                          <a:pt x="69" y="490"/>
                        </a:lnTo>
                        <a:lnTo>
                          <a:pt x="60" y="496"/>
                        </a:lnTo>
                        <a:lnTo>
                          <a:pt x="51" y="502"/>
                        </a:lnTo>
                        <a:lnTo>
                          <a:pt x="43" y="510"/>
                        </a:lnTo>
                        <a:lnTo>
                          <a:pt x="34" y="516"/>
                        </a:lnTo>
                        <a:lnTo>
                          <a:pt x="31" y="519"/>
                        </a:lnTo>
                        <a:lnTo>
                          <a:pt x="29" y="522"/>
                        </a:lnTo>
                        <a:lnTo>
                          <a:pt x="23" y="525"/>
                        </a:lnTo>
                        <a:lnTo>
                          <a:pt x="20" y="528"/>
                        </a:lnTo>
                        <a:lnTo>
                          <a:pt x="11" y="533"/>
                        </a:lnTo>
                        <a:lnTo>
                          <a:pt x="8" y="536"/>
                        </a:lnTo>
                        <a:lnTo>
                          <a:pt x="6" y="539"/>
                        </a:lnTo>
                        <a:lnTo>
                          <a:pt x="3" y="548"/>
                        </a:lnTo>
                        <a:lnTo>
                          <a:pt x="0" y="556"/>
                        </a:lnTo>
                        <a:lnTo>
                          <a:pt x="3" y="553"/>
                        </a:lnTo>
                        <a:lnTo>
                          <a:pt x="3" y="556"/>
                        </a:lnTo>
                        <a:lnTo>
                          <a:pt x="6" y="559"/>
                        </a:lnTo>
                        <a:lnTo>
                          <a:pt x="14" y="574"/>
                        </a:lnTo>
                        <a:lnTo>
                          <a:pt x="23" y="588"/>
                        </a:lnTo>
                        <a:lnTo>
                          <a:pt x="37" y="605"/>
                        </a:lnTo>
                        <a:lnTo>
                          <a:pt x="49" y="622"/>
                        </a:lnTo>
                        <a:lnTo>
                          <a:pt x="43" y="605"/>
                        </a:lnTo>
                        <a:lnTo>
                          <a:pt x="40" y="588"/>
                        </a:lnTo>
                        <a:lnTo>
                          <a:pt x="37" y="571"/>
                        </a:lnTo>
                        <a:lnTo>
                          <a:pt x="31" y="556"/>
                        </a:lnTo>
                        <a:lnTo>
                          <a:pt x="34" y="553"/>
                        </a:lnTo>
                        <a:lnTo>
                          <a:pt x="37" y="551"/>
                        </a:lnTo>
                        <a:lnTo>
                          <a:pt x="43" y="548"/>
                        </a:lnTo>
                        <a:lnTo>
                          <a:pt x="49" y="548"/>
                        </a:lnTo>
                        <a:lnTo>
                          <a:pt x="51" y="545"/>
                        </a:lnTo>
                        <a:lnTo>
                          <a:pt x="63" y="539"/>
                        </a:lnTo>
                        <a:lnTo>
                          <a:pt x="74" y="533"/>
                        </a:lnTo>
                        <a:lnTo>
                          <a:pt x="83" y="525"/>
                        </a:lnTo>
                        <a:lnTo>
                          <a:pt x="95" y="516"/>
                        </a:lnTo>
                        <a:lnTo>
                          <a:pt x="100" y="510"/>
                        </a:lnTo>
                        <a:lnTo>
                          <a:pt x="106" y="505"/>
                        </a:lnTo>
                        <a:lnTo>
                          <a:pt x="115" y="496"/>
                        </a:lnTo>
                        <a:lnTo>
                          <a:pt x="123" y="487"/>
                        </a:lnTo>
                        <a:lnTo>
                          <a:pt x="132" y="476"/>
                        </a:lnTo>
                        <a:lnTo>
                          <a:pt x="143" y="462"/>
                        </a:lnTo>
                        <a:lnTo>
                          <a:pt x="149" y="444"/>
                        </a:lnTo>
                        <a:lnTo>
                          <a:pt x="155" y="424"/>
                        </a:lnTo>
                        <a:lnTo>
                          <a:pt x="155" y="387"/>
                        </a:lnTo>
                        <a:lnTo>
                          <a:pt x="155" y="353"/>
                        </a:lnTo>
                        <a:lnTo>
                          <a:pt x="161" y="315"/>
                        </a:lnTo>
                        <a:lnTo>
                          <a:pt x="172" y="281"/>
                        </a:lnTo>
                        <a:lnTo>
                          <a:pt x="198" y="215"/>
                        </a:lnTo>
                        <a:lnTo>
                          <a:pt x="229" y="166"/>
                        </a:lnTo>
                        <a:lnTo>
                          <a:pt x="258" y="134"/>
                        </a:lnTo>
                        <a:lnTo>
                          <a:pt x="267" y="126"/>
                        </a:lnTo>
                        <a:lnTo>
                          <a:pt x="278" y="114"/>
                        </a:lnTo>
                        <a:lnTo>
                          <a:pt x="313" y="88"/>
                        </a:lnTo>
                        <a:lnTo>
                          <a:pt x="361" y="60"/>
                        </a:lnTo>
                        <a:lnTo>
                          <a:pt x="427" y="40"/>
                        </a:lnTo>
                        <a:lnTo>
                          <a:pt x="496" y="40"/>
                        </a:lnTo>
                        <a:lnTo>
                          <a:pt x="562" y="57"/>
                        </a:lnTo>
                        <a:lnTo>
                          <a:pt x="622" y="77"/>
                        </a:lnTo>
                        <a:lnTo>
                          <a:pt x="666" y="86"/>
                        </a:lnTo>
                        <a:lnTo>
                          <a:pt x="691" y="86"/>
                        </a:lnTo>
                        <a:lnTo>
                          <a:pt x="717" y="80"/>
                        </a:lnTo>
                        <a:lnTo>
                          <a:pt x="737" y="71"/>
                        </a:lnTo>
                        <a:lnTo>
                          <a:pt x="754" y="63"/>
                        </a:lnTo>
                        <a:lnTo>
                          <a:pt x="760" y="60"/>
                        </a:lnTo>
                        <a:lnTo>
                          <a:pt x="763" y="57"/>
                        </a:lnTo>
                        <a:lnTo>
                          <a:pt x="766" y="54"/>
                        </a:lnTo>
                        <a:lnTo>
                          <a:pt x="769" y="54"/>
                        </a:lnTo>
                        <a:lnTo>
                          <a:pt x="775" y="54"/>
                        </a:lnTo>
                        <a:lnTo>
                          <a:pt x="775" y="60"/>
                        </a:lnTo>
                        <a:lnTo>
                          <a:pt x="777" y="68"/>
                        </a:lnTo>
                        <a:lnTo>
                          <a:pt x="780" y="74"/>
                        </a:lnTo>
                        <a:lnTo>
                          <a:pt x="786" y="83"/>
                        </a:lnTo>
                        <a:lnTo>
                          <a:pt x="783" y="74"/>
                        </a:lnTo>
                        <a:lnTo>
                          <a:pt x="783" y="63"/>
                        </a:lnTo>
                        <a:lnTo>
                          <a:pt x="783" y="54"/>
                        </a:lnTo>
                        <a:lnTo>
                          <a:pt x="786" y="43"/>
                        </a:lnTo>
                        <a:lnTo>
                          <a:pt x="786" y="37"/>
                        </a:lnTo>
                        <a:lnTo>
                          <a:pt x="775" y="31"/>
                        </a:lnTo>
                        <a:lnTo>
                          <a:pt x="769" y="31"/>
                        </a:lnTo>
                        <a:lnTo>
                          <a:pt x="76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rot="20872200">
                    <a:off x="5009760" y="3709440"/>
                    <a:ext cx="186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25">
                        <a:moveTo>
                          <a:pt x="72" y="525"/>
                        </a:moveTo>
                        <a:lnTo>
                          <a:pt x="66" y="497"/>
                        </a:lnTo>
                        <a:lnTo>
                          <a:pt x="60" y="468"/>
                        </a:lnTo>
                        <a:lnTo>
                          <a:pt x="55" y="439"/>
                        </a:lnTo>
                        <a:lnTo>
                          <a:pt x="46" y="408"/>
                        </a:lnTo>
                        <a:lnTo>
                          <a:pt x="40" y="396"/>
                        </a:lnTo>
                        <a:lnTo>
                          <a:pt x="37" y="379"/>
                        </a:lnTo>
                        <a:lnTo>
                          <a:pt x="34" y="362"/>
                        </a:lnTo>
                        <a:lnTo>
                          <a:pt x="37" y="342"/>
                        </a:lnTo>
                        <a:lnTo>
                          <a:pt x="43" y="319"/>
                        </a:lnTo>
                        <a:lnTo>
                          <a:pt x="55" y="296"/>
                        </a:lnTo>
                        <a:lnTo>
                          <a:pt x="69" y="273"/>
                        </a:lnTo>
                        <a:lnTo>
                          <a:pt x="86" y="253"/>
                        </a:lnTo>
                        <a:lnTo>
                          <a:pt x="126" y="215"/>
                        </a:lnTo>
                        <a:lnTo>
                          <a:pt x="161" y="190"/>
                        </a:lnTo>
                        <a:lnTo>
                          <a:pt x="187" y="170"/>
                        </a:lnTo>
                        <a:lnTo>
                          <a:pt x="198" y="164"/>
                        </a:lnTo>
                        <a:lnTo>
                          <a:pt x="207" y="155"/>
                        </a:lnTo>
                        <a:lnTo>
                          <a:pt x="232" y="141"/>
                        </a:lnTo>
                        <a:lnTo>
                          <a:pt x="273" y="118"/>
                        </a:lnTo>
                        <a:lnTo>
                          <a:pt x="324" y="92"/>
                        </a:lnTo>
                        <a:lnTo>
                          <a:pt x="350" y="81"/>
                        </a:lnTo>
                        <a:lnTo>
                          <a:pt x="376" y="69"/>
                        </a:lnTo>
                        <a:lnTo>
                          <a:pt x="399" y="55"/>
                        </a:lnTo>
                        <a:lnTo>
                          <a:pt x="422" y="46"/>
                        </a:lnTo>
                        <a:lnTo>
                          <a:pt x="442" y="38"/>
                        </a:lnTo>
                        <a:lnTo>
                          <a:pt x="456" y="35"/>
                        </a:lnTo>
                        <a:lnTo>
                          <a:pt x="468" y="38"/>
                        </a:lnTo>
                        <a:lnTo>
                          <a:pt x="473" y="43"/>
                        </a:lnTo>
                        <a:lnTo>
                          <a:pt x="488" y="66"/>
                        </a:lnTo>
                        <a:lnTo>
                          <a:pt x="499" y="92"/>
                        </a:lnTo>
                        <a:lnTo>
                          <a:pt x="514" y="118"/>
                        </a:lnTo>
                        <a:lnTo>
                          <a:pt x="531" y="144"/>
                        </a:lnTo>
                        <a:lnTo>
                          <a:pt x="525" y="112"/>
                        </a:lnTo>
                        <a:lnTo>
                          <a:pt x="525" y="83"/>
                        </a:lnTo>
                        <a:lnTo>
                          <a:pt x="516" y="55"/>
                        </a:lnTo>
                        <a:lnTo>
                          <a:pt x="499" y="15"/>
                        </a:lnTo>
                        <a:lnTo>
                          <a:pt x="482" y="3"/>
                        </a:lnTo>
                        <a:lnTo>
                          <a:pt x="459" y="0"/>
                        </a:lnTo>
                        <a:lnTo>
                          <a:pt x="430" y="3"/>
                        </a:lnTo>
                        <a:lnTo>
                          <a:pt x="407" y="12"/>
                        </a:lnTo>
                        <a:lnTo>
                          <a:pt x="382" y="23"/>
                        </a:lnTo>
                        <a:lnTo>
                          <a:pt x="359" y="38"/>
                        </a:lnTo>
                        <a:lnTo>
                          <a:pt x="333" y="49"/>
                        </a:lnTo>
                        <a:lnTo>
                          <a:pt x="304" y="60"/>
                        </a:lnTo>
                        <a:lnTo>
                          <a:pt x="255" y="86"/>
                        </a:lnTo>
                        <a:lnTo>
                          <a:pt x="215" y="109"/>
                        </a:lnTo>
                        <a:lnTo>
                          <a:pt x="187" y="126"/>
                        </a:lnTo>
                        <a:lnTo>
                          <a:pt x="178" y="132"/>
                        </a:lnTo>
                        <a:lnTo>
                          <a:pt x="166" y="141"/>
                        </a:lnTo>
                        <a:lnTo>
                          <a:pt x="141" y="161"/>
                        </a:lnTo>
                        <a:lnTo>
                          <a:pt x="100" y="190"/>
                        </a:lnTo>
                        <a:lnTo>
                          <a:pt x="60" y="230"/>
                        </a:lnTo>
                        <a:lnTo>
                          <a:pt x="40" y="250"/>
                        </a:lnTo>
                        <a:lnTo>
                          <a:pt x="23" y="276"/>
                        </a:lnTo>
                        <a:lnTo>
                          <a:pt x="9" y="304"/>
                        </a:lnTo>
                        <a:lnTo>
                          <a:pt x="0" y="333"/>
                        </a:lnTo>
                        <a:lnTo>
                          <a:pt x="0" y="362"/>
                        </a:lnTo>
                        <a:lnTo>
                          <a:pt x="3" y="385"/>
                        </a:lnTo>
                        <a:lnTo>
                          <a:pt x="6" y="402"/>
                        </a:lnTo>
                        <a:lnTo>
                          <a:pt x="9" y="416"/>
                        </a:lnTo>
                        <a:lnTo>
                          <a:pt x="23" y="451"/>
                        </a:lnTo>
                        <a:lnTo>
                          <a:pt x="37" y="477"/>
                        </a:lnTo>
                        <a:lnTo>
                          <a:pt x="55" y="502"/>
                        </a:lnTo>
                        <a:lnTo>
                          <a:pt x="72" y="525"/>
                        </a:lnTo>
                        <a:lnTo>
                          <a:pt x="72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rot="20872200">
                    <a:off x="4902480" y="3609000"/>
                    <a:ext cx="178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77">
                        <a:moveTo>
                          <a:pt x="491" y="0"/>
                        </a:moveTo>
                        <a:lnTo>
                          <a:pt x="482" y="9"/>
                        </a:lnTo>
                        <a:lnTo>
                          <a:pt x="476" y="20"/>
                        </a:lnTo>
                        <a:lnTo>
                          <a:pt x="473" y="32"/>
                        </a:lnTo>
                        <a:lnTo>
                          <a:pt x="473" y="43"/>
                        </a:lnTo>
                        <a:lnTo>
                          <a:pt x="470" y="55"/>
                        </a:lnTo>
                        <a:lnTo>
                          <a:pt x="468" y="69"/>
                        </a:lnTo>
                        <a:lnTo>
                          <a:pt x="459" y="86"/>
                        </a:lnTo>
                        <a:lnTo>
                          <a:pt x="450" y="101"/>
                        </a:lnTo>
                        <a:lnTo>
                          <a:pt x="436" y="115"/>
                        </a:lnTo>
                        <a:lnTo>
                          <a:pt x="425" y="124"/>
                        </a:lnTo>
                        <a:lnTo>
                          <a:pt x="416" y="132"/>
                        </a:lnTo>
                        <a:lnTo>
                          <a:pt x="413" y="135"/>
                        </a:lnTo>
                        <a:lnTo>
                          <a:pt x="407" y="135"/>
                        </a:lnTo>
                        <a:lnTo>
                          <a:pt x="396" y="141"/>
                        </a:lnTo>
                        <a:lnTo>
                          <a:pt x="381" y="149"/>
                        </a:lnTo>
                        <a:lnTo>
                          <a:pt x="364" y="161"/>
                        </a:lnTo>
                        <a:lnTo>
                          <a:pt x="344" y="167"/>
                        </a:lnTo>
                        <a:lnTo>
                          <a:pt x="327" y="172"/>
                        </a:lnTo>
                        <a:lnTo>
                          <a:pt x="313" y="172"/>
                        </a:lnTo>
                        <a:lnTo>
                          <a:pt x="304" y="172"/>
                        </a:lnTo>
                        <a:lnTo>
                          <a:pt x="298" y="172"/>
                        </a:lnTo>
                        <a:lnTo>
                          <a:pt x="295" y="172"/>
                        </a:lnTo>
                        <a:lnTo>
                          <a:pt x="290" y="172"/>
                        </a:lnTo>
                        <a:lnTo>
                          <a:pt x="287" y="172"/>
                        </a:lnTo>
                        <a:lnTo>
                          <a:pt x="321" y="146"/>
                        </a:lnTo>
                        <a:lnTo>
                          <a:pt x="359" y="124"/>
                        </a:lnTo>
                        <a:lnTo>
                          <a:pt x="387" y="103"/>
                        </a:lnTo>
                        <a:lnTo>
                          <a:pt x="407" y="89"/>
                        </a:lnTo>
                        <a:lnTo>
                          <a:pt x="430" y="69"/>
                        </a:lnTo>
                        <a:lnTo>
                          <a:pt x="447" y="52"/>
                        </a:lnTo>
                        <a:lnTo>
                          <a:pt x="468" y="32"/>
                        </a:lnTo>
                        <a:lnTo>
                          <a:pt x="482" y="9"/>
                        </a:lnTo>
                        <a:lnTo>
                          <a:pt x="456" y="20"/>
                        </a:lnTo>
                        <a:lnTo>
                          <a:pt x="433" y="29"/>
                        </a:lnTo>
                        <a:lnTo>
                          <a:pt x="410" y="43"/>
                        </a:lnTo>
                        <a:lnTo>
                          <a:pt x="381" y="63"/>
                        </a:lnTo>
                        <a:lnTo>
                          <a:pt x="330" y="98"/>
                        </a:lnTo>
                        <a:lnTo>
                          <a:pt x="249" y="155"/>
                        </a:lnTo>
                        <a:lnTo>
                          <a:pt x="175" y="207"/>
                        </a:lnTo>
                        <a:lnTo>
                          <a:pt x="143" y="230"/>
                        </a:lnTo>
                        <a:lnTo>
                          <a:pt x="135" y="235"/>
                        </a:lnTo>
                        <a:lnTo>
                          <a:pt x="112" y="253"/>
                        </a:lnTo>
                        <a:lnTo>
                          <a:pt x="80" y="278"/>
                        </a:lnTo>
                        <a:lnTo>
                          <a:pt x="43" y="307"/>
                        </a:lnTo>
                        <a:lnTo>
                          <a:pt x="31" y="316"/>
                        </a:lnTo>
                        <a:lnTo>
                          <a:pt x="20" y="327"/>
                        </a:lnTo>
                        <a:lnTo>
                          <a:pt x="8" y="339"/>
                        </a:lnTo>
                        <a:lnTo>
                          <a:pt x="3" y="356"/>
                        </a:lnTo>
                        <a:lnTo>
                          <a:pt x="0" y="370"/>
                        </a:lnTo>
                        <a:lnTo>
                          <a:pt x="0" y="388"/>
                        </a:lnTo>
                        <a:lnTo>
                          <a:pt x="3" y="399"/>
                        </a:lnTo>
                        <a:lnTo>
                          <a:pt x="6" y="411"/>
                        </a:lnTo>
                        <a:lnTo>
                          <a:pt x="11" y="431"/>
                        </a:lnTo>
                        <a:lnTo>
                          <a:pt x="17" y="448"/>
                        </a:lnTo>
                        <a:lnTo>
                          <a:pt x="20" y="465"/>
                        </a:lnTo>
                        <a:lnTo>
                          <a:pt x="23" y="477"/>
                        </a:lnTo>
                        <a:lnTo>
                          <a:pt x="31" y="502"/>
                        </a:lnTo>
                        <a:lnTo>
                          <a:pt x="37" y="528"/>
                        </a:lnTo>
                        <a:lnTo>
                          <a:pt x="43" y="551"/>
                        </a:lnTo>
                        <a:lnTo>
                          <a:pt x="54" y="577"/>
                        </a:lnTo>
                        <a:lnTo>
                          <a:pt x="60" y="551"/>
                        </a:lnTo>
                        <a:lnTo>
                          <a:pt x="63" y="525"/>
                        </a:lnTo>
                        <a:lnTo>
                          <a:pt x="63" y="497"/>
                        </a:lnTo>
                        <a:lnTo>
                          <a:pt x="57" y="465"/>
                        </a:lnTo>
                        <a:lnTo>
                          <a:pt x="54" y="454"/>
                        </a:lnTo>
                        <a:lnTo>
                          <a:pt x="51" y="439"/>
                        </a:lnTo>
                        <a:lnTo>
                          <a:pt x="46" y="422"/>
                        </a:lnTo>
                        <a:lnTo>
                          <a:pt x="43" y="405"/>
                        </a:lnTo>
                        <a:lnTo>
                          <a:pt x="37" y="382"/>
                        </a:lnTo>
                        <a:lnTo>
                          <a:pt x="37" y="365"/>
                        </a:lnTo>
                        <a:lnTo>
                          <a:pt x="46" y="350"/>
                        </a:lnTo>
                        <a:lnTo>
                          <a:pt x="63" y="336"/>
                        </a:lnTo>
                        <a:lnTo>
                          <a:pt x="100" y="304"/>
                        </a:lnTo>
                        <a:lnTo>
                          <a:pt x="135" y="281"/>
                        </a:lnTo>
                        <a:lnTo>
                          <a:pt x="155" y="264"/>
                        </a:lnTo>
                        <a:lnTo>
                          <a:pt x="163" y="258"/>
                        </a:lnTo>
                        <a:lnTo>
                          <a:pt x="172" y="250"/>
                        </a:lnTo>
                        <a:lnTo>
                          <a:pt x="192" y="238"/>
                        </a:lnTo>
                        <a:lnTo>
                          <a:pt x="224" y="215"/>
                        </a:lnTo>
                        <a:lnTo>
                          <a:pt x="264" y="192"/>
                        </a:lnTo>
                        <a:lnTo>
                          <a:pt x="270" y="198"/>
                        </a:lnTo>
                        <a:lnTo>
                          <a:pt x="278" y="201"/>
                        </a:lnTo>
                        <a:lnTo>
                          <a:pt x="287" y="207"/>
                        </a:lnTo>
                        <a:lnTo>
                          <a:pt x="298" y="210"/>
                        </a:lnTo>
                        <a:lnTo>
                          <a:pt x="313" y="210"/>
                        </a:lnTo>
                        <a:lnTo>
                          <a:pt x="333" y="207"/>
                        </a:lnTo>
                        <a:lnTo>
                          <a:pt x="356" y="201"/>
                        </a:lnTo>
                        <a:lnTo>
                          <a:pt x="379" y="192"/>
                        </a:lnTo>
                        <a:lnTo>
                          <a:pt x="399" y="181"/>
                        </a:lnTo>
                        <a:lnTo>
                          <a:pt x="416" y="172"/>
                        </a:lnTo>
                        <a:lnTo>
                          <a:pt x="425" y="167"/>
                        </a:lnTo>
                        <a:lnTo>
                          <a:pt x="430" y="164"/>
                        </a:lnTo>
                        <a:lnTo>
                          <a:pt x="433" y="161"/>
                        </a:lnTo>
                        <a:lnTo>
                          <a:pt x="445" y="155"/>
                        </a:lnTo>
                        <a:lnTo>
                          <a:pt x="462" y="141"/>
                        </a:lnTo>
                        <a:lnTo>
                          <a:pt x="479" y="126"/>
                        </a:lnTo>
                        <a:lnTo>
                          <a:pt x="491" y="103"/>
                        </a:lnTo>
                        <a:lnTo>
                          <a:pt x="502" y="80"/>
                        </a:lnTo>
                        <a:lnTo>
                          <a:pt x="505" y="60"/>
                        </a:lnTo>
                        <a:lnTo>
                          <a:pt x="508" y="46"/>
                        </a:lnTo>
                        <a:lnTo>
                          <a:pt x="508" y="32"/>
                        </a:lnTo>
                        <a:lnTo>
                          <a:pt x="502" y="20"/>
                        </a:lnTo>
                        <a:lnTo>
                          <a:pt x="499" y="9"/>
                        </a:lnTo>
                        <a:lnTo>
                          <a:pt x="491" y="0"/>
                        </a:lnTo>
                        <a:lnTo>
                          <a:pt x="49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 rot="20872200">
                    <a:off x="4759920" y="3706920"/>
                    <a:ext cx="2048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290">
                        <a:moveTo>
                          <a:pt x="0" y="290"/>
                        </a:moveTo>
                        <a:lnTo>
                          <a:pt x="23" y="279"/>
                        </a:lnTo>
                        <a:lnTo>
                          <a:pt x="43" y="267"/>
                        </a:lnTo>
                        <a:lnTo>
                          <a:pt x="60" y="256"/>
                        </a:lnTo>
                        <a:lnTo>
                          <a:pt x="80" y="238"/>
                        </a:lnTo>
                        <a:lnTo>
                          <a:pt x="118" y="195"/>
                        </a:lnTo>
                        <a:lnTo>
                          <a:pt x="175" y="135"/>
                        </a:lnTo>
                        <a:lnTo>
                          <a:pt x="227" y="78"/>
                        </a:lnTo>
                        <a:lnTo>
                          <a:pt x="250" y="63"/>
                        </a:lnTo>
                        <a:lnTo>
                          <a:pt x="255" y="60"/>
                        </a:lnTo>
                        <a:lnTo>
                          <a:pt x="278" y="52"/>
                        </a:lnTo>
                        <a:lnTo>
                          <a:pt x="310" y="46"/>
                        </a:lnTo>
                        <a:lnTo>
                          <a:pt x="350" y="43"/>
                        </a:lnTo>
                        <a:lnTo>
                          <a:pt x="393" y="40"/>
                        </a:lnTo>
                        <a:lnTo>
                          <a:pt x="433" y="40"/>
                        </a:lnTo>
                        <a:lnTo>
                          <a:pt x="468" y="37"/>
                        </a:lnTo>
                        <a:lnTo>
                          <a:pt x="491" y="37"/>
                        </a:lnTo>
                        <a:lnTo>
                          <a:pt x="517" y="32"/>
                        </a:lnTo>
                        <a:lnTo>
                          <a:pt x="539" y="26"/>
                        </a:lnTo>
                        <a:lnTo>
                          <a:pt x="560" y="20"/>
                        </a:lnTo>
                        <a:lnTo>
                          <a:pt x="583" y="12"/>
                        </a:lnTo>
                        <a:lnTo>
                          <a:pt x="560" y="6"/>
                        </a:lnTo>
                        <a:lnTo>
                          <a:pt x="537" y="0"/>
                        </a:lnTo>
                        <a:lnTo>
                          <a:pt x="514" y="0"/>
                        </a:lnTo>
                        <a:lnTo>
                          <a:pt x="488" y="0"/>
                        </a:lnTo>
                        <a:lnTo>
                          <a:pt x="465" y="0"/>
                        </a:lnTo>
                        <a:lnTo>
                          <a:pt x="433" y="3"/>
                        </a:lnTo>
                        <a:lnTo>
                          <a:pt x="393" y="6"/>
                        </a:lnTo>
                        <a:lnTo>
                          <a:pt x="350" y="6"/>
                        </a:lnTo>
                        <a:lnTo>
                          <a:pt x="307" y="12"/>
                        </a:lnTo>
                        <a:lnTo>
                          <a:pt x="270" y="17"/>
                        </a:lnTo>
                        <a:lnTo>
                          <a:pt x="244" y="26"/>
                        </a:lnTo>
                        <a:lnTo>
                          <a:pt x="232" y="32"/>
                        </a:lnTo>
                        <a:lnTo>
                          <a:pt x="204" y="52"/>
                        </a:lnTo>
                        <a:lnTo>
                          <a:pt x="149" y="109"/>
                        </a:lnTo>
                        <a:lnTo>
                          <a:pt x="92" y="172"/>
                        </a:lnTo>
                        <a:lnTo>
                          <a:pt x="55" y="213"/>
                        </a:lnTo>
                        <a:lnTo>
                          <a:pt x="37" y="233"/>
                        </a:lnTo>
                        <a:lnTo>
                          <a:pt x="23" y="250"/>
                        </a:lnTo>
                        <a:lnTo>
                          <a:pt x="12" y="267"/>
                        </a:lnTo>
                        <a:lnTo>
                          <a:pt x="0" y="290"/>
                        </a:lnTo>
                        <a:lnTo>
                          <a:pt x="0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 rot="20872200">
                    <a:off x="4739760" y="3723120"/>
                    <a:ext cx="957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103">
                        <a:moveTo>
                          <a:pt x="0" y="37"/>
                        </a:moveTo>
                        <a:lnTo>
                          <a:pt x="3" y="49"/>
                        </a:lnTo>
                        <a:lnTo>
                          <a:pt x="6" y="60"/>
                        </a:lnTo>
                        <a:lnTo>
                          <a:pt x="12" y="66"/>
                        </a:lnTo>
                        <a:lnTo>
                          <a:pt x="20" y="75"/>
                        </a:lnTo>
                        <a:lnTo>
                          <a:pt x="29" y="80"/>
                        </a:lnTo>
                        <a:lnTo>
                          <a:pt x="46" y="89"/>
                        </a:lnTo>
                        <a:lnTo>
                          <a:pt x="66" y="98"/>
                        </a:lnTo>
                        <a:lnTo>
                          <a:pt x="89" y="103"/>
                        </a:lnTo>
                        <a:lnTo>
                          <a:pt x="109" y="103"/>
                        </a:lnTo>
                        <a:lnTo>
                          <a:pt x="126" y="103"/>
                        </a:lnTo>
                        <a:lnTo>
                          <a:pt x="138" y="100"/>
                        </a:lnTo>
                        <a:lnTo>
                          <a:pt x="144" y="100"/>
                        </a:lnTo>
                        <a:lnTo>
                          <a:pt x="146" y="100"/>
                        </a:lnTo>
                        <a:lnTo>
                          <a:pt x="161" y="95"/>
                        </a:lnTo>
                        <a:lnTo>
                          <a:pt x="178" y="89"/>
                        </a:lnTo>
                        <a:lnTo>
                          <a:pt x="198" y="80"/>
                        </a:lnTo>
                        <a:lnTo>
                          <a:pt x="215" y="69"/>
                        </a:lnTo>
                        <a:lnTo>
                          <a:pt x="230" y="57"/>
                        </a:lnTo>
                        <a:lnTo>
                          <a:pt x="241" y="49"/>
                        </a:lnTo>
                        <a:lnTo>
                          <a:pt x="253" y="43"/>
                        </a:lnTo>
                        <a:lnTo>
                          <a:pt x="258" y="34"/>
                        </a:lnTo>
                        <a:lnTo>
                          <a:pt x="264" y="23"/>
                        </a:lnTo>
                        <a:lnTo>
                          <a:pt x="267" y="14"/>
                        </a:lnTo>
                        <a:lnTo>
                          <a:pt x="273" y="0"/>
                        </a:lnTo>
                        <a:lnTo>
                          <a:pt x="258" y="0"/>
                        </a:lnTo>
                        <a:lnTo>
                          <a:pt x="247" y="3"/>
                        </a:lnTo>
                        <a:lnTo>
                          <a:pt x="238" y="6"/>
                        </a:lnTo>
                        <a:lnTo>
                          <a:pt x="227" y="14"/>
                        </a:lnTo>
                        <a:lnTo>
                          <a:pt x="218" y="20"/>
                        </a:lnTo>
                        <a:lnTo>
                          <a:pt x="207" y="29"/>
                        </a:lnTo>
                        <a:lnTo>
                          <a:pt x="192" y="40"/>
                        </a:lnTo>
                        <a:lnTo>
                          <a:pt x="178" y="49"/>
                        </a:lnTo>
                        <a:lnTo>
                          <a:pt x="164" y="55"/>
                        </a:lnTo>
                        <a:lnTo>
                          <a:pt x="149" y="60"/>
                        </a:lnTo>
                        <a:lnTo>
                          <a:pt x="141" y="63"/>
                        </a:lnTo>
                        <a:lnTo>
                          <a:pt x="138" y="63"/>
                        </a:lnTo>
                        <a:lnTo>
                          <a:pt x="132" y="63"/>
                        </a:lnTo>
                        <a:lnTo>
                          <a:pt x="123" y="66"/>
                        </a:lnTo>
                        <a:lnTo>
                          <a:pt x="106" y="66"/>
                        </a:lnTo>
                        <a:lnTo>
                          <a:pt x="92" y="66"/>
                        </a:lnTo>
                        <a:lnTo>
                          <a:pt x="78" y="63"/>
                        </a:lnTo>
                        <a:lnTo>
                          <a:pt x="63" y="57"/>
                        </a:lnTo>
                        <a:lnTo>
                          <a:pt x="49" y="52"/>
                        </a:lnTo>
                        <a:lnTo>
                          <a:pt x="43" y="46"/>
                        </a:lnTo>
                        <a:lnTo>
                          <a:pt x="32" y="40"/>
                        </a:lnTo>
                        <a:lnTo>
                          <a:pt x="23" y="37"/>
                        </a:lnTo>
                        <a:lnTo>
                          <a:pt x="12" y="37"/>
                        </a:lnTo>
                        <a:lnTo>
                          <a:pt x="0" y="37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rot="20872200">
                    <a:off x="4957920" y="4100760"/>
                    <a:ext cx="219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6" h="809">
                        <a:moveTo>
                          <a:pt x="170" y="0"/>
                        </a:moveTo>
                        <a:lnTo>
                          <a:pt x="167" y="20"/>
                        </a:lnTo>
                        <a:lnTo>
                          <a:pt x="167" y="43"/>
                        </a:lnTo>
                        <a:lnTo>
                          <a:pt x="164" y="60"/>
                        </a:lnTo>
                        <a:lnTo>
                          <a:pt x="161" y="77"/>
                        </a:lnTo>
                        <a:lnTo>
                          <a:pt x="155" y="95"/>
                        </a:lnTo>
                        <a:lnTo>
                          <a:pt x="147" y="109"/>
                        </a:lnTo>
                        <a:lnTo>
                          <a:pt x="130" y="121"/>
                        </a:lnTo>
                        <a:lnTo>
                          <a:pt x="110" y="141"/>
                        </a:lnTo>
                        <a:lnTo>
                          <a:pt x="98" y="152"/>
                        </a:lnTo>
                        <a:lnTo>
                          <a:pt x="81" y="172"/>
                        </a:lnTo>
                        <a:lnTo>
                          <a:pt x="61" y="198"/>
                        </a:lnTo>
                        <a:lnTo>
                          <a:pt x="41" y="227"/>
                        </a:lnTo>
                        <a:lnTo>
                          <a:pt x="23" y="261"/>
                        </a:lnTo>
                        <a:lnTo>
                          <a:pt x="12" y="298"/>
                        </a:lnTo>
                        <a:lnTo>
                          <a:pt x="0" y="342"/>
                        </a:lnTo>
                        <a:lnTo>
                          <a:pt x="0" y="385"/>
                        </a:lnTo>
                        <a:lnTo>
                          <a:pt x="6" y="465"/>
                        </a:lnTo>
                        <a:lnTo>
                          <a:pt x="29" y="531"/>
                        </a:lnTo>
                        <a:lnTo>
                          <a:pt x="49" y="574"/>
                        </a:lnTo>
                        <a:lnTo>
                          <a:pt x="58" y="588"/>
                        </a:lnTo>
                        <a:lnTo>
                          <a:pt x="69" y="603"/>
                        </a:lnTo>
                        <a:lnTo>
                          <a:pt x="101" y="637"/>
                        </a:lnTo>
                        <a:lnTo>
                          <a:pt x="153" y="680"/>
                        </a:lnTo>
                        <a:lnTo>
                          <a:pt x="221" y="723"/>
                        </a:lnTo>
                        <a:lnTo>
                          <a:pt x="259" y="740"/>
                        </a:lnTo>
                        <a:lnTo>
                          <a:pt x="296" y="755"/>
                        </a:lnTo>
                        <a:lnTo>
                          <a:pt x="333" y="769"/>
                        </a:lnTo>
                        <a:lnTo>
                          <a:pt x="371" y="778"/>
                        </a:lnTo>
                        <a:lnTo>
                          <a:pt x="405" y="783"/>
                        </a:lnTo>
                        <a:lnTo>
                          <a:pt x="437" y="786"/>
                        </a:lnTo>
                        <a:lnTo>
                          <a:pt x="462" y="786"/>
                        </a:lnTo>
                        <a:lnTo>
                          <a:pt x="483" y="783"/>
                        </a:lnTo>
                        <a:lnTo>
                          <a:pt x="508" y="778"/>
                        </a:lnTo>
                        <a:lnTo>
                          <a:pt x="531" y="769"/>
                        </a:lnTo>
                        <a:lnTo>
                          <a:pt x="549" y="763"/>
                        </a:lnTo>
                        <a:lnTo>
                          <a:pt x="563" y="766"/>
                        </a:lnTo>
                        <a:lnTo>
                          <a:pt x="577" y="772"/>
                        </a:lnTo>
                        <a:lnTo>
                          <a:pt x="592" y="783"/>
                        </a:lnTo>
                        <a:lnTo>
                          <a:pt x="609" y="795"/>
                        </a:lnTo>
                        <a:lnTo>
                          <a:pt x="626" y="809"/>
                        </a:lnTo>
                        <a:lnTo>
                          <a:pt x="615" y="789"/>
                        </a:lnTo>
                        <a:lnTo>
                          <a:pt x="603" y="772"/>
                        </a:lnTo>
                        <a:lnTo>
                          <a:pt x="592" y="755"/>
                        </a:lnTo>
                        <a:lnTo>
                          <a:pt x="572" y="743"/>
                        </a:lnTo>
                        <a:lnTo>
                          <a:pt x="546" y="735"/>
                        </a:lnTo>
                        <a:lnTo>
                          <a:pt x="523" y="738"/>
                        </a:lnTo>
                        <a:lnTo>
                          <a:pt x="500" y="743"/>
                        </a:lnTo>
                        <a:lnTo>
                          <a:pt x="477" y="749"/>
                        </a:lnTo>
                        <a:lnTo>
                          <a:pt x="460" y="749"/>
                        </a:lnTo>
                        <a:lnTo>
                          <a:pt x="437" y="752"/>
                        </a:lnTo>
                        <a:lnTo>
                          <a:pt x="411" y="749"/>
                        </a:lnTo>
                        <a:lnTo>
                          <a:pt x="379" y="743"/>
                        </a:lnTo>
                        <a:lnTo>
                          <a:pt x="345" y="732"/>
                        </a:lnTo>
                        <a:lnTo>
                          <a:pt x="308" y="720"/>
                        </a:lnTo>
                        <a:lnTo>
                          <a:pt x="273" y="706"/>
                        </a:lnTo>
                        <a:lnTo>
                          <a:pt x="239" y="692"/>
                        </a:lnTo>
                        <a:lnTo>
                          <a:pt x="173" y="651"/>
                        </a:lnTo>
                        <a:lnTo>
                          <a:pt x="127" y="611"/>
                        </a:lnTo>
                        <a:lnTo>
                          <a:pt x="98" y="580"/>
                        </a:lnTo>
                        <a:lnTo>
                          <a:pt x="89" y="565"/>
                        </a:lnTo>
                        <a:lnTo>
                          <a:pt x="81" y="554"/>
                        </a:lnTo>
                        <a:lnTo>
                          <a:pt x="64" y="514"/>
                        </a:lnTo>
                        <a:lnTo>
                          <a:pt x="44" y="456"/>
                        </a:lnTo>
                        <a:lnTo>
                          <a:pt x="35" y="385"/>
                        </a:lnTo>
                        <a:lnTo>
                          <a:pt x="46" y="307"/>
                        </a:lnTo>
                        <a:lnTo>
                          <a:pt x="75" y="244"/>
                        </a:lnTo>
                        <a:lnTo>
                          <a:pt x="110" y="192"/>
                        </a:lnTo>
                        <a:lnTo>
                          <a:pt x="138" y="164"/>
                        </a:lnTo>
                        <a:lnTo>
                          <a:pt x="153" y="146"/>
                        </a:lnTo>
                        <a:lnTo>
                          <a:pt x="170" y="129"/>
                        </a:lnTo>
                        <a:lnTo>
                          <a:pt x="181" y="106"/>
                        </a:lnTo>
                        <a:lnTo>
                          <a:pt x="187" y="83"/>
                        </a:lnTo>
                        <a:lnTo>
                          <a:pt x="187" y="60"/>
                        </a:lnTo>
                        <a:lnTo>
                          <a:pt x="181" y="40"/>
                        </a:lnTo>
                        <a:lnTo>
                          <a:pt x="176" y="20"/>
                        </a:lnTo>
                        <a:lnTo>
                          <a:pt x="170" y="0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rot="20872200">
                    <a:off x="4933440" y="4200480"/>
                    <a:ext cx="1969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84">
                        <a:moveTo>
                          <a:pt x="488" y="324"/>
                        </a:moveTo>
                        <a:lnTo>
                          <a:pt x="468" y="312"/>
                        </a:lnTo>
                        <a:lnTo>
                          <a:pt x="436" y="298"/>
                        </a:lnTo>
                        <a:lnTo>
                          <a:pt x="402" y="278"/>
                        </a:lnTo>
                        <a:lnTo>
                          <a:pt x="367" y="255"/>
                        </a:lnTo>
                        <a:lnTo>
                          <a:pt x="347" y="244"/>
                        </a:lnTo>
                        <a:lnTo>
                          <a:pt x="333" y="232"/>
                        </a:lnTo>
                        <a:lnTo>
                          <a:pt x="316" y="221"/>
                        </a:lnTo>
                        <a:lnTo>
                          <a:pt x="304" y="212"/>
                        </a:lnTo>
                        <a:lnTo>
                          <a:pt x="313" y="206"/>
                        </a:lnTo>
                        <a:lnTo>
                          <a:pt x="321" y="200"/>
                        </a:lnTo>
                        <a:lnTo>
                          <a:pt x="327" y="198"/>
                        </a:lnTo>
                        <a:lnTo>
                          <a:pt x="330" y="195"/>
                        </a:lnTo>
                        <a:lnTo>
                          <a:pt x="336" y="192"/>
                        </a:lnTo>
                        <a:lnTo>
                          <a:pt x="350" y="186"/>
                        </a:lnTo>
                        <a:lnTo>
                          <a:pt x="365" y="180"/>
                        </a:lnTo>
                        <a:lnTo>
                          <a:pt x="376" y="178"/>
                        </a:lnTo>
                        <a:lnTo>
                          <a:pt x="379" y="175"/>
                        </a:lnTo>
                        <a:lnTo>
                          <a:pt x="382" y="169"/>
                        </a:lnTo>
                        <a:lnTo>
                          <a:pt x="385" y="163"/>
                        </a:lnTo>
                        <a:lnTo>
                          <a:pt x="387" y="155"/>
                        </a:lnTo>
                        <a:lnTo>
                          <a:pt x="382" y="149"/>
                        </a:lnTo>
                        <a:lnTo>
                          <a:pt x="376" y="146"/>
                        </a:lnTo>
                        <a:lnTo>
                          <a:pt x="367" y="143"/>
                        </a:lnTo>
                        <a:lnTo>
                          <a:pt x="365" y="146"/>
                        </a:lnTo>
                        <a:lnTo>
                          <a:pt x="353" y="149"/>
                        </a:lnTo>
                        <a:lnTo>
                          <a:pt x="336" y="155"/>
                        </a:lnTo>
                        <a:lnTo>
                          <a:pt x="321" y="163"/>
                        </a:lnTo>
                        <a:lnTo>
                          <a:pt x="316" y="166"/>
                        </a:lnTo>
                        <a:lnTo>
                          <a:pt x="310" y="166"/>
                        </a:lnTo>
                        <a:lnTo>
                          <a:pt x="299" y="175"/>
                        </a:lnTo>
                        <a:lnTo>
                          <a:pt x="284" y="180"/>
                        </a:lnTo>
                        <a:lnTo>
                          <a:pt x="276" y="189"/>
                        </a:lnTo>
                        <a:lnTo>
                          <a:pt x="235" y="157"/>
                        </a:lnTo>
                        <a:lnTo>
                          <a:pt x="181" y="112"/>
                        </a:lnTo>
                        <a:lnTo>
                          <a:pt x="123" y="66"/>
                        </a:lnTo>
                        <a:lnTo>
                          <a:pt x="86" y="37"/>
                        </a:lnTo>
                        <a:lnTo>
                          <a:pt x="63" y="23"/>
                        </a:lnTo>
                        <a:lnTo>
                          <a:pt x="43" y="11"/>
                        </a:lnTo>
                        <a:lnTo>
                          <a:pt x="20" y="5"/>
                        </a:lnTo>
                        <a:lnTo>
                          <a:pt x="0" y="0"/>
                        </a:lnTo>
                        <a:lnTo>
                          <a:pt x="14" y="20"/>
                        </a:lnTo>
                        <a:lnTo>
                          <a:pt x="29" y="34"/>
                        </a:lnTo>
                        <a:lnTo>
                          <a:pt x="43" y="48"/>
                        </a:lnTo>
                        <a:lnTo>
                          <a:pt x="63" y="66"/>
                        </a:lnTo>
                        <a:lnTo>
                          <a:pt x="109" y="100"/>
                        </a:lnTo>
                        <a:lnTo>
                          <a:pt x="172" y="152"/>
                        </a:lnTo>
                        <a:lnTo>
                          <a:pt x="230" y="200"/>
                        </a:lnTo>
                        <a:lnTo>
                          <a:pt x="255" y="223"/>
                        </a:lnTo>
                        <a:lnTo>
                          <a:pt x="261" y="226"/>
                        </a:lnTo>
                        <a:lnTo>
                          <a:pt x="284" y="241"/>
                        </a:lnTo>
                        <a:lnTo>
                          <a:pt x="313" y="261"/>
                        </a:lnTo>
                        <a:lnTo>
                          <a:pt x="350" y="287"/>
                        </a:lnTo>
                        <a:lnTo>
                          <a:pt x="385" y="307"/>
                        </a:lnTo>
                        <a:lnTo>
                          <a:pt x="419" y="327"/>
                        </a:lnTo>
                        <a:lnTo>
                          <a:pt x="451" y="344"/>
                        </a:lnTo>
                        <a:lnTo>
                          <a:pt x="468" y="358"/>
                        </a:lnTo>
                        <a:lnTo>
                          <a:pt x="494" y="367"/>
                        </a:lnTo>
                        <a:lnTo>
                          <a:pt x="514" y="376"/>
                        </a:lnTo>
                        <a:lnTo>
                          <a:pt x="534" y="378"/>
                        </a:lnTo>
                        <a:lnTo>
                          <a:pt x="560" y="384"/>
                        </a:lnTo>
                        <a:lnTo>
                          <a:pt x="542" y="367"/>
                        </a:lnTo>
                        <a:lnTo>
                          <a:pt x="528" y="353"/>
                        </a:lnTo>
                        <a:lnTo>
                          <a:pt x="508" y="338"/>
                        </a:lnTo>
                        <a:lnTo>
                          <a:pt x="488" y="324"/>
                        </a:lnTo>
                        <a:lnTo>
                          <a:pt x="488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rot="20872200">
                    <a:off x="4802760" y="4241520"/>
                    <a:ext cx="35604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482">
                        <a:moveTo>
                          <a:pt x="959" y="279"/>
                        </a:moveTo>
                        <a:lnTo>
                          <a:pt x="930" y="293"/>
                        </a:lnTo>
                        <a:lnTo>
                          <a:pt x="884" y="310"/>
                        </a:lnTo>
                        <a:lnTo>
                          <a:pt x="844" y="330"/>
                        </a:lnTo>
                        <a:lnTo>
                          <a:pt x="827" y="339"/>
                        </a:lnTo>
                        <a:lnTo>
                          <a:pt x="809" y="347"/>
                        </a:lnTo>
                        <a:lnTo>
                          <a:pt x="769" y="373"/>
                        </a:lnTo>
                        <a:lnTo>
                          <a:pt x="729" y="396"/>
                        </a:lnTo>
                        <a:lnTo>
                          <a:pt x="700" y="411"/>
                        </a:lnTo>
                        <a:lnTo>
                          <a:pt x="695" y="413"/>
                        </a:lnTo>
                        <a:lnTo>
                          <a:pt x="689" y="416"/>
                        </a:lnTo>
                        <a:lnTo>
                          <a:pt x="686" y="419"/>
                        </a:lnTo>
                        <a:lnTo>
                          <a:pt x="683" y="425"/>
                        </a:lnTo>
                        <a:lnTo>
                          <a:pt x="680" y="419"/>
                        </a:lnTo>
                        <a:lnTo>
                          <a:pt x="680" y="413"/>
                        </a:lnTo>
                        <a:lnTo>
                          <a:pt x="680" y="411"/>
                        </a:lnTo>
                        <a:lnTo>
                          <a:pt x="680" y="408"/>
                        </a:lnTo>
                        <a:lnTo>
                          <a:pt x="666" y="434"/>
                        </a:lnTo>
                        <a:lnTo>
                          <a:pt x="652" y="448"/>
                        </a:lnTo>
                        <a:lnTo>
                          <a:pt x="634" y="451"/>
                        </a:lnTo>
                        <a:lnTo>
                          <a:pt x="620" y="442"/>
                        </a:lnTo>
                        <a:lnTo>
                          <a:pt x="614" y="436"/>
                        </a:lnTo>
                        <a:lnTo>
                          <a:pt x="611" y="431"/>
                        </a:lnTo>
                        <a:lnTo>
                          <a:pt x="606" y="422"/>
                        </a:lnTo>
                        <a:lnTo>
                          <a:pt x="591" y="413"/>
                        </a:lnTo>
                        <a:lnTo>
                          <a:pt x="586" y="413"/>
                        </a:lnTo>
                        <a:lnTo>
                          <a:pt x="583" y="411"/>
                        </a:lnTo>
                        <a:lnTo>
                          <a:pt x="577" y="408"/>
                        </a:lnTo>
                        <a:lnTo>
                          <a:pt x="571" y="408"/>
                        </a:lnTo>
                        <a:lnTo>
                          <a:pt x="566" y="405"/>
                        </a:lnTo>
                        <a:lnTo>
                          <a:pt x="563" y="405"/>
                        </a:lnTo>
                        <a:lnTo>
                          <a:pt x="557" y="402"/>
                        </a:lnTo>
                        <a:lnTo>
                          <a:pt x="554" y="399"/>
                        </a:lnTo>
                        <a:lnTo>
                          <a:pt x="534" y="385"/>
                        </a:lnTo>
                        <a:lnTo>
                          <a:pt x="517" y="370"/>
                        </a:lnTo>
                        <a:lnTo>
                          <a:pt x="497" y="350"/>
                        </a:lnTo>
                        <a:lnTo>
                          <a:pt x="477" y="333"/>
                        </a:lnTo>
                        <a:lnTo>
                          <a:pt x="431" y="299"/>
                        </a:lnTo>
                        <a:lnTo>
                          <a:pt x="396" y="273"/>
                        </a:lnTo>
                        <a:lnTo>
                          <a:pt x="368" y="256"/>
                        </a:lnTo>
                        <a:lnTo>
                          <a:pt x="359" y="250"/>
                        </a:lnTo>
                        <a:lnTo>
                          <a:pt x="350" y="244"/>
                        </a:lnTo>
                        <a:lnTo>
                          <a:pt x="327" y="227"/>
                        </a:lnTo>
                        <a:lnTo>
                          <a:pt x="287" y="201"/>
                        </a:lnTo>
                        <a:lnTo>
                          <a:pt x="247" y="170"/>
                        </a:lnTo>
                        <a:lnTo>
                          <a:pt x="201" y="135"/>
                        </a:lnTo>
                        <a:lnTo>
                          <a:pt x="161" y="104"/>
                        </a:lnTo>
                        <a:lnTo>
                          <a:pt x="127" y="78"/>
                        </a:lnTo>
                        <a:lnTo>
                          <a:pt x="106" y="60"/>
                        </a:lnTo>
                        <a:lnTo>
                          <a:pt x="78" y="40"/>
                        </a:lnTo>
                        <a:lnTo>
                          <a:pt x="52" y="26"/>
                        </a:lnTo>
                        <a:lnTo>
                          <a:pt x="26" y="15"/>
                        </a:lnTo>
                        <a:lnTo>
                          <a:pt x="0" y="0"/>
                        </a:lnTo>
                        <a:lnTo>
                          <a:pt x="18" y="26"/>
                        </a:lnTo>
                        <a:lnTo>
                          <a:pt x="38" y="46"/>
                        </a:lnTo>
                        <a:lnTo>
                          <a:pt x="55" y="66"/>
                        </a:lnTo>
                        <a:lnTo>
                          <a:pt x="81" y="89"/>
                        </a:lnTo>
                        <a:lnTo>
                          <a:pt x="98" y="104"/>
                        </a:lnTo>
                        <a:lnTo>
                          <a:pt x="124" y="124"/>
                        </a:lnTo>
                        <a:lnTo>
                          <a:pt x="152" y="147"/>
                        </a:lnTo>
                        <a:lnTo>
                          <a:pt x="190" y="172"/>
                        </a:lnTo>
                        <a:lnTo>
                          <a:pt x="175" y="178"/>
                        </a:lnTo>
                        <a:lnTo>
                          <a:pt x="161" y="184"/>
                        </a:lnTo>
                        <a:lnTo>
                          <a:pt x="150" y="187"/>
                        </a:lnTo>
                        <a:lnTo>
                          <a:pt x="147" y="190"/>
                        </a:lnTo>
                        <a:lnTo>
                          <a:pt x="138" y="192"/>
                        </a:lnTo>
                        <a:lnTo>
                          <a:pt x="124" y="201"/>
                        </a:lnTo>
                        <a:lnTo>
                          <a:pt x="106" y="213"/>
                        </a:lnTo>
                        <a:lnTo>
                          <a:pt x="95" y="218"/>
                        </a:lnTo>
                        <a:lnTo>
                          <a:pt x="89" y="221"/>
                        </a:lnTo>
                        <a:lnTo>
                          <a:pt x="86" y="227"/>
                        </a:lnTo>
                        <a:lnTo>
                          <a:pt x="86" y="233"/>
                        </a:lnTo>
                        <a:lnTo>
                          <a:pt x="84" y="244"/>
                        </a:lnTo>
                        <a:lnTo>
                          <a:pt x="92" y="247"/>
                        </a:lnTo>
                        <a:lnTo>
                          <a:pt x="98" y="250"/>
                        </a:lnTo>
                        <a:lnTo>
                          <a:pt x="104" y="250"/>
                        </a:lnTo>
                        <a:lnTo>
                          <a:pt x="112" y="250"/>
                        </a:lnTo>
                        <a:lnTo>
                          <a:pt x="121" y="241"/>
                        </a:lnTo>
                        <a:lnTo>
                          <a:pt x="138" y="233"/>
                        </a:lnTo>
                        <a:lnTo>
                          <a:pt x="155" y="227"/>
                        </a:lnTo>
                        <a:lnTo>
                          <a:pt x="161" y="224"/>
                        </a:lnTo>
                        <a:lnTo>
                          <a:pt x="170" y="218"/>
                        </a:lnTo>
                        <a:lnTo>
                          <a:pt x="184" y="213"/>
                        </a:lnTo>
                        <a:lnTo>
                          <a:pt x="201" y="204"/>
                        </a:lnTo>
                        <a:lnTo>
                          <a:pt x="213" y="198"/>
                        </a:lnTo>
                        <a:lnTo>
                          <a:pt x="216" y="195"/>
                        </a:lnTo>
                        <a:lnTo>
                          <a:pt x="218" y="195"/>
                        </a:lnTo>
                        <a:lnTo>
                          <a:pt x="221" y="198"/>
                        </a:lnTo>
                        <a:lnTo>
                          <a:pt x="224" y="198"/>
                        </a:lnTo>
                        <a:lnTo>
                          <a:pt x="267" y="230"/>
                        </a:lnTo>
                        <a:lnTo>
                          <a:pt x="304" y="256"/>
                        </a:lnTo>
                        <a:lnTo>
                          <a:pt x="330" y="273"/>
                        </a:lnTo>
                        <a:lnTo>
                          <a:pt x="342" y="279"/>
                        </a:lnTo>
                        <a:lnTo>
                          <a:pt x="350" y="284"/>
                        </a:lnTo>
                        <a:lnTo>
                          <a:pt x="376" y="304"/>
                        </a:lnTo>
                        <a:lnTo>
                          <a:pt x="411" y="327"/>
                        </a:lnTo>
                        <a:lnTo>
                          <a:pt x="454" y="362"/>
                        </a:lnTo>
                        <a:lnTo>
                          <a:pt x="474" y="376"/>
                        </a:lnTo>
                        <a:lnTo>
                          <a:pt x="491" y="396"/>
                        </a:lnTo>
                        <a:lnTo>
                          <a:pt x="514" y="413"/>
                        </a:lnTo>
                        <a:lnTo>
                          <a:pt x="537" y="431"/>
                        </a:lnTo>
                        <a:lnTo>
                          <a:pt x="543" y="434"/>
                        </a:lnTo>
                        <a:lnTo>
                          <a:pt x="548" y="439"/>
                        </a:lnTo>
                        <a:lnTo>
                          <a:pt x="551" y="439"/>
                        </a:lnTo>
                        <a:lnTo>
                          <a:pt x="548" y="439"/>
                        </a:lnTo>
                        <a:lnTo>
                          <a:pt x="554" y="442"/>
                        </a:lnTo>
                        <a:lnTo>
                          <a:pt x="557" y="442"/>
                        </a:lnTo>
                        <a:lnTo>
                          <a:pt x="563" y="442"/>
                        </a:lnTo>
                        <a:lnTo>
                          <a:pt x="566" y="442"/>
                        </a:lnTo>
                        <a:lnTo>
                          <a:pt x="571" y="445"/>
                        </a:lnTo>
                        <a:lnTo>
                          <a:pt x="574" y="448"/>
                        </a:lnTo>
                        <a:lnTo>
                          <a:pt x="577" y="448"/>
                        </a:lnTo>
                        <a:lnTo>
                          <a:pt x="577" y="448"/>
                        </a:lnTo>
                        <a:lnTo>
                          <a:pt x="583" y="454"/>
                        </a:lnTo>
                        <a:lnTo>
                          <a:pt x="586" y="459"/>
                        </a:lnTo>
                        <a:lnTo>
                          <a:pt x="589" y="462"/>
                        </a:lnTo>
                        <a:lnTo>
                          <a:pt x="611" y="479"/>
                        </a:lnTo>
                        <a:lnTo>
                          <a:pt x="632" y="482"/>
                        </a:lnTo>
                        <a:lnTo>
                          <a:pt x="652" y="479"/>
                        </a:lnTo>
                        <a:lnTo>
                          <a:pt x="666" y="468"/>
                        </a:lnTo>
                        <a:lnTo>
                          <a:pt x="672" y="465"/>
                        </a:lnTo>
                        <a:lnTo>
                          <a:pt x="675" y="459"/>
                        </a:lnTo>
                        <a:lnTo>
                          <a:pt x="677" y="454"/>
                        </a:lnTo>
                        <a:lnTo>
                          <a:pt x="680" y="451"/>
                        </a:lnTo>
                        <a:lnTo>
                          <a:pt x="689" y="451"/>
                        </a:lnTo>
                        <a:lnTo>
                          <a:pt x="698" y="451"/>
                        </a:lnTo>
                        <a:lnTo>
                          <a:pt x="703" y="448"/>
                        </a:lnTo>
                        <a:lnTo>
                          <a:pt x="715" y="445"/>
                        </a:lnTo>
                        <a:lnTo>
                          <a:pt x="746" y="428"/>
                        </a:lnTo>
                        <a:lnTo>
                          <a:pt x="789" y="402"/>
                        </a:lnTo>
                        <a:lnTo>
                          <a:pt x="827" y="379"/>
                        </a:lnTo>
                        <a:lnTo>
                          <a:pt x="844" y="370"/>
                        </a:lnTo>
                        <a:lnTo>
                          <a:pt x="858" y="362"/>
                        </a:lnTo>
                        <a:lnTo>
                          <a:pt x="898" y="345"/>
                        </a:lnTo>
                        <a:lnTo>
                          <a:pt x="944" y="325"/>
                        </a:lnTo>
                        <a:lnTo>
                          <a:pt x="976" y="307"/>
                        </a:lnTo>
                        <a:lnTo>
                          <a:pt x="987" y="299"/>
                        </a:lnTo>
                        <a:lnTo>
                          <a:pt x="999" y="287"/>
                        </a:lnTo>
                        <a:lnTo>
                          <a:pt x="1007" y="276"/>
                        </a:lnTo>
                        <a:lnTo>
                          <a:pt x="1013" y="261"/>
                        </a:lnTo>
                        <a:lnTo>
                          <a:pt x="996" y="264"/>
                        </a:lnTo>
                        <a:lnTo>
                          <a:pt x="982" y="267"/>
                        </a:lnTo>
                        <a:lnTo>
                          <a:pt x="970" y="270"/>
                        </a:lnTo>
                        <a:lnTo>
                          <a:pt x="959" y="279"/>
                        </a:lnTo>
                        <a:lnTo>
                          <a:pt x="959" y="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 rot="20872200">
                    <a:off x="4932000" y="4116960"/>
                    <a:ext cx="15300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589">
                        <a:moveTo>
                          <a:pt x="424" y="491"/>
                        </a:moveTo>
                        <a:lnTo>
                          <a:pt x="416" y="468"/>
                        </a:lnTo>
                        <a:lnTo>
                          <a:pt x="404" y="437"/>
                        </a:lnTo>
                        <a:lnTo>
                          <a:pt x="387" y="399"/>
                        </a:lnTo>
                        <a:lnTo>
                          <a:pt x="367" y="359"/>
                        </a:lnTo>
                        <a:lnTo>
                          <a:pt x="347" y="322"/>
                        </a:lnTo>
                        <a:lnTo>
                          <a:pt x="327" y="293"/>
                        </a:lnTo>
                        <a:lnTo>
                          <a:pt x="312" y="273"/>
                        </a:lnTo>
                        <a:lnTo>
                          <a:pt x="309" y="264"/>
                        </a:lnTo>
                        <a:lnTo>
                          <a:pt x="301" y="256"/>
                        </a:lnTo>
                        <a:lnTo>
                          <a:pt x="286" y="239"/>
                        </a:lnTo>
                        <a:lnTo>
                          <a:pt x="261" y="213"/>
                        </a:lnTo>
                        <a:lnTo>
                          <a:pt x="229" y="184"/>
                        </a:lnTo>
                        <a:lnTo>
                          <a:pt x="195" y="155"/>
                        </a:lnTo>
                        <a:lnTo>
                          <a:pt x="160" y="132"/>
                        </a:lnTo>
                        <a:lnTo>
                          <a:pt x="129" y="112"/>
                        </a:lnTo>
                        <a:lnTo>
                          <a:pt x="109" y="104"/>
                        </a:lnTo>
                        <a:lnTo>
                          <a:pt x="88" y="95"/>
                        </a:lnTo>
                        <a:lnTo>
                          <a:pt x="68" y="89"/>
                        </a:lnTo>
                        <a:lnTo>
                          <a:pt x="51" y="89"/>
                        </a:lnTo>
                        <a:lnTo>
                          <a:pt x="34" y="89"/>
                        </a:lnTo>
                        <a:lnTo>
                          <a:pt x="34" y="89"/>
                        </a:lnTo>
                        <a:lnTo>
                          <a:pt x="37" y="87"/>
                        </a:lnTo>
                        <a:lnTo>
                          <a:pt x="34" y="78"/>
                        </a:lnTo>
                        <a:lnTo>
                          <a:pt x="34" y="69"/>
                        </a:lnTo>
                        <a:lnTo>
                          <a:pt x="34" y="58"/>
                        </a:lnTo>
                        <a:lnTo>
                          <a:pt x="37" y="55"/>
                        </a:lnTo>
                        <a:lnTo>
                          <a:pt x="37" y="49"/>
                        </a:lnTo>
                        <a:lnTo>
                          <a:pt x="40" y="41"/>
                        </a:lnTo>
                        <a:lnTo>
                          <a:pt x="43" y="29"/>
                        </a:lnTo>
                        <a:lnTo>
                          <a:pt x="48" y="21"/>
                        </a:lnTo>
                        <a:lnTo>
                          <a:pt x="45" y="18"/>
                        </a:lnTo>
                        <a:lnTo>
                          <a:pt x="45" y="12"/>
                        </a:lnTo>
                        <a:lnTo>
                          <a:pt x="40" y="6"/>
                        </a:lnTo>
                        <a:lnTo>
                          <a:pt x="37" y="0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7" y="3"/>
                        </a:lnTo>
                        <a:lnTo>
                          <a:pt x="14" y="6"/>
                        </a:lnTo>
                        <a:lnTo>
                          <a:pt x="8" y="15"/>
                        </a:lnTo>
                        <a:lnTo>
                          <a:pt x="5" y="29"/>
                        </a:lnTo>
                        <a:lnTo>
                          <a:pt x="2" y="43"/>
                        </a:lnTo>
                        <a:lnTo>
                          <a:pt x="0" y="49"/>
                        </a:lnTo>
                        <a:lnTo>
                          <a:pt x="0" y="55"/>
                        </a:lnTo>
                        <a:lnTo>
                          <a:pt x="0" y="66"/>
                        </a:lnTo>
                        <a:lnTo>
                          <a:pt x="0" y="84"/>
                        </a:lnTo>
                        <a:lnTo>
                          <a:pt x="0" y="92"/>
                        </a:lnTo>
                        <a:lnTo>
                          <a:pt x="2" y="98"/>
                        </a:lnTo>
                        <a:lnTo>
                          <a:pt x="5" y="101"/>
                        </a:lnTo>
                        <a:lnTo>
                          <a:pt x="11" y="104"/>
                        </a:lnTo>
                        <a:lnTo>
                          <a:pt x="22" y="107"/>
                        </a:lnTo>
                        <a:lnTo>
                          <a:pt x="22" y="104"/>
                        </a:lnTo>
                        <a:lnTo>
                          <a:pt x="22" y="104"/>
                        </a:lnTo>
                        <a:lnTo>
                          <a:pt x="40" y="110"/>
                        </a:lnTo>
                        <a:lnTo>
                          <a:pt x="54" y="118"/>
                        </a:lnTo>
                        <a:lnTo>
                          <a:pt x="71" y="127"/>
                        </a:lnTo>
                        <a:lnTo>
                          <a:pt x="91" y="135"/>
                        </a:lnTo>
                        <a:lnTo>
                          <a:pt x="111" y="144"/>
                        </a:lnTo>
                        <a:lnTo>
                          <a:pt x="140" y="161"/>
                        </a:lnTo>
                        <a:lnTo>
                          <a:pt x="172" y="181"/>
                        </a:lnTo>
                        <a:lnTo>
                          <a:pt x="206" y="210"/>
                        </a:lnTo>
                        <a:lnTo>
                          <a:pt x="235" y="236"/>
                        </a:lnTo>
                        <a:lnTo>
                          <a:pt x="258" y="262"/>
                        </a:lnTo>
                        <a:lnTo>
                          <a:pt x="272" y="279"/>
                        </a:lnTo>
                        <a:lnTo>
                          <a:pt x="278" y="285"/>
                        </a:lnTo>
                        <a:lnTo>
                          <a:pt x="284" y="293"/>
                        </a:lnTo>
                        <a:lnTo>
                          <a:pt x="298" y="313"/>
                        </a:lnTo>
                        <a:lnTo>
                          <a:pt x="315" y="342"/>
                        </a:lnTo>
                        <a:lnTo>
                          <a:pt x="335" y="379"/>
                        </a:lnTo>
                        <a:lnTo>
                          <a:pt x="355" y="417"/>
                        </a:lnTo>
                        <a:lnTo>
                          <a:pt x="370" y="451"/>
                        </a:lnTo>
                        <a:lnTo>
                          <a:pt x="384" y="483"/>
                        </a:lnTo>
                        <a:lnTo>
                          <a:pt x="393" y="506"/>
                        </a:lnTo>
                        <a:lnTo>
                          <a:pt x="398" y="529"/>
                        </a:lnTo>
                        <a:lnTo>
                          <a:pt x="410" y="549"/>
                        </a:lnTo>
                        <a:lnTo>
                          <a:pt x="421" y="566"/>
                        </a:lnTo>
                        <a:lnTo>
                          <a:pt x="433" y="589"/>
                        </a:lnTo>
                        <a:lnTo>
                          <a:pt x="436" y="563"/>
                        </a:lnTo>
                        <a:lnTo>
                          <a:pt x="433" y="540"/>
                        </a:lnTo>
                        <a:lnTo>
                          <a:pt x="430" y="517"/>
                        </a:lnTo>
                        <a:lnTo>
                          <a:pt x="424" y="491"/>
                        </a:lnTo>
                        <a:lnTo>
                          <a:pt x="424" y="4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rot="20872200">
                    <a:off x="4811400" y="4327920"/>
                    <a:ext cx="147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135">
                        <a:moveTo>
                          <a:pt x="0" y="129"/>
                        </a:moveTo>
                        <a:lnTo>
                          <a:pt x="17" y="132"/>
                        </a:lnTo>
                        <a:lnTo>
                          <a:pt x="32" y="135"/>
                        </a:lnTo>
                        <a:lnTo>
                          <a:pt x="46" y="135"/>
                        </a:lnTo>
                        <a:lnTo>
                          <a:pt x="63" y="132"/>
                        </a:lnTo>
                        <a:lnTo>
                          <a:pt x="98" y="120"/>
                        </a:lnTo>
                        <a:lnTo>
                          <a:pt x="149" y="109"/>
                        </a:lnTo>
                        <a:lnTo>
                          <a:pt x="198" y="97"/>
                        </a:lnTo>
                        <a:lnTo>
                          <a:pt x="218" y="92"/>
                        </a:lnTo>
                        <a:lnTo>
                          <a:pt x="238" y="86"/>
                        </a:lnTo>
                        <a:lnTo>
                          <a:pt x="287" y="69"/>
                        </a:lnTo>
                        <a:lnTo>
                          <a:pt x="336" y="49"/>
                        </a:lnTo>
                        <a:lnTo>
                          <a:pt x="370" y="37"/>
                        </a:lnTo>
                        <a:lnTo>
                          <a:pt x="385" y="31"/>
                        </a:lnTo>
                        <a:lnTo>
                          <a:pt x="399" y="26"/>
                        </a:lnTo>
                        <a:lnTo>
                          <a:pt x="408" y="14"/>
                        </a:lnTo>
                        <a:lnTo>
                          <a:pt x="419" y="6"/>
                        </a:lnTo>
                        <a:lnTo>
                          <a:pt x="405" y="0"/>
                        </a:lnTo>
                        <a:lnTo>
                          <a:pt x="390" y="0"/>
                        </a:lnTo>
                        <a:lnTo>
                          <a:pt x="376" y="0"/>
                        </a:lnTo>
                        <a:lnTo>
                          <a:pt x="359" y="6"/>
                        </a:lnTo>
                        <a:lnTo>
                          <a:pt x="324" y="17"/>
                        </a:lnTo>
                        <a:lnTo>
                          <a:pt x="273" y="34"/>
                        </a:lnTo>
                        <a:lnTo>
                          <a:pt x="227" y="49"/>
                        </a:lnTo>
                        <a:lnTo>
                          <a:pt x="207" y="54"/>
                        </a:lnTo>
                        <a:lnTo>
                          <a:pt x="187" y="63"/>
                        </a:lnTo>
                        <a:lnTo>
                          <a:pt x="141" y="74"/>
                        </a:lnTo>
                        <a:lnTo>
                          <a:pt x="89" y="86"/>
                        </a:lnTo>
                        <a:lnTo>
                          <a:pt x="55" y="94"/>
                        </a:lnTo>
                        <a:lnTo>
                          <a:pt x="37" y="100"/>
                        </a:lnTo>
                        <a:lnTo>
                          <a:pt x="26" y="109"/>
                        </a:lnTo>
                        <a:lnTo>
                          <a:pt x="12" y="117"/>
                        </a:lnTo>
                        <a:lnTo>
                          <a:pt x="0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 rot="20872200">
                    <a:off x="4703760" y="4271040"/>
                    <a:ext cx="986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10">
                        <a:moveTo>
                          <a:pt x="0" y="210"/>
                        </a:moveTo>
                        <a:lnTo>
                          <a:pt x="14" y="204"/>
                        </a:lnTo>
                        <a:lnTo>
                          <a:pt x="25" y="201"/>
                        </a:lnTo>
                        <a:lnTo>
                          <a:pt x="40" y="193"/>
                        </a:lnTo>
                        <a:lnTo>
                          <a:pt x="54" y="184"/>
                        </a:lnTo>
                        <a:lnTo>
                          <a:pt x="80" y="164"/>
                        </a:lnTo>
                        <a:lnTo>
                          <a:pt x="120" y="129"/>
                        </a:lnTo>
                        <a:lnTo>
                          <a:pt x="154" y="98"/>
                        </a:lnTo>
                        <a:lnTo>
                          <a:pt x="169" y="84"/>
                        </a:lnTo>
                        <a:lnTo>
                          <a:pt x="175" y="78"/>
                        </a:lnTo>
                        <a:lnTo>
                          <a:pt x="183" y="66"/>
                        </a:lnTo>
                        <a:lnTo>
                          <a:pt x="197" y="52"/>
                        </a:lnTo>
                        <a:lnTo>
                          <a:pt x="209" y="40"/>
                        </a:lnTo>
                        <a:lnTo>
                          <a:pt x="226" y="38"/>
                        </a:lnTo>
                        <a:lnTo>
                          <a:pt x="235" y="46"/>
                        </a:lnTo>
                        <a:lnTo>
                          <a:pt x="241" y="58"/>
                        </a:lnTo>
                        <a:lnTo>
                          <a:pt x="246" y="69"/>
                        </a:lnTo>
                        <a:lnTo>
                          <a:pt x="246" y="81"/>
                        </a:lnTo>
                        <a:lnTo>
                          <a:pt x="252" y="95"/>
                        </a:lnTo>
                        <a:lnTo>
                          <a:pt x="255" y="106"/>
                        </a:lnTo>
                        <a:lnTo>
                          <a:pt x="261" y="121"/>
                        </a:lnTo>
                        <a:lnTo>
                          <a:pt x="269" y="109"/>
                        </a:lnTo>
                        <a:lnTo>
                          <a:pt x="278" y="98"/>
                        </a:lnTo>
                        <a:lnTo>
                          <a:pt x="281" y="81"/>
                        </a:lnTo>
                        <a:lnTo>
                          <a:pt x="281" y="63"/>
                        </a:lnTo>
                        <a:lnTo>
                          <a:pt x="278" y="55"/>
                        </a:lnTo>
                        <a:lnTo>
                          <a:pt x="275" y="46"/>
                        </a:lnTo>
                        <a:lnTo>
                          <a:pt x="272" y="35"/>
                        </a:lnTo>
                        <a:lnTo>
                          <a:pt x="266" y="23"/>
                        </a:lnTo>
                        <a:lnTo>
                          <a:pt x="252" y="9"/>
                        </a:lnTo>
                        <a:lnTo>
                          <a:pt x="235" y="3"/>
                        </a:lnTo>
                        <a:lnTo>
                          <a:pt x="215" y="0"/>
                        </a:lnTo>
                        <a:lnTo>
                          <a:pt x="197" y="6"/>
                        </a:lnTo>
                        <a:lnTo>
                          <a:pt x="180" y="15"/>
                        </a:lnTo>
                        <a:lnTo>
                          <a:pt x="169" y="26"/>
                        </a:lnTo>
                        <a:lnTo>
                          <a:pt x="160" y="35"/>
                        </a:lnTo>
                        <a:lnTo>
                          <a:pt x="154" y="46"/>
                        </a:lnTo>
                        <a:lnTo>
                          <a:pt x="152" y="52"/>
                        </a:lnTo>
                        <a:lnTo>
                          <a:pt x="149" y="55"/>
                        </a:lnTo>
                        <a:lnTo>
                          <a:pt x="146" y="58"/>
                        </a:lnTo>
                        <a:lnTo>
                          <a:pt x="146" y="58"/>
                        </a:lnTo>
                        <a:lnTo>
                          <a:pt x="132" y="72"/>
                        </a:lnTo>
                        <a:lnTo>
                          <a:pt x="97" y="104"/>
                        </a:lnTo>
                        <a:lnTo>
                          <a:pt x="57" y="135"/>
                        </a:lnTo>
                        <a:lnTo>
                          <a:pt x="28" y="158"/>
                        </a:lnTo>
                        <a:lnTo>
                          <a:pt x="17" y="167"/>
                        </a:lnTo>
                        <a:lnTo>
                          <a:pt x="8" y="178"/>
                        </a:lnTo>
                        <a:lnTo>
                          <a:pt x="2" y="193"/>
                        </a:lnTo>
                        <a:lnTo>
                          <a:pt x="0" y="21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rot="20872200">
                    <a:off x="4698720" y="4314960"/>
                    <a:ext cx="370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0">
                        <a:moveTo>
                          <a:pt x="89" y="32"/>
                        </a:moveTo>
                        <a:lnTo>
                          <a:pt x="80" y="26"/>
                        </a:lnTo>
                        <a:lnTo>
                          <a:pt x="60" y="15"/>
                        </a:lnTo>
                        <a:lnTo>
                          <a:pt x="40" y="6"/>
                        </a:lnTo>
                        <a:lnTo>
                          <a:pt x="28" y="3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2"/>
                        </a:lnTo>
                        <a:lnTo>
                          <a:pt x="2" y="23"/>
                        </a:lnTo>
                        <a:lnTo>
                          <a:pt x="5" y="29"/>
                        </a:lnTo>
                        <a:lnTo>
                          <a:pt x="8" y="32"/>
                        </a:lnTo>
                        <a:lnTo>
                          <a:pt x="17" y="38"/>
                        </a:lnTo>
                        <a:lnTo>
                          <a:pt x="28" y="40"/>
                        </a:lnTo>
                        <a:lnTo>
                          <a:pt x="45" y="49"/>
                        </a:lnTo>
                        <a:lnTo>
                          <a:pt x="60" y="55"/>
                        </a:lnTo>
                        <a:lnTo>
                          <a:pt x="66" y="61"/>
                        </a:lnTo>
                        <a:lnTo>
                          <a:pt x="68" y="63"/>
                        </a:lnTo>
                        <a:lnTo>
                          <a:pt x="68" y="69"/>
                        </a:lnTo>
                        <a:lnTo>
                          <a:pt x="66" y="75"/>
                        </a:lnTo>
                        <a:lnTo>
                          <a:pt x="63" y="81"/>
                        </a:lnTo>
                        <a:lnTo>
                          <a:pt x="57" y="89"/>
                        </a:lnTo>
                        <a:lnTo>
                          <a:pt x="54" y="98"/>
                        </a:lnTo>
                        <a:lnTo>
                          <a:pt x="54" y="101"/>
                        </a:lnTo>
                        <a:lnTo>
                          <a:pt x="54" y="104"/>
                        </a:lnTo>
                        <a:lnTo>
                          <a:pt x="51" y="104"/>
                        </a:lnTo>
                        <a:lnTo>
                          <a:pt x="51" y="104"/>
                        </a:lnTo>
                        <a:lnTo>
                          <a:pt x="48" y="112"/>
                        </a:lnTo>
                        <a:lnTo>
                          <a:pt x="48" y="121"/>
                        </a:lnTo>
                        <a:lnTo>
                          <a:pt x="48" y="127"/>
                        </a:lnTo>
                        <a:lnTo>
                          <a:pt x="54" y="132"/>
                        </a:lnTo>
                        <a:lnTo>
                          <a:pt x="57" y="135"/>
                        </a:lnTo>
                        <a:lnTo>
                          <a:pt x="63" y="141"/>
                        </a:lnTo>
                        <a:lnTo>
                          <a:pt x="66" y="147"/>
                        </a:lnTo>
                        <a:lnTo>
                          <a:pt x="68" y="149"/>
                        </a:lnTo>
                        <a:lnTo>
                          <a:pt x="68" y="152"/>
                        </a:lnTo>
                        <a:lnTo>
                          <a:pt x="66" y="161"/>
                        </a:lnTo>
                        <a:lnTo>
                          <a:pt x="63" y="164"/>
                        </a:lnTo>
                        <a:lnTo>
                          <a:pt x="63" y="170"/>
                        </a:lnTo>
                        <a:lnTo>
                          <a:pt x="63" y="170"/>
                        </a:lnTo>
                        <a:lnTo>
                          <a:pt x="60" y="175"/>
                        </a:lnTo>
                        <a:lnTo>
                          <a:pt x="57" y="175"/>
                        </a:lnTo>
                        <a:lnTo>
                          <a:pt x="51" y="181"/>
                        </a:lnTo>
                        <a:lnTo>
                          <a:pt x="45" y="184"/>
                        </a:lnTo>
                        <a:lnTo>
                          <a:pt x="40" y="190"/>
                        </a:lnTo>
                        <a:lnTo>
                          <a:pt x="34" y="198"/>
                        </a:lnTo>
                        <a:lnTo>
                          <a:pt x="34" y="210"/>
                        </a:lnTo>
                        <a:lnTo>
                          <a:pt x="31" y="215"/>
                        </a:lnTo>
                        <a:lnTo>
                          <a:pt x="31" y="221"/>
                        </a:lnTo>
                        <a:lnTo>
                          <a:pt x="31" y="224"/>
                        </a:lnTo>
                        <a:lnTo>
                          <a:pt x="34" y="230"/>
                        </a:lnTo>
                        <a:lnTo>
                          <a:pt x="34" y="236"/>
                        </a:lnTo>
                        <a:lnTo>
                          <a:pt x="40" y="238"/>
                        </a:lnTo>
                        <a:lnTo>
                          <a:pt x="45" y="241"/>
                        </a:lnTo>
                        <a:lnTo>
                          <a:pt x="51" y="250"/>
                        </a:lnTo>
                        <a:lnTo>
                          <a:pt x="60" y="244"/>
                        </a:lnTo>
                        <a:lnTo>
                          <a:pt x="66" y="236"/>
                        </a:lnTo>
                        <a:lnTo>
                          <a:pt x="68" y="230"/>
                        </a:lnTo>
                        <a:lnTo>
                          <a:pt x="68" y="221"/>
                        </a:lnTo>
                        <a:lnTo>
                          <a:pt x="68" y="218"/>
                        </a:lnTo>
                        <a:lnTo>
                          <a:pt x="68" y="213"/>
                        </a:lnTo>
                        <a:lnTo>
                          <a:pt x="68" y="213"/>
                        </a:lnTo>
                        <a:lnTo>
                          <a:pt x="71" y="210"/>
                        </a:lnTo>
                        <a:lnTo>
                          <a:pt x="77" y="204"/>
                        </a:lnTo>
                        <a:lnTo>
                          <a:pt x="83" y="201"/>
                        </a:lnTo>
                        <a:lnTo>
                          <a:pt x="86" y="198"/>
                        </a:lnTo>
                        <a:lnTo>
                          <a:pt x="89" y="193"/>
                        </a:lnTo>
                        <a:lnTo>
                          <a:pt x="94" y="184"/>
                        </a:lnTo>
                        <a:lnTo>
                          <a:pt x="97" y="184"/>
                        </a:lnTo>
                        <a:lnTo>
                          <a:pt x="94" y="181"/>
                        </a:lnTo>
                        <a:lnTo>
                          <a:pt x="100" y="175"/>
                        </a:lnTo>
                        <a:lnTo>
                          <a:pt x="103" y="164"/>
                        </a:lnTo>
                        <a:lnTo>
                          <a:pt x="106" y="147"/>
                        </a:lnTo>
                        <a:lnTo>
                          <a:pt x="100" y="135"/>
                        </a:lnTo>
                        <a:lnTo>
                          <a:pt x="94" y="127"/>
                        </a:lnTo>
                        <a:lnTo>
                          <a:pt x="89" y="118"/>
                        </a:lnTo>
                        <a:lnTo>
                          <a:pt x="83" y="115"/>
                        </a:lnTo>
                        <a:lnTo>
                          <a:pt x="89" y="112"/>
                        </a:lnTo>
                        <a:lnTo>
                          <a:pt x="89" y="109"/>
                        </a:lnTo>
                        <a:lnTo>
                          <a:pt x="91" y="106"/>
                        </a:lnTo>
                        <a:lnTo>
                          <a:pt x="94" y="98"/>
                        </a:lnTo>
                        <a:lnTo>
                          <a:pt x="100" y="89"/>
                        </a:lnTo>
                        <a:lnTo>
                          <a:pt x="106" y="75"/>
                        </a:lnTo>
                        <a:lnTo>
                          <a:pt x="103" y="58"/>
                        </a:lnTo>
                        <a:lnTo>
                          <a:pt x="97" y="43"/>
                        </a:lnTo>
                        <a:lnTo>
                          <a:pt x="91" y="35"/>
                        </a:lnTo>
                        <a:lnTo>
                          <a:pt x="89" y="32"/>
                        </a:lnTo>
                        <a:lnTo>
                          <a:pt x="89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 rot="20872200">
                    <a:off x="4747320" y="4366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9">
                        <a:moveTo>
                          <a:pt x="0" y="57"/>
                        </a:moveTo>
                        <a:lnTo>
                          <a:pt x="8" y="63"/>
                        </a:lnTo>
                        <a:lnTo>
                          <a:pt x="14" y="69"/>
                        </a:lnTo>
                        <a:lnTo>
                          <a:pt x="23" y="69"/>
                        </a:lnTo>
                        <a:lnTo>
                          <a:pt x="31" y="69"/>
                        </a:lnTo>
                        <a:lnTo>
                          <a:pt x="46" y="69"/>
                        </a:lnTo>
                        <a:lnTo>
                          <a:pt x="69" y="63"/>
                        </a:lnTo>
                        <a:lnTo>
                          <a:pt x="89" y="60"/>
                        </a:lnTo>
                        <a:lnTo>
                          <a:pt x="100" y="57"/>
                        </a:lnTo>
                        <a:lnTo>
                          <a:pt x="109" y="54"/>
                        </a:lnTo>
                        <a:lnTo>
                          <a:pt x="129" y="49"/>
                        </a:lnTo>
                        <a:lnTo>
                          <a:pt x="152" y="40"/>
                        </a:lnTo>
                        <a:lnTo>
                          <a:pt x="169" y="34"/>
                        </a:lnTo>
                        <a:lnTo>
                          <a:pt x="175" y="29"/>
                        </a:lnTo>
                        <a:lnTo>
                          <a:pt x="180" y="23"/>
                        </a:lnTo>
                        <a:lnTo>
                          <a:pt x="183" y="14"/>
                        </a:lnTo>
                        <a:lnTo>
                          <a:pt x="183" y="3"/>
                        </a:lnTo>
                        <a:lnTo>
                          <a:pt x="172" y="3"/>
                        </a:lnTo>
                        <a:lnTo>
                          <a:pt x="166" y="0"/>
                        </a:lnTo>
                        <a:lnTo>
                          <a:pt x="160" y="0"/>
                        </a:lnTo>
                        <a:lnTo>
                          <a:pt x="152" y="0"/>
                        </a:lnTo>
                        <a:lnTo>
                          <a:pt x="140" y="6"/>
                        </a:lnTo>
                        <a:lnTo>
                          <a:pt x="120" y="14"/>
                        </a:lnTo>
                        <a:lnTo>
                          <a:pt x="100" y="20"/>
                        </a:lnTo>
                        <a:lnTo>
                          <a:pt x="92" y="23"/>
                        </a:lnTo>
                        <a:lnTo>
                          <a:pt x="83" y="23"/>
                        </a:lnTo>
                        <a:lnTo>
                          <a:pt x="63" y="29"/>
                        </a:lnTo>
                        <a:lnTo>
                          <a:pt x="40" y="32"/>
                        </a:lnTo>
                        <a:lnTo>
                          <a:pt x="26" y="34"/>
                        </a:lnTo>
                        <a:lnTo>
                          <a:pt x="17" y="37"/>
                        </a:lnTo>
                        <a:lnTo>
                          <a:pt x="11" y="43"/>
                        </a:lnTo>
                        <a:lnTo>
                          <a:pt x="5" y="49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 rot="20872200">
                    <a:off x="5009040" y="4426200"/>
                    <a:ext cx="338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32">
                        <a:moveTo>
                          <a:pt x="97" y="2"/>
                        </a:moveTo>
                        <a:lnTo>
                          <a:pt x="86" y="0"/>
                        </a:lnTo>
                        <a:lnTo>
                          <a:pt x="74" y="0"/>
                        </a:lnTo>
                        <a:lnTo>
                          <a:pt x="66" y="2"/>
                        </a:lnTo>
                        <a:lnTo>
                          <a:pt x="57" y="8"/>
                        </a:lnTo>
                        <a:lnTo>
                          <a:pt x="45" y="17"/>
                        </a:lnTo>
                        <a:lnTo>
                          <a:pt x="37" y="28"/>
                        </a:lnTo>
                        <a:lnTo>
                          <a:pt x="28" y="43"/>
                        </a:lnTo>
                        <a:lnTo>
                          <a:pt x="20" y="57"/>
                        </a:lnTo>
                        <a:lnTo>
                          <a:pt x="14" y="74"/>
                        </a:lnTo>
                        <a:lnTo>
                          <a:pt x="8" y="89"/>
                        </a:lnTo>
                        <a:lnTo>
                          <a:pt x="5" y="100"/>
                        </a:lnTo>
                        <a:lnTo>
                          <a:pt x="5" y="103"/>
                        </a:lnTo>
                        <a:lnTo>
                          <a:pt x="2" y="106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0" y="146"/>
                        </a:lnTo>
                        <a:lnTo>
                          <a:pt x="0" y="163"/>
                        </a:lnTo>
                        <a:lnTo>
                          <a:pt x="2" y="180"/>
                        </a:lnTo>
                        <a:lnTo>
                          <a:pt x="2" y="195"/>
                        </a:lnTo>
                        <a:lnTo>
                          <a:pt x="5" y="203"/>
                        </a:lnTo>
                        <a:lnTo>
                          <a:pt x="8" y="215"/>
                        </a:lnTo>
                        <a:lnTo>
                          <a:pt x="14" y="223"/>
                        </a:lnTo>
                        <a:lnTo>
                          <a:pt x="25" y="229"/>
                        </a:lnTo>
                        <a:lnTo>
                          <a:pt x="34" y="232"/>
                        </a:lnTo>
                        <a:lnTo>
                          <a:pt x="37" y="221"/>
                        </a:lnTo>
                        <a:lnTo>
                          <a:pt x="40" y="212"/>
                        </a:lnTo>
                        <a:lnTo>
                          <a:pt x="40" y="203"/>
                        </a:lnTo>
                        <a:lnTo>
                          <a:pt x="40" y="195"/>
                        </a:lnTo>
                        <a:lnTo>
                          <a:pt x="34" y="178"/>
                        </a:lnTo>
                        <a:lnTo>
                          <a:pt x="37" y="146"/>
                        </a:lnTo>
                        <a:lnTo>
                          <a:pt x="37" y="120"/>
                        </a:lnTo>
                        <a:lnTo>
                          <a:pt x="40" y="109"/>
                        </a:lnTo>
                        <a:lnTo>
                          <a:pt x="40" y="106"/>
                        </a:lnTo>
                        <a:lnTo>
                          <a:pt x="43" y="97"/>
                        </a:lnTo>
                        <a:lnTo>
                          <a:pt x="45" y="86"/>
                        </a:lnTo>
                        <a:lnTo>
                          <a:pt x="51" y="74"/>
                        </a:lnTo>
                        <a:lnTo>
                          <a:pt x="60" y="60"/>
                        </a:lnTo>
                        <a:lnTo>
                          <a:pt x="68" y="48"/>
                        </a:lnTo>
                        <a:lnTo>
                          <a:pt x="74" y="40"/>
                        </a:lnTo>
                        <a:lnTo>
                          <a:pt x="80" y="37"/>
                        </a:lnTo>
                        <a:lnTo>
                          <a:pt x="86" y="31"/>
                        </a:lnTo>
                        <a:lnTo>
                          <a:pt x="88" y="23"/>
                        </a:lnTo>
                        <a:lnTo>
                          <a:pt x="91" y="14"/>
                        </a:lnTo>
                        <a:lnTo>
                          <a:pt x="97" y="2"/>
                        </a:lnTo>
                        <a:lnTo>
                          <a:pt x="9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rot="20872200">
                    <a:off x="4995360" y="4496400"/>
                    <a:ext cx="27396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741">
                        <a:moveTo>
                          <a:pt x="665" y="434"/>
                        </a:moveTo>
                        <a:lnTo>
                          <a:pt x="648" y="454"/>
                        </a:lnTo>
                        <a:lnTo>
                          <a:pt x="628" y="486"/>
                        </a:lnTo>
                        <a:lnTo>
                          <a:pt x="597" y="517"/>
                        </a:lnTo>
                        <a:lnTo>
                          <a:pt x="562" y="552"/>
                        </a:lnTo>
                        <a:lnTo>
                          <a:pt x="519" y="586"/>
                        </a:lnTo>
                        <a:lnTo>
                          <a:pt x="470" y="618"/>
                        </a:lnTo>
                        <a:lnTo>
                          <a:pt x="419" y="646"/>
                        </a:lnTo>
                        <a:lnTo>
                          <a:pt x="361" y="669"/>
                        </a:lnTo>
                        <a:lnTo>
                          <a:pt x="307" y="689"/>
                        </a:lnTo>
                        <a:lnTo>
                          <a:pt x="252" y="701"/>
                        </a:lnTo>
                        <a:lnTo>
                          <a:pt x="204" y="704"/>
                        </a:lnTo>
                        <a:lnTo>
                          <a:pt x="160" y="698"/>
                        </a:lnTo>
                        <a:lnTo>
                          <a:pt x="126" y="686"/>
                        </a:lnTo>
                        <a:lnTo>
                          <a:pt x="103" y="672"/>
                        </a:lnTo>
                        <a:lnTo>
                          <a:pt x="92" y="661"/>
                        </a:lnTo>
                        <a:lnTo>
                          <a:pt x="86" y="658"/>
                        </a:lnTo>
                        <a:lnTo>
                          <a:pt x="83" y="655"/>
                        </a:lnTo>
                        <a:lnTo>
                          <a:pt x="74" y="641"/>
                        </a:lnTo>
                        <a:lnTo>
                          <a:pt x="60" y="618"/>
                        </a:lnTo>
                        <a:lnTo>
                          <a:pt x="46" y="583"/>
                        </a:lnTo>
                        <a:lnTo>
                          <a:pt x="34" y="540"/>
                        </a:lnTo>
                        <a:lnTo>
                          <a:pt x="34" y="491"/>
                        </a:lnTo>
                        <a:lnTo>
                          <a:pt x="40" y="437"/>
                        </a:lnTo>
                        <a:lnTo>
                          <a:pt x="57" y="379"/>
                        </a:lnTo>
                        <a:lnTo>
                          <a:pt x="80" y="325"/>
                        </a:lnTo>
                        <a:lnTo>
                          <a:pt x="115" y="276"/>
                        </a:lnTo>
                        <a:lnTo>
                          <a:pt x="152" y="230"/>
                        </a:lnTo>
                        <a:lnTo>
                          <a:pt x="189" y="190"/>
                        </a:lnTo>
                        <a:lnTo>
                          <a:pt x="195" y="184"/>
                        </a:lnTo>
                        <a:lnTo>
                          <a:pt x="201" y="181"/>
                        </a:lnTo>
                        <a:lnTo>
                          <a:pt x="206" y="176"/>
                        </a:lnTo>
                        <a:lnTo>
                          <a:pt x="212" y="170"/>
                        </a:lnTo>
                        <a:lnTo>
                          <a:pt x="212" y="190"/>
                        </a:lnTo>
                        <a:lnTo>
                          <a:pt x="212" y="216"/>
                        </a:lnTo>
                        <a:lnTo>
                          <a:pt x="218" y="244"/>
                        </a:lnTo>
                        <a:lnTo>
                          <a:pt x="232" y="276"/>
                        </a:lnTo>
                        <a:lnTo>
                          <a:pt x="244" y="302"/>
                        </a:lnTo>
                        <a:lnTo>
                          <a:pt x="258" y="322"/>
                        </a:lnTo>
                        <a:lnTo>
                          <a:pt x="267" y="336"/>
                        </a:lnTo>
                        <a:lnTo>
                          <a:pt x="272" y="342"/>
                        </a:lnTo>
                        <a:lnTo>
                          <a:pt x="275" y="345"/>
                        </a:lnTo>
                        <a:lnTo>
                          <a:pt x="287" y="359"/>
                        </a:lnTo>
                        <a:lnTo>
                          <a:pt x="304" y="376"/>
                        </a:lnTo>
                        <a:lnTo>
                          <a:pt x="327" y="397"/>
                        </a:lnTo>
                        <a:lnTo>
                          <a:pt x="350" y="420"/>
                        </a:lnTo>
                        <a:lnTo>
                          <a:pt x="373" y="437"/>
                        </a:lnTo>
                        <a:lnTo>
                          <a:pt x="393" y="448"/>
                        </a:lnTo>
                        <a:lnTo>
                          <a:pt x="407" y="457"/>
                        </a:lnTo>
                        <a:lnTo>
                          <a:pt x="424" y="465"/>
                        </a:lnTo>
                        <a:lnTo>
                          <a:pt x="442" y="468"/>
                        </a:lnTo>
                        <a:lnTo>
                          <a:pt x="459" y="468"/>
                        </a:lnTo>
                        <a:lnTo>
                          <a:pt x="476" y="468"/>
                        </a:lnTo>
                        <a:lnTo>
                          <a:pt x="465" y="454"/>
                        </a:lnTo>
                        <a:lnTo>
                          <a:pt x="453" y="445"/>
                        </a:lnTo>
                        <a:lnTo>
                          <a:pt x="439" y="437"/>
                        </a:lnTo>
                        <a:lnTo>
                          <a:pt x="424" y="428"/>
                        </a:lnTo>
                        <a:lnTo>
                          <a:pt x="413" y="420"/>
                        </a:lnTo>
                        <a:lnTo>
                          <a:pt x="393" y="405"/>
                        </a:lnTo>
                        <a:lnTo>
                          <a:pt x="373" y="391"/>
                        </a:lnTo>
                        <a:lnTo>
                          <a:pt x="350" y="371"/>
                        </a:lnTo>
                        <a:lnTo>
                          <a:pt x="330" y="351"/>
                        </a:lnTo>
                        <a:lnTo>
                          <a:pt x="313" y="336"/>
                        </a:lnTo>
                        <a:lnTo>
                          <a:pt x="304" y="325"/>
                        </a:lnTo>
                        <a:lnTo>
                          <a:pt x="298" y="319"/>
                        </a:lnTo>
                        <a:lnTo>
                          <a:pt x="295" y="316"/>
                        </a:lnTo>
                        <a:lnTo>
                          <a:pt x="284" y="302"/>
                        </a:lnTo>
                        <a:lnTo>
                          <a:pt x="272" y="285"/>
                        </a:lnTo>
                        <a:lnTo>
                          <a:pt x="261" y="259"/>
                        </a:lnTo>
                        <a:lnTo>
                          <a:pt x="252" y="233"/>
                        </a:lnTo>
                        <a:lnTo>
                          <a:pt x="247" y="207"/>
                        </a:lnTo>
                        <a:lnTo>
                          <a:pt x="247" y="187"/>
                        </a:lnTo>
                        <a:lnTo>
                          <a:pt x="249" y="176"/>
                        </a:lnTo>
                        <a:lnTo>
                          <a:pt x="249" y="164"/>
                        </a:lnTo>
                        <a:lnTo>
                          <a:pt x="252" y="155"/>
                        </a:lnTo>
                        <a:lnTo>
                          <a:pt x="252" y="147"/>
                        </a:lnTo>
                        <a:lnTo>
                          <a:pt x="252" y="138"/>
                        </a:lnTo>
                        <a:lnTo>
                          <a:pt x="270" y="124"/>
                        </a:lnTo>
                        <a:lnTo>
                          <a:pt x="287" y="112"/>
                        </a:lnTo>
                        <a:lnTo>
                          <a:pt x="301" y="101"/>
                        </a:lnTo>
                        <a:lnTo>
                          <a:pt x="315" y="95"/>
                        </a:lnTo>
                        <a:lnTo>
                          <a:pt x="347" y="75"/>
                        </a:lnTo>
                        <a:lnTo>
                          <a:pt x="376" y="61"/>
                        </a:lnTo>
                        <a:lnTo>
                          <a:pt x="404" y="46"/>
                        </a:lnTo>
                        <a:lnTo>
                          <a:pt x="433" y="35"/>
                        </a:lnTo>
                        <a:lnTo>
                          <a:pt x="462" y="26"/>
                        </a:lnTo>
                        <a:lnTo>
                          <a:pt x="488" y="15"/>
                        </a:lnTo>
                        <a:lnTo>
                          <a:pt x="519" y="9"/>
                        </a:lnTo>
                        <a:lnTo>
                          <a:pt x="551" y="12"/>
                        </a:lnTo>
                        <a:lnTo>
                          <a:pt x="519" y="0"/>
                        </a:lnTo>
                        <a:lnTo>
                          <a:pt x="488" y="0"/>
                        </a:lnTo>
                        <a:lnTo>
                          <a:pt x="453" y="3"/>
                        </a:lnTo>
                        <a:lnTo>
                          <a:pt x="424" y="12"/>
                        </a:lnTo>
                        <a:lnTo>
                          <a:pt x="396" y="21"/>
                        </a:lnTo>
                        <a:lnTo>
                          <a:pt x="364" y="32"/>
                        </a:lnTo>
                        <a:lnTo>
                          <a:pt x="330" y="46"/>
                        </a:lnTo>
                        <a:lnTo>
                          <a:pt x="292" y="66"/>
                        </a:lnTo>
                        <a:lnTo>
                          <a:pt x="241" y="101"/>
                        </a:lnTo>
                        <a:lnTo>
                          <a:pt x="163" y="167"/>
                        </a:lnTo>
                        <a:lnTo>
                          <a:pt x="86" y="253"/>
                        </a:lnTo>
                        <a:lnTo>
                          <a:pt x="26" y="368"/>
                        </a:lnTo>
                        <a:lnTo>
                          <a:pt x="6" y="428"/>
                        </a:lnTo>
                        <a:lnTo>
                          <a:pt x="0" y="488"/>
                        </a:lnTo>
                        <a:lnTo>
                          <a:pt x="0" y="543"/>
                        </a:lnTo>
                        <a:lnTo>
                          <a:pt x="8" y="592"/>
                        </a:lnTo>
                        <a:lnTo>
                          <a:pt x="26" y="632"/>
                        </a:lnTo>
                        <a:lnTo>
                          <a:pt x="43" y="661"/>
                        </a:lnTo>
                        <a:lnTo>
                          <a:pt x="57" y="678"/>
                        </a:lnTo>
                        <a:lnTo>
                          <a:pt x="63" y="684"/>
                        </a:lnTo>
                        <a:lnTo>
                          <a:pt x="69" y="686"/>
                        </a:lnTo>
                        <a:lnTo>
                          <a:pt x="86" y="701"/>
                        </a:lnTo>
                        <a:lnTo>
                          <a:pt x="112" y="718"/>
                        </a:lnTo>
                        <a:lnTo>
                          <a:pt x="152" y="735"/>
                        </a:lnTo>
                        <a:lnTo>
                          <a:pt x="204" y="741"/>
                        </a:lnTo>
                        <a:lnTo>
                          <a:pt x="258" y="735"/>
                        </a:lnTo>
                        <a:lnTo>
                          <a:pt x="315" y="724"/>
                        </a:lnTo>
                        <a:lnTo>
                          <a:pt x="373" y="704"/>
                        </a:lnTo>
                        <a:lnTo>
                          <a:pt x="430" y="678"/>
                        </a:lnTo>
                        <a:lnTo>
                          <a:pt x="488" y="649"/>
                        </a:lnTo>
                        <a:lnTo>
                          <a:pt x="539" y="615"/>
                        </a:lnTo>
                        <a:lnTo>
                          <a:pt x="585" y="577"/>
                        </a:lnTo>
                        <a:lnTo>
                          <a:pt x="622" y="540"/>
                        </a:lnTo>
                        <a:lnTo>
                          <a:pt x="654" y="508"/>
                        </a:lnTo>
                        <a:lnTo>
                          <a:pt x="677" y="477"/>
                        </a:lnTo>
                        <a:lnTo>
                          <a:pt x="694" y="454"/>
                        </a:lnTo>
                        <a:lnTo>
                          <a:pt x="731" y="388"/>
                        </a:lnTo>
                        <a:lnTo>
                          <a:pt x="757" y="328"/>
                        </a:lnTo>
                        <a:lnTo>
                          <a:pt x="772" y="267"/>
                        </a:lnTo>
                        <a:lnTo>
                          <a:pt x="780" y="204"/>
                        </a:lnTo>
                        <a:lnTo>
                          <a:pt x="760" y="262"/>
                        </a:lnTo>
                        <a:lnTo>
                          <a:pt x="734" y="319"/>
                        </a:lnTo>
                        <a:lnTo>
                          <a:pt x="703" y="371"/>
                        </a:lnTo>
                        <a:lnTo>
                          <a:pt x="665" y="434"/>
                        </a:lnTo>
                        <a:lnTo>
                          <a:pt x="665" y="4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 rot="20872200">
                    <a:off x="4911840" y="4559400"/>
                    <a:ext cx="115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19">
                        <a:moveTo>
                          <a:pt x="3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3" y="46"/>
                        </a:lnTo>
                        <a:lnTo>
                          <a:pt x="12" y="66"/>
                        </a:lnTo>
                        <a:lnTo>
                          <a:pt x="32" y="98"/>
                        </a:lnTo>
                        <a:lnTo>
                          <a:pt x="69" y="144"/>
                        </a:lnTo>
                        <a:lnTo>
                          <a:pt x="107" y="184"/>
                        </a:lnTo>
                        <a:lnTo>
                          <a:pt x="127" y="201"/>
                        </a:lnTo>
                        <a:lnTo>
                          <a:pt x="130" y="204"/>
                        </a:lnTo>
                        <a:lnTo>
                          <a:pt x="144" y="213"/>
                        </a:lnTo>
                        <a:lnTo>
                          <a:pt x="164" y="227"/>
                        </a:lnTo>
                        <a:lnTo>
                          <a:pt x="187" y="241"/>
                        </a:lnTo>
                        <a:lnTo>
                          <a:pt x="213" y="259"/>
                        </a:lnTo>
                        <a:lnTo>
                          <a:pt x="239" y="273"/>
                        </a:lnTo>
                        <a:lnTo>
                          <a:pt x="256" y="282"/>
                        </a:lnTo>
                        <a:lnTo>
                          <a:pt x="267" y="290"/>
                        </a:lnTo>
                        <a:lnTo>
                          <a:pt x="282" y="299"/>
                        </a:lnTo>
                        <a:lnTo>
                          <a:pt x="296" y="307"/>
                        </a:lnTo>
                        <a:lnTo>
                          <a:pt x="310" y="313"/>
                        </a:lnTo>
                        <a:lnTo>
                          <a:pt x="328" y="319"/>
                        </a:lnTo>
                        <a:lnTo>
                          <a:pt x="322" y="299"/>
                        </a:lnTo>
                        <a:lnTo>
                          <a:pt x="313" y="287"/>
                        </a:lnTo>
                        <a:lnTo>
                          <a:pt x="305" y="273"/>
                        </a:lnTo>
                        <a:lnTo>
                          <a:pt x="290" y="264"/>
                        </a:lnTo>
                        <a:lnTo>
                          <a:pt x="276" y="253"/>
                        </a:lnTo>
                        <a:lnTo>
                          <a:pt x="256" y="241"/>
                        </a:lnTo>
                        <a:lnTo>
                          <a:pt x="233" y="227"/>
                        </a:lnTo>
                        <a:lnTo>
                          <a:pt x="207" y="213"/>
                        </a:lnTo>
                        <a:lnTo>
                          <a:pt x="184" y="195"/>
                        </a:lnTo>
                        <a:lnTo>
                          <a:pt x="167" y="184"/>
                        </a:lnTo>
                        <a:lnTo>
                          <a:pt x="153" y="175"/>
                        </a:lnTo>
                        <a:lnTo>
                          <a:pt x="150" y="172"/>
                        </a:lnTo>
                        <a:lnTo>
                          <a:pt x="132" y="158"/>
                        </a:lnTo>
                        <a:lnTo>
                          <a:pt x="98" y="121"/>
                        </a:lnTo>
                        <a:lnTo>
                          <a:pt x="61" y="78"/>
                        </a:lnTo>
                        <a:lnTo>
                          <a:pt x="41" y="46"/>
                        </a:lnTo>
                        <a:lnTo>
                          <a:pt x="32" y="35"/>
                        </a:lnTo>
                        <a:lnTo>
                          <a:pt x="23" y="23"/>
                        </a:lnTo>
                        <a:lnTo>
                          <a:pt x="15" y="1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H="1" rot="20872200">
                    <a:off x="4883760" y="4523760"/>
                    <a:ext cx="885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3">
                        <a:moveTo>
                          <a:pt x="0" y="0"/>
                        </a:moveTo>
                        <a:lnTo>
                          <a:pt x="6" y="17"/>
                        </a:lnTo>
                        <a:lnTo>
                          <a:pt x="11" y="32"/>
                        </a:lnTo>
                        <a:lnTo>
                          <a:pt x="17" y="43"/>
                        </a:lnTo>
                        <a:lnTo>
                          <a:pt x="29" y="60"/>
                        </a:lnTo>
                        <a:lnTo>
                          <a:pt x="54" y="89"/>
                        </a:lnTo>
                        <a:lnTo>
                          <a:pt x="89" y="138"/>
                        </a:lnTo>
                        <a:lnTo>
                          <a:pt x="120" y="184"/>
                        </a:lnTo>
                        <a:lnTo>
                          <a:pt x="135" y="204"/>
                        </a:lnTo>
                        <a:lnTo>
                          <a:pt x="143" y="224"/>
                        </a:lnTo>
                        <a:lnTo>
                          <a:pt x="169" y="270"/>
                        </a:lnTo>
                        <a:lnTo>
                          <a:pt x="195" y="322"/>
                        </a:lnTo>
                        <a:lnTo>
                          <a:pt x="212" y="362"/>
                        </a:lnTo>
                        <a:lnTo>
                          <a:pt x="218" y="376"/>
                        </a:lnTo>
                        <a:lnTo>
                          <a:pt x="227" y="388"/>
                        </a:lnTo>
                        <a:lnTo>
                          <a:pt x="238" y="402"/>
                        </a:lnTo>
                        <a:lnTo>
                          <a:pt x="250" y="413"/>
                        </a:lnTo>
                        <a:lnTo>
                          <a:pt x="252" y="396"/>
                        </a:lnTo>
                        <a:lnTo>
                          <a:pt x="252" y="382"/>
                        </a:lnTo>
                        <a:lnTo>
                          <a:pt x="250" y="365"/>
                        </a:lnTo>
                        <a:lnTo>
                          <a:pt x="244" y="345"/>
                        </a:lnTo>
                        <a:lnTo>
                          <a:pt x="230" y="307"/>
                        </a:lnTo>
                        <a:lnTo>
                          <a:pt x="201" y="253"/>
                        </a:lnTo>
                        <a:lnTo>
                          <a:pt x="175" y="204"/>
                        </a:lnTo>
                        <a:lnTo>
                          <a:pt x="164" y="184"/>
                        </a:lnTo>
                        <a:lnTo>
                          <a:pt x="149" y="164"/>
                        </a:lnTo>
                        <a:lnTo>
                          <a:pt x="120" y="118"/>
                        </a:lnTo>
                        <a:lnTo>
                          <a:pt x="83" y="69"/>
                        </a:lnTo>
                        <a:lnTo>
                          <a:pt x="57" y="37"/>
                        </a:lnTo>
                        <a:lnTo>
                          <a:pt x="43" y="23"/>
                        </a:lnTo>
                        <a:lnTo>
                          <a:pt x="29" y="15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rot="20872200">
                    <a:off x="4959720" y="4662720"/>
                    <a:ext cx="22860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23">
                        <a:moveTo>
                          <a:pt x="651" y="0"/>
                        </a:moveTo>
                        <a:lnTo>
                          <a:pt x="619" y="12"/>
                        </a:lnTo>
                        <a:lnTo>
                          <a:pt x="591" y="21"/>
                        </a:lnTo>
                        <a:lnTo>
                          <a:pt x="562" y="32"/>
                        </a:lnTo>
                        <a:lnTo>
                          <a:pt x="530" y="46"/>
                        </a:lnTo>
                        <a:lnTo>
                          <a:pt x="505" y="58"/>
                        </a:lnTo>
                        <a:lnTo>
                          <a:pt x="462" y="78"/>
                        </a:lnTo>
                        <a:lnTo>
                          <a:pt x="410" y="101"/>
                        </a:lnTo>
                        <a:lnTo>
                          <a:pt x="358" y="130"/>
                        </a:lnTo>
                        <a:lnTo>
                          <a:pt x="307" y="158"/>
                        </a:lnTo>
                        <a:lnTo>
                          <a:pt x="266" y="184"/>
                        </a:lnTo>
                        <a:lnTo>
                          <a:pt x="238" y="204"/>
                        </a:lnTo>
                        <a:lnTo>
                          <a:pt x="229" y="213"/>
                        </a:lnTo>
                        <a:lnTo>
                          <a:pt x="221" y="221"/>
                        </a:lnTo>
                        <a:lnTo>
                          <a:pt x="195" y="247"/>
                        </a:lnTo>
                        <a:lnTo>
                          <a:pt x="160" y="282"/>
                        </a:lnTo>
                        <a:lnTo>
                          <a:pt x="126" y="328"/>
                        </a:lnTo>
                        <a:lnTo>
                          <a:pt x="89" y="376"/>
                        </a:lnTo>
                        <a:lnTo>
                          <a:pt x="60" y="425"/>
                        </a:lnTo>
                        <a:lnTo>
                          <a:pt x="40" y="468"/>
                        </a:lnTo>
                        <a:lnTo>
                          <a:pt x="25" y="500"/>
                        </a:lnTo>
                        <a:lnTo>
                          <a:pt x="11" y="531"/>
                        </a:lnTo>
                        <a:lnTo>
                          <a:pt x="5" y="563"/>
                        </a:lnTo>
                        <a:lnTo>
                          <a:pt x="0" y="592"/>
                        </a:lnTo>
                        <a:lnTo>
                          <a:pt x="0" y="623"/>
                        </a:lnTo>
                        <a:lnTo>
                          <a:pt x="14" y="597"/>
                        </a:lnTo>
                        <a:lnTo>
                          <a:pt x="28" y="572"/>
                        </a:lnTo>
                        <a:lnTo>
                          <a:pt x="43" y="543"/>
                        </a:lnTo>
                        <a:lnTo>
                          <a:pt x="60" y="511"/>
                        </a:lnTo>
                        <a:lnTo>
                          <a:pt x="71" y="483"/>
                        </a:lnTo>
                        <a:lnTo>
                          <a:pt x="91" y="442"/>
                        </a:lnTo>
                        <a:lnTo>
                          <a:pt x="117" y="397"/>
                        </a:lnTo>
                        <a:lnTo>
                          <a:pt x="152" y="348"/>
                        </a:lnTo>
                        <a:lnTo>
                          <a:pt x="186" y="305"/>
                        </a:lnTo>
                        <a:lnTo>
                          <a:pt x="221" y="270"/>
                        </a:lnTo>
                        <a:lnTo>
                          <a:pt x="243" y="247"/>
                        </a:lnTo>
                        <a:lnTo>
                          <a:pt x="252" y="242"/>
                        </a:lnTo>
                        <a:lnTo>
                          <a:pt x="261" y="233"/>
                        </a:lnTo>
                        <a:lnTo>
                          <a:pt x="287" y="213"/>
                        </a:lnTo>
                        <a:lnTo>
                          <a:pt x="324" y="187"/>
                        </a:lnTo>
                        <a:lnTo>
                          <a:pt x="375" y="161"/>
                        </a:lnTo>
                        <a:lnTo>
                          <a:pt x="427" y="135"/>
                        </a:lnTo>
                        <a:lnTo>
                          <a:pt x="476" y="110"/>
                        </a:lnTo>
                        <a:lnTo>
                          <a:pt x="519" y="92"/>
                        </a:lnTo>
                        <a:lnTo>
                          <a:pt x="550" y="78"/>
                        </a:lnTo>
                        <a:lnTo>
                          <a:pt x="582" y="61"/>
                        </a:lnTo>
                        <a:lnTo>
                          <a:pt x="608" y="44"/>
                        </a:lnTo>
                        <a:lnTo>
                          <a:pt x="628" y="23"/>
                        </a:lnTo>
                        <a:lnTo>
                          <a:pt x="651" y="0"/>
                        </a:lnTo>
                        <a:lnTo>
                          <a:pt x="6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rot="20872200">
                    <a:off x="5043240" y="4910040"/>
                    <a:ext cx="1724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101">
                        <a:moveTo>
                          <a:pt x="0" y="6"/>
                        </a:moveTo>
                        <a:lnTo>
                          <a:pt x="12" y="18"/>
                        </a:lnTo>
                        <a:lnTo>
                          <a:pt x="26" y="26"/>
                        </a:lnTo>
                        <a:lnTo>
                          <a:pt x="40" y="35"/>
                        </a:lnTo>
                        <a:lnTo>
                          <a:pt x="60" y="41"/>
                        </a:lnTo>
                        <a:lnTo>
                          <a:pt x="100" y="52"/>
                        </a:lnTo>
                        <a:lnTo>
                          <a:pt x="161" y="66"/>
                        </a:lnTo>
                        <a:lnTo>
                          <a:pt x="215" y="81"/>
                        </a:lnTo>
                        <a:lnTo>
                          <a:pt x="238" y="87"/>
                        </a:lnTo>
                        <a:lnTo>
                          <a:pt x="244" y="87"/>
                        </a:lnTo>
                        <a:lnTo>
                          <a:pt x="264" y="89"/>
                        </a:lnTo>
                        <a:lnTo>
                          <a:pt x="290" y="92"/>
                        </a:lnTo>
                        <a:lnTo>
                          <a:pt x="321" y="98"/>
                        </a:lnTo>
                        <a:lnTo>
                          <a:pt x="353" y="101"/>
                        </a:lnTo>
                        <a:lnTo>
                          <a:pt x="382" y="101"/>
                        </a:lnTo>
                        <a:lnTo>
                          <a:pt x="407" y="101"/>
                        </a:lnTo>
                        <a:lnTo>
                          <a:pt x="428" y="98"/>
                        </a:lnTo>
                        <a:lnTo>
                          <a:pt x="445" y="95"/>
                        </a:lnTo>
                        <a:lnTo>
                          <a:pt x="462" y="89"/>
                        </a:lnTo>
                        <a:lnTo>
                          <a:pt x="476" y="81"/>
                        </a:lnTo>
                        <a:lnTo>
                          <a:pt x="491" y="66"/>
                        </a:lnTo>
                        <a:lnTo>
                          <a:pt x="471" y="64"/>
                        </a:lnTo>
                        <a:lnTo>
                          <a:pt x="456" y="64"/>
                        </a:lnTo>
                        <a:lnTo>
                          <a:pt x="439" y="64"/>
                        </a:lnTo>
                        <a:lnTo>
                          <a:pt x="422" y="64"/>
                        </a:lnTo>
                        <a:lnTo>
                          <a:pt x="382" y="64"/>
                        </a:lnTo>
                        <a:lnTo>
                          <a:pt x="324" y="61"/>
                        </a:lnTo>
                        <a:lnTo>
                          <a:pt x="270" y="55"/>
                        </a:lnTo>
                        <a:lnTo>
                          <a:pt x="244" y="49"/>
                        </a:lnTo>
                        <a:lnTo>
                          <a:pt x="221" y="44"/>
                        </a:lnTo>
                        <a:lnTo>
                          <a:pt x="166" y="32"/>
                        </a:lnTo>
                        <a:lnTo>
                          <a:pt x="109" y="18"/>
                        </a:lnTo>
                        <a:lnTo>
                          <a:pt x="69" y="6"/>
                        </a:lnTo>
                        <a:lnTo>
                          <a:pt x="49" y="3"/>
                        </a:lnTo>
                        <a:lnTo>
                          <a:pt x="34" y="0"/>
                        </a:lnTo>
                        <a:lnTo>
                          <a:pt x="17" y="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 rot="20872200">
                    <a:off x="5031720" y="4862880"/>
                    <a:ext cx="792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87">
                        <a:moveTo>
                          <a:pt x="226" y="184"/>
                        </a:moveTo>
                        <a:lnTo>
                          <a:pt x="220" y="172"/>
                        </a:lnTo>
                        <a:lnTo>
                          <a:pt x="215" y="164"/>
                        </a:lnTo>
                        <a:lnTo>
                          <a:pt x="209" y="155"/>
                        </a:lnTo>
                        <a:lnTo>
                          <a:pt x="200" y="152"/>
                        </a:lnTo>
                        <a:lnTo>
                          <a:pt x="180" y="138"/>
                        </a:lnTo>
                        <a:lnTo>
                          <a:pt x="154" y="115"/>
                        </a:lnTo>
                        <a:lnTo>
                          <a:pt x="129" y="95"/>
                        </a:lnTo>
                        <a:lnTo>
                          <a:pt x="120" y="86"/>
                        </a:lnTo>
                        <a:lnTo>
                          <a:pt x="109" y="75"/>
                        </a:lnTo>
                        <a:lnTo>
                          <a:pt x="86" y="52"/>
                        </a:lnTo>
                        <a:lnTo>
                          <a:pt x="60" y="26"/>
                        </a:lnTo>
                        <a:lnTo>
                          <a:pt x="40" y="12"/>
                        </a:lnTo>
                        <a:lnTo>
                          <a:pt x="31" y="3"/>
                        </a:lnTo>
                        <a:lnTo>
                          <a:pt x="22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" y="20"/>
                        </a:lnTo>
                        <a:lnTo>
                          <a:pt x="8" y="29"/>
                        </a:lnTo>
                        <a:lnTo>
                          <a:pt x="17" y="37"/>
                        </a:lnTo>
                        <a:lnTo>
                          <a:pt x="34" y="55"/>
                        </a:lnTo>
                        <a:lnTo>
                          <a:pt x="60" y="78"/>
                        </a:lnTo>
                        <a:lnTo>
                          <a:pt x="83" y="101"/>
                        </a:lnTo>
                        <a:lnTo>
                          <a:pt x="94" y="112"/>
                        </a:lnTo>
                        <a:lnTo>
                          <a:pt x="106" y="121"/>
                        </a:lnTo>
                        <a:lnTo>
                          <a:pt x="131" y="144"/>
                        </a:lnTo>
                        <a:lnTo>
                          <a:pt x="160" y="167"/>
                        </a:lnTo>
                        <a:lnTo>
                          <a:pt x="180" y="181"/>
                        </a:lnTo>
                        <a:lnTo>
                          <a:pt x="192" y="187"/>
                        </a:lnTo>
                        <a:lnTo>
                          <a:pt x="203" y="187"/>
                        </a:lnTo>
                        <a:lnTo>
                          <a:pt x="212" y="187"/>
                        </a:lnTo>
                        <a:lnTo>
                          <a:pt x="226" y="184"/>
                        </a:lnTo>
                        <a:lnTo>
                          <a:pt x="22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 rot="20872200">
                    <a:off x="4921560" y="4679280"/>
                    <a:ext cx="1580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91">
                        <a:moveTo>
                          <a:pt x="439" y="0"/>
                        </a:moveTo>
                        <a:lnTo>
                          <a:pt x="436" y="23"/>
                        </a:lnTo>
                        <a:lnTo>
                          <a:pt x="428" y="43"/>
                        </a:lnTo>
                        <a:lnTo>
                          <a:pt x="413" y="55"/>
                        </a:lnTo>
                        <a:lnTo>
                          <a:pt x="396" y="63"/>
                        </a:lnTo>
                        <a:lnTo>
                          <a:pt x="384" y="61"/>
                        </a:lnTo>
                        <a:lnTo>
                          <a:pt x="373" y="61"/>
                        </a:lnTo>
                        <a:lnTo>
                          <a:pt x="362" y="58"/>
                        </a:lnTo>
                        <a:lnTo>
                          <a:pt x="350" y="55"/>
                        </a:lnTo>
                        <a:lnTo>
                          <a:pt x="347" y="55"/>
                        </a:lnTo>
                        <a:lnTo>
                          <a:pt x="341" y="55"/>
                        </a:lnTo>
                        <a:lnTo>
                          <a:pt x="339" y="55"/>
                        </a:lnTo>
                        <a:lnTo>
                          <a:pt x="336" y="55"/>
                        </a:lnTo>
                        <a:lnTo>
                          <a:pt x="327" y="58"/>
                        </a:lnTo>
                        <a:lnTo>
                          <a:pt x="324" y="66"/>
                        </a:lnTo>
                        <a:lnTo>
                          <a:pt x="327" y="78"/>
                        </a:lnTo>
                        <a:lnTo>
                          <a:pt x="333" y="84"/>
                        </a:lnTo>
                        <a:lnTo>
                          <a:pt x="339" y="89"/>
                        </a:lnTo>
                        <a:lnTo>
                          <a:pt x="350" y="95"/>
                        </a:lnTo>
                        <a:lnTo>
                          <a:pt x="362" y="101"/>
                        </a:lnTo>
                        <a:lnTo>
                          <a:pt x="367" y="104"/>
                        </a:lnTo>
                        <a:lnTo>
                          <a:pt x="333" y="135"/>
                        </a:lnTo>
                        <a:lnTo>
                          <a:pt x="301" y="161"/>
                        </a:lnTo>
                        <a:lnTo>
                          <a:pt x="278" y="178"/>
                        </a:lnTo>
                        <a:lnTo>
                          <a:pt x="270" y="184"/>
                        </a:lnTo>
                        <a:lnTo>
                          <a:pt x="261" y="190"/>
                        </a:lnTo>
                        <a:lnTo>
                          <a:pt x="235" y="207"/>
                        </a:lnTo>
                        <a:lnTo>
                          <a:pt x="201" y="230"/>
                        </a:lnTo>
                        <a:lnTo>
                          <a:pt x="161" y="259"/>
                        </a:lnTo>
                        <a:lnTo>
                          <a:pt x="118" y="290"/>
                        </a:lnTo>
                        <a:lnTo>
                          <a:pt x="80" y="325"/>
                        </a:lnTo>
                        <a:lnTo>
                          <a:pt x="49" y="356"/>
                        </a:lnTo>
                        <a:lnTo>
                          <a:pt x="34" y="379"/>
                        </a:lnTo>
                        <a:lnTo>
                          <a:pt x="14" y="405"/>
                        </a:lnTo>
                        <a:lnTo>
                          <a:pt x="3" y="434"/>
                        </a:lnTo>
                        <a:lnTo>
                          <a:pt x="0" y="460"/>
                        </a:lnTo>
                        <a:lnTo>
                          <a:pt x="0" y="491"/>
                        </a:lnTo>
                        <a:lnTo>
                          <a:pt x="14" y="465"/>
                        </a:lnTo>
                        <a:lnTo>
                          <a:pt x="29" y="442"/>
                        </a:lnTo>
                        <a:lnTo>
                          <a:pt x="43" y="422"/>
                        </a:lnTo>
                        <a:lnTo>
                          <a:pt x="60" y="399"/>
                        </a:lnTo>
                        <a:lnTo>
                          <a:pt x="75" y="379"/>
                        </a:lnTo>
                        <a:lnTo>
                          <a:pt x="103" y="350"/>
                        </a:lnTo>
                        <a:lnTo>
                          <a:pt x="138" y="319"/>
                        </a:lnTo>
                        <a:lnTo>
                          <a:pt x="181" y="290"/>
                        </a:lnTo>
                        <a:lnTo>
                          <a:pt x="221" y="259"/>
                        </a:lnTo>
                        <a:lnTo>
                          <a:pt x="255" y="236"/>
                        </a:lnTo>
                        <a:lnTo>
                          <a:pt x="281" y="218"/>
                        </a:lnTo>
                        <a:lnTo>
                          <a:pt x="290" y="213"/>
                        </a:lnTo>
                        <a:lnTo>
                          <a:pt x="298" y="207"/>
                        </a:lnTo>
                        <a:lnTo>
                          <a:pt x="324" y="190"/>
                        </a:lnTo>
                        <a:lnTo>
                          <a:pt x="356" y="164"/>
                        </a:lnTo>
                        <a:lnTo>
                          <a:pt x="396" y="127"/>
                        </a:lnTo>
                        <a:lnTo>
                          <a:pt x="399" y="121"/>
                        </a:lnTo>
                        <a:lnTo>
                          <a:pt x="405" y="118"/>
                        </a:lnTo>
                        <a:lnTo>
                          <a:pt x="407" y="112"/>
                        </a:lnTo>
                        <a:lnTo>
                          <a:pt x="413" y="107"/>
                        </a:lnTo>
                        <a:lnTo>
                          <a:pt x="422" y="98"/>
                        </a:lnTo>
                        <a:lnTo>
                          <a:pt x="425" y="101"/>
                        </a:lnTo>
                        <a:lnTo>
                          <a:pt x="425" y="101"/>
                        </a:lnTo>
                        <a:lnTo>
                          <a:pt x="425" y="98"/>
                        </a:lnTo>
                        <a:lnTo>
                          <a:pt x="422" y="92"/>
                        </a:lnTo>
                        <a:lnTo>
                          <a:pt x="442" y="72"/>
                        </a:lnTo>
                        <a:lnTo>
                          <a:pt x="450" y="49"/>
                        </a:lnTo>
                        <a:lnTo>
                          <a:pt x="450" y="23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 rot="20872200">
                    <a:off x="4907880" y="4428360"/>
                    <a:ext cx="219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319">
                        <a:moveTo>
                          <a:pt x="20" y="319"/>
                        </a:moveTo>
                        <a:lnTo>
                          <a:pt x="28" y="310"/>
                        </a:lnTo>
                        <a:lnTo>
                          <a:pt x="37" y="301"/>
                        </a:lnTo>
                        <a:lnTo>
                          <a:pt x="43" y="290"/>
                        </a:lnTo>
                        <a:lnTo>
                          <a:pt x="46" y="278"/>
                        </a:lnTo>
                        <a:lnTo>
                          <a:pt x="51" y="250"/>
                        </a:lnTo>
                        <a:lnTo>
                          <a:pt x="57" y="209"/>
                        </a:lnTo>
                        <a:lnTo>
                          <a:pt x="60" y="172"/>
                        </a:lnTo>
                        <a:lnTo>
                          <a:pt x="60" y="155"/>
                        </a:lnTo>
                        <a:lnTo>
                          <a:pt x="60" y="149"/>
                        </a:lnTo>
                        <a:lnTo>
                          <a:pt x="63" y="138"/>
                        </a:lnTo>
                        <a:lnTo>
                          <a:pt x="63" y="121"/>
                        </a:lnTo>
                        <a:lnTo>
                          <a:pt x="60" y="100"/>
                        </a:lnTo>
                        <a:lnTo>
                          <a:pt x="57" y="77"/>
                        </a:lnTo>
                        <a:lnTo>
                          <a:pt x="51" y="57"/>
                        </a:lnTo>
                        <a:lnTo>
                          <a:pt x="46" y="40"/>
                        </a:lnTo>
                        <a:lnTo>
                          <a:pt x="40" y="29"/>
                        </a:lnTo>
                        <a:lnTo>
                          <a:pt x="31" y="14"/>
                        </a:lnTo>
                        <a:lnTo>
                          <a:pt x="23" y="6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2" y="34"/>
                        </a:lnTo>
                        <a:lnTo>
                          <a:pt x="8" y="43"/>
                        </a:lnTo>
                        <a:lnTo>
                          <a:pt x="11" y="52"/>
                        </a:lnTo>
                        <a:lnTo>
                          <a:pt x="17" y="66"/>
                        </a:lnTo>
                        <a:lnTo>
                          <a:pt x="20" y="83"/>
                        </a:lnTo>
                        <a:lnTo>
                          <a:pt x="25" y="103"/>
                        </a:lnTo>
                        <a:lnTo>
                          <a:pt x="25" y="121"/>
                        </a:lnTo>
                        <a:lnTo>
                          <a:pt x="25" y="138"/>
                        </a:lnTo>
                        <a:lnTo>
                          <a:pt x="25" y="149"/>
                        </a:lnTo>
                        <a:lnTo>
                          <a:pt x="25" y="155"/>
                        </a:lnTo>
                        <a:lnTo>
                          <a:pt x="23" y="169"/>
                        </a:lnTo>
                        <a:lnTo>
                          <a:pt x="20" y="204"/>
                        </a:lnTo>
                        <a:lnTo>
                          <a:pt x="14" y="244"/>
                        </a:lnTo>
                        <a:lnTo>
                          <a:pt x="11" y="273"/>
                        </a:lnTo>
                        <a:lnTo>
                          <a:pt x="8" y="284"/>
                        </a:lnTo>
                        <a:lnTo>
                          <a:pt x="8" y="296"/>
                        </a:lnTo>
                        <a:lnTo>
                          <a:pt x="14" y="307"/>
                        </a:lnTo>
                        <a:lnTo>
                          <a:pt x="20" y="319"/>
                        </a:lnTo>
                        <a:lnTo>
                          <a:pt x="20" y="3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H="1" rot="20872200">
                    <a:off x="4781520" y="4613400"/>
                    <a:ext cx="1432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26">
                        <a:moveTo>
                          <a:pt x="0" y="3"/>
                        </a:moveTo>
                        <a:lnTo>
                          <a:pt x="12" y="14"/>
                        </a:lnTo>
                        <a:lnTo>
                          <a:pt x="20" y="23"/>
                        </a:lnTo>
                        <a:lnTo>
                          <a:pt x="35" y="31"/>
                        </a:lnTo>
                        <a:lnTo>
                          <a:pt x="49" y="37"/>
                        </a:lnTo>
                        <a:lnTo>
                          <a:pt x="83" y="49"/>
                        </a:lnTo>
                        <a:lnTo>
                          <a:pt x="135" y="66"/>
                        </a:lnTo>
                        <a:lnTo>
                          <a:pt x="181" y="77"/>
                        </a:lnTo>
                        <a:lnTo>
                          <a:pt x="201" y="83"/>
                        </a:lnTo>
                        <a:lnTo>
                          <a:pt x="207" y="83"/>
                        </a:lnTo>
                        <a:lnTo>
                          <a:pt x="221" y="89"/>
                        </a:lnTo>
                        <a:lnTo>
                          <a:pt x="244" y="95"/>
                        </a:lnTo>
                        <a:lnTo>
                          <a:pt x="270" y="97"/>
                        </a:lnTo>
                        <a:lnTo>
                          <a:pt x="299" y="103"/>
                        </a:lnTo>
                        <a:lnTo>
                          <a:pt x="324" y="106"/>
                        </a:lnTo>
                        <a:lnTo>
                          <a:pt x="347" y="106"/>
                        </a:lnTo>
                        <a:lnTo>
                          <a:pt x="359" y="106"/>
                        </a:lnTo>
                        <a:lnTo>
                          <a:pt x="370" y="109"/>
                        </a:lnTo>
                        <a:lnTo>
                          <a:pt x="382" y="112"/>
                        </a:lnTo>
                        <a:lnTo>
                          <a:pt x="393" y="118"/>
                        </a:lnTo>
                        <a:lnTo>
                          <a:pt x="408" y="126"/>
                        </a:lnTo>
                        <a:lnTo>
                          <a:pt x="405" y="106"/>
                        </a:lnTo>
                        <a:lnTo>
                          <a:pt x="396" y="95"/>
                        </a:lnTo>
                        <a:lnTo>
                          <a:pt x="385" y="80"/>
                        </a:lnTo>
                        <a:lnTo>
                          <a:pt x="365" y="74"/>
                        </a:lnTo>
                        <a:lnTo>
                          <a:pt x="350" y="72"/>
                        </a:lnTo>
                        <a:lnTo>
                          <a:pt x="327" y="69"/>
                        </a:lnTo>
                        <a:lnTo>
                          <a:pt x="301" y="69"/>
                        </a:lnTo>
                        <a:lnTo>
                          <a:pt x="279" y="66"/>
                        </a:lnTo>
                        <a:lnTo>
                          <a:pt x="253" y="60"/>
                        </a:lnTo>
                        <a:lnTo>
                          <a:pt x="230" y="54"/>
                        </a:lnTo>
                        <a:lnTo>
                          <a:pt x="215" y="52"/>
                        </a:lnTo>
                        <a:lnTo>
                          <a:pt x="210" y="52"/>
                        </a:lnTo>
                        <a:lnTo>
                          <a:pt x="190" y="46"/>
                        </a:lnTo>
                        <a:lnTo>
                          <a:pt x="144" y="31"/>
                        </a:lnTo>
                        <a:lnTo>
                          <a:pt x="95" y="17"/>
                        </a:lnTo>
                        <a:lnTo>
                          <a:pt x="60" y="6"/>
                        </a:lnTo>
                        <a:lnTo>
                          <a:pt x="43" y="0"/>
                        </a:ln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rot="20872200">
                    <a:off x="4734360" y="4624200"/>
                    <a:ext cx="44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58">
                        <a:moveTo>
                          <a:pt x="0" y="118"/>
                        </a:moveTo>
                        <a:lnTo>
                          <a:pt x="3" y="129"/>
                        </a:lnTo>
                        <a:lnTo>
                          <a:pt x="9" y="141"/>
                        </a:lnTo>
                        <a:lnTo>
                          <a:pt x="17" y="149"/>
                        </a:lnTo>
                        <a:lnTo>
                          <a:pt x="29" y="158"/>
                        </a:lnTo>
                        <a:lnTo>
                          <a:pt x="35" y="158"/>
                        </a:lnTo>
                        <a:lnTo>
                          <a:pt x="43" y="158"/>
                        </a:lnTo>
                        <a:lnTo>
                          <a:pt x="55" y="158"/>
                        </a:lnTo>
                        <a:lnTo>
                          <a:pt x="66" y="155"/>
                        </a:lnTo>
                        <a:lnTo>
                          <a:pt x="78" y="149"/>
                        </a:lnTo>
                        <a:lnTo>
                          <a:pt x="86" y="141"/>
                        </a:lnTo>
                        <a:lnTo>
                          <a:pt x="98" y="132"/>
                        </a:lnTo>
                        <a:lnTo>
                          <a:pt x="103" y="123"/>
                        </a:lnTo>
                        <a:lnTo>
                          <a:pt x="115" y="103"/>
                        </a:lnTo>
                        <a:lnTo>
                          <a:pt x="121" y="86"/>
                        </a:lnTo>
                        <a:lnTo>
                          <a:pt x="123" y="75"/>
                        </a:lnTo>
                        <a:lnTo>
                          <a:pt x="123" y="69"/>
                        </a:lnTo>
                        <a:lnTo>
                          <a:pt x="123" y="69"/>
                        </a:lnTo>
                        <a:lnTo>
                          <a:pt x="123" y="66"/>
                        </a:lnTo>
                        <a:lnTo>
                          <a:pt x="123" y="60"/>
                        </a:lnTo>
                        <a:lnTo>
                          <a:pt x="126" y="52"/>
                        </a:lnTo>
                        <a:lnTo>
                          <a:pt x="123" y="43"/>
                        </a:lnTo>
                        <a:lnTo>
                          <a:pt x="121" y="29"/>
                        </a:lnTo>
                        <a:lnTo>
                          <a:pt x="112" y="17"/>
                        </a:lnTo>
                        <a:lnTo>
                          <a:pt x="101" y="9"/>
                        </a:lnTo>
                        <a:lnTo>
                          <a:pt x="86" y="3"/>
                        </a:lnTo>
                        <a:lnTo>
                          <a:pt x="72" y="0"/>
                        </a:lnTo>
                        <a:lnTo>
                          <a:pt x="57" y="3"/>
                        </a:lnTo>
                        <a:lnTo>
                          <a:pt x="49" y="9"/>
                        </a:lnTo>
                        <a:lnTo>
                          <a:pt x="37" y="12"/>
                        </a:lnTo>
                        <a:lnTo>
                          <a:pt x="32" y="17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14" y="29"/>
                        </a:lnTo>
                        <a:lnTo>
                          <a:pt x="6" y="37"/>
                        </a:lnTo>
                        <a:lnTo>
                          <a:pt x="3" y="49"/>
                        </a:lnTo>
                        <a:lnTo>
                          <a:pt x="0" y="60"/>
                        </a:lnTo>
                        <a:lnTo>
                          <a:pt x="12" y="60"/>
                        </a:lnTo>
                        <a:lnTo>
                          <a:pt x="23" y="60"/>
                        </a:lnTo>
                        <a:lnTo>
                          <a:pt x="32" y="55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63" y="40"/>
                        </a:lnTo>
                        <a:lnTo>
                          <a:pt x="75" y="34"/>
                        </a:lnTo>
                        <a:lnTo>
                          <a:pt x="83" y="37"/>
                        </a:lnTo>
                        <a:lnTo>
                          <a:pt x="86" y="43"/>
                        </a:lnTo>
                        <a:lnTo>
                          <a:pt x="89" y="55"/>
                        </a:lnTo>
                        <a:lnTo>
                          <a:pt x="89" y="60"/>
                        </a:lnTo>
                        <a:lnTo>
                          <a:pt x="89" y="63"/>
                        </a:lnTo>
                        <a:lnTo>
                          <a:pt x="89" y="69"/>
                        </a:lnTo>
                        <a:lnTo>
                          <a:pt x="86" y="78"/>
                        </a:lnTo>
                        <a:lnTo>
                          <a:pt x="80" y="89"/>
                        </a:lnTo>
                        <a:lnTo>
                          <a:pt x="75" y="103"/>
                        </a:lnTo>
                        <a:lnTo>
                          <a:pt x="66" y="115"/>
                        </a:lnTo>
                        <a:lnTo>
                          <a:pt x="55" y="121"/>
                        </a:lnTo>
                        <a:lnTo>
                          <a:pt x="46" y="121"/>
                        </a:lnTo>
                        <a:lnTo>
                          <a:pt x="37" y="121"/>
                        </a:lnTo>
                        <a:lnTo>
                          <a:pt x="32" y="121"/>
                        </a:lnTo>
                        <a:lnTo>
                          <a:pt x="23" y="118"/>
                        </a:lnTo>
                        <a:lnTo>
                          <a:pt x="12" y="118"/>
                        </a:lnTo>
                        <a:lnTo>
                          <a:pt x="0" y="118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 rot="20872200">
                    <a:off x="4618440" y="4710600"/>
                    <a:ext cx="18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0" h="44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2" y="49"/>
                        </a:lnTo>
                        <a:lnTo>
                          <a:pt x="8" y="71"/>
                        </a:lnTo>
                        <a:lnTo>
                          <a:pt x="20" y="100"/>
                        </a:lnTo>
                        <a:lnTo>
                          <a:pt x="31" y="120"/>
                        </a:lnTo>
                        <a:lnTo>
                          <a:pt x="48" y="152"/>
                        </a:lnTo>
                        <a:lnTo>
                          <a:pt x="71" y="189"/>
                        </a:lnTo>
                        <a:lnTo>
                          <a:pt x="103" y="229"/>
                        </a:lnTo>
                        <a:lnTo>
                          <a:pt x="132" y="261"/>
                        </a:lnTo>
                        <a:lnTo>
                          <a:pt x="163" y="287"/>
                        </a:lnTo>
                        <a:lnTo>
                          <a:pt x="183" y="301"/>
                        </a:lnTo>
                        <a:lnTo>
                          <a:pt x="192" y="310"/>
                        </a:lnTo>
                        <a:lnTo>
                          <a:pt x="200" y="313"/>
                        </a:lnTo>
                        <a:lnTo>
                          <a:pt x="221" y="330"/>
                        </a:lnTo>
                        <a:lnTo>
                          <a:pt x="252" y="347"/>
                        </a:lnTo>
                        <a:lnTo>
                          <a:pt x="292" y="370"/>
                        </a:lnTo>
                        <a:lnTo>
                          <a:pt x="335" y="390"/>
                        </a:lnTo>
                        <a:lnTo>
                          <a:pt x="375" y="407"/>
                        </a:lnTo>
                        <a:lnTo>
                          <a:pt x="407" y="422"/>
                        </a:lnTo>
                        <a:lnTo>
                          <a:pt x="430" y="430"/>
                        </a:lnTo>
                        <a:lnTo>
                          <a:pt x="459" y="436"/>
                        </a:lnTo>
                        <a:lnTo>
                          <a:pt x="482" y="442"/>
                        </a:lnTo>
                        <a:lnTo>
                          <a:pt x="505" y="445"/>
                        </a:lnTo>
                        <a:lnTo>
                          <a:pt x="530" y="447"/>
                        </a:lnTo>
                        <a:lnTo>
                          <a:pt x="507" y="430"/>
                        </a:lnTo>
                        <a:lnTo>
                          <a:pt x="490" y="419"/>
                        </a:lnTo>
                        <a:lnTo>
                          <a:pt x="467" y="407"/>
                        </a:lnTo>
                        <a:lnTo>
                          <a:pt x="441" y="396"/>
                        </a:lnTo>
                        <a:lnTo>
                          <a:pt x="419" y="387"/>
                        </a:lnTo>
                        <a:lnTo>
                          <a:pt x="387" y="376"/>
                        </a:lnTo>
                        <a:lnTo>
                          <a:pt x="350" y="358"/>
                        </a:lnTo>
                        <a:lnTo>
                          <a:pt x="309" y="338"/>
                        </a:lnTo>
                        <a:lnTo>
                          <a:pt x="269" y="318"/>
                        </a:lnTo>
                        <a:lnTo>
                          <a:pt x="241" y="298"/>
                        </a:lnTo>
                        <a:lnTo>
                          <a:pt x="221" y="284"/>
                        </a:lnTo>
                        <a:lnTo>
                          <a:pt x="212" y="278"/>
                        </a:lnTo>
                        <a:lnTo>
                          <a:pt x="203" y="272"/>
                        </a:lnTo>
                        <a:lnTo>
                          <a:pt x="186" y="258"/>
                        </a:lnTo>
                        <a:lnTo>
                          <a:pt x="157" y="235"/>
                        </a:lnTo>
                        <a:lnTo>
                          <a:pt x="129" y="203"/>
                        </a:lnTo>
                        <a:lnTo>
                          <a:pt x="100" y="169"/>
                        </a:lnTo>
                        <a:lnTo>
                          <a:pt x="77" y="132"/>
                        </a:lnTo>
                        <a:lnTo>
                          <a:pt x="60" y="103"/>
                        </a:lnTo>
                        <a:lnTo>
                          <a:pt x="51" y="80"/>
                        </a:lnTo>
                        <a:lnTo>
                          <a:pt x="40" y="57"/>
                        </a:lnTo>
                        <a:lnTo>
                          <a:pt x="28" y="37"/>
                        </a:lnTo>
                        <a:lnTo>
                          <a:pt x="14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 rot="20872200">
                    <a:off x="4552560" y="4670280"/>
                    <a:ext cx="22860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583">
                        <a:moveTo>
                          <a:pt x="626" y="3"/>
                        </a:moveTo>
                        <a:lnTo>
                          <a:pt x="623" y="3"/>
                        </a:lnTo>
                        <a:lnTo>
                          <a:pt x="620" y="9"/>
                        </a:lnTo>
                        <a:lnTo>
                          <a:pt x="611" y="15"/>
                        </a:lnTo>
                        <a:lnTo>
                          <a:pt x="603" y="18"/>
                        </a:lnTo>
                        <a:lnTo>
                          <a:pt x="597" y="23"/>
                        </a:lnTo>
                        <a:lnTo>
                          <a:pt x="574" y="38"/>
                        </a:lnTo>
                        <a:lnTo>
                          <a:pt x="557" y="49"/>
                        </a:lnTo>
                        <a:lnTo>
                          <a:pt x="545" y="58"/>
                        </a:lnTo>
                        <a:lnTo>
                          <a:pt x="542" y="61"/>
                        </a:lnTo>
                        <a:lnTo>
                          <a:pt x="528" y="72"/>
                        </a:lnTo>
                        <a:lnTo>
                          <a:pt x="488" y="101"/>
                        </a:lnTo>
                        <a:lnTo>
                          <a:pt x="431" y="147"/>
                        </a:lnTo>
                        <a:lnTo>
                          <a:pt x="367" y="204"/>
                        </a:lnTo>
                        <a:lnTo>
                          <a:pt x="353" y="218"/>
                        </a:lnTo>
                        <a:lnTo>
                          <a:pt x="339" y="233"/>
                        </a:lnTo>
                        <a:lnTo>
                          <a:pt x="324" y="250"/>
                        </a:lnTo>
                        <a:lnTo>
                          <a:pt x="310" y="264"/>
                        </a:lnTo>
                        <a:lnTo>
                          <a:pt x="299" y="256"/>
                        </a:lnTo>
                        <a:lnTo>
                          <a:pt x="290" y="250"/>
                        </a:lnTo>
                        <a:lnTo>
                          <a:pt x="281" y="244"/>
                        </a:lnTo>
                        <a:lnTo>
                          <a:pt x="276" y="239"/>
                        </a:lnTo>
                        <a:lnTo>
                          <a:pt x="267" y="233"/>
                        </a:lnTo>
                        <a:lnTo>
                          <a:pt x="235" y="210"/>
                        </a:lnTo>
                        <a:lnTo>
                          <a:pt x="210" y="193"/>
                        </a:lnTo>
                        <a:lnTo>
                          <a:pt x="189" y="178"/>
                        </a:lnTo>
                        <a:lnTo>
                          <a:pt x="172" y="167"/>
                        </a:lnTo>
                        <a:lnTo>
                          <a:pt x="149" y="150"/>
                        </a:lnTo>
                        <a:lnTo>
                          <a:pt x="126" y="135"/>
                        </a:lnTo>
                        <a:lnTo>
                          <a:pt x="106" y="124"/>
                        </a:lnTo>
                        <a:lnTo>
                          <a:pt x="86" y="112"/>
                        </a:lnTo>
                        <a:lnTo>
                          <a:pt x="69" y="104"/>
                        </a:lnTo>
                        <a:lnTo>
                          <a:pt x="46" y="98"/>
                        </a:lnTo>
                        <a:lnTo>
                          <a:pt x="26" y="92"/>
                        </a:lnTo>
                        <a:lnTo>
                          <a:pt x="0" y="92"/>
                        </a:lnTo>
                        <a:lnTo>
                          <a:pt x="40" y="109"/>
                        </a:lnTo>
                        <a:lnTo>
                          <a:pt x="75" y="135"/>
                        </a:lnTo>
                        <a:lnTo>
                          <a:pt x="109" y="164"/>
                        </a:lnTo>
                        <a:lnTo>
                          <a:pt x="152" y="193"/>
                        </a:lnTo>
                        <a:lnTo>
                          <a:pt x="167" y="204"/>
                        </a:lnTo>
                        <a:lnTo>
                          <a:pt x="189" y="221"/>
                        </a:lnTo>
                        <a:lnTo>
                          <a:pt x="215" y="239"/>
                        </a:lnTo>
                        <a:lnTo>
                          <a:pt x="244" y="261"/>
                        </a:lnTo>
                        <a:lnTo>
                          <a:pt x="253" y="267"/>
                        </a:lnTo>
                        <a:lnTo>
                          <a:pt x="261" y="273"/>
                        </a:lnTo>
                        <a:lnTo>
                          <a:pt x="270" y="279"/>
                        </a:lnTo>
                        <a:lnTo>
                          <a:pt x="278" y="287"/>
                        </a:lnTo>
                        <a:lnTo>
                          <a:pt x="287" y="290"/>
                        </a:lnTo>
                        <a:lnTo>
                          <a:pt x="296" y="299"/>
                        </a:lnTo>
                        <a:lnTo>
                          <a:pt x="304" y="305"/>
                        </a:lnTo>
                        <a:lnTo>
                          <a:pt x="330" y="299"/>
                        </a:lnTo>
                        <a:lnTo>
                          <a:pt x="333" y="299"/>
                        </a:lnTo>
                        <a:lnTo>
                          <a:pt x="336" y="293"/>
                        </a:lnTo>
                        <a:lnTo>
                          <a:pt x="347" y="276"/>
                        </a:lnTo>
                        <a:lnTo>
                          <a:pt x="365" y="261"/>
                        </a:lnTo>
                        <a:lnTo>
                          <a:pt x="379" y="244"/>
                        </a:lnTo>
                        <a:lnTo>
                          <a:pt x="396" y="230"/>
                        </a:lnTo>
                        <a:lnTo>
                          <a:pt x="453" y="173"/>
                        </a:lnTo>
                        <a:lnTo>
                          <a:pt x="508" y="129"/>
                        </a:lnTo>
                        <a:lnTo>
                          <a:pt x="548" y="98"/>
                        </a:lnTo>
                        <a:lnTo>
                          <a:pt x="562" y="89"/>
                        </a:lnTo>
                        <a:lnTo>
                          <a:pt x="565" y="86"/>
                        </a:lnTo>
                        <a:lnTo>
                          <a:pt x="574" y="81"/>
                        </a:lnTo>
                        <a:lnTo>
                          <a:pt x="588" y="69"/>
                        </a:lnTo>
                        <a:lnTo>
                          <a:pt x="608" y="58"/>
                        </a:lnTo>
                        <a:lnTo>
                          <a:pt x="603" y="75"/>
                        </a:lnTo>
                        <a:lnTo>
                          <a:pt x="597" y="95"/>
                        </a:lnTo>
                        <a:lnTo>
                          <a:pt x="594" y="112"/>
                        </a:lnTo>
                        <a:lnTo>
                          <a:pt x="588" y="132"/>
                        </a:lnTo>
                        <a:lnTo>
                          <a:pt x="568" y="218"/>
                        </a:lnTo>
                        <a:lnTo>
                          <a:pt x="545" y="296"/>
                        </a:lnTo>
                        <a:lnTo>
                          <a:pt x="525" y="362"/>
                        </a:lnTo>
                        <a:lnTo>
                          <a:pt x="508" y="405"/>
                        </a:lnTo>
                        <a:lnTo>
                          <a:pt x="491" y="454"/>
                        </a:lnTo>
                        <a:lnTo>
                          <a:pt x="476" y="497"/>
                        </a:lnTo>
                        <a:lnTo>
                          <a:pt x="462" y="537"/>
                        </a:lnTo>
                        <a:lnTo>
                          <a:pt x="445" y="583"/>
                        </a:lnTo>
                        <a:lnTo>
                          <a:pt x="474" y="546"/>
                        </a:lnTo>
                        <a:lnTo>
                          <a:pt x="499" y="508"/>
                        </a:lnTo>
                        <a:lnTo>
                          <a:pt x="522" y="468"/>
                        </a:lnTo>
                        <a:lnTo>
                          <a:pt x="545" y="416"/>
                        </a:lnTo>
                        <a:lnTo>
                          <a:pt x="560" y="373"/>
                        </a:lnTo>
                        <a:lnTo>
                          <a:pt x="580" y="307"/>
                        </a:lnTo>
                        <a:lnTo>
                          <a:pt x="603" y="227"/>
                        </a:lnTo>
                        <a:lnTo>
                          <a:pt x="626" y="144"/>
                        </a:lnTo>
                        <a:lnTo>
                          <a:pt x="628" y="121"/>
                        </a:lnTo>
                        <a:lnTo>
                          <a:pt x="634" y="98"/>
                        </a:lnTo>
                        <a:lnTo>
                          <a:pt x="637" y="78"/>
                        </a:lnTo>
                        <a:lnTo>
                          <a:pt x="643" y="61"/>
                        </a:lnTo>
                        <a:lnTo>
                          <a:pt x="646" y="55"/>
                        </a:lnTo>
                        <a:lnTo>
                          <a:pt x="646" y="49"/>
                        </a:lnTo>
                        <a:lnTo>
                          <a:pt x="646" y="40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49" y="38"/>
                        </a:lnTo>
                        <a:lnTo>
                          <a:pt x="651" y="29"/>
                        </a:lnTo>
                        <a:lnTo>
                          <a:pt x="651" y="23"/>
                        </a:lnTo>
                        <a:lnTo>
                          <a:pt x="646" y="18"/>
                        </a:lnTo>
                        <a:lnTo>
                          <a:pt x="631" y="9"/>
                        </a:lnTo>
                        <a:lnTo>
                          <a:pt x="620" y="0"/>
                        </a:lnTo>
                        <a:lnTo>
                          <a:pt x="626" y="3"/>
                        </a:lnTo>
                        <a:lnTo>
                          <a:pt x="62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 rot="20872200">
                    <a:off x="4972320" y="390456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0" y="0"/>
                        </a:moveTo>
                        <a:lnTo>
                          <a:pt x="9" y="3"/>
                        </a:lnTo>
                        <a:lnTo>
                          <a:pt x="3" y="12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6" y="43"/>
                        </a:lnTo>
                        <a:lnTo>
                          <a:pt x="15" y="49"/>
                        </a:lnTo>
                        <a:lnTo>
                          <a:pt x="23" y="49"/>
                        </a:lnTo>
                        <a:lnTo>
                          <a:pt x="32" y="43"/>
                        </a:lnTo>
                        <a:lnTo>
                          <a:pt x="35" y="32"/>
                        </a:lnTo>
                        <a:lnTo>
                          <a:pt x="35" y="20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01" name=""/>
          <p:cNvSpPr/>
          <p:nvPr/>
        </p:nvSpPr>
        <p:spPr>
          <a:xfrm>
            <a:off x="900000" y="0"/>
            <a:ext cx="5151600" cy="1974960"/>
          </a:xfrm>
          <a:prstGeom prst="wedgeEllipseCallout">
            <a:avLst>
              <a:gd name="adj1" fmla="val -4393"/>
              <a:gd name="adj2" fmla="val 215675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525680" y="56520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vais t'expliqu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6748560" cy="4354560"/>
          </a:xfrm>
          <a:prstGeom prst="wedgeEllipseCallout">
            <a:avLst>
              <a:gd name="adj1" fmla="val -35578"/>
              <a:gd name="adj2" fmla="val 76101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7329240" y="-1128960"/>
            <a:ext cx="1332720" cy="5698800"/>
            <a:chOff x="7329240" y="-1128960"/>
            <a:chExt cx="1332720" cy="5698800"/>
          </a:xfrm>
        </p:grpSpPr>
        <p:sp>
          <p:nvSpPr>
            <p:cNvPr id="906" name=""/>
            <p:cNvSpPr/>
            <p:nvPr/>
          </p:nvSpPr>
          <p:spPr>
            <a:xfrm rot="1118400">
              <a:off x="8412120" y="-1111320"/>
              <a:ext cx="168480" cy="3589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827400">
              <a:off x="7740360" y="-118800"/>
              <a:ext cx="222120" cy="34801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164440" y="-102960"/>
              <a:ext cx="331920" cy="42163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7989480" y="1922760"/>
              <a:ext cx="672480" cy="2647080"/>
              <a:chOff x="7989480" y="1922760"/>
              <a:chExt cx="672480" cy="264708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7989480" y="1922760"/>
                <a:ext cx="672480" cy="2647080"/>
                <a:chOff x="7989480" y="1922760"/>
                <a:chExt cx="672480" cy="2647080"/>
              </a:xfrm>
            </p:grpSpPr>
            <p:sp>
              <p:nvSpPr>
                <p:cNvPr id="911" name=""/>
                <p:cNvSpPr/>
                <p:nvPr/>
              </p:nvSpPr>
              <p:spPr>
                <a:xfrm flipH="1" rot="151200">
                  <a:off x="8140320" y="3457800"/>
                  <a:ext cx="22932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2" name=""/>
                <p:cNvGrpSpPr/>
                <p:nvPr/>
              </p:nvGrpSpPr>
              <p:grpSpPr>
                <a:xfrm>
                  <a:off x="7989480" y="1922760"/>
                  <a:ext cx="672480" cy="2647080"/>
                  <a:chOff x="7989480" y="1922760"/>
                  <a:chExt cx="672480" cy="264708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 flipH="1" rot="606600">
                    <a:off x="8039880" y="3946680"/>
                    <a:ext cx="173160" cy="59400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 rot="670200">
                    <a:off x="8297280" y="191880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8060040" y="4498560"/>
                    <a:ext cx="14400" cy="7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8147520" y="1932120"/>
                    <a:ext cx="400320" cy="202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V="1">
                    <a:off x="8208360" y="1953000"/>
                    <a:ext cx="395640" cy="20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8" name=""/>
              <p:cNvSpPr/>
              <p:nvPr/>
            </p:nvSpPr>
            <p:spPr>
              <a:xfrm flipH="1" flipV="1" rot="403800">
                <a:off x="8145720" y="3462840"/>
                <a:ext cx="22824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rot="634200">
              <a:off x="8141760" y="-818640"/>
              <a:ext cx="397080" cy="10126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92800" y="-1089720"/>
            <a:ext cx="2200320" cy="4933440"/>
            <a:chOff x="5392800" y="-1089720"/>
            <a:chExt cx="2200320" cy="4933440"/>
          </a:xfrm>
        </p:grpSpPr>
        <p:sp>
          <p:nvSpPr>
            <p:cNvPr id="921" name=""/>
            <p:cNvSpPr/>
            <p:nvPr/>
          </p:nvSpPr>
          <p:spPr>
            <a:xfrm flipH="1" rot="20709600">
              <a:off x="6937560" y="0"/>
              <a:ext cx="214200" cy="34797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5674320" y="-1089720"/>
              <a:ext cx="1159560" cy="4434840"/>
              <a:chOff x="5674320" y="-1089720"/>
              <a:chExt cx="1159560" cy="4434840"/>
            </a:xfrm>
          </p:grpSpPr>
          <p:sp>
            <p:nvSpPr>
              <p:cNvPr id="923" name=""/>
              <p:cNvSpPr/>
              <p:nvPr/>
            </p:nvSpPr>
            <p:spPr>
              <a:xfrm flipH="1" rot="625200">
                <a:off x="5974920" y="-23760"/>
                <a:ext cx="362880" cy="3363840"/>
              </a:xfrm>
              <a:prstGeom prst="flowChartMerg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rot="20336400">
                <a:off x="6163200" y="-1066320"/>
                <a:ext cx="204480" cy="39996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rot="20821200">
                <a:off x="6231600" y="-748080"/>
                <a:ext cx="481320" cy="11296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5392800" y="1218240"/>
              <a:ext cx="774000" cy="2625480"/>
              <a:chOff x="5392800" y="1218240"/>
              <a:chExt cx="774000" cy="26254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5392800" y="1218240"/>
                <a:ext cx="774000" cy="2625480"/>
                <a:chOff x="5392800" y="1218240"/>
                <a:chExt cx="774000" cy="2625480"/>
              </a:xfrm>
            </p:grpSpPr>
            <p:sp>
              <p:nvSpPr>
                <p:cNvPr id="928" name=""/>
                <p:cNvSpPr/>
                <p:nvPr/>
              </p:nvSpPr>
              <p:spPr>
                <a:xfrm rot="21304200">
                  <a:off x="5753520" y="2740680"/>
                  <a:ext cx="219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5392800" y="1218240"/>
                  <a:ext cx="774000" cy="2625480"/>
                  <a:chOff x="5392800" y="1218240"/>
                  <a:chExt cx="774000" cy="26254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20848800">
                    <a:off x="5937840" y="3223440"/>
                    <a:ext cx="16632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rot="20785200">
                    <a:off x="5632920" y="1207800"/>
                    <a:ext cx="158400" cy="2065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083640" y="3773160"/>
                    <a:ext cx="17280" cy="70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 flipV="1">
                    <a:off x="5501520" y="1229040"/>
                    <a:ext cx="484920" cy="20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>
                    <a:off x="5448240" y="1251720"/>
                    <a:ext cx="479880" cy="198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5" name=""/>
              <p:cNvSpPr/>
              <p:nvPr/>
            </p:nvSpPr>
            <p:spPr>
              <a:xfrm flipV="1" rot="21051600">
                <a:off x="5749560" y="2746440"/>
                <a:ext cx="218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4705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937" name=""/>
          <p:cNvGrpSpPr/>
          <p:nvPr/>
        </p:nvGrpSpPr>
        <p:grpSpPr>
          <a:xfrm>
            <a:off x="5569920" y="2894760"/>
            <a:ext cx="2855160" cy="3056040"/>
            <a:chOff x="5569920" y="2894760"/>
            <a:chExt cx="2855160" cy="3056040"/>
          </a:xfrm>
        </p:grpSpPr>
        <p:sp>
          <p:nvSpPr>
            <p:cNvPr id="938" name=""/>
            <p:cNvSpPr/>
            <p:nvPr/>
          </p:nvSpPr>
          <p:spPr>
            <a:xfrm rot="1248000">
              <a:off x="62002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2057600">
              <a:off x="57654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rot="8203800">
            <a:off x="5319000" y="-708120"/>
            <a:ext cx="5582880" cy="517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00" y="2841"/>
                </a:moveTo>
                <a:arcTo wR="10800" hR="10800" stAng="-2848424" swAng="2759589"/>
                <a:lnTo>
                  <a:pt x="10800" y="10800"/>
                </a:lnTo>
                <a:close/>
              </a:path>
              <a:path fill="none" w="21600" h="21600">
                <a:moveTo>
                  <a:pt x="18100" y="2841"/>
                </a:moveTo>
                <a:arcTo wR="10800" hR="10800" stAng="-2848424" swAng="2759589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950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3268440" y="5937120"/>
            <a:ext cx="1266120" cy="1939320"/>
            <a:chOff x="3268440" y="5937120"/>
            <a:chExt cx="1266120" cy="1939320"/>
          </a:xfrm>
        </p:grpSpPr>
        <p:sp>
          <p:nvSpPr>
            <p:cNvPr id="987" name=""/>
            <p:cNvSpPr/>
            <p:nvPr/>
          </p:nvSpPr>
          <p:spPr>
            <a:xfrm rot="21406200">
              <a:off x="3704760" y="5940000"/>
              <a:ext cx="106560" cy="14724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21406200">
              <a:off x="36892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1406200">
              <a:off x="364140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21406200">
              <a:off x="3991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21406200">
              <a:off x="3540240" y="6176160"/>
              <a:ext cx="450720" cy="41400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21406200">
              <a:off x="372168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1406200">
              <a:off x="3311640" y="627012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21406200">
              <a:off x="385344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21406200">
              <a:off x="3657960" y="625968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21406200">
              <a:off x="403128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21406200">
              <a:off x="373176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1406200">
              <a:off x="389340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1406200">
              <a:off x="393264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21406200">
              <a:off x="39693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1406200">
              <a:off x="349488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1406200">
              <a:off x="3353760" y="7200000"/>
              <a:ext cx="111240" cy="11052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1406200">
              <a:off x="38174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21406200">
              <a:off x="405684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21406200">
              <a:off x="357660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21406200">
              <a:off x="423684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21406200">
              <a:off x="3798360" y="6671520"/>
              <a:ext cx="77760" cy="885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1406200">
              <a:off x="3684240" y="6927840"/>
              <a:ext cx="73080" cy="9828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21406200">
              <a:off x="38001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21406200">
              <a:off x="397692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21406200">
              <a:off x="3900600" y="7205760"/>
              <a:ext cx="98280" cy="10440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21406200">
              <a:off x="4088160" y="7372800"/>
              <a:ext cx="60480" cy="5040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21406200">
              <a:off x="3750480" y="7433280"/>
              <a:ext cx="111240" cy="6768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21406200">
              <a:off x="338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21406200">
              <a:off x="3859200" y="602424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21406200">
              <a:off x="399816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21406200">
              <a:off x="3546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1406200">
              <a:off x="352692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21406200">
              <a:off x="3855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21406200">
              <a:off x="354672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21406200">
              <a:off x="364896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21406200">
              <a:off x="3897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21406200">
              <a:off x="394488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21406200">
              <a:off x="3970440" y="6920640"/>
              <a:ext cx="96840" cy="9648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21406200">
              <a:off x="398448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21406200">
              <a:off x="385488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1406200">
              <a:off x="3896640" y="6766920"/>
              <a:ext cx="111240" cy="10764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21406200">
              <a:off x="377748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21406200">
              <a:off x="3664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21406200">
              <a:off x="3981600" y="702396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21406200">
              <a:off x="4059360" y="7061040"/>
              <a:ext cx="66600" cy="26136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21406200">
              <a:off x="372312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21406200">
              <a:off x="374976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21406200">
              <a:off x="381420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1406200">
              <a:off x="385056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21406200">
              <a:off x="3945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21406200">
              <a:off x="413460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1406200">
              <a:off x="3405600" y="741096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21406200">
              <a:off x="3611880" y="7472880"/>
              <a:ext cx="233280" cy="37404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21406200">
              <a:off x="331668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21406200">
              <a:off x="391428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21406200">
              <a:off x="3716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21406200">
              <a:off x="38008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21406200">
              <a:off x="394920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21406200">
              <a:off x="381816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21406200">
              <a:off x="3972960" y="630360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21406200">
              <a:off x="376164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1049" name=""/>
            <p:cNvSpPr/>
            <p:nvPr/>
          </p:nvSpPr>
          <p:spPr>
            <a:xfrm rot="727800">
              <a:off x="303588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727800">
              <a:off x="3181680" y="626616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727800">
              <a:off x="2797200" y="6264000"/>
              <a:ext cx="270360" cy="28188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7278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727800">
              <a:off x="2925000" y="663876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727800">
              <a:off x="2856600" y="6775200"/>
              <a:ext cx="209880" cy="17892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727800">
              <a:off x="288648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727800">
              <a:off x="297756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727800">
              <a:off x="302112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727800">
              <a:off x="288144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727800">
              <a:off x="29278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727800">
              <a:off x="305100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727800">
              <a:off x="3260520" y="6858000"/>
              <a:ext cx="30960" cy="410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727800">
              <a:off x="286308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727800">
              <a:off x="276156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727800">
              <a:off x="300420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727800">
              <a:off x="3096360" y="706536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727800">
              <a:off x="323784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727800">
              <a:off x="307908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727800">
              <a:off x="28508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727800">
              <a:off x="334476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727800">
              <a:off x="2829240" y="7090920"/>
              <a:ext cx="180720" cy="24156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727800">
              <a:off x="3228480" y="7223040"/>
              <a:ext cx="63000" cy="3780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727800">
              <a:off x="303588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727800">
              <a:off x="281016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727800">
              <a:off x="301644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727800">
              <a:off x="309348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727800">
              <a:off x="308808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727800">
              <a:off x="2800080" y="6338520"/>
              <a:ext cx="311400" cy="21528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727800">
              <a:off x="278856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727800">
              <a:off x="2816280" y="625140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727800">
              <a:off x="293148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727800">
              <a:off x="3047760" y="6248880"/>
              <a:ext cx="204840" cy="11556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727800">
              <a:off x="31773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727800">
              <a:off x="283428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727800">
              <a:off x="288216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727800">
              <a:off x="2853000" y="678312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727800">
              <a:off x="29271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727800">
              <a:off x="305352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727800">
              <a:off x="3210120" y="6812280"/>
              <a:ext cx="98640" cy="8388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727800">
              <a:off x="3276360" y="6856560"/>
              <a:ext cx="37080" cy="9972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727800">
              <a:off x="3201120" y="6908040"/>
              <a:ext cx="64080" cy="2736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727800">
              <a:off x="296928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727800">
              <a:off x="274320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727800">
              <a:off x="29854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727800">
              <a:off x="3040200" y="7065360"/>
              <a:ext cx="88560" cy="16488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27800">
              <a:off x="2824560" y="7204320"/>
              <a:ext cx="228960" cy="24876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727800">
              <a:off x="2797200" y="7451280"/>
              <a:ext cx="172440" cy="4032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727800">
              <a:off x="2901600" y="7404120"/>
              <a:ext cx="79200" cy="7452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727800">
              <a:off x="2932920" y="722052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727800">
              <a:off x="308268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27800">
              <a:off x="308736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727800">
              <a:off x="3233520" y="716580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727800">
              <a:off x="320832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727800">
              <a:off x="3231000" y="7211520"/>
              <a:ext cx="228960" cy="23292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727800">
              <a:off x="302796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376200" y="291960"/>
            <a:ext cx="60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Un cerf-volant est            un quadrilatère qui a         2 petits côtés consécutifs de même longu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0"/>
            <a:ext cx="6748560" cy="4354560"/>
          </a:xfrm>
          <a:prstGeom prst="wedgeEllipseCallout">
            <a:avLst>
              <a:gd name="adj1" fmla="val -35578"/>
              <a:gd name="adj2" fmla="val 76101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4705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1115" name=""/>
          <p:cNvGrpSpPr/>
          <p:nvPr/>
        </p:nvGrpSpPr>
        <p:grpSpPr>
          <a:xfrm>
            <a:off x="5584320" y="2894760"/>
            <a:ext cx="2855160" cy="3056040"/>
            <a:chOff x="5584320" y="2894760"/>
            <a:chExt cx="2855160" cy="3056040"/>
          </a:xfrm>
        </p:grpSpPr>
        <p:sp>
          <p:nvSpPr>
            <p:cNvPr id="1116" name=""/>
            <p:cNvSpPr/>
            <p:nvPr/>
          </p:nvSpPr>
          <p:spPr>
            <a:xfrm rot="1248000">
              <a:off x="62146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2057600">
              <a:off x="57798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 rot="19018200">
            <a:off x="3237120" y="3927960"/>
            <a:ext cx="5582880" cy="517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00" y="2841"/>
                </a:moveTo>
                <a:arcTo wR="10800" hR="10800" stAng="-2848424" swAng="2759589"/>
                <a:lnTo>
                  <a:pt x="10800" y="10800"/>
                </a:lnTo>
                <a:close/>
              </a:path>
              <a:path fill="none" w="21600" h="21600">
                <a:moveTo>
                  <a:pt x="18100" y="2841"/>
                </a:moveTo>
                <a:arcTo wR="10800" hR="10800" stAng="-2848424" swAng="2759589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1123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5931720" y="935280"/>
            <a:ext cx="1570680" cy="4627800"/>
            <a:chOff x="5931720" y="935280"/>
            <a:chExt cx="1570680" cy="4627800"/>
          </a:xfrm>
        </p:grpSpPr>
        <p:sp>
          <p:nvSpPr>
            <p:cNvPr id="1164" name=""/>
            <p:cNvSpPr/>
            <p:nvPr/>
          </p:nvSpPr>
          <p:spPr>
            <a:xfrm flipH="1" rot="498600">
              <a:off x="6748560" y="2085840"/>
              <a:ext cx="214200" cy="34797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rot="2851200">
              <a:off x="6518520" y="1664280"/>
              <a:ext cx="247680" cy="17017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rot="750600">
              <a:off x="7200000" y="952200"/>
              <a:ext cx="203040" cy="3996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 rot="626400">
              <a:off x="6922440" y="1236240"/>
              <a:ext cx="480960" cy="113040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6014520" y="1172520"/>
              <a:ext cx="390960" cy="2680200"/>
              <a:chOff x="6014520" y="1172520"/>
              <a:chExt cx="390960" cy="268020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6014520" y="1172520"/>
                <a:ext cx="390960" cy="2680200"/>
                <a:chOff x="6014520" y="1172520"/>
                <a:chExt cx="390960" cy="2680200"/>
              </a:xfrm>
            </p:grpSpPr>
            <p:sp>
              <p:nvSpPr>
                <p:cNvPr id="1170" name=""/>
                <p:cNvSpPr/>
                <p:nvPr/>
              </p:nvSpPr>
              <p:spPr>
                <a:xfrm rot="809400">
                  <a:off x="6080760" y="2725200"/>
                  <a:ext cx="21960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6014520" y="1172520"/>
                  <a:ext cx="390960" cy="2680200"/>
                  <a:chOff x="6014520" y="1172520"/>
                  <a:chExt cx="390960" cy="268020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 rot="354600">
                    <a:off x="6044400" y="3223080"/>
                    <a:ext cx="165960" cy="59436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rot="291000">
                    <a:off x="6160320" y="1175400"/>
                    <a:ext cx="15804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>
                    <a:off x="6101280" y="3780000"/>
                    <a:ext cx="6120" cy="72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V="1">
                    <a:off x="6184800" y="1181880"/>
                    <a:ext cx="174600" cy="205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 flipV="1">
                    <a:off x="6129000" y="1186920"/>
                    <a:ext cx="172800" cy="2035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7" name=""/>
              <p:cNvSpPr/>
              <p:nvPr/>
            </p:nvSpPr>
            <p:spPr>
              <a:xfrm flipV="1" rot="556800">
                <a:off x="6075000" y="2728440"/>
                <a:ext cx="218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471000" y="1277640"/>
            <a:ext cx="2205360" cy="4345920"/>
            <a:chOff x="6471000" y="1277640"/>
            <a:chExt cx="2205360" cy="4345920"/>
          </a:xfrm>
        </p:grpSpPr>
        <p:sp>
          <p:nvSpPr>
            <p:cNvPr id="1180" name=""/>
            <p:cNvSpPr/>
            <p:nvPr/>
          </p:nvSpPr>
          <p:spPr>
            <a:xfrm rot="20265600">
              <a:off x="7880040" y="2298240"/>
              <a:ext cx="266760" cy="164952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8003880" y="1949760"/>
              <a:ext cx="672480" cy="2647080"/>
              <a:chOff x="8003880" y="1949760"/>
              <a:chExt cx="672480" cy="264708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8003880" y="1949760"/>
                <a:ext cx="672480" cy="2647080"/>
                <a:chOff x="8003880" y="1949760"/>
                <a:chExt cx="672480" cy="264708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 rot="151200">
                  <a:off x="8154720" y="3484800"/>
                  <a:ext cx="228960" cy="216720"/>
                </a:xfrm>
                <a:prstGeom prst="blockArc">
                  <a:avLst>
                    <a:gd name="adj1" fmla="val 9609163"/>
                    <a:gd name="adj2" fmla="val 1190837"/>
                    <a:gd name="adj3" fmla="val 20301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8003880" y="1949760"/>
                  <a:ext cx="672480" cy="2647080"/>
                  <a:chOff x="8003880" y="1949760"/>
                  <a:chExt cx="672480" cy="26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H="1" rot="606600">
                    <a:off x="8054280" y="3973680"/>
                    <a:ext cx="173160" cy="594000"/>
                  </a:xfrm>
                  <a:prstGeom prst="flowChartMerge">
                    <a:avLst/>
                  </a:prstGeom>
                  <a:solidFill>
                    <a:srgbClr val="ffa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rot="670200">
                    <a:off x="8311680" y="1945800"/>
                    <a:ext cx="164880" cy="2066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flipH="1">
                    <a:off x="8074440" y="4525560"/>
                    <a:ext cx="14400" cy="7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V="1">
                    <a:off x="8161920" y="1959120"/>
                    <a:ext cx="400320" cy="202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V="1">
                    <a:off x="8222760" y="1980000"/>
                    <a:ext cx="395640" cy="20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"/>
              <p:cNvSpPr/>
              <p:nvPr/>
            </p:nvSpPr>
            <p:spPr>
              <a:xfrm flipH="1" flipV="1" rot="403800">
                <a:off x="8160840" y="3489480"/>
                <a:ext cx="227880" cy="218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 rot="1143000">
              <a:off x="7984800" y="1294920"/>
              <a:ext cx="168120" cy="3589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1183800">
              <a:off x="7051680" y="2208240"/>
              <a:ext cx="222120" cy="3479760"/>
            </a:xfrm>
            <a:prstGeom prst="flowChartMerg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990600">
              <a:off x="7651440" y="1568160"/>
              <a:ext cx="396720" cy="1012680"/>
            </a:xfrm>
            <a:prstGeom prst="flowChartMagneticDisk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"/>
          <p:cNvSpPr/>
          <p:nvPr/>
        </p:nvSpPr>
        <p:spPr>
          <a:xfrm flipH="1">
            <a:off x="6171840" y="437256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6190920" y="445032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6225840" y="451368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139160" y="502884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7259760" y="490500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193160" y="4982400"/>
            <a:ext cx="154800" cy="22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87320" y="2496960"/>
            <a:ext cx="52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Arial"/>
              </a:rPr>
              <a:t>et 2 grands côtés également de même longu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268440" y="5937120"/>
            <a:ext cx="1266120" cy="1939320"/>
            <a:chOff x="3268440" y="5937120"/>
            <a:chExt cx="1266120" cy="1939320"/>
          </a:xfrm>
        </p:grpSpPr>
        <p:sp>
          <p:nvSpPr>
            <p:cNvPr id="1202" name=""/>
            <p:cNvSpPr/>
            <p:nvPr/>
          </p:nvSpPr>
          <p:spPr>
            <a:xfrm rot="21406200">
              <a:off x="3704760" y="5940000"/>
              <a:ext cx="106560" cy="14724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21406200">
              <a:off x="36892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21406200">
              <a:off x="364140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1406200">
              <a:off x="3991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406200">
              <a:off x="3540240" y="6176160"/>
              <a:ext cx="450720" cy="41400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1406200">
              <a:off x="372168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1406200">
              <a:off x="3311640" y="627012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21406200">
              <a:off x="385344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21406200">
              <a:off x="3657960" y="625968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21406200">
              <a:off x="403128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21406200">
              <a:off x="373176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21406200">
              <a:off x="389340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21406200">
              <a:off x="393264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21406200">
              <a:off x="39693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21406200">
              <a:off x="349488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1406200">
              <a:off x="3353760" y="7200000"/>
              <a:ext cx="111240" cy="11052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1406200">
              <a:off x="38174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1406200">
              <a:off x="405684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406200">
              <a:off x="357660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21406200">
              <a:off x="423684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21406200">
              <a:off x="3798360" y="6671520"/>
              <a:ext cx="77760" cy="885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21406200">
              <a:off x="3684240" y="6927840"/>
              <a:ext cx="73080" cy="9828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21406200">
              <a:off x="38001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21406200">
              <a:off x="397692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21406200">
              <a:off x="3900600" y="7205760"/>
              <a:ext cx="98280" cy="10440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21406200">
              <a:off x="4088160" y="7372800"/>
              <a:ext cx="60480" cy="5040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06200">
              <a:off x="3750480" y="7433280"/>
              <a:ext cx="111240" cy="6768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406200">
              <a:off x="338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1406200">
              <a:off x="3859200" y="602424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1406200">
              <a:off x="399816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21406200">
              <a:off x="3546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21406200">
              <a:off x="352692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21406200">
              <a:off x="3855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21406200">
              <a:off x="354672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21406200">
              <a:off x="364896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21406200">
              <a:off x="3897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21406200">
              <a:off x="394488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21406200">
              <a:off x="3970440" y="6920640"/>
              <a:ext cx="96840" cy="9648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21406200">
              <a:off x="398448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21406200">
              <a:off x="385488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21406200">
              <a:off x="3896640" y="6766920"/>
              <a:ext cx="111240" cy="10764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21406200">
              <a:off x="377748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21406200">
              <a:off x="3664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21406200">
              <a:off x="3981600" y="702396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21406200">
              <a:off x="4059360" y="7061040"/>
              <a:ext cx="66600" cy="26136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21406200">
              <a:off x="372312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21406200">
              <a:off x="374976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21406200">
              <a:off x="381420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21406200">
              <a:off x="385056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21406200">
              <a:off x="3945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21406200">
              <a:off x="413460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21406200">
              <a:off x="3405600" y="741096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21406200">
              <a:off x="3611880" y="7472880"/>
              <a:ext cx="233280" cy="37404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21406200">
              <a:off x="331668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21406200">
              <a:off x="391428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21406200">
              <a:off x="3716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21406200">
              <a:off x="38008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21406200">
              <a:off x="394920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21406200">
              <a:off x="381816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21406200">
              <a:off x="3972960" y="630360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21406200">
              <a:off x="376164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1264" name=""/>
            <p:cNvSpPr/>
            <p:nvPr/>
          </p:nvSpPr>
          <p:spPr>
            <a:xfrm rot="727800">
              <a:off x="303588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727800">
              <a:off x="3181680" y="626616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727800">
              <a:off x="2797200" y="6264000"/>
              <a:ext cx="270360" cy="28188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7278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727800">
              <a:off x="2925000" y="663876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727800">
              <a:off x="2856600" y="6775200"/>
              <a:ext cx="209880" cy="17892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727800">
              <a:off x="288648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727800">
              <a:off x="297756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727800">
              <a:off x="302112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727800">
              <a:off x="288144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727800">
              <a:off x="29278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727800">
              <a:off x="305100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727800">
              <a:off x="3260520" y="6858000"/>
              <a:ext cx="30960" cy="410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727800">
              <a:off x="286308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727800">
              <a:off x="276156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727800">
              <a:off x="300420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727800">
              <a:off x="3096360" y="706536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727800">
              <a:off x="323784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727800">
              <a:off x="307908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727800">
              <a:off x="28508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727800">
              <a:off x="334476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727800">
              <a:off x="2829240" y="7090920"/>
              <a:ext cx="180720" cy="24156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727800">
              <a:off x="3228480" y="7223040"/>
              <a:ext cx="63000" cy="3780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727800">
              <a:off x="303588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727800">
              <a:off x="281016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727800">
              <a:off x="301644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727800">
              <a:off x="309348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727800">
              <a:off x="308808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727800">
              <a:off x="2800080" y="6338520"/>
              <a:ext cx="311400" cy="21528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727800">
              <a:off x="278856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727800">
              <a:off x="2816280" y="625140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727800">
              <a:off x="293148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727800">
              <a:off x="3047760" y="6248880"/>
              <a:ext cx="204840" cy="11556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727800">
              <a:off x="31773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727800">
              <a:off x="283428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727800">
              <a:off x="288216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727800">
              <a:off x="2853000" y="678312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727800">
              <a:off x="29271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727800">
              <a:off x="305352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727800">
              <a:off x="3210120" y="6812280"/>
              <a:ext cx="98640" cy="8388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727800">
              <a:off x="3276360" y="6856560"/>
              <a:ext cx="37080" cy="9972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727800">
              <a:off x="3201120" y="6908040"/>
              <a:ext cx="64080" cy="2736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727800">
              <a:off x="296928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727800">
              <a:off x="274320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727800">
              <a:off x="29854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727800">
              <a:off x="3040200" y="7065360"/>
              <a:ext cx="88560" cy="16488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727800">
              <a:off x="2824560" y="7204320"/>
              <a:ext cx="228960" cy="24876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727800">
              <a:off x="2797200" y="7451280"/>
              <a:ext cx="172440" cy="4032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727800">
              <a:off x="2901600" y="7404120"/>
              <a:ext cx="79200" cy="7452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727800">
              <a:off x="2932920" y="722052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727800">
              <a:off x="308268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727800">
              <a:off x="308736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727800">
              <a:off x="3233520" y="716580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727800">
              <a:off x="320832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727800">
              <a:off x="3231000" y="7211520"/>
              <a:ext cx="228960" cy="23292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727800">
              <a:off x="302796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376200" y="291960"/>
            <a:ext cx="60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Un cerf-volant est            un quadrilatère qui a         2 petits côtés consécutifs de même longu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479600" y="231840"/>
            <a:ext cx="48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le construire,     si on connaît ses côtés, on utilise le comp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001880" y="0"/>
            <a:ext cx="7545240" cy="3063960"/>
          </a:xfrm>
          <a:prstGeom prst="wedgeEllipseCallout">
            <a:avLst>
              <a:gd name="adj1" fmla="val -50379"/>
              <a:gd name="adj2" fmla="val 129222"/>
            </a:avLst>
          </a:prstGeom>
          <a:solidFill>
            <a:srgbClr val="ebffeb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i, on va construire le cerf-volant CERF tel que                    CE = 3cm et ER = 5cm                et ECF = 4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2"/>
          <a:stretch/>
        </p:blipFill>
        <p:spPr>
          <a:xfrm>
            <a:off x="4705200" y="4145040"/>
            <a:ext cx="4249800" cy="7051680"/>
          </a:xfrm>
          <a:prstGeom prst="rect">
            <a:avLst/>
          </a:prstGeom>
          <a:ln w="0">
            <a:noFill/>
          </a:ln>
        </p:spPr>
      </p:pic>
      <p:grpSp>
        <p:nvGrpSpPr>
          <p:cNvPr id="1331" name=""/>
          <p:cNvGrpSpPr/>
          <p:nvPr/>
        </p:nvGrpSpPr>
        <p:grpSpPr>
          <a:xfrm>
            <a:off x="5584320" y="2894760"/>
            <a:ext cx="2855160" cy="3056040"/>
            <a:chOff x="5584320" y="2894760"/>
            <a:chExt cx="2855160" cy="3056040"/>
          </a:xfrm>
        </p:grpSpPr>
        <p:sp>
          <p:nvSpPr>
            <p:cNvPr id="1332" name=""/>
            <p:cNvSpPr/>
            <p:nvPr/>
          </p:nvSpPr>
          <p:spPr>
            <a:xfrm rot="1248000">
              <a:off x="6214680" y="3238560"/>
              <a:ext cx="2117880" cy="9889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12057600">
              <a:off x="5779800" y="4138200"/>
              <a:ext cx="2109960" cy="1484280"/>
            </a:xfrm>
            <a:prstGeom prst="triangle">
              <a:avLst>
                <a:gd name="adj" fmla="val 4860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"/>
          <p:cNvSpPr/>
          <p:nvPr/>
        </p:nvSpPr>
        <p:spPr>
          <a:xfrm flipH="1">
            <a:off x="7602480" y="376272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7667640" y="3805560"/>
            <a:ext cx="152280" cy="22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434360" y="3252960"/>
            <a:ext cx="63792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6080" y="5148360"/>
            <a:ext cx="1316520" cy="1633680"/>
            <a:chOff x="46080" y="5148360"/>
            <a:chExt cx="1316520" cy="1633680"/>
          </a:xfrm>
        </p:grpSpPr>
        <p:sp>
          <p:nvSpPr>
            <p:cNvPr id="1338" name=""/>
            <p:cNvSpPr/>
            <p:nvPr/>
          </p:nvSpPr>
          <p:spPr>
            <a:xfrm>
              <a:off x="945000" y="6437520"/>
              <a:ext cx="396360" cy="257040"/>
            </a:xfrm>
            <a:custGeom>
              <a:avLst/>
              <a:gdLst/>
              <a:ahLst/>
              <a:rect l="l" t="t" r="r" b="b"/>
              <a:pathLst>
                <a:path w="445" h="325">
                  <a:moveTo>
                    <a:pt x="0" y="173"/>
                  </a:moveTo>
                  <a:lnTo>
                    <a:pt x="148" y="53"/>
                  </a:lnTo>
                  <a:lnTo>
                    <a:pt x="310" y="0"/>
                  </a:lnTo>
                  <a:lnTo>
                    <a:pt x="405" y="2"/>
                  </a:lnTo>
                  <a:lnTo>
                    <a:pt x="445" y="63"/>
                  </a:lnTo>
                  <a:lnTo>
                    <a:pt x="391" y="133"/>
                  </a:lnTo>
                  <a:lnTo>
                    <a:pt x="87" y="325"/>
                  </a:lnTo>
                  <a:lnTo>
                    <a:pt x="17" y="28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1560" y="6492960"/>
              <a:ext cx="312480" cy="270000"/>
            </a:xfrm>
            <a:custGeom>
              <a:avLst/>
              <a:gdLst/>
              <a:ahLst/>
              <a:rect l="l" t="t" r="r" b="b"/>
              <a:pathLst>
                <a:path w="352" h="340">
                  <a:moveTo>
                    <a:pt x="0" y="27"/>
                  </a:moveTo>
                  <a:lnTo>
                    <a:pt x="82" y="0"/>
                  </a:lnTo>
                  <a:lnTo>
                    <a:pt x="230" y="69"/>
                  </a:lnTo>
                  <a:lnTo>
                    <a:pt x="258" y="162"/>
                  </a:lnTo>
                  <a:lnTo>
                    <a:pt x="348" y="238"/>
                  </a:lnTo>
                  <a:lnTo>
                    <a:pt x="352" y="297"/>
                  </a:lnTo>
                  <a:lnTo>
                    <a:pt x="302" y="335"/>
                  </a:lnTo>
                  <a:lnTo>
                    <a:pt x="156" y="340"/>
                  </a:lnTo>
                  <a:lnTo>
                    <a:pt x="53" y="306"/>
                  </a:lnTo>
                  <a:lnTo>
                    <a:pt x="15" y="25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5240" y="5162760"/>
              <a:ext cx="218160" cy="320400"/>
            </a:xfrm>
            <a:custGeom>
              <a:avLst/>
              <a:gdLst/>
              <a:ahLst/>
              <a:rect l="l" t="t" r="r" b="b"/>
              <a:pathLst>
                <a:path w="246" h="405">
                  <a:moveTo>
                    <a:pt x="0" y="331"/>
                  </a:moveTo>
                  <a:lnTo>
                    <a:pt x="90" y="0"/>
                  </a:lnTo>
                  <a:lnTo>
                    <a:pt x="246" y="6"/>
                  </a:lnTo>
                  <a:lnTo>
                    <a:pt x="94" y="405"/>
                  </a:lnTo>
                  <a:lnTo>
                    <a:pt x="0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34720" y="5624640"/>
              <a:ext cx="728280" cy="771480"/>
            </a:xfrm>
            <a:custGeom>
              <a:avLst/>
              <a:gdLst/>
              <a:ahLst/>
              <a:rect l="l" t="t" r="r" b="b"/>
              <a:pathLst>
                <a:path w="820" h="972">
                  <a:moveTo>
                    <a:pt x="0" y="828"/>
                  </a:moveTo>
                  <a:lnTo>
                    <a:pt x="57" y="874"/>
                  </a:lnTo>
                  <a:lnTo>
                    <a:pt x="198" y="936"/>
                  </a:lnTo>
                  <a:lnTo>
                    <a:pt x="477" y="972"/>
                  </a:lnTo>
                  <a:lnTo>
                    <a:pt x="609" y="965"/>
                  </a:lnTo>
                  <a:lnTo>
                    <a:pt x="820" y="885"/>
                  </a:lnTo>
                  <a:lnTo>
                    <a:pt x="791" y="798"/>
                  </a:lnTo>
                  <a:lnTo>
                    <a:pt x="757" y="687"/>
                  </a:lnTo>
                  <a:lnTo>
                    <a:pt x="707" y="254"/>
                  </a:lnTo>
                  <a:lnTo>
                    <a:pt x="711" y="134"/>
                  </a:lnTo>
                  <a:lnTo>
                    <a:pt x="660" y="9"/>
                  </a:lnTo>
                  <a:lnTo>
                    <a:pt x="247" y="0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7680" y="6418440"/>
              <a:ext cx="196920" cy="1522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0" y="89"/>
                  </a:moveTo>
                  <a:lnTo>
                    <a:pt x="117" y="0"/>
                  </a:lnTo>
                  <a:lnTo>
                    <a:pt x="220" y="80"/>
                  </a:lnTo>
                  <a:lnTo>
                    <a:pt x="167" y="186"/>
                  </a:lnTo>
                  <a:lnTo>
                    <a:pt x="66" y="192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3040" y="6454800"/>
              <a:ext cx="181080" cy="128520"/>
            </a:xfrm>
            <a:custGeom>
              <a:avLst/>
              <a:gdLst/>
              <a:ahLst/>
              <a:rect l="l" t="t" r="r" b="b"/>
              <a:pathLst>
                <a:path w="203" h="161">
                  <a:moveTo>
                    <a:pt x="0" y="57"/>
                  </a:moveTo>
                  <a:lnTo>
                    <a:pt x="59" y="0"/>
                  </a:lnTo>
                  <a:lnTo>
                    <a:pt x="203" y="57"/>
                  </a:lnTo>
                  <a:lnTo>
                    <a:pt x="165" y="114"/>
                  </a:lnTo>
                  <a:lnTo>
                    <a:pt x="76" y="119"/>
                  </a:lnTo>
                  <a:lnTo>
                    <a:pt x="55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60040" y="5516640"/>
              <a:ext cx="356760" cy="530280"/>
            </a:xfrm>
            <a:custGeom>
              <a:avLst/>
              <a:gdLst/>
              <a:ahLst/>
              <a:rect l="l" t="t" r="r" b="b"/>
              <a:pathLst>
                <a:path w="403" h="667">
                  <a:moveTo>
                    <a:pt x="61" y="401"/>
                  </a:moveTo>
                  <a:lnTo>
                    <a:pt x="91" y="446"/>
                  </a:lnTo>
                  <a:lnTo>
                    <a:pt x="228" y="300"/>
                  </a:lnTo>
                  <a:lnTo>
                    <a:pt x="249" y="233"/>
                  </a:lnTo>
                  <a:lnTo>
                    <a:pt x="207" y="72"/>
                  </a:lnTo>
                  <a:lnTo>
                    <a:pt x="222" y="34"/>
                  </a:lnTo>
                  <a:lnTo>
                    <a:pt x="243" y="26"/>
                  </a:lnTo>
                  <a:lnTo>
                    <a:pt x="262" y="51"/>
                  </a:lnTo>
                  <a:lnTo>
                    <a:pt x="273" y="85"/>
                  </a:lnTo>
                  <a:lnTo>
                    <a:pt x="306" y="2"/>
                  </a:lnTo>
                  <a:lnTo>
                    <a:pt x="321" y="0"/>
                  </a:lnTo>
                  <a:lnTo>
                    <a:pt x="344" y="21"/>
                  </a:lnTo>
                  <a:lnTo>
                    <a:pt x="348" y="135"/>
                  </a:lnTo>
                  <a:lnTo>
                    <a:pt x="382" y="91"/>
                  </a:lnTo>
                  <a:lnTo>
                    <a:pt x="395" y="81"/>
                  </a:lnTo>
                  <a:lnTo>
                    <a:pt x="403" y="131"/>
                  </a:lnTo>
                  <a:lnTo>
                    <a:pt x="399" y="186"/>
                  </a:lnTo>
                  <a:lnTo>
                    <a:pt x="372" y="207"/>
                  </a:lnTo>
                  <a:lnTo>
                    <a:pt x="353" y="325"/>
                  </a:lnTo>
                  <a:lnTo>
                    <a:pt x="287" y="404"/>
                  </a:lnTo>
                  <a:lnTo>
                    <a:pt x="251" y="458"/>
                  </a:lnTo>
                  <a:lnTo>
                    <a:pt x="184" y="589"/>
                  </a:lnTo>
                  <a:lnTo>
                    <a:pt x="119" y="642"/>
                  </a:lnTo>
                  <a:lnTo>
                    <a:pt x="45" y="667"/>
                  </a:lnTo>
                  <a:lnTo>
                    <a:pt x="0" y="456"/>
                  </a:lnTo>
                  <a:lnTo>
                    <a:pt x="61" y="401"/>
                  </a:lnTo>
                  <a:lnTo>
                    <a:pt x="61" y="40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41280" y="5332680"/>
              <a:ext cx="420840" cy="366480"/>
            </a:xfrm>
            <a:custGeom>
              <a:avLst/>
              <a:gdLst/>
              <a:ahLst/>
              <a:rect l="l" t="t" r="r" b="b"/>
              <a:pathLst>
                <a:path w="473" h="462">
                  <a:moveTo>
                    <a:pt x="473" y="11"/>
                  </a:moveTo>
                  <a:lnTo>
                    <a:pt x="359" y="462"/>
                  </a:lnTo>
                  <a:lnTo>
                    <a:pt x="253" y="446"/>
                  </a:lnTo>
                  <a:lnTo>
                    <a:pt x="80" y="353"/>
                  </a:lnTo>
                  <a:lnTo>
                    <a:pt x="0" y="133"/>
                  </a:lnTo>
                  <a:lnTo>
                    <a:pt x="86" y="68"/>
                  </a:lnTo>
                  <a:lnTo>
                    <a:pt x="183" y="119"/>
                  </a:lnTo>
                  <a:lnTo>
                    <a:pt x="196" y="140"/>
                  </a:lnTo>
                  <a:lnTo>
                    <a:pt x="238" y="0"/>
                  </a:lnTo>
                  <a:lnTo>
                    <a:pt x="473" y="11"/>
                  </a:lnTo>
                  <a:lnTo>
                    <a:pt x="473" y="1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680" y="5835600"/>
              <a:ext cx="426240" cy="466920"/>
            </a:xfrm>
            <a:custGeom>
              <a:avLst/>
              <a:gdLst/>
              <a:ahLst/>
              <a:rect l="l" t="t" r="r" b="b"/>
              <a:pathLst>
                <a:path w="479" h="589">
                  <a:moveTo>
                    <a:pt x="5" y="429"/>
                  </a:moveTo>
                  <a:lnTo>
                    <a:pt x="39" y="427"/>
                  </a:lnTo>
                  <a:lnTo>
                    <a:pt x="79" y="444"/>
                  </a:lnTo>
                  <a:lnTo>
                    <a:pt x="131" y="397"/>
                  </a:lnTo>
                  <a:lnTo>
                    <a:pt x="163" y="383"/>
                  </a:lnTo>
                  <a:lnTo>
                    <a:pt x="205" y="131"/>
                  </a:lnTo>
                  <a:lnTo>
                    <a:pt x="296" y="0"/>
                  </a:lnTo>
                  <a:lnTo>
                    <a:pt x="479" y="138"/>
                  </a:lnTo>
                  <a:lnTo>
                    <a:pt x="416" y="197"/>
                  </a:lnTo>
                  <a:lnTo>
                    <a:pt x="355" y="427"/>
                  </a:lnTo>
                  <a:lnTo>
                    <a:pt x="254" y="570"/>
                  </a:lnTo>
                  <a:lnTo>
                    <a:pt x="188" y="589"/>
                  </a:lnTo>
                  <a:lnTo>
                    <a:pt x="121" y="587"/>
                  </a:lnTo>
                  <a:lnTo>
                    <a:pt x="0" y="537"/>
                  </a:lnTo>
                  <a:lnTo>
                    <a:pt x="1" y="501"/>
                  </a:lnTo>
                  <a:lnTo>
                    <a:pt x="39" y="492"/>
                  </a:lnTo>
                  <a:lnTo>
                    <a:pt x="9" y="454"/>
                  </a:lnTo>
                  <a:lnTo>
                    <a:pt x="5" y="429"/>
                  </a:lnTo>
                  <a:lnTo>
                    <a:pt x="5" y="42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55320" y="6365880"/>
              <a:ext cx="214920" cy="14760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0" y="103"/>
                  </a:moveTo>
                  <a:lnTo>
                    <a:pt x="0" y="103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9"/>
                  </a:lnTo>
                  <a:lnTo>
                    <a:pt x="17" y="147"/>
                  </a:lnTo>
                  <a:lnTo>
                    <a:pt x="25" y="154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0" y="166"/>
                  </a:lnTo>
                  <a:lnTo>
                    <a:pt x="46" y="170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65" y="175"/>
                  </a:lnTo>
                  <a:lnTo>
                    <a:pt x="71" y="177"/>
                  </a:lnTo>
                  <a:lnTo>
                    <a:pt x="74" y="177"/>
                  </a:lnTo>
                  <a:lnTo>
                    <a:pt x="80" y="179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81"/>
                  </a:lnTo>
                  <a:lnTo>
                    <a:pt x="101" y="183"/>
                  </a:lnTo>
                  <a:lnTo>
                    <a:pt x="105" y="183"/>
                  </a:lnTo>
                  <a:lnTo>
                    <a:pt x="112" y="185"/>
                  </a:lnTo>
                  <a:lnTo>
                    <a:pt x="118" y="185"/>
                  </a:lnTo>
                  <a:lnTo>
                    <a:pt x="126" y="187"/>
                  </a:lnTo>
                  <a:lnTo>
                    <a:pt x="244" y="40"/>
                  </a:lnTo>
                  <a:lnTo>
                    <a:pt x="8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87320" y="6357960"/>
              <a:ext cx="207720" cy="142920"/>
            </a:xfrm>
            <a:custGeom>
              <a:avLst/>
              <a:gdLst/>
              <a:ahLst/>
              <a:rect l="l" t="t" r="r" b="b"/>
              <a:pathLst>
                <a:path w="234" h="181">
                  <a:moveTo>
                    <a:pt x="0" y="40"/>
                  </a:moveTo>
                  <a:lnTo>
                    <a:pt x="114" y="181"/>
                  </a:lnTo>
                  <a:lnTo>
                    <a:pt x="116" y="181"/>
                  </a:lnTo>
                  <a:lnTo>
                    <a:pt x="120" y="181"/>
                  </a:lnTo>
                  <a:lnTo>
                    <a:pt x="124" y="181"/>
                  </a:lnTo>
                  <a:lnTo>
                    <a:pt x="129" y="181"/>
                  </a:lnTo>
                  <a:lnTo>
                    <a:pt x="135" y="179"/>
                  </a:lnTo>
                  <a:lnTo>
                    <a:pt x="139" y="177"/>
                  </a:lnTo>
                  <a:lnTo>
                    <a:pt x="143" y="177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60" y="171"/>
                  </a:lnTo>
                  <a:lnTo>
                    <a:pt x="165" y="167"/>
                  </a:lnTo>
                  <a:lnTo>
                    <a:pt x="169" y="165"/>
                  </a:lnTo>
                  <a:lnTo>
                    <a:pt x="175" y="162"/>
                  </a:lnTo>
                  <a:lnTo>
                    <a:pt x="179" y="160"/>
                  </a:lnTo>
                  <a:lnTo>
                    <a:pt x="184" y="154"/>
                  </a:lnTo>
                  <a:lnTo>
                    <a:pt x="190" y="150"/>
                  </a:lnTo>
                  <a:lnTo>
                    <a:pt x="194" y="145"/>
                  </a:lnTo>
                  <a:lnTo>
                    <a:pt x="200" y="139"/>
                  </a:lnTo>
                  <a:lnTo>
                    <a:pt x="205" y="133"/>
                  </a:lnTo>
                  <a:lnTo>
                    <a:pt x="211" y="127"/>
                  </a:lnTo>
                  <a:lnTo>
                    <a:pt x="217" y="120"/>
                  </a:lnTo>
                  <a:lnTo>
                    <a:pt x="222" y="112"/>
                  </a:lnTo>
                  <a:lnTo>
                    <a:pt x="224" y="108"/>
                  </a:lnTo>
                  <a:lnTo>
                    <a:pt x="228" y="105"/>
                  </a:lnTo>
                  <a:lnTo>
                    <a:pt x="230" y="99"/>
                  </a:lnTo>
                  <a:lnTo>
                    <a:pt x="234" y="95"/>
                  </a:lnTo>
                  <a:lnTo>
                    <a:pt x="12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6200" y="5359320"/>
              <a:ext cx="346320" cy="336600"/>
            </a:xfrm>
            <a:custGeom>
              <a:avLst/>
              <a:gdLst/>
              <a:ahLst/>
              <a:rect l="l" t="t" r="r" b="b"/>
              <a:pathLst>
                <a:path w="390" h="426">
                  <a:moveTo>
                    <a:pt x="221" y="0"/>
                  </a:moveTo>
                  <a:lnTo>
                    <a:pt x="219" y="0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2"/>
                  </a:lnTo>
                  <a:lnTo>
                    <a:pt x="191" y="4"/>
                  </a:lnTo>
                  <a:lnTo>
                    <a:pt x="183" y="4"/>
                  </a:lnTo>
                  <a:lnTo>
                    <a:pt x="177" y="6"/>
                  </a:lnTo>
                  <a:lnTo>
                    <a:pt x="168" y="8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1" y="13"/>
                  </a:lnTo>
                  <a:lnTo>
                    <a:pt x="147" y="15"/>
                  </a:lnTo>
                  <a:lnTo>
                    <a:pt x="143" y="17"/>
                  </a:lnTo>
                  <a:lnTo>
                    <a:pt x="137" y="19"/>
                  </a:lnTo>
                  <a:lnTo>
                    <a:pt x="134" y="21"/>
                  </a:lnTo>
                  <a:lnTo>
                    <a:pt x="128" y="23"/>
                  </a:lnTo>
                  <a:lnTo>
                    <a:pt x="124" y="27"/>
                  </a:lnTo>
                  <a:lnTo>
                    <a:pt x="118" y="29"/>
                  </a:lnTo>
                  <a:lnTo>
                    <a:pt x="115" y="30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101" y="38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3" y="59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2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0" y="97"/>
                  </a:lnTo>
                  <a:lnTo>
                    <a:pt x="37" y="103"/>
                  </a:lnTo>
                  <a:lnTo>
                    <a:pt x="33" y="108"/>
                  </a:lnTo>
                  <a:lnTo>
                    <a:pt x="29" y="114"/>
                  </a:lnTo>
                  <a:lnTo>
                    <a:pt x="25" y="122"/>
                  </a:lnTo>
                  <a:lnTo>
                    <a:pt x="23" y="127"/>
                  </a:lnTo>
                  <a:lnTo>
                    <a:pt x="19" y="133"/>
                  </a:lnTo>
                  <a:lnTo>
                    <a:pt x="18" y="141"/>
                  </a:lnTo>
                  <a:lnTo>
                    <a:pt x="16" y="148"/>
                  </a:lnTo>
                  <a:lnTo>
                    <a:pt x="12" y="156"/>
                  </a:lnTo>
                  <a:lnTo>
                    <a:pt x="10" y="163"/>
                  </a:lnTo>
                  <a:lnTo>
                    <a:pt x="8" y="171"/>
                  </a:lnTo>
                  <a:lnTo>
                    <a:pt x="6" y="181"/>
                  </a:lnTo>
                  <a:lnTo>
                    <a:pt x="6" y="190"/>
                  </a:lnTo>
                  <a:lnTo>
                    <a:pt x="2" y="198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7"/>
                  </a:lnTo>
                  <a:lnTo>
                    <a:pt x="8" y="302"/>
                  </a:lnTo>
                  <a:lnTo>
                    <a:pt x="8" y="308"/>
                  </a:lnTo>
                  <a:lnTo>
                    <a:pt x="10" y="314"/>
                  </a:lnTo>
                  <a:lnTo>
                    <a:pt x="12" y="317"/>
                  </a:lnTo>
                  <a:lnTo>
                    <a:pt x="16" y="323"/>
                  </a:lnTo>
                  <a:lnTo>
                    <a:pt x="16" y="329"/>
                  </a:lnTo>
                  <a:lnTo>
                    <a:pt x="19" y="333"/>
                  </a:lnTo>
                  <a:lnTo>
                    <a:pt x="21" y="338"/>
                  </a:lnTo>
                  <a:lnTo>
                    <a:pt x="23" y="342"/>
                  </a:lnTo>
                  <a:lnTo>
                    <a:pt x="27" y="346"/>
                  </a:lnTo>
                  <a:lnTo>
                    <a:pt x="29" y="352"/>
                  </a:lnTo>
                  <a:lnTo>
                    <a:pt x="31" y="355"/>
                  </a:lnTo>
                  <a:lnTo>
                    <a:pt x="33" y="359"/>
                  </a:lnTo>
                  <a:lnTo>
                    <a:pt x="38" y="367"/>
                  </a:lnTo>
                  <a:lnTo>
                    <a:pt x="44" y="374"/>
                  </a:lnTo>
                  <a:lnTo>
                    <a:pt x="50" y="380"/>
                  </a:lnTo>
                  <a:lnTo>
                    <a:pt x="56" y="386"/>
                  </a:lnTo>
                  <a:lnTo>
                    <a:pt x="61" y="392"/>
                  </a:lnTo>
                  <a:lnTo>
                    <a:pt x="67" y="397"/>
                  </a:lnTo>
                  <a:lnTo>
                    <a:pt x="71" y="401"/>
                  </a:lnTo>
                  <a:lnTo>
                    <a:pt x="77" y="405"/>
                  </a:lnTo>
                  <a:lnTo>
                    <a:pt x="82" y="407"/>
                  </a:lnTo>
                  <a:lnTo>
                    <a:pt x="86" y="411"/>
                  </a:lnTo>
                  <a:lnTo>
                    <a:pt x="90" y="412"/>
                  </a:lnTo>
                  <a:lnTo>
                    <a:pt x="96" y="416"/>
                  </a:lnTo>
                  <a:lnTo>
                    <a:pt x="97" y="416"/>
                  </a:lnTo>
                  <a:lnTo>
                    <a:pt x="101" y="420"/>
                  </a:lnTo>
                  <a:lnTo>
                    <a:pt x="105" y="422"/>
                  </a:lnTo>
                  <a:lnTo>
                    <a:pt x="107" y="422"/>
                  </a:lnTo>
                  <a:lnTo>
                    <a:pt x="162" y="426"/>
                  </a:lnTo>
                  <a:lnTo>
                    <a:pt x="263" y="395"/>
                  </a:lnTo>
                  <a:lnTo>
                    <a:pt x="318" y="314"/>
                  </a:lnTo>
                  <a:lnTo>
                    <a:pt x="331" y="255"/>
                  </a:lnTo>
                  <a:lnTo>
                    <a:pt x="388" y="213"/>
                  </a:lnTo>
                  <a:lnTo>
                    <a:pt x="390" y="181"/>
                  </a:lnTo>
                  <a:lnTo>
                    <a:pt x="337" y="146"/>
                  </a:lnTo>
                  <a:lnTo>
                    <a:pt x="316" y="1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0240" y="5662800"/>
              <a:ext cx="287640" cy="285480"/>
            </a:xfrm>
            <a:custGeom>
              <a:avLst/>
              <a:gdLst/>
              <a:ahLst/>
              <a:rect l="l" t="t" r="r" b="b"/>
              <a:pathLst>
                <a:path w="324" h="361">
                  <a:moveTo>
                    <a:pt x="0" y="190"/>
                  </a:moveTo>
                  <a:lnTo>
                    <a:pt x="202" y="361"/>
                  </a:lnTo>
                  <a:lnTo>
                    <a:pt x="265" y="315"/>
                  </a:lnTo>
                  <a:lnTo>
                    <a:pt x="324" y="192"/>
                  </a:lnTo>
                  <a:lnTo>
                    <a:pt x="308" y="118"/>
                  </a:lnTo>
                  <a:lnTo>
                    <a:pt x="276" y="78"/>
                  </a:lnTo>
                  <a:lnTo>
                    <a:pt x="215" y="38"/>
                  </a:lnTo>
                  <a:lnTo>
                    <a:pt x="12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05880" y="5681880"/>
              <a:ext cx="195120" cy="14436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23"/>
                  </a:moveTo>
                  <a:lnTo>
                    <a:pt x="41" y="99"/>
                  </a:lnTo>
                  <a:lnTo>
                    <a:pt x="62" y="182"/>
                  </a:lnTo>
                  <a:lnTo>
                    <a:pt x="218" y="157"/>
                  </a:lnTo>
                  <a:lnTo>
                    <a:pt x="218" y="93"/>
                  </a:lnTo>
                  <a:lnTo>
                    <a:pt x="19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1040" y="5722920"/>
              <a:ext cx="90360" cy="15408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10" y="0"/>
                  </a:moveTo>
                  <a:lnTo>
                    <a:pt x="0" y="133"/>
                  </a:lnTo>
                  <a:lnTo>
                    <a:pt x="10" y="194"/>
                  </a:lnTo>
                  <a:lnTo>
                    <a:pt x="103" y="11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9040" y="5900760"/>
              <a:ext cx="66960" cy="63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15" y="0"/>
                  </a:moveTo>
                  <a:lnTo>
                    <a:pt x="46" y="0"/>
                  </a:lnTo>
                  <a:lnTo>
                    <a:pt x="74" y="33"/>
                  </a:lnTo>
                  <a:lnTo>
                    <a:pt x="72" y="61"/>
                  </a:lnTo>
                  <a:lnTo>
                    <a:pt x="51" y="80"/>
                  </a:lnTo>
                  <a:lnTo>
                    <a:pt x="15" y="76"/>
                  </a:lnTo>
                  <a:lnTo>
                    <a:pt x="0" y="5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1160" y="5877000"/>
              <a:ext cx="47880" cy="763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6" y="0"/>
                  </a:moveTo>
                  <a:lnTo>
                    <a:pt x="15" y="7"/>
                  </a:lnTo>
                  <a:lnTo>
                    <a:pt x="0" y="47"/>
                  </a:lnTo>
                  <a:lnTo>
                    <a:pt x="8" y="81"/>
                  </a:lnTo>
                  <a:lnTo>
                    <a:pt x="28" y="95"/>
                  </a:lnTo>
                  <a:lnTo>
                    <a:pt x="53" y="9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3680" y="5153040"/>
              <a:ext cx="381960" cy="577800"/>
            </a:xfrm>
            <a:custGeom>
              <a:avLst/>
              <a:gdLst/>
              <a:ahLst/>
              <a:rect l="l" t="t" r="r" b="b"/>
              <a:pathLst>
                <a:path w="429" h="727">
                  <a:moveTo>
                    <a:pt x="355" y="364"/>
                  </a:moveTo>
                  <a:lnTo>
                    <a:pt x="353" y="363"/>
                  </a:lnTo>
                  <a:lnTo>
                    <a:pt x="348" y="357"/>
                  </a:lnTo>
                  <a:lnTo>
                    <a:pt x="344" y="353"/>
                  </a:lnTo>
                  <a:lnTo>
                    <a:pt x="340" y="349"/>
                  </a:lnTo>
                  <a:lnTo>
                    <a:pt x="334" y="345"/>
                  </a:lnTo>
                  <a:lnTo>
                    <a:pt x="330" y="342"/>
                  </a:lnTo>
                  <a:lnTo>
                    <a:pt x="323" y="336"/>
                  </a:lnTo>
                  <a:lnTo>
                    <a:pt x="317" y="332"/>
                  </a:lnTo>
                  <a:lnTo>
                    <a:pt x="310" y="330"/>
                  </a:lnTo>
                  <a:lnTo>
                    <a:pt x="304" y="326"/>
                  </a:lnTo>
                  <a:lnTo>
                    <a:pt x="296" y="325"/>
                  </a:lnTo>
                  <a:lnTo>
                    <a:pt x="289" y="325"/>
                  </a:lnTo>
                  <a:lnTo>
                    <a:pt x="281" y="325"/>
                  </a:lnTo>
                  <a:lnTo>
                    <a:pt x="275" y="328"/>
                  </a:lnTo>
                  <a:lnTo>
                    <a:pt x="268" y="330"/>
                  </a:lnTo>
                  <a:lnTo>
                    <a:pt x="260" y="334"/>
                  </a:lnTo>
                  <a:lnTo>
                    <a:pt x="256" y="338"/>
                  </a:lnTo>
                  <a:lnTo>
                    <a:pt x="251" y="340"/>
                  </a:lnTo>
                  <a:lnTo>
                    <a:pt x="243" y="345"/>
                  </a:lnTo>
                  <a:lnTo>
                    <a:pt x="239" y="353"/>
                  </a:lnTo>
                  <a:lnTo>
                    <a:pt x="237" y="355"/>
                  </a:lnTo>
                  <a:lnTo>
                    <a:pt x="235" y="359"/>
                  </a:lnTo>
                  <a:lnTo>
                    <a:pt x="235" y="363"/>
                  </a:lnTo>
                  <a:lnTo>
                    <a:pt x="235" y="368"/>
                  </a:lnTo>
                  <a:lnTo>
                    <a:pt x="235" y="374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5" y="389"/>
                  </a:lnTo>
                  <a:lnTo>
                    <a:pt x="235" y="393"/>
                  </a:lnTo>
                  <a:lnTo>
                    <a:pt x="237" y="397"/>
                  </a:lnTo>
                  <a:lnTo>
                    <a:pt x="237" y="404"/>
                  </a:lnTo>
                  <a:lnTo>
                    <a:pt x="239" y="412"/>
                  </a:lnTo>
                  <a:lnTo>
                    <a:pt x="243" y="418"/>
                  </a:lnTo>
                  <a:lnTo>
                    <a:pt x="247" y="425"/>
                  </a:lnTo>
                  <a:lnTo>
                    <a:pt x="251" y="429"/>
                  </a:lnTo>
                  <a:lnTo>
                    <a:pt x="256" y="433"/>
                  </a:lnTo>
                  <a:lnTo>
                    <a:pt x="262" y="437"/>
                  </a:lnTo>
                  <a:lnTo>
                    <a:pt x="268" y="440"/>
                  </a:lnTo>
                  <a:lnTo>
                    <a:pt x="273" y="442"/>
                  </a:lnTo>
                  <a:lnTo>
                    <a:pt x="279" y="444"/>
                  </a:lnTo>
                  <a:lnTo>
                    <a:pt x="283" y="446"/>
                  </a:lnTo>
                  <a:lnTo>
                    <a:pt x="289" y="446"/>
                  </a:lnTo>
                  <a:lnTo>
                    <a:pt x="292" y="448"/>
                  </a:lnTo>
                  <a:lnTo>
                    <a:pt x="296" y="448"/>
                  </a:lnTo>
                  <a:lnTo>
                    <a:pt x="298" y="448"/>
                  </a:lnTo>
                  <a:lnTo>
                    <a:pt x="298" y="450"/>
                  </a:lnTo>
                  <a:lnTo>
                    <a:pt x="298" y="450"/>
                  </a:lnTo>
                  <a:lnTo>
                    <a:pt x="294" y="458"/>
                  </a:lnTo>
                  <a:lnTo>
                    <a:pt x="292" y="461"/>
                  </a:lnTo>
                  <a:lnTo>
                    <a:pt x="291" y="467"/>
                  </a:lnTo>
                  <a:lnTo>
                    <a:pt x="289" y="473"/>
                  </a:lnTo>
                  <a:lnTo>
                    <a:pt x="287" y="480"/>
                  </a:lnTo>
                  <a:lnTo>
                    <a:pt x="285" y="482"/>
                  </a:lnTo>
                  <a:lnTo>
                    <a:pt x="285" y="486"/>
                  </a:lnTo>
                  <a:lnTo>
                    <a:pt x="285" y="490"/>
                  </a:lnTo>
                  <a:lnTo>
                    <a:pt x="285" y="496"/>
                  </a:lnTo>
                  <a:lnTo>
                    <a:pt x="283" y="499"/>
                  </a:lnTo>
                  <a:lnTo>
                    <a:pt x="283" y="503"/>
                  </a:lnTo>
                  <a:lnTo>
                    <a:pt x="283" y="509"/>
                  </a:lnTo>
                  <a:lnTo>
                    <a:pt x="283" y="513"/>
                  </a:lnTo>
                  <a:lnTo>
                    <a:pt x="283" y="518"/>
                  </a:lnTo>
                  <a:lnTo>
                    <a:pt x="283" y="522"/>
                  </a:lnTo>
                  <a:lnTo>
                    <a:pt x="283" y="528"/>
                  </a:lnTo>
                  <a:lnTo>
                    <a:pt x="285" y="534"/>
                  </a:lnTo>
                  <a:lnTo>
                    <a:pt x="285" y="537"/>
                  </a:lnTo>
                  <a:lnTo>
                    <a:pt x="287" y="545"/>
                  </a:lnTo>
                  <a:lnTo>
                    <a:pt x="289" y="551"/>
                  </a:lnTo>
                  <a:lnTo>
                    <a:pt x="291" y="556"/>
                  </a:lnTo>
                  <a:lnTo>
                    <a:pt x="292" y="560"/>
                  </a:lnTo>
                  <a:lnTo>
                    <a:pt x="294" y="568"/>
                  </a:lnTo>
                  <a:lnTo>
                    <a:pt x="296" y="572"/>
                  </a:lnTo>
                  <a:lnTo>
                    <a:pt x="300" y="579"/>
                  </a:lnTo>
                  <a:lnTo>
                    <a:pt x="302" y="585"/>
                  </a:lnTo>
                  <a:lnTo>
                    <a:pt x="306" y="593"/>
                  </a:lnTo>
                  <a:lnTo>
                    <a:pt x="310" y="600"/>
                  </a:lnTo>
                  <a:lnTo>
                    <a:pt x="313" y="606"/>
                  </a:lnTo>
                  <a:lnTo>
                    <a:pt x="317" y="613"/>
                  </a:lnTo>
                  <a:lnTo>
                    <a:pt x="321" y="621"/>
                  </a:lnTo>
                  <a:lnTo>
                    <a:pt x="325" y="627"/>
                  </a:lnTo>
                  <a:lnTo>
                    <a:pt x="330" y="634"/>
                  </a:lnTo>
                  <a:lnTo>
                    <a:pt x="334" y="642"/>
                  </a:lnTo>
                  <a:lnTo>
                    <a:pt x="338" y="648"/>
                  </a:lnTo>
                  <a:lnTo>
                    <a:pt x="344" y="655"/>
                  </a:lnTo>
                  <a:lnTo>
                    <a:pt x="348" y="663"/>
                  </a:lnTo>
                  <a:lnTo>
                    <a:pt x="351" y="669"/>
                  </a:lnTo>
                  <a:lnTo>
                    <a:pt x="355" y="674"/>
                  </a:lnTo>
                  <a:lnTo>
                    <a:pt x="359" y="682"/>
                  </a:lnTo>
                  <a:lnTo>
                    <a:pt x="363" y="688"/>
                  </a:lnTo>
                  <a:lnTo>
                    <a:pt x="367" y="691"/>
                  </a:lnTo>
                  <a:lnTo>
                    <a:pt x="370" y="697"/>
                  </a:lnTo>
                  <a:lnTo>
                    <a:pt x="374" y="703"/>
                  </a:lnTo>
                  <a:lnTo>
                    <a:pt x="378" y="708"/>
                  </a:lnTo>
                  <a:lnTo>
                    <a:pt x="384" y="714"/>
                  </a:lnTo>
                  <a:lnTo>
                    <a:pt x="387" y="722"/>
                  </a:lnTo>
                  <a:lnTo>
                    <a:pt x="389" y="726"/>
                  </a:lnTo>
                  <a:lnTo>
                    <a:pt x="391" y="727"/>
                  </a:lnTo>
                  <a:lnTo>
                    <a:pt x="389" y="726"/>
                  </a:lnTo>
                  <a:lnTo>
                    <a:pt x="384" y="726"/>
                  </a:lnTo>
                  <a:lnTo>
                    <a:pt x="380" y="724"/>
                  </a:lnTo>
                  <a:lnTo>
                    <a:pt x="376" y="722"/>
                  </a:lnTo>
                  <a:lnTo>
                    <a:pt x="372" y="722"/>
                  </a:lnTo>
                  <a:lnTo>
                    <a:pt x="367" y="722"/>
                  </a:lnTo>
                  <a:lnTo>
                    <a:pt x="361" y="718"/>
                  </a:lnTo>
                  <a:lnTo>
                    <a:pt x="355" y="718"/>
                  </a:lnTo>
                  <a:lnTo>
                    <a:pt x="348" y="716"/>
                  </a:lnTo>
                  <a:lnTo>
                    <a:pt x="342" y="714"/>
                  </a:lnTo>
                  <a:lnTo>
                    <a:pt x="334" y="712"/>
                  </a:lnTo>
                  <a:lnTo>
                    <a:pt x="327" y="708"/>
                  </a:lnTo>
                  <a:lnTo>
                    <a:pt x="317" y="707"/>
                  </a:lnTo>
                  <a:lnTo>
                    <a:pt x="311" y="705"/>
                  </a:lnTo>
                  <a:lnTo>
                    <a:pt x="302" y="701"/>
                  </a:lnTo>
                  <a:lnTo>
                    <a:pt x="294" y="697"/>
                  </a:lnTo>
                  <a:lnTo>
                    <a:pt x="287" y="693"/>
                  </a:lnTo>
                  <a:lnTo>
                    <a:pt x="279" y="691"/>
                  </a:lnTo>
                  <a:lnTo>
                    <a:pt x="271" y="688"/>
                  </a:lnTo>
                  <a:lnTo>
                    <a:pt x="264" y="684"/>
                  </a:lnTo>
                  <a:lnTo>
                    <a:pt x="256" y="680"/>
                  </a:lnTo>
                  <a:lnTo>
                    <a:pt x="249" y="674"/>
                  </a:lnTo>
                  <a:lnTo>
                    <a:pt x="243" y="670"/>
                  </a:lnTo>
                  <a:lnTo>
                    <a:pt x="235" y="665"/>
                  </a:lnTo>
                  <a:lnTo>
                    <a:pt x="230" y="661"/>
                  </a:lnTo>
                  <a:lnTo>
                    <a:pt x="224" y="655"/>
                  </a:lnTo>
                  <a:lnTo>
                    <a:pt x="218" y="651"/>
                  </a:lnTo>
                  <a:lnTo>
                    <a:pt x="214" y="646"/>
                  </a:lnTo>
                  <a:lnTo>
                    <a:pt x="211" y="640"/>
                  </a:lnTo>
                  <a:lnTo>
                    <a:pt x="209" y="634"/>
                  </a:lnTo>
                  <a:lnTo>
                    <a:pt x="207" y="634"/>
                  </a:lnTo>
                  <a:lnTo>
                    <a:pt x="203" y="636"/>
                  </a:lnTo>
                  <a:lnTo>
                    <a:pt x="197" y="638"/>
                  </a:lnTo>
                  <a:lnTo>
                    <a:pt x="192" y="642"/>
                  </a:lnTo>
                  <a:lnTo>
                    <a:pt x="188" y="644"/>
                  </a:lnTo>
                  <a:lnTo>
                    <a:pt x="184" y="646"/>
                  </a:lnTo>
                  <a:lnTo>
                    <a:pt x="180" y="646"/>
                  </a:lnTo>
                  <a:lnTo>
                    <a:pt x="176" y="648"/>
                  </a:lnTo>
                  <a:lnTo>
                    <a:pt x="171" y="648"/>
                  </a:lnTo>
                  <a:lnTo>
                    <a:pt x="167" y="648"/>
                  </a:lnTo>
                  <a:lnTo>
                    <a:pt x="161" y="648"/>
                  </a:lnTo>
                  <a:lnTo>
                    <a:pt x="157" y="648"/>
                  </a:lnTo>
                  <a:lnTo>
                    <a:pt x="152" y="646"/>
                  </a:lnTo>
                  <a:lnTo>
                    <a:pt x="148" y="644"/>
                  </a:lnTo>
                  <a:lnTo>
                    <a:pt x="142" y="640"/>
                  </a:lnTo>
                  <a:lnTo>
                    <a:pt x="137" y="638"/>
                  </a:lnTo>
                  <a:lnTo>
                    <a:pt x="131" y="632"/>
                  </a:lnTo>
                  <a:lnTo>
                    <a:pt x="123" y="629"/>
                  </a:lnTo>
                  <a:lnTo>
                    <a:pt x="118" y="623"/>
                  </a:lnTo>
                  <a:lnTo>
                    <a:pt x="114" y="619"/>
                  </a:lnTo>
                  <a:lnTo>
                    <a:pt x="108" y="613"/>
                  </a:lnTo>
                  <a:lnTo>
                    <a:pt x="102" y="608"/>
                  </a:lnTo>
                  <a:lnTo>
                    <a:pt x="98" y="604"/>
                  </a:lnTo>
                  <a:lnTo>
                    <a:pt x="95" y="600"/>
                  </a:lnTo>
                  <a:lnTo>
                    <a:pt x="89" y="594"/>
                  </a:lnTo>
                  <a:lnTo>
                    <a:pt x="87" y="593"/>
                  </a:lnTo>
                  <a:lnTo>
                    <a:pt x="68" y="623"/>
                  </a:lnTo>
                  <a:lnTo>
                    <a:pt x="64" y="621"/>
                  </a:lnTo>
                  <a:lnTo>
                    <a:pt x="59" y="617"/>
                  </a:lnTo>
                  <a:lnTo>
                    <a:pt x="53" y="613"/>
                  </a:lnTo>
                  <a:lnTo>
                    <a:pt x="49" y="610"/>
                  </a:lnTo>
                  <a:lnTo>
                    <a:pt x="43" y="604"/>
                  </a:lnTo>
                  <a:lnTo>
                    <a:pt x="40" y="600"/>
                  </a:lnTo>
                  <a:lnTo>
                    <a:pt x="32" y="593"/>
                  </a:lnTo>
                  <a:lnTo>
                    <a:pt x="26" y="587"/>
                  </a:lnTo>
                  <a:lnTo>
                    <a:pt x="21" y="579"/>
                  </a:lnTo>
                  <a:lnTo>
                    <a:pt x="17" y="572"/>
                  </a:lnTo>
                  <a:lnTo>
                    <a:pt x="13" y="568"/>
                  </a:lnTo>
                  <a:lnTo>
                    <a:pt x="11" y="564"/>
                  </a:lnTo>
                  <a:lnTo>
                    <a:pt x="9" y="558"/>
                  </a:lnTo>
                  <a:lnTo>
                    <a:pt x="7" y="555"/>
                  </a:lnTo>
                  <a:lnTo>
                    <a:pt x="5" y="549"/>
                  </a:lnTo>
                  <a:lnTo>
                    <a:pt x="3" y="543"/>
                  </a:lnTo>
                  <a:lnTo>
                    <a:pt x="2" y="537"/>
                  </a:lnTo>
                  <a:lnTo>
                    <a:pt x="2" y="534"/>
                  </a:lnTo>
                  <a:lnTo>
                    <a:pt x="0" y="526"/>
                  </a:lnTo>
                  <a:lnTo>
                    <a:pt x="0" y="520"/>
                  </a:lnTo>
                  <a:lnTo>
                    <a:pt x="0" y="515"/>
                  </a:lnTo>
                  <a:lnTo>
                    <a:pt x="0" y="511"/>
                  </a:lnTo>
                  <a:lnTo>
                    <a:pt x="0" y="507"/>
                  </a:lnTo>
                  <a:lnTo>
                    <a:pt x="0" y="503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2" y="460"/>
                  </a:lnTo>
                  <a:lnTo>
                    <a:pt x="2" y="452"/>
                  </a:lnTo>
                  <a:lnTo>
                    <a:pt x="3" y="446"/>
                  </a:lnTo>
                  <a:lnTo>
                    <a:pt x="3" y="440"/>
                  </a:lnTo>
                  <a:lnTo>
                    <a:pt x="3" y="435"/>
                  </a:lnTo>
                  <a:lnTo>
                    <a:pt x="5" y="427"/>
                  </a:lnTo>
                  <a:lnTo>
                    <a:pt x="7" y="420"/>
                  </a:lnTo>
                  <a:lnTo>
                    <a:pt x="7" y="412"/>
                  </a:lnTo>
                  <a:lnTo>
                    <a:pt x="9" y="406"/>
                  </a:lnTo>
                  <a:lnTo>
                    <a:pt x="9" y="399"/>
                  </a:lnTo>
                  <a:lnTo>
                    <a:pt x="11" y="391"/>
                  </a:lnTo>
                  <a:lnTo>
                    <a:pt x="11" y="385"/>
                  </a:lnTo>
                  <a:lnTo>
                    <a:pt x="15" y="378"/>
                  </a:lnTo>
                  <a:lnTo>
                    <a:pt x="17" y="372"/>
                  </a:lnTo>
                  <a:lnTo>
                    <a:pt x="17" y="364"/>
                  </a:lnTo>
                  <a:lnTo>
                    <a:pt x="19" y="357"/>
                  </a:lnTo>
                  <a:lnTo>
                    <a:pt x="21" y="349"/>
                  </a:lnTo>
                  <a:lnTo>
                    <a:pt x="22" y="342"/>
                  </a:lnTo>
                  <a:lnTo>
                    <a:pt x="24" y="334"/>
                  </a:lnTo>
                  <a:lnTo>
                    <a:pt x="26" y="328"/>
                  </a:lnTo>
                  <a:lnTo>
                    <a:pt x="28" y="321"/>
                  </a:lnTo>
                  <a:lnTo>
                    <a:pt x="30" y="313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2"/>
                  </a:lnTo>
                  <a:lnTo>
                    <a:pt x="40" y="285"/>
                  </a:lnTo>
                  <a:lnTo>
                    <a:pt x="41" y="277"/>
                  </a:lnTo>
                  <a:lnTo>
                    <a:pt x="43" y="271"/>
                  </a:lnTo>
                  <a:lnTo>
                    <a:pt x="45" y="264"/>
                  </a:lnTo>
                  <a:lnTo>
                    <a:pt x="49" y="256"/>
                  </a:lnTo>
                  <a:lnTo>
                    <a:pt x="51" y="250"/>
                  </a:lnTo>
                  <a:lnTo>
                    <a:pt x="53" y="243"/>
                  </a:lnTo>
                  <a:lnTo>
                    <a:pt x="57" y="237"/>
                  </a:lnTo>
                  <a:lnTo>
                    <a:pt x="59" y="230"/>
                  </a:lnTo>
                  <a:lnTo>
                    <a:pt x="62" y="222"/>
                  </a:lnTo>
                  <a:lnTo>
                    <a:pt x="64" y="216"/>
                  </a:lnTo>
                  <a:lnTo>
                    <a:pt x="68" y="211"/>
                  </a:lnTo>
                  <a:lnTo>
                    <a:pt x="70" y="203"/>
                  </a:lnTo>
                  <a:lnTo>
                    <a:pt x="74" y="197"/>
                  </a:lnTo>
                  <a:lnTo>
                    <a:pt x="76" y="192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5" y="174"/>
                  </a:lnTo>
                  <a:lnTo>
                    <a:pt x="89" y="171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8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4"/>
                  </a:lnTo>
                  <a:lnTo>
                    <a:pt x="114" y="138"/>
                  </a:lnTo>
                  <a:lnTo>
                    <a:pt x="116" y="135"/>
                  </a:lnTo>
                  <a:lnTo>
                    <a:pt x="119" y="131"/>
                  </a:lnTo>
                  <a:lnTo>
                    <a:pt x="127" y="123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4" y="100"/>
                  </a:lnTo>
                  <a:lnTo>
                    <a:pt x="157" y="97"/>
                  </a:lnTo>
                  <a:lnTo>
                    <a:pt x="163" y="95"/>
                  </a:lnTo>
                  <a:lnTo>
                    <a:pt x="167" y="91"/>
                  </a:lnTo>
                  <a:lnTo>
                    <a:pt x="173" y="87"/>
                  </a:lnTo>
                  <a:lnTo>
                    <a:pt x="176" y="83"/>
                  </a:lnTo>
                  <a:lnTo>
                    <a:pt x="180" y="81"/>
                  </a:lnTo>
                  <a:lnTo>
                    <a:pt x="186" y="78"/>
                  </a:lnTo>
                  <a:lnTo>
                    <a:pt x="190" y="76"/>
                  </a:lnTo>
                  <a:lnTo>
                    <a:pt x="195" y="72"/>
                  </a:lnTo>
                  <a:lnTo>
                    <a:pt x="199" y="68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4" y="60"/>
                  </a:lnTo>
                  <a:lnTo>
                    <a:pt x="218" y="59"/>
                  </a:lnTo>
                  <a:lnTo>
                    <a:pt x="224" y="55"/>
                  </a:lnTo>
                  <a:lnTo>
                    <a:pt x="228" y="53"/>
                  </a:lnTo>
                  <a:lnTo>
                    <a:pt x="233" y="51"/>
                  </a:lnTo>
                  <a:lnTo>
                    <a:pt x="239" y="49"/>
                  </a:lnTo>
                  <a:lnTo>
                    <a:pt x="243" y="47"/>
                  </a:lnTo>
                  <a:lnTo>
                    <a:pt x="249" y="45"/>
                  </a:lnTo>
                  <a:lnTo>
                    <a:pt x="252" y="41"/>
                  </a:lnTo>
                  <a:lnTo>
                    <a:pt x="256" y="40"/>
                  </a:lnTo>
                  <a:lnTo>
                    <a:pt x="262" y="38"/>
                  </a:lnTo>
                  <a:lnTo>
                    <a:pt x="266" y="36"/>
                  </a:lnTo>
                  <a:lnTo>
                    <a:pt x="270" y="34"/>
                  </a:lnTo>
                  <a:lnTo>
                    <a:pt x="275" y="30"/>
                  </a:lnTo>
                  <a:lnTo>
                    <a:pt x="279" y="30"/>
                  </a:lnTo>
                  <a:lnTo>
                    <a:pt x="285" y="28"/>
                  </a:lnTo>
                  <a:lnTo>
                    <a:pt x="289" y="24"/>
                  </a:lnTo>
                  <a:lnTo>
                    <a:pt x="292" y="24"/>
                  </a:lnTo>
                  <a:lnTo>
                    <a:pt x="296" y="22"/>
                  </a:lnTo>
                  <a:lnTo>
                    <a:pt x="302" y="21"/>
                  </a:lnTo>
                  <a:lnTo>
                    <a:pt x="310" y="17"/>
                  </a:lnTo>
                  <a:lnTo>
                    <a:pt x="317" y="15"/>
                  </a:lnTo>
                  <a:lnTo>
                    <a:pt x="323" y="13"/>
                  </a:lnTo>
                  <a:lnTo>
                    <a:pt x="330" y="9"/>
                  </a:lnTo>
                  <a:lnTo>
                    <a:pt x="336" y="9"/>
                  </a:lnTo>
                  <a:lnTo>
                    <a:pt x="344" y="7"/>
                  </a:lnTo>
                  <a:lnTo>
                    <a:pt x="348" y="5"/>
                  </a:lnTo>
                  <a:lnTo>
                    <a:pt x="353" y="5"/>
                  </a:lnTo>
                  <a:lnTo>
                    <a:pt x="357" y="3"/>
                  </a:lnTo>
                  <a:lnTo>
                    <a:pt x="361" y="3"/>
                  </a:lnTo>
                  <a:lnTo>
                    <a:pt x="367" y="2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6" y="2"/>
                  </a:lnTo>
                  <a:lnTo>
                    <a:pt x="410" y="2"/>
                  </a:lnTo>
                  <a:lnTo>
                    <a:pt x="416" y="3"/>
                  </a:lnTo>
                  <a:lnTo>
                    <a:pt x="418" y="3"/>
                  </a:lnTo>
                  <a:lnTo>
                    <a:pt x="422" y="5"/>
                  </a:lnTo>
                  <a:lnTo>
                    <a:pt x="427" y="7"/>
                  </a:lnTo>
                  <a:lnTo>
                    <a:pt x="429" y="7"/>
                  </a:lnTo>
                  <a:lnTo>
                    <a:pt x="427" y="7"/>
                  </a:lnTo>
                  <a:lnTo>
                    <a:pt x="425" y="11"/>
                  </a:lnTo>
                  <a:lnTo>
                    <a:pt x="424" y="15"/>
                  </a:lnTo>
                  <a:lnTo>
                    <a:pt x="420" y="21"/>
                  </a:lnTo>
                  <a:lnTo>
                    <a:pt x="414" y="26"/>
                  </a:lnTo>
                  <a:lnTo>
                    <a:pt x="408" y="34"/>
                  </a:lnTo>
                  <a:lnTo>
                    <a:pt x="406" y="38"/>
                  </a:lnTo>
                  <a:lnTo>
                    <a:pt x="403" y="43"/>
                  </a:lnTo>
                  <a:lnTo>
                    <a:pt x="401" y="47"/>
                  </a:lnTo>
                  <a:lnTo>
                    <a:pt x="397" y="53"/>
                  </a:lnTo>
                  <a:lnTo>
                    <a:pt x="393" y="59"/>
                  </a:lnTo>
                  <a:lnTo>
                    <a:pt x="391" y="62"/>
                  </a:lnTo>
                  <a:lnTo>
                    <a:pt x="387" y="66"/>
                  </a:lnTo>
                  <a:lnTo>
                    <a:pt x="384" y="72"/>
                  </a:lnTo>
                  <a:lnTo>
                    <a:pt x="380" y="78"/>
                  </a:lnTo>
                  <a:lnTo>
                    <a:pt x="378" y="83"/>
                  </a:lnTo>
                  <a:lnTo>
                    <a:pt x="374" y="87"/>
                  </a:lnTo>
                  <a:lnTo>
                    <a:pt x="372" y="93"/>
                  </a:lnTo>
                  <a:lnTo>
                    <a:pt x="368" y="98"/>
                  </a:lnTo>
                  <a:lnTo>
                    <a:pt x="365" y="104"/>
                  </a:lnTo>
                  <a:lnTo>
                    <a:pt x="363" y="108"/>
                  </a:lnTo>
                  <a:lnTo>
                    <a:pt x="359" y="114"/>
                  </a:lnTo>
                  <a:lnTo>
                    <a:pt x="357" y="117"/>
                  </a:lnTo>
                  <a:lnTo>
                    <a:pt x="355" y="123"/>
                  </a:lnTo>
                  <a:lnTo>
                    <a:pt x="353" y="127"/>
                  </a:lnTo>
                  <a:lnTo>
                    <a:pt x="351" y="133"/>
                  </a:lnTo>
                  <a:lnTo>
                    <a:pt x="349" y="136"/>
                  </a:lnTo>
                  <a:lnTo>
                    <a:pt x="348" y="140"/>
                  </a:lnTo>
                  <a:lnTo>
                    <a:pt x="346" y="146"/>
                  </a:lnTo>
                  <a:lnTo>
                    <a:pt x="344" y="152"/>
                  </a:lnTo>
                  <a:lnTo>
                    <a:pt x="342" y="157"/>
                  </a:lnTo>
                  <a:lnTo>
                    <a:pt x="340" y="163"/>
                  </a:lnTo>
                  <a:lnTo>
                    <a:pt x="338" y="171"/>
                  </a:lnTo>
                  <a:lnTo>
                    <a:pt x="338" y="178"/>
                  </a:lnTo>
                  <a:lnTo>
                    <a:pt x="336" y="184"/>
                  </a:lnTo>
                  <a:lnTo>
                    <a:pt x="334" y="192"/>
                  </a:lnTo>
                  <a:lnTo>
                    <a:pt x="332" y="199"/>
                  </a:lnTo>
                  <a:lnTo>
                    <a:pt x="332" y="207"/>
                  </a:lnTo>
                  <a:lnTo>
                    <a:pt x="330" y="212"/>
                  </a:lnTo>
                  <a:lnTo>
                    <a:pt x="330" y="222"/>
                  </a:lnTo>
                  <a:lnTo>
                    <a:pt x="329" y="230"/>
                  </a:lnTo>
                  <a:lnTo>
                    <a:pt x="327" y="237"/>
                  </a:lnTo>
                  <a:lnTo>
                    <a:pt x="327" y="243"/>
                  </a:lnTo>
                  <a:lnTo>
                    <a:pt x="325" y="250"/>
                  </a:lnTo>
                  <a:lnTo>
                    <a:pt x="323" y="256"/>
                  </a:lnTo>
                  <a:lnTo>
                    <a:pt x="323" y="264"/>
                  </a:lnTo>
                  <a:lnTo>
                    <a:pt x="321" y="269"/>
                  </a:lnTo>
                  <a:lnTo>
                    <a:pt x="321" y="275"/>
                  </a:lnTo>
                  <a:lnTo>
                    <a:pt x="319" y="281"/>
                  </a:lnTo>
                  <a:lnTo>
                    <a:pt x="319" y="287"/>
                  </a:lnTo>
                  <a:lnTo>
                    <a:pt x="319" y="290"/>
                  </a:lnTo>
                  <a:lnTo>
                    <a:pt x="317" y="296"/>
                  </a:lnTo>
                  <a:lnTo>
                    <a:pt x="317" y="298"/>
                  </a:lnTo>
                  <a:lnTo>
                    <a:pt x="317" y="302"/>
                  </a:lnTo>
                  <a:lnTo>
                    <a:pt x="317" y="306"/>
                  </a:lnTo>
                  <a:lnTo>
                    <a:pt x="317" y="307"/>
                  </a:lnTo>
                  <a:lnTo>
                    <a:pt x="365" y="357"/>
                  </a:lnTo>
                  <a:lnTo>
                    <a:pt x="355" y="364"/>
                  </a:lnTo>
                  <a:lnTo>
                    <a:pt x="355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8760" y="5148360"/>
              <a:ext cx="451080" cy="284040"/>
            </a:xfrm>
            <a:custGeom>
              <a:avLst/>
              <a:gdLst/>
              <a:ahLst/>
              <a:rect l="l" t="t" r="r" b="b"/>
              <a:pathLst>
                <a:path w="507" h="359">
                  <a:moveTo>
                    <a:pt x="2" y="359"/>
                  </a:moveTo>
                  <a:lnTo>
                    <a:pt x="2" y="357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27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2" y="277"/>
                  </a:lnTo>
                  <a:lnTo>
                    <a:pt x="2" y="270"/>
                  </a:lnTo>
                  <a:lnTo>
                    <a:pt x="2" y="264"/>
                  </a:lnTo>
                  <a:lnTo>
                    <a:pt x="2" y="258"/>
                  </a:lnTo>
                  <a:lnTo>
                    <a:pt x="3" y="253"/>
                  </a:lnTo>
                  <a:lnTo>
                    <a:pt x="3" y="245"/>
                  </a:lnTo>
                  <a:lnTo>
                    <a:pt x="5" y="239"/>
                  </a:lnTo>
                  <a:lnTo>
                    <a:pt x="5" y="234"/>
                  </a:lnTo>
                  <a:lnTo>
                    <a:pt x="7" y="226"/>
                  </a:lnTo>
                  <a:lnTo>
                    <a:pt x="7" y="220"/>
                  </a:lnTo>
                  <a:lnTo>
                    <a:pt x="9" y="213"/>
                  </a:lnTo>
                  <a:lnTo>
                    <a:pt x="9" y="205"/>
                  </a:lnTo>
                  <a:lnTo>
                    <a:pt x="11" y="200"/>
                  </a:lnTo>
                  <a:lnTo>
                    <a:pt x="13" y="192"/>
                  </a:lnTo>
                  <a:lnTo>
                    <a:pt x="15" y="184"/>
                  </a:lnTo>
                  <a:lnTo>
                    <a:pt x="15" y="179"/>
                  </a:lnTo>
                  <a:lnTo>
                    <a:pt x="19" y="171"/>
                  </a:lnTo>
                  <a:lnTo>
                    <a:pt x="19" y="163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7"/>
                  </a:lnTo>
                  <a:lnTo>
                    <a:pt x="32" y="129"/>
                  </a:lnTo>
                  <a:lnTo>
                    <a:pt x="34" y="124"/>
                  </a:lnTo>
                  <a:lnTo>
                    <a:pt x="38" y="118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45" y="97"/>
                  </a:lnTo>
                  <a:lnTo>
                    <a:pt x="49" y="91"/>
                  </a:lnTo>
                  <a:lnTo>
                    <a:pt x="53" y="84"/>
                  </a:lnTo>
                  <a:lnTo>
                    <a:pt x="57" y="78"/>
                  </a:lnTo>
                  <a:lnTo>
                    <a:pt x="60" y="72"/>
                  </a:lnTo>
                  <a:lnTo>
                    <a:pt x="66" y="68"/>
                  </a:lnTo>
                  <a:lnTo>
                    <a:pt x="70" y="63"/>
                  </a:lnTo>
                  <a:lnTo>
                    <a:pt x="74" y="57"/>
                  </a:lnTo>
                  <a:lnTo>
                    <a:pt x="79" y="51"/>
                  </a:lnTo>
                  <a:lnTo>
                    <a:pt x="85" y="48"/>
                  </a:lnTo>
                  <a:lnTo>
                    <a:pt x="89" y="42"/>
                  </a:lnTo>
                  <a:lnTo>
                    <a:pt x="95" y="38"/>
                  </a:lnTo>
                  <a:lnTo>
                    <a:pt x="100" y="32"/>
                  </a:lnTo>
                  <a:lnTo>
                    <a:pt x="106" y="29"/>
                  </a:lnTo>
                  <a:lnTo>
                    <a:pt x="41" y="27"/>
                  </a:lnTo>
                  <a:lnTo>
                    <a:pt x="36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52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90" y="6"/>
                  </a:lnTo>
                  <a:lnTo>
                    <a:pt x="195" y="6"/>
                  </a:lnTo>
                  <a:lnTo>
                    <a:pt x="201" y="4"/>
                  </a:lnTo>
                  <a:lnTo>
                    <a:pt x="207" y="4"/>
                  </a:lnTo>
                  <a:lnTo>
                    <a:pt x="214" y="4"/>
                  </a:lnTo>
                  <a:lnTo>
                    <a:pt x="220" y="4"/>
                  </a:lnTo>
                  <a:lnTo>
                    <a:pt x="228" y="2"/>
                  </a:lnTo>
                  <a:lnTo>
                    <a:pt x="235" y="2"/>
                  </a:lnTo>
                  <a:lnTo>
                    <a:pt x="243" y="2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3" y="2"/>
                  </a:lnTo>
                  <a:lnTo>
                    <a:pt x="330" y="4"/>
                  </a:lnTo>
                  <a:lnTo>
                    <a:pt x="336" y="4"/>
                  </a:lnTo>
                  <a:lnTo>
                    <a:pt x="344" y="6"/>
                  </a:lnTo>
                  <a:lnTo>
                    <a:pt x="351" y="8"/>
                  </a:lnTo>
                  <a:lnTo>
                    <a:pt x="359" y="11"/>
                  </a:lnTo>
                  <a:lnTo>
                    <a:pt x="365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6" y="21"/>
                  </a:lnTo>
                  <a:lnTo>
                    <a:pt x="391" y="25"/>
                  </a:lnTo>
                  <a:lnTo>
                    <a:pt x="399" y="29"/>
                  </a:lnTo>
                  <a:lnTo>
                    <a:pt x="405" y="32"/>
                  </a:lnTo>
                  <a:lnTo>
                    <a:pt x="412" y="36"/>
                  </a:lnTo>
                  <a:lnTo>
                    <a:pt x="418" y="40"/>
                  </a:lnTo>
                  <a:lnTo>
                    <a:pt x="422" y="44"/>
                  </a:lnTo>
                  <a:lnTo>
                    <a:pt x="427" y="48"/>
                  </a:lnTo>
                  <a:lnTo>
                    <a:pt x="433" y="53"/>
                  </a:lnTo>
                  <a:lnTo>
                    <a:pt x="439" y="57"/>
                  </a:lnTo>
                  <a:lnTo>
                    <a:pt x="445" y="61"/>
                  </a:lnTo>
                  <a:lnTo>
                    <a:pt x="450" y="67"/>
                  </a:lnTo>
                  <a:lnTo>
                    <a:pt x="454" y="70"/>
                  </a:lnTo>
                  <a:lnTo>
                    <a:pt x="458" y="76"/>
                  </a:lnTo>
                  <a:lnTo>
                    <a:pt x="464" y="80"/>
                  </a:lnTo>
                  <a:lnTo>
                    <a:pt x="467" y="86"/>
                  </a:lnTo>
                  <a:lnTo>
                    <a:pt x="471" y="91"/>
                  </a:lnTo>
                  <a:lnTo>
                    <a:pt x="475" y="97"/>
                  </a:lnTo>
                  <a:lnTo>
                    <a:pt x="479" y="103"/>
                  </a:lnTo>
                  <a:lnTo>
                    <a:pt x="481" y="108"/>
                  </a:lnTo>
                  <a:lnTo>
                    <a:pt x="484" y="114"/>
                  </a:lnTo>
                  <a:lnTo>
                    <a:pt x="486" y="118"/>
                  </a:lnTo>
                  <a:lnTo>
                    <a:pt x="488" y="124"/>
                  </a:lnTo>
                  <a:lnTo>
                    <a:pt x="490" y="129"/>
                  </a:lnTo>
                  <a:lnTo>
                    <a:pt x="492" y="135"/>
                  </a:lnTo>
                  <a:lnTo>
                    <a:pt x="494" y="141"/>
                  </a:lnTo>
                  <a:lnTo>
                    <a:pt x="496" y="146"/>
                  </a:lnTo>
                  <a:lnTo>
                    <a:pt x="498" y="152"/>
                  </a:lnTo>
                  <a:lnTo>
                    <a:pt x="500" y="158"/>
                  </a:lnTo>
                  <a:lnTo>
                    <a:pt x="500" y="163"/>
                  </a:lnTo>
                  <a:lnTo>
                    <a:pt x="502" y="169"/>
                  </a:lnTo>
                  <a:lnTo>
                    <a:pt x="503" y="175"/>
                  </a:lnTo>
                  <a:lnTo>
                    <a:pt x="503" y="181"/>
                  </a:lnTo>
                  <a:lnTo>
                    <a:pt x="503" y="186"/>
                  </a:lnTo>
                  <a:lnTo>
                    <a:pt x="505" y="192"/>
                  </a:lnTo>
                  <a:lnTo>
                    <a:pt x="505" y="196"/>
                  </a:lnTo>
                  <a:lnTo>
                    <a:pt x="507" y="203"/>
                  </a:lnTo>
                  <a:lnTo>
                    <a:pt x="507" y="207"/>
                  </a:lnTo>
                  <a:lnTo>
                    <a:pt x="507" y="213"/>
                  </a:lnTo>
                  <a:lnTo>
                    <a:pt x="507" y="217"/>
                  </a:lnTo>
                  <a:lnTo>
                    <a:pt x="507" y="222"/>
                  </a:lnTo>
                  <a:lnTo>
                    <a:pt x="507" y="228"/>
                  </a:lnTo>
                  <a:lnTo>
                    <a:pt x="507" y="234"/>
                  </a:lnTo>
                  <a:lnTo>
                    <a:pt x="505" y="238"/>
                  </a:lnTo>
                  <a:lnTo>
                    <a:pt x="505" y="243"/>
                  </a:lnTo>
                  <a:lnTo>
                    <a:pt x="503" y="247"/>
                  </a:lnTo>
                  <a:lnTo>
                    <a:pt x="503" y="251"/>
                  </a:lnTo>
                  <a:lnTo>
                    <a:pt x="503" y="255"/>
                  </a:lnTo>
                  <a:lnTo>
                    <a:pt x="502" y="260"/>
                  </a:lnTo>
                  <a:lnTo>
                    <a:pt x="500" y="266"/>
                  </a:lnTo>
                  <a:lnTo>
                    <a:pt x="496" y="276"/>
                  </a:lnTo>
                  <a:lnTo>
                    <a:pt x="492" y="281"/>
                  </a:lnTo>
                  <a:lnTo>
                    <a:pt x="486" y="287"/>
                  </a:lnTo>
                  <a:lnTo>
                    <a:pt x="481" y="295"/>
                  </a:lnTo>
                  <a:lnTo>
                    <a:pt x="475" y="302"/>
                  </a:lnTo>
                  <a:lnTo>
                    <a:pt x="469" y="308"/>
                  </a:lnTo>
                  <a:lnTo>
                    <a:pt x="464" y="315"/>
                  </a:lnTo>
                  <a:lnTo>
                    <a:pt x="458" y="323"/>
                  </a:lnTo>
                  <a:lnTo>
                    <a:pt x="452" y="329"/>
                  </a:lnTo>
                  <a:lnTo>
                    <a:pt x="445" y="334"/>
                  </a:lnTo>
                  <a:lnTo>
                    <a:pt x="441" y="340"/>
                  </a:lnTo>
                  <a:lnTo>
                    <a:pt x="435" y="344"/>
                  </a:lnTo>
                  <a:lnTo>
                    <a:pt x="431" y="348"/>
                  </a:lnTo>
                  <a:lnTo>
                    <a:pt x="427" y="352"/>
                  </a:lnTo>
                  <a:lnTo>
                    <a:pt x="431" y="340"/>
                  </a:lnTo>
                  <a:lnTo>
                    <a:pt x="431" y="334"/>
                  </a:lnTo>
                  <a:lnTo>
                    <a:pt x="431" y="329"/>
                  </a:lnTo>
                  <a:lnTo>
                    <a:pt x="431" y="325"/>
                  </a:lnTo>
                  <a:lnTo>
                    <a:pt x="431" y="319"/>
                  </a:lnTo>
                  <a:lnTo>
                    <a:pt x="429" y="314"/>
                  </a:lnTo>
                  <a:lnTo>
                    <a:pt x="429" y="308"/>
                  </a:lnTo>
                  <a:lnTo>
                    <a:pt x="429" y="304"/>
                  </a:lnTo>
                  <a:lnTo>
                    <a:pt x="429" y="300"/>
                  </a:lnTo>
                  <a:lnTo>
                    <a:pt x="427" y="293"/>
                  </a:lnTo>
                  <a:lnTo>
                    <a:pt x="427" y="291"/>
                  </a:lnTo>
                  <a:lnTo>
                    <a:pt x="426" y="289"/>
                  </a:lnTo>
                  <a:lnTo>
                    <a:pt x="420" y="287"/>
                  </a:lnTo>
                  <a:lnTo>
                    <a:pt x="414" y="285"/>
                  </a:lnTo>
                  <a:lnTo>
                    <a:pt x="410" y="285"/>
                  </a:lnTo>
                  <a:lnTo>
                    <a:pt x="403" y="287"/>
                  </a:lnTo>
                  <a:lnTo>
                    <a:pt x="397" y="291"/>
                  </a:lnTo>
                  <a:lnTo>
                    <a:pt x="389" y="293"/>
                  </a:lnTo>
                  <a:lnTo>
                    <a:pt x="384" y="295"/>
                  </a:lnTo>
                  <a:lnTo>
                    <a:pt x="378" y="296"/>
                  </a:lnTo>
                  <a:lnTo>
                    <a:pt x="374" y="296"/>
                  </a:lnTo>
                  <a:lnTo>
                    <a:pt x="368" y="296"/>
                  </a:lnTo>
                  <a:lnTo>
                    <a:pt x="365" y="298"/>
                  </a:lnTo>
                  <a:lnTo>
                    <a:pt x="359" y="298"/>
                  </a:lnTo>
                  <a:lnTo>
                    <a:pt x="353" y="300"/>
                  </a:lnTo>
                  <a:lnTo>
                    <a:pt x="346" y="300"/>
                  </a:lnTo>
                  <a:lnTo>
                    <a:pt x="342" y="300"/>
                  </a:lnTo>
                  <a:lnTo>
                    <a:pt x="334" y="300"/>
                  </a:lnTo>
                  <a:lnTo>
                    <a:pt x="330" y="302"/>
                  </a:lnTo>
                  <a:lnTo>
                    <a:pt x="323" y="302"/>
                  </a:lnTo>
                  <a:lnTo>
                    <a:pt x="317" y="304"/>
                  </a:lnTo>
                  <a:lnTo>
                    <a:pt x="311" y="304"/>
                  </a:lnTo>
                  <a:lnTo>
                    <a:pt x="306" y="304"/>
                  </a:lnTo>
                  <a:lnTo>
                    <a:pt x="300" y="304"/>
                  </a:lnTo>
                  <a:lnTo>
                    <a:pt x="294" y="304"/>
                  </a:lnTo>
                  <a:lnTo>
                    <a:pt x="289" y="304"/>
                  </a:lnTo>
                  <a:lnTo>
                    <a:pt x="283" y="304"/>
                  </a:lnTo>
                  <a:lnTo>
                    <a:pt x="279" y="304"/>
                  </a:lnTo>
                  <a:lnTo>
                    <a:pt x="275" y="306"/>
                  </a:lnTo>
                  <a:lnTo>
                    <a:pt x="268" y="306"/>
                  </a:lnTo>
                  <a:lnTo>
                    <a:pt x="262" y="306"/>
                  </a:lnTo>
                  <a:lnTo>
                    <a:pt x="258" y="306"/>
                  </a:lnTo>
                  <a:lnTo>
                    <a:pt x="256" y="306"/>
                  </a:lnTo>
                  <a:lnTo>
                    <a:pt x="279" y="276"/>
                  </a:lnTo>
                  <a:lnTo>
                    <a:pt x="277" y="276"/>
                  </a:lnTo>
                  <a:lnTo>
                    <a:pt x="277" y="276"/>
                  </a:lnTo>
                  <a:lnTo>
                    <a:pt x="272" y="276"/>
                  </a:lnTo>
                  <a:lnTo>
                    <a:pt x="268" y="277"/>
                  </a:lnTo>
                  <a:lnTo>
                    <a:pt x="262" y="277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43" y="281"/>
                  </a:lnTo>
                  <a:lnTo>
                    <a:pt x="235" y="283"/>
                  </a:lnTo>
                  <a:lnTo>
                    <a:pt x="228" y="283"/>
                  </a:lnTo>
                  <a:lnTo>
                    <a:pt x="218" y="285"/>
                  </a:lnTo>
                  <a:lnTo>
                    <a:pt x="213" y="287"/>
                  </a:lnTo>
                  <a:lnTo>
                    <a:pt x="205" y="287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86" y="291"/>
                  </a:lnTo>
                  <a:lnTo>
                    <a:pt x="178" y="291"/>
                  </a:lnTo>
                  <a:lnTo>
                    <a:pt x="173" y="293"/>
                  </a:lnTo>
                  <a:lnTo>
                    <a:pt x="167" y="293"/>
                  </a:lnTo>
                  <a:lnTo>
                    <a:pt x="161" y="293"/>
                  </a:lnTo>
                  <a:lnTo>
                    <a:pt x="154" y="293"/>
                  </a:lnTo>
                  <a:lnTo>
                    <a:pt x="148" y="293"/>
                  </a:lnTo>
                  <a:lnTo>
                    <a:pt x="142" y="293"/>
                  </a:lnTo>
                  <a:lnTo>
                    <a:pt x="137" y="293"/>
                  </a:lnTo>
                  <a:lnTo>
                    <a:pt x="129" y="293"/>
                  </a:lnTo>
                  <a:lnTo>
                    <a:pt x="125" y="293"/>
                  </a:lnTo>
                  <a:lnTo>
                    <a:pt x="119" y="293"/>
                  </a:lnTo>
                  <a:lnTo>
                    <a:pt x="116" y="293"/>
                  </a:lnTo>
                  <a:lnTo>
                    <a:pt x="110" y="293"/>
                  </a:lnTo>
                  <a:lnTo>
                    <a:pt x="108" y="293"/>
                  </a:lnTo>
                  <a:lnTo>
                    <a:pt x="135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5" y="272"/>
                  </a:lnTo>
                  <a:lnTo>
                    <a:pt x="119" y="272"/>
                  </a:lnTo>
                  <a:lnTo>
                    <a:pt x="114" y="272"/>
                  </a:lnTo>
                  <a:lnTo>
                    <a:pt x="108" y="274"/>
                  </a:lnTo>
                  <a:lnTo>
                    <a:pt x="102" y="276"/>
                  </a:lnTo>
                  <a:lnTo>
                    <a:pt x="97" y="276"/>
                  </a:lnTo>
                  <a:lnTo>
                    <a:pt x="91" y="276"/>
                  </a:lnTo>
                  <a:lnTo>
                    <a:pt x="85" y="276"/>
                  </a:lnTo>
                  <a:lnTo>
                    <a:pt x="79" y="277"/>
                  </a:lnTo>
                  <a:lnTo>
                    <a:pt x="76" y="277"/>
                  </a:lnTo>
                  <a:lnTo>
                    <a:pt x="72" y="277"/>
                  </a:lnTo>
                  <a:lnTo>
                    <a:pt x="68" y="277"/>
                  </a:lnTo>
                  <a:lnTo>
                    <a:pt x="66" y="279"/>
                  </a:lnTo>
                  <a:lnTo>
                    <a:pt x="62" y="277"/>
                  </a:lnTo>
                  <a:lnTo>
                    <a:pt x="57" y="277"/>
                  </a:lnTo>
                  <a:lnTo>
                    <a:pt x="53" y="276"/>
                  </a:lnTo>
                  <a:lnTo>
                    <a:pt x="47" y="276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36" y="272"/>
                  </a:lnTo>
                  <a:lnTo>
                    <a:pt x="36" y="274"/>
                  </a:lnTo>
                  <a:lnTo>
                    <a:pt x="34" y="279"/>
                  </a:lnTo>
                  <a:lnTo>
                    <a:pt x="32" y="283"/>
                  </a:lnTo>
                  <a:lnTo>
                    <a:pt x="32" y="287"/>
                  </a:lnTo>
                  <a:lnTo>
                    <a:pt x="32" y="293"/>
                  </a:lnTo>
                  <a:lnTo>
                    <a:pt x="30" y="298"/>
                  </a:lnTo>
                  <a:lnTo>
                    <a:pt x="28" y="304"/>
                  </a:lnTo>
                  <a:lnTo>
                    <a:pt x="28" y="310"/>
                  </a:lnTo>
                  <a:lnTo>
                    <a:pt x="26" y="314"/>
                  </a:lnTo>
                  <a:lnTo>
                    <a:pt x="26" y="321"/>
                  </a:lnTo>
                  <a:lnTo>
                    <a:pt x="24" y="325"/>
                  </a:lnTo>
                  <a:lnTo>
                    <a:pt x="24" y="329"/>
                  </a:lnTo>
                  <a:lnTo>
                    <a:pt x="22" y="333"/>
                  </a:lnTo>
                  <a:lnTo>
                    <a:pt x="22" y="336"/>
                  </a:lnTo>
                  <a:lnTo>
                    <a:pt x="19" y="342"/>
                  </a:lnTo>
                  <a:lnTo>
                    <a:pt x="17" y="346"/>
                  </a:lnTo>
                  <a:lnTo>
                    <a:pt x="13" y="350"/>
                  </a:lnTo>
                  <a:lnTo>
                    <a:pt x="11" y="353"/>
                  </a:lnTo>
                  <a:lnTo>
                    <a:pt x="3" y="357"/>
                  </a:lnTo>
                  <a:lnTo>
                    <a:pt x="2" y="359"/>
                  </a:lnTo>
                  <a:lnTo>
                    <a:pt x="2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75000" y="5443560"/>
              <a:ext cx="97560" cy="3672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21"/>
                  </a:moveTo>
                  <a:lnTo>
                    <a:pt x="50" y="0"/>
                  </a:lnTo>
                  <a:lnTo>
                    <a:pt x="111" y="48"/>
                  </a:lnTo>
                  <a:lnTo>
                    <a:pt x="40" y="2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4680" y="5378400"/>
              <a:ext cx="461880" cy="335160"/>
            </a:xfrm>
            <a:custGeom>
              <a:avLst/>
              <a:gdLst/>
              <a:ahLst/>
              <a:rect l="l" t="t" r="r" b="b"/>
              <a:pathLst>
                <a:path w="521" h="422">
                  <a:moveTo>
                    <a:pt x="421" y="7"/>
                  </a:moveTo>
                  <a:lnTo>
                    <a:pt x="421" y="9"/>
                  </a:lnTo>
                  <a:lnTo>
                    <a:pt x="422" y="13"/>
                  </a:lnTo>
                  <a:lnTo>
                    <a:pt x="424" y="17"/>
                  </a:lnTo>
                  <a:lnTo>
                    <a:pt x="426" y="23"/>
                  </a:lnTo>
                  <a:lnTo>
                    <a:pt x="428" y="30"/>
                  </a:lnTo>
                  <a:lnTo>
                    <a:pt x="430" y="34"/>
                  </a:lnTo>
                  <a:lnTo>
                    <a:pt x="432" y="38"/>
                  </a:lnTo>
                  <a:lnTo>
                    <a:pt x="432" y="42"/>
                  </a:lnTo>
                  <a:lnTo>
                    <a:pt x="434" y="47"/>
                  </a:lnTo>
                  <a:lnTo>
                    <a:pt x="436" y="51"/>
                  </a:lnTo>
                  <a:lnTo>
                    <a:pt x="436" y="55"/>
                  </a:lnTo>
                  <a:lnTo>
                    <a:pt x="436" y="59"/>
                  </a:lnTo>
                  <a:lnTo>
                    <a:pt x="438" y="64"/>
                  </a:lnTo>
                  <a:lnTo>
                    <a:pt x="440" y="70"/>
                  </a:lnTo>
                  <a:lnTo>
                    <a:pt x="440" y="74"/>
                  </a:lnTo>
                  <a:lnTo>
                    <a:pt x="441" y="80"/>
                  </a:lnTo>
                  <a:lnTo>
                    <a:pt x="441" y="85"/>
                  </a:lnTo>
                  <a:lnTo>
                    <a:pt x="441" y="91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43" y="108"/>
                  </a:lnTo>
                  <a:lnTo>
                    <a:pt x="443" y="112"/>
                  </a:lnTo>
                  <a:lnTo>
                    <a:pt x="443" y="119"/>
                  </a:lnTo>
                  <a:lnTo>
                    <a:pt x="443" y="125"/>
                  </a:lnTo>
                  <a:lnTo>
                    <a:pt x="443" y="131"/>
                  </a:lnTo>
                  <a:lnTo>
                    <a:pt x="445" y="131"/>
                  </a:lnTo>
                  <a:lnTo>
                    <a:pt x="449" y="133"/>
                  </a:lnTo>
                  <a:lnTo>
                    <a:pt x="451" y="133"/>
                  </a:lnTo>
                  <a:lnTo>
                    <a:pt x="455" y="135"/>
                  </a:lnTo>
                  <a:lnTo>
                    <a:pt x="460" y="137"/>
                  </a:lnTo>
                  <a:lnTo>
                    <a:pt x="464" y="138"/>
                  </a:lnTo>
                  <a:lnTo>
                    <a:pt x="468" y="140"/>
                  </a:lnTo>
                  <a:lnTo>
                    <a:pt x="472" y="142"/>
                  </a:lnTo>
                  <a:lnTo>
                    <a:pt x="476" y="146"/>
                  </a:lnTo>
                  <a:lnTo>
                    <a:pt x="481" y="150"/>
                  </a:lnTo>
                  <a:lnTo>
                    <a:pt x="483" y="152"/>
                  </a:lnTo>
                  <a:lnTo>
                    <a:pt x="487" y="156"/>
                  </a:lnTo>
                  <a:lnTo>
                    <a:pt x="491" y="161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1" y="180"/>
                  </a:lnTo>
                  <a:lnTo>
                    <a:pt x="487" y="184"/>
                  </a:lnTo>
                  <a:lnTo>
                    <a:pt x="481" y="188"/>
                  </a:lnTo>
                  <a:lnTo>
                    <a:pt x="478" y="194"/>
                  </a:lnTo>
                  <a:lnTo>
                    <a:pt x="472" y="197"/>
                  </a:lnTo>
                  <a:lnTo>
                    <a:pt x="466" y="201"/>
                  </a:lnTo>
                  <a:lnTo>
                    <a:pt x="460" y="203"/>
                  </a:lnTo>
                  <a:lnTo>
                    <a:pt x="455" y="205"/>
                  </a:lnTo>
                  <a:lnTo>
                    <a:pt x="449" y="209"/>
                  </a:lnTo>
                  <a:lnTo>
                    <a:pt x="445" y="211"/>
                  </a:lnTo>
                  <a:lnTo>
                    <a:pt x="440" y="213"/>
                  </a:lnTo>
                  <a:lnTo>
                    <a:pt x="436" y="213"/>
                  </a:lnTo>
                  <a:lnTo>
                    <a:pt x="434" y="215"/>
                  </a:lnTo>
                  <a:lnTo>
                    <a:pt x="434" y="215"/>
                  </a:lnTo>
                  <a:lnTo>
                    <a:pt x="434" y="216"/>
                  </a:lnTo>
                  <a:lnTo>
                    <a:pt x="432" y="222"/>
                  </a:lnTo>
                  <a:lnTo>
                    <a:pt x="432" y="224"/>
                  </a:lnTo>
                  <a:lnTo>
                    <a:pt x="430" y="228"/>
                  </a:lnTo>
                  <a:lnTo>
                    <a:pt x="430" y="234"/>
                  </a:lnTo>
                  <a:lnTo>
                    <a:pt x="428" y="239"/>
                  </a:lnTo>
                  <a:lnTo>
                    <a:pt x="428" y="243"/>
                  </a:lnTo>
                  <a:lnTo>
                    <a:pt x="426" y="249"/>
                  </a:lnTo>
                  <a:lnTo>
                    <a:pt x="424" y="254"/>
                  </a:lnTo>
                  <a:lnTo>
                    <a:pt x="422" y="262"/>
                  </a:lnTo>
                  <a:lnTo>
                    <a:pt x="419" y="270"/>
                  </a:lnTo>
                  <a:lnTo>
                    <a:pt x="417" y="275"/>
                  </a:lnTo>
                  <a:lnTo>
                    <a:pt x="413" y="285"/>
                  </a:lnTo>
                  <a:lnTo>
                    <a:pt x="411" y="292"/>
                  </a:lnTo>
                  <a:lnTo>
                    <a:pt x="405" y="298"/>
                  </a:lnTo>
                  <a:lnTo>
                    <a:pt x="402" y="306"/>
                  </a:lnTo>
                  <a:lnTo>
                    <a:pt x="398" y="313"/>
                  </a:lnTo>
                  <a:lnTo>
                    <a:pt x="392" y="321"/>
                  </a:lnTo>
                  <a:lnTo>
                    <a:pt x="386" y="327"/>
                  </a:lnTo>
                  <a:lnTo>
                    <a:pt x="381" y="334"/>
                  </a:lnTo>
                  <a:lnTo>
                    <a:pt x="375" y="342"/>
                  </a:lnTo>
                  <a:lnTo>
                    <a:pt x="369" y="348"/>
                  </a:lnTo>
                  <a:lnTo>
                    <a:pt x="362" y="353"/>
                  </a:lnTo>
                  <a:lnTo>
                    <a:pt x="354" y="359"/>
                  </a:lnTo>
                  <a:lnTo>
                    <a:pt x="345" y="365"/>
                  </a:lnTo>
                  <a:lnTo>
                    <a:pt x="337" y="370"/>
                  </a:lnTo>
                  <a:lnTo>
                    <a:pt x="333" y="372"/>
                  </a:lnTo>
                  <a:lnTo>
                    <a:pt x="329" y="374"/>
                  </a:lnTo>
                  <a:lnTo>
                    <a:pt x="324" y="376"/>
                  </a:lnTo>
                  <a:lnTo>
                    <a:pt x="320" y="378"/>
                  </a:lnTo>
                  <a:lnTo>
                    <a:pt x="314" y="380"/>
                  </a:lnTo>
                  <a:lnTo>
                    <a:pt x="308" y="380"/>
                  </a:lnTo>
                  <a:lnTo>
                    <a:pt x="303" y="382"/>
                  </a:lnTo>
                  <a:lnTo>
                    <a:pt x="299" y="384"/>
                  </a:lnTo>
                  <a:lnTo>
                    <a:pt x="291" y="384"/>
                  </a:lnTo>
                  <a:lnTo>
                    <a:pt x="287" y="384"/>
                  </a:lnTo>
                  <a:lnTo>
                    <a:pt x="282" y="386"/>
                  </a:lnTo>
                  <a:lnTo>
                    <a:pt x="276" y="386"/>
                  </a:lnTo>
                  <a:lnTo>
                    <a:pt x="270" y="386"/>
                  </a:lnTo>
                  <a:lnTo>
                    <a:pt x="265" y="387"/>
                  </a:lnTo>
                  <a:lnTo>
                    <a:pt x="259" y="387"/>
                  </a:lnTo>
                  <a:lnTo>
                    <a:pt x="255" y="387"/>
                  </a:lnTo>
                  <a:lnTo>
                    <a:pt x="248" y="387"/>
                  </a:lnTo>
                  <a:lnTo>
                    <a:pt x="242" y="387"/>
                  </a:lnTo>
                  <a:lnTo>
                    <a:pt x="238" y="387"/>
                  </a:lnTo>
                  <a:lnTo>
                    <a:pt x="232" y="387"/>
                  </a:lnTo>
                  <a:lnTo>
                    <a:pt x="227" y="387"/>
                  </a:lnTo>
                  <a:lnTo>
                    <a:pt x="221" y="387"/>
                  </a:lnTo>
                  <a:lnTo>
                    <a:pt x="215" y="387"/>
                  </a:lnTo>
                  <a:lnTo>
                    <a:pt x="211" y="387"/>
                  </a:lnTo>
                  <a:lnTo>
                    <a:pt x="206" y="387"/>
                  </a:lnTo>
                  <a:lnTo>
                    <a:pt x="200" y="387"/>
                  </a:lnTo>
                  <a:lnTo>
                    <a:pt x="194" y="386"/>
                  </a:lnTo>
                  <a:lnTo>
                    <a:pt x="191" y="386"/>
                  </a:lnTo>
                  <a:lnTo>
                    <a:pt x="185" y="384"/>
                  </a:lnTo>
                  <a:lnTo>
                    <a:pt x="179" y="384"/>
                  </a:lnTo>
                  <a:lnTo>
                    <a:pt x="173" y="384"/>
                  </a:lnTo>
                  <a:lnTo>
                    <a:pt x="170" y="384"/>
                  </a:lnTo>
                  <a:lnTo>
                    <a:pt x="164" y="382"/>
                  </a:lnTo>
                  <a:lnTo>
                    <a:pt x="158" y="380"/>
                  </a:lnTo>
                  <a:lnTo>
                    <a:pt x="152" y="380"/>
                  </a:lnTo>
                  <a:lnTo>
                    <a:pt x="149" y="378"/>
                  </a:lnTo>
                  <a:lnTo>
                    <a:pt x="143" y="376"/>
                  </a:lnTo>
                  <a:lnTo>
                    <a:pt x="139" y="376"/>
                  </a:lnTo>
                  <a:lnTo>
                    <a:pt x="133" y="374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20" y="370"/>
                  </a:lnTo>
                  <a:lnTo>
                    <a:pt x="114" y="368"/>
                  </a:lnTo>
                  <a:lnTo>
                    <a:pt x="109" y="367"/>
                  </a:lnTo>
                  <a:lnTo>
                    <a:pt x="105" y="365"/>
                  </a:lnTo>
                  <a:lnTo>
                    <a:pt x="101" y="363"/>
                  </a:lnTo>
                  <a:lnTo>
                    <a:pt x="95" y="361"/>
                  </a:lnTo>
                  <a:lnTo>
                    <a:pt x="92" y="359"/>
                  </a:lnTo>
                  <a:lnTo>
                    <a:pt x="88" y="357"/>
                  </a:lnTo>
                  <a:lnTo>
                    <a:pt x="82" y="355"/>
                  </a:lnTo>
                  <a:lnTo>
                    <a:pt x="78" y="351"/>
                  </a:lnTo>
                  <a:lnTo>
                    <a:pt x="75" y="349"/>
                  </a:lnTo>
                  <a:lnTo>
                    <a:pt x="65" y="346"/>
                  </a:lnTo>
                  <a:lnTo>
                    <a:pt x="57" y="340"/>
                  </a:lnTo>
                  <a:lnTo>
                    <a:pt x="50" y="334"/>
                  </a:lnTo>
                  <a:lnTo>
                    <a:pt x="42" y="329"/>
                  </a:lnTo>
                  <a:lnTo>
                    <a:pt x="35" y="323"/>
                  </a:lnTo>
                  <a:lnTo>
                    <a:pt x="27" y="317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6" y="296"/>
                  </a:lnTo>
                  <a:lnTo>
                    <a:pt x="0" y="289"/>
                  </a:lnTo>
                  <a:lnTo>
                    <a:pt x="14" y="325"/>
                  </a:lnTo>
                  <a:lnTo>
                    <a:pt x="14" y="327"/>
                  </a:lnTo>
                  <a:lnTo>
                    <a:pt x="18" y="330"/>
                  </a:lnTo>
                  <a:lnTo>
                    <a:pt x="19" y="332"/>
                  </a:lnTo>
                  <a:lnTo>
                    <a:pt x="23" y="336"/>
                  </a:lnTo>
                  <a:lnTo>
                    <a:pt x="27" y="340"/>
                  </a:lnTo>
                  <a:lnTo>
                    <a:pt x="33" y="346"/>
                  </a:lnTo>
                  <a:lnTo>
                    <a:pt x="38" y="349"/>
                  </a:lnTo>
                  <a:lnTo>
                    <a:pt x="44" y="355"/>
                  </a:lnTo>
                  <a:lnTo>
                    <a:pt x="50" y="359"/>
                  </a:lnTo>
                  <a:lnTo>
                    <a:pt x="57" y="365"/>
                  </a:lnTo>
                  <a:lnTo>
                    <a:pt x="63" y="370"/>
                  </a:lnTo>
                  <a:lnTo>
                    <a:pt x="73" y="376"/>
                  </a:lnTo>
                  <a:lnTo>
                    <a:pt x="76" y="378"/>
                  </a:lnTo>
                  <a:lnTo>
                    <a:pt x="80" y="380"/>
                  </a:lnTo>
                  <a:lnTo>
                    <a:pt x="86" y="384"/>
                  </a:lnTo>
                  <a:lnTo>
                    <a:pt x="92" y="387"/>
                  </a:lnTo>
                  <a:lnTo>
                    <a:pt x="95" y="389"/>
                  </a:lnTo>
                  <a:lnTo>
                    <a:pt x="101" y="391"/>
                  </a:lnTo>
                  <a:lnTo>
                    <a:pt x="105" y="393"/>
                  </a:lnTo>
                  <a:lnTo>
                    <a:pt x="111" y="397"/>
                  </a:lnTo>
                  <a:lnTo>
                    <a:pt x="114" y="399"/>
                  </a:lnTo>
                  <a:lnTo>
                    <a:pt x="120" y="401"/>
                  </a:lnTo>
                  <a:lnTo>
                    <a:pt x="126" y="403"/>
                  </a:lnTo>
                  <a:lnTo>
                    <a:pt x="132" y="405"/>
                  </a:lnTo>
                  <a:lnTo>
                    <a:pt x="137" y="406"/>
                  </a:lnTo>
                  <a:lnTo>
                    <a:pt x="143" y="408"/>
                  </a:lnTo>
                  <a:lnTo>
                    <a:pt x="149" y="410"/>
                  </a:lnTo>
                  <a:lnTo>
                    <a:pt x="154" y="412"/>
                  </a:lnTo>
                  <a:lnTo>
                    <a:pt x="162" y="414"/>
                  </a:lnTo>
                  <a:lnTo>
                    <a:pt x="168" y="414"/>
                  </a:lnTo>
                  <a:lnTo>
                    <a:pt x="175" y="416"/>
                  </a:lnTo>
                  <a:lnTo>
                    <a:pt x="181" y="418"/>
                  </a:lnTo>
                  <a:lnTo>
                    <a:pt x="187" y="418"/>
                  </a:lnTo>
                  <a:lnTo>
                    <a:pt x="194" y="420"/>
                  </a:lnTo>
                  <a:lnTo>
                    <a:pt x="202" y="420"/>
                  </a:lnTo>
                  <a:lnTo>
                    <a:pt x="210" y="420"/>
                  </a:lnTo>
                  <a:lnTo>
                    <a:pt x="215" y="420"/>
                  </a:lnTo>
                  <a:lnTo>
                    <a:pt x="223" y="420"/>
                  </a:lnTo>
                  <a:lnTo>
                    <a:pt x="230" y="420"/>
                  </a:lnTo>
                  <a:lnTo>
                    <a:pt x="238" y="422"/>
                  </a:lnTo>
                  <a:lnTo>
                    <a:pt x="246" y="420"/>
                  </a:lnTo>
                  <a:lnTo>
                    <a:pt x="253" y="418"/>
                  </a:lnTo>
                  <a:lnTo>
                    <a:pt x="261" y="418"/>
                  </a:lnTo>
                  <a:lnTo>
                    <a:pt x="268" y="418"/>
                  </a:lnTo>
                  <a:lnTo>
                    <a:pt x="276" y="416"/>
                  </a:lnTo>
                  <a:lnTo>
                    <a:pt x="286" y="414"/>
                  </a:lnTo>
                  <a:lnTo>
                    <a:pt x="293" y="412"/>
                  </a:lnTo>
                  <a:lnTo>
                    <a:pt x="303" y="410"/>
                  </a:lnTo>
                  <a:lnTo>
                    <a:pt x="310" y="406"/>
                  </a:lnTo>
                  <a:lnTo>
                    <a:pt x="318" y="405"/>
                  </a:lnTo>
                  <a:lnTo>
                    <a:pt x="324" y="401"/>
                  </a:lnTo>
                  <a:lnTo>
                    <a:pt x="333" y="399"/>
                  </a:lnTo>
                  <a:lnTo>
                    <a:pt x="339" y="395"/>
                  </a:lnTo>
                  <a:lnTo>
                    <a:pt x="345" y="391"/>
                  </a:lnTo>
                  <a:lnTo>
                    <a:pt x="352" y="389"/>
                  </a:lnTo>
                  <a:lnTo>
                    <a:pt x="358" y="387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6"/>
                  </a:lnTo>
                  <a:lnTo>
                    <a:pt x="381" y="374"/>
                  </a:lnTo>
                  <a:lnTo>
                    <a:pt x="384" y="370"/>
                  </a:lnTo>
                  <a:lnTo>
                    <a:pt x="390" y="367"/>
                  </a:lnTo>
                  <a:lnTo>
                    <a:pt x="394" y="363"/>
                  </a:lnTo>
                  <a:lnTo>
                    <a:pt x="400" y="361"/>
                  </a:lnTo>
                  <a:lnTo>
                    <a:pt x="407" y="353"/>
                  </a:lnTo>
                  <a:lnTo>
                    <a:pt x="415" y="346"/>
                  </a:lnTo>
                  <a:lnTo>
                    <a:pt x="421" y="338"/>
                  </a:lnTo>
                  <a:lnTo>
                    <a:pt x="426" y="332"/>
                  </a:lnTo>
                  <a:lnTo>
                    <a:pt x="432" y="325"/>
                  </a:lnTo>
                  <a:lnTo>
                    <a:pt x="436" y="317"/>
                  </a:lnTo>
                  <a:lnTo>
                    <a:pt x="440" y="311"/>
                  </a:lnTo>
                  <a:lnTo>
                    <a:pt x="443" y="304"/>
                  </a:lnTo>
                  <a:lnTo>
                    <a:pt x="445" y="298"/>
                  </a:lnTo>
                  <a:lnTo>
                    <a:pt x="449" y="291"/>
                  </a:lnTo>
                  <a:lnTo>
                    <a:pt x="449" y="285"/>
                  </a:lnTo>
                  <a:lnTo>
                    <a:pt x="451" y="279"/>
                  </a:lnTo>
                  <a:lnTo>
                    <a:pt x="453" y="272"/>
                  </a:lnTo>
                  <a:lnTo>
                    <a:pt x="453" y="268"/>
                  </a:lnTo>
                  <a:lnTo>
                    <a:pt x="453" y="262"/>
                  </a:lnTo>
                  <a:lnTo>
                    <a:pt x="453" y="258"/>
                  </a:lnTo>
                  <a:lnTo>
                    <a:pt x="453" y="253"/>
                  </a:lnTo>
                  <a:lnTo>
                    <a:pt x="453" y="249"/>
                  </a:lnTo>
                  <a:lnTo>
                    <a:pt x="453" y="247"/>
                  </a:lnTo>
                  <a:lnTo>
                    <a:pt x="453" y="243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3" y="239"/>
                  </a:lnTo>
                  <a:lnTo>
                    <a:pt x="455" y="237"/>
                  </a:lnTo>
                  <a:lnTo>
                    <a:pt x="459" y="234"/>
                  </a:lnTo>
                  <a:lnTo>
                    <a:pt x="462" y="234"/>
                  </a:lnTo>
                  <a:lnTo>
                    <a:pt x="468" y="230"/>
                  </a:lnTo>
                  <a:lnTo>
                    <a:pt x="474" y="226"/>
                  </a:lnTo>
                  <a:lnTo>
                    <a:pt x="481" y="222"/>
                  </a:lnTo>
                  <a:lnTo>
                    <a:pt x="487" y="216"/>
                  </a:lnTo>
                  <a:lnTo>
                    <a:pt x="495" y="211"/>
                  </a:lnTo>
                  <a:lnTo>
                    <a:pt x="500" y="205"/>
                  </a:lnTo>
                  <a:lnTo>
                    <a:pt x="506" y="201"/>
                  </a:lnTo>
                  <a:lnTo>
                    <a:pt x="510" y="196"/>
                  </a:lnTo>
                  <a:lnTo>
                    <a:pt x="514" y="188"/>
                  </a:lnTo>
                  <a:lnTo>
                    <a:pt x="518" y="182"/>
                  </a:lnTo>
                  <a:lnTo>
                    <a:pt x="519" y="177"/>
                  </a:lnTo>
                  <a:lnTo>
                    <a:pt x="521" y="171"/>
                  </a:lnTo>
                  <a:lnTo>
                    <a:pt x="519" y="163"/>
                  </a:lnTo>
                  <a:lnTo>
                    <a:pt x="518" y="157"/>
                  </a:lnTo>
                  <a:lnTo>
                    <a:pt x="514" y="152"/>
                  </a:lnTo>
                  <a:lnTo>
                    <a:pt x="510" y="146"/>
                  </a:lnTo>
                  <a:lnTo>
                    <a:pt x="504" y="142"/>
                  </a:lnTo>
                  <a:lnTo>
                    <a:pt x="499" y="137"/>
                  </a:lnTo>
                  <a:lnTo>
                    <a:pt x="493" y="133"/>
                  </a:lnTo>
                  <a:lnTo>
                    <a:pt x="487" y="129"/>
                  </a:lnTo>
                  <a:lnTo>
                    <a:pt x="481" y="125"/>
                  </a:lnTo>
                  <a:lnTo>
                    <a:pt x="476" y="121"/>
                  </a:lnTo>
                  <a:lnTo>
                    <a:pt x="470" y="118"/>
                  </a:lnTo>
                  <a:lnTo>
                    <a:pt x="466" y="116"/>
                  </a:lnTo>
                  <a:lnTo>
                    <a:pt x="459" y="112"/>
                  </a:lnTo>
                  <a:lnTo>
                    <a:pt x="457" y="112"/>
                  </a:lnTo>
                  <a:lnTo>
                    <a:pt x="457" y="110"/>
                  </a:lnTo>
                  <a:lnTo>
                    <a:pt x="457" y="108"/>
                  </a:lnTo>
                  <a:lnTo>
                    <a:pt x="457" y="104"/>
                  </a:lnTo>
                  <a:lnTo>
                    <a:pt x="457" y="99"/>
                  </a:lnTo>
                  <a:lnTo>
                    <a:pt x="455" y="93"/>
                  </a:lnTo>
                  <a:lnTo>
                    <a:pt x="455" y="85"/>
                  </a:lnTo>
                  <a:lnTo>
                    <a:pt x="453" y="76"/>
                  </a:lnTo>
                  <a:lnTo>
                    <a:pt x="453" y="68"/>
                  </a:lnTo>
                  <a:lnTo>
                    <a:pt x="453" y="64"/>
                  </a:lnTo>
                  <a:lnTo>
                    <a:pt x="453" y="59"/>
                  </a:lnTo>
                  <a:lnTo>
                    <a:pt x="451" y="55"/>
                  </a:lnTo>
                  <a:lnTo>
                    <a:pt x="451" y="51"/>
                  </a:lnTo>
                  <a:lnTo>
                    <a:pt x="449" y="45"/>
                  </a:lnTo>
                  <a:lnTo>
                    <a:pt x="449" y="42"/>
                  </a:lnTo>
                  <a:lnTo>
                    <a:pt x="447" y="36"/>
                  </a:lnTo>
                  <a:lnTo>
                    <a:pt x="447" y="32"/>
                  </a:lnTo>
                  <a:lnTo>
                    <a:pt x="445" y="26"/>
                  </a:lnTo>
                  <a:lnTo>
                    <a:pt x="445" y="23"/>
                  </a:lnTo>
                  <a:lnTo>
                    <a:pt x="445" y="19"/>
                  </a:lnTo>
                  <a:lnTo>
                    <a:pt x="443" y="15"/>
                  </a:lnTo>
                  <a:lnTo>
                    <a:pt x="441" y="5"/>
                  </a:lnTo>
                  <a:lnTo>
                    <a:pt x="440" y="0"/>
                  </a:lnTo>
                  <a:lnTo>
                    <a:pt x="421" y="7"/>
                  </a:lnTo>
                  <a:lnTo>
                    <a:pt x="4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9040" y="5537160"/>
              <a:ext cx="163080" cy="10980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61" y="2"/>
                  </a:move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4" y="52"/>
                  </a:lnTo>
                  <a:lnTo>
                    <a:pt x="47" y="61"/>
                  </a:lnTo>
                  <a:lnTo>
                    <a:pt x="49" y="65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59" y="80"/>
                  </a:lnTo>
                  <a:lnTo>
                    <a:pt x="61" y="84"/>
                  </a:lnTo>
                  <a:lnTo>
                    <a:pt x="65" y="88"/>
                  </a:lnTo>
                  <a:lnTo>
                    <a:pt x="68" y="93"/>
                  </a:lnTo>
                  <a:lnTo>
                    <a:pt x="74" y="97"/>
                  </a:lnTo>
                  <a:lnTo>
                    <a:pt x="78" y="101"/>
                  </a:lnTo>
                  <a:lnTo>
                    <a:pt x="82" y="105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5" y="118"/>
                  </a:lnTo>
                  <a:lnTo>
                    <a:pt x="101" y="120"/>
                  </a:lnTo>
                  <a:lnTo>
                    <a:pt x="106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1"/>
                  </a:lnTo>
                  <a:lnTo>
                    <a:pt x="129" y="133"/>
                  </a:lnTo>
                  <a:lnTo>
                    <a:pt x="135" y="135"/>
                  </a:lnTo>
                  <a:lnTo>
                    <a:pt x="165" y="139"/>
                  </a:lnTo>
                  <a:lnTo>
                    <a:pt x="182" y="131"/>
                  </a:lnTo>
                  <a:lnTo>
                    <a:pt x="181" y="131"/>
                  </a:lnTo>
                  <a:lnTo>
                    <a:pt x="177" y="131"/>
                  </a:lnTo>
                  <a:lnTo>
                    <a:pt x="173" y="131"/>
                  </a:lnTo>
                  <a:lnTo>
                    <a:pt x="167" y="131"/>
                  </a:lnTo>
                  <a:lnTo>
                    <a:pt x="161" y="130"/>
                  </a:lnTo>
                  <a:lnTo>
                    <a:pt x="158" y="130"/>
                  </a:lnTo>
                  <a:lnTo>
                    <a:pt x="154" y="128"/>
                  </a:lnTo>
                  <a:lnTo>
                    <a:pt x="150" y="128"/>
                  </a:lnTo>
                  <a:lnTo>
                    <a:pt x="144" y="126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31" y="122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14" y="112"/>
                  </a:lnTo>
                  <a:lnTo>
                    <a:pt x="108" y="111"/>
                  </a:lnTo>
                  <a:lnTo>
                    <a:pt x="103" y="105"/>
                  </a:lnTo>
                  <a:lnTo>
                    <a:pt x="97" y="101"/>
                  </a:lnTo>
                  <a:lnTo>
                    <a:pt x="93" y="95"/>
                  </a:lnTo>
                  <a:lnTo>
                    <a:pt x="87" y="90"/>
                  </a:lnTo>
                  <a:lnTo>
                    <a:pt x="82" y="84"/>
                  </a:lnTo>
                  <a:lnTo>
                    <a:pt x="78" y="78"/>
                  </a:lnTo>
                  <a:lnTo>
                    <a:pt x="72" y="71"/>
                  </a:lnTo>
                  <a:lnTo>
                    <a:pt x="68" y="63"/>
                  </a:lnTo>
                  <a:lnTo>
                    <a:pt x="66" y="59"/>
                  </a:lnTo>
                  <a:lnTo>
                    <a:pt x="65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5" y="31"/>
                  </a:lnTo>
                  <a:lnTo>
                    <a:pt x="53" y="27"/>
                  </a:lnTo>
                  <a:lnTo>
                    <a:pt x="55" y="25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8" y="6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4640" y="5667480"/>
              <a:ext cx="231120" cy="177840"/>
            </a:xfrm>
            <a:custGeom>
              <a:avLst/>
              <a:gdLst/>
              <a:ahLst/>
              <a:rect l="l" t="t" r="r" b="b"/>
              <a:pathLst>
                <a:path w="260" h="224">
                  <a:moveTo>
                    <a:pt x="0" y="36"/>
                  </a:moveTo>
                  <a:lnTo>
                    <a:pt x="0" y="36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5" y="70"/>
                  </a:lnTo>
                  <a:lnTo>
                    <a:pt x="28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40" y="95"/>
                  </a:lnTo>
                  <a:lnTo>
                    <a:pt x="44" y="100"/>
                  </a:lnTo>
                  <a:lnTo>
                    <a:pt x="47" y="108"/>
                  </a:lnTo>
                  <a:lnTo>
                    <a:pt x="51" y="116"/>
                  </a:lnTo>
                  <a:lnTo>
                    <a:pt x="55" y="123"/>
                  </a:lnTo>
                  <a:lnTo>
                    <a:pt x="57" y="129"/>
                  </a:lnTo>
                  <a:lnTo>
                    <a:pt x="61" y="138"/>
                  </a:lnTo>
                  <a:lnTo>
                    <a:pt x="63" y="142"/>
                  </a:lnTo>
                  <a:lnTo>
                    <a:pt x="64" y="146"/>
                  </a:lnTo>
                  <a:lnTo>
                    <a:pt x="64" y="150"/>
                  </a:lnTo>
                  <a:lnTo>
                    <a:pt x="66" y="155"/>
                  </a:lnTo>
                  <a:lnTo>
                    <a:pt x="68" y="163"/>
                  </a:lnTo>
                  <a:lnTo>
                    <a:pt x="70" y="171"/>
                  </a:lnTo>
                  <a:lnTo>
                    <a:pt x="72" y="174"/>
                  </a:lnTo>
                  <a:lnTo>
                    <a:pt x="72" y="178"/>
                  </a:lnTo>
                  <a:lnTo>
                    <a:pt x="74" y="184"/>
                  </a:lnTo>
                  <a:lnTo>
                    <a:pt x="74" y="188"/>
                  </a:lnTo>
                  <a:lnTo>
                    <a:pt x="74" y="192"/>
                  </a:lnTo>
                  <a:lnTo>
                    <a:pt x="76" y="197"/>
                  </a:lnTo>
                  <a:lnTo>
                    <a:pt x="76" y="201"/>
                  </a:lnTo>
                  <a:lnTo>
                    <a:pt x="78" y="207"/>
                  </a:lnTo>
                  <a:lnTo>
                    <a:pt x="78" y="211"/>
                  </a:lnTo>
                  <a:lnTo>
                    <a:pt x="78" y="214"/>
                  </a:lnTo>
                  <a:lnTo>
                    <a:pt x="78" y="218"/>
                  </a:lnTo>
                  <a:lnTo>
                    <a:pt x="78" y="224"/>
                  </a:lnTo>
                  <a:lnTo>
                    <a:pt x="260" y="184"/>
                  </a:lnTo>
                  <a:lnTo>
                    <a:pt x="258" y="182"/>
                  </a:lnTo>
                  <a:lnTo>
                    <a:pt x="258" y="178"/>
                  </a:lnTo>
                  <a:lnTo>
                    <a:pt x="258" y="174"/>
                  </a:lnTo>
                  <a:lnTo>
                    <a:pt x="258" y="171"/>
                  </a:lnTo>
                  <a:lnTo>
                    <a:pt x="258" y="167"/>
                  </a:lnTo>
                  <a:lnTo>
                    <a:pt x="258" y="163"/>
                  </a:lnTo>
                  <a:lnTo>
                    <a:pt x="256" y="157"/>
                  </a:lnTo>
                  <a:lnTo>
                    <a:pt x="256" y="154"/>
                  </a:lnTo>
                  <a:lnTo>
                    <a:pt x="256" y="148"/>
                  </a:lnTo>
                  <a:lnTo>
                    <a:pt x="255" y="142"/>
                  </a:lnTo>
                  <a:lnTo>
                    <a:pt x="255" y="136"/>
                  </a:lnTo>
                  <a:lnTo>
                    <a:pt x="253" y="129"/>
                  </a:lnTo>
                  <a:lnTo>
                    <a:pt x="253" y="123"/>
                  </a:lnTo>
                  <a:lnTo>
                    <a:pt x="253" y="116"/>
                  </a:lnTo>
                  <a:lnTo>
                    <a:pt x="251" y="108"/>
                  </a:lnTo>
                  <a:lnTo>
                    <a:pt x="249" y="102"/>
                  </a:lnTo>
                  <a:lnTo>
                    <a:pt x="249" y="95"/>
                  </a:lnTo>
                  <a:lnTo>
                    <a:pt x="247" y="87"/>
                  </a:lnTo>
                  <a:lnTo>
                    <a:pt x="245" y="79"/>
                  </a:lnTo>
                  <a:lnTo>
                    <a:pt x="243" y="72"/>
                  </a:lnTo>
                  <a:lnTo>
                    <a:pt x="241" y="64"/>
                  </a:lnTo>
                  <a:lnTo>
                    <a:pt x="239" y="57"/>
                  </a:lnTo>
                  <a:lnTo>
                    <a:pt x="237" y="49"/>
                  </a:lnTo>
                  <a:lnTo>
                    <a:pt x="236" y="41"/>
                  </a:lnTo>
                  <a:lnTo>
                    <a:pt x="234" y="34"/>
                  </a:lnTo>
                  <a:lnTo>
                    <a:pt x="232" y="26"/>
                  </a:lnTo>
                  <a:lnTo>
                    <a:pt x="228" y="19"/>
                  </a:lnTo>
                  <a:lnTo>
                    <a:pt x="224" y="13"/>
                  </a:lnTo>
                  <a:lnTo>
                    <a:pt x="222" y="5"/>
                  </a:lnTo>
                  <a:lnTo>
                    <a:pt x="218" y="0"/>
                  </a:lnTo>
                  <a:lnTo>
                    <a:pt x="194" y="13"/>
                  </a:lnTo>
                  <a:lnTo>
                    <a:pt x="194" y="13"/>
                  </a:lnTo>
                  <a:lnTo>
                    <a:pt x="194" y="17"/>
                  </a:lnTo>
                  <a:lnTo>
                    <a:pt x="198" y="21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3" y="57"/>
                  </a:lnTo>
                  <a:lnTo>
                    <a:pt x="215" y="60"/>
                  </a:lnTo>
                  <a:lnTo>
                    <a:pt x="217" y="68"/>
                  </a:lnTo>
                  <a:lnTo>
                    <a:pt x="218" y="72"/>
                  </a:lnTo>
                  <a:lnTo>
                    <a:pt x="220" y="78"/>
                  </a:lnTo>
                  <a:lnTo>
                    <a:pt x="222" y="83"/>
                  </a:lnTo>
                  <a:lnTo>
                    <a:pt x="226" y="91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30" y="108"/>
                  </a:lnTo>
                  <a:lnTo>
                    <a:pt x="232" y="116"/>
                  </a:lnTo>
                  <a:lnTo>
                    <a:pt x="234" y="119"/>
                  </a:lnTo>
                  <a:lnTo>
                    <a:pt x="234" y="125"/>
                  </a:lnTo>
                  <a:lnTo>
                    <a:pt x="236" y="131"/>
                  </a:lnTo>
                  <a:lnTo>
                    <a:pt x="236" y="136"/>
                  </a:lnTo>
                  <a:lnTo>
                    <a:pt x="236" y="142"/>
                  </a:lnTo>
                  <a:lnTo>
                    <a:pt x="237" y="148"/>
                  </a:lnTo>
                  <a:lnTo>
                    <a:pt x="237" y="152"/>
                  </a:lnTo>
                  <a:lnTo>
                    <a:pt x="237" y="15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0"/>
                  </a:lnTo>
                  <a:lnTo>
                    <a:pt x="95" y="186"/>
                  </a:lnTo>
                  <a:lnTo>
                    <a:pt x="95" y="178"/>
                  </a:lnTo>
                  <a:lnTo>
                    <a:pt x="95" y="174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3" y="161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89" y="146"/>
                  </a:lnTo>
                  <a:lnTo>
                    <a:pt x="89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3" y="123"/>
                  </a:lnTo>
                  <a:lnTo>
                    <a:pt x="82" y="116"/>
                  </a:lnTo>
                  <a:lnTo>
                    <a:pt x="80" y="110"/>
                  </a:lnTo>
                  <a:lnTo>
                    <a:pt x="78" y="104"/>
                  </a:lnTo>
                  <a:lnTo>
                    <a:pt x="74" y="98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3" y="72"/>
                  </a:lnTo>
                  <a:lnTo>
                    <a:pt x="59" y="66"/>
                  </a:lnTo>
                  <a:lnTo>
                    <a:pt x="55" y="60"/>
                  </a:lnTo>
                  <a:lnTo>
                    <a:pt x="51" y="55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240" y="5673960"/>
              <a:ext cx="546840" cy="639720"/>
            </a:xfrm>
            <a:custGeom>
              <a:avLst/>
              <a:gdLst/>
              <a:ahLst/>
              <a:rect l="l" t="t" r="r" b="b"/>
              <a:pathLst>
                <a:path w="616" h="806">
                  <a:moveTo>
                    <a:pt x="420" y="14"/>
                  </a:moveTo>
                  <a:lnTo>
                    <a:pt x="418" y="14"/>
                  </a:lnTo>
                  <a:lnTo>
                    <a:pt x="417" y="19"/>
                  </a:lnTo>
                  <a:lnTo>
                    <a:pt x="415" y="21"/>
                  </a:lnTo>
                  <a:lnTo>
                    <a:pt x="411" y="25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1" y="36"/>
                  </a:lnTo>
                  <a:lnTo>
                    <a:pt x="398" y="42"/>
                  </a:lnTo>
                  <a:lnTo>
                    <a:pt x="392" y="48"/>
                  </a:lnTo>
                  <a:lnTo>
                    <a:pt x="388" y="53"/>
                  </a:lnTo>
                  <a:lnTo>
                    <a:pt x="384" y="59"/>
                  </a:lnTo>
                  <a:lnTo>
                    <a:pt x="380" y="67"/>
                  </a:lnTo>
                  <a:lnTo>
                    <a:pt x="375" y="72"/>
                  </a:lnTo>
                  <a:lnTo>
                    <a:pt x="371" y="78"/>
                  </a:lnTo>
                  <a:lnTo>
                    <a:pt x="365" y="86"/>
                  </a:lnTo>
                  <a:lnTo>
                    <a:pt x="360" y="91"/>
                  </a:lnTo>
                  <a:lnTo>
                    <a:pt x="356" y="97"/>
                  </a:lnTo>
                  <a:lnTo>
                    <a:pt x="352" y="105"/>
                  </a:lnTo>
                  <a:lnTo>
                    <a:pt x="346" y="110"/>
                  </a:lnTo>
                  <a:lnTo>
                    <a:pt x="341" y="116"/>
                  </a:lnTo>
                  <a:lnTo>
                    <a:pt x="337" y="124"/>
                  </a:lnTo>
                  <a:lnTo>
                    <a:pt x="333" y="129"/>
                  </a:lnTo>
                  <a:lnTo>
                    <a:pt x="327" y="133"/>
                  </a:lnTo>
                  <a:lnTo>
                    <a:pt x="323" y="139"/>
                  </a:lnTo>
                  <a:lnTo>
                    <a:pt x="320" y="145"/>
                  </a:lnTo>
                  <a:lnTo>
                    <a:pt x="318" y="148"/>
                  </a:lnTo>
                  <a:lnTo>
                    <a:pt x="314" y="152"/>
                  </a:lnTo>
                  <a:lnTo>
                    <a:pt x="312" y="156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6"/>
                  </a:lnTo>
                  <a:lnTo>
                    <a:pt x="308" y="173"/>
                  </a:lnTo>
                  <a:lnTo>
                    <a:pt x="310" y="175"/>
                  </a:lnTo>
                  <a:lnTo>
                    <a:pt x="314" y="179"/>
                  </a:lnTo>
                  <a:lnTo>
                    <a:pt x="318" y="183"/>
                  </a:lnTo>
                  <a:lnTo>
                    <a:pt x="323" y="188"/>
                  </a:lnTo>
                  <a:lnTo>
                    <a:pt x="327" y="192"/>
                  </a:lnTo>
                  <a:lnTo>
                    <a:pt x="333" y="196"/>
                  </a:lnTo>
                  <a:lnTo>
                    <a:pt x="339" y="202"/>
                  </a:lnTo>
                  <a:lnTo>
                    <a:pt x="346" y="207"/>
                  </a:lnTo>
                  <a:lnTo>
                    <a:pt x="354" y="211"/>
                  </a:lnTo>
                  <a:lnTo>
                    <a:pt x="360" y="217"/>
                  </a:lnTo>
                  <a:lnTo>
                    <a:pt x="369" y="223"/>
                  </a:lnTo>
                  <a:lnTo>
                    <a:pt x="377" y="228"/>
                  </a:lnTo>
                  <a:lnTo>
                    <a:pt x="384" y="234"/>
                  </a:lnTo>
                  <a:lnTo>
                    <a:pt x="392" y="242"/>
                  </a:lnTo>
                  <a:lnTo>
                    <a:pt x="399" y="245"/>
                  </a:lnTo>
                  <a:lnTo>
                    <a:pt x="409" y="253"/>
                  </a:lnTo>
                  <a:lnTo>
                    <a:pt x="417" y="259"/>
                  </a:lnTo>
                  <a:lnTo>
                    <a:pt x="424" y="264"/>
                  </a:lnTo>
                  <a:lnTo>
                    <a:pt x="432" y="270"/>
                  </a:lnTo>
                  <a:lnTo>
                    <a:pt x="439" y="278"/>
                  </a:lnTo>
                  <a:lnTo>
                    <a:pt x="447" y="283"/>
                  </a:lnTo>
                  <a:lnTo>
                    <a:pt x="453" y="289"/>
                  </a:lnTo>
                  <a:lnTo>
                    <a:pt x="458" y="297"/>
                  </a:lnTo>
                  <a:lnTo>
                    <a:pt x="466" y="302"/>
                  </a:lnTo>
                  <a:lnTo>
                    <a:pt x="472" y="308"/>
                  </a:lnTo>
                  <a:lnTo>
                    <a:pt x="476" y="314"/>
                  </a:lnTo>
                  <a:lnTo>
                    <a:pt x="479" y="321"/>
                  </a:lnTo>
                  <a:lnTo>
                    <a:pt x="485" y="327"/>
                  </a:lnTo>
                  <a:lnTo>
                    <a:pt x="487" y="325"/>
                  </a:lnTo>
                  <a:lnTo>
                    <a:pt x="493" y="321"/>
                  </a:lnTo>
                  <a:lnTo>
                    <a:pt x="496" y="319"/>
                  </a:lnTo>
                  <a:lnTo>
                    <a:pt x="502" y="316"/>
                  </a:lnTo>
                  <a:lnTo>
                    <a:pt x="508" y="310"/>
                  </a:lnTo>
                  <a:lnTo>
                    <a:pt x="515" y="306"/>
                  </a:lnTo>
                  <a:lnTo>
                    <a:pt x="521" y="299"/>
                  </a:lnTo>
                  <a:lnTo>
                    <a:pt x="529" y="291"/>
                  </a:lnTo>
                  <a:lnTo>
                    <a:pt x="531" y="287"/>
                  </a:lnTo>
                  <a:lnTo>
                    <a:pt x="534" y="283"/>
                  </a:lnTo>
                  <a:lnTo>
                    <a:pt x="538" y="278"/>
                  </a:lnTo>
                  <a:lnTo>
                    <a:pt x="542" y="274"/>
                  </a:lnTo>
                  <a:lnTo>
                    <a:pt x="546" y="268"/>
                  </a:lnTo>
                  <a:lnTo>
                    <a:pt x="548" y="262"/>
                  </a:lnTo>
                  <a:lnTo>
                    <a:pt x="552" y="257"/>
                  </a:lnTo>
                  <a:lnTo>
                    <a:pt x="555" y="251"/>
                  </a:lnTo>
                  <a:lnTo>
                    <a:pt x="557" y="245"/>
                  </a:lnTo>
                  <a:lnTo>
                    <a:pt x="561" y="238"/>
                  </a:lnTo>
                  <a:lnTo>
                    <a:pt x="563" y="232"/>
                  </a:lnTo>
                  <a:lnTo>
                    <a:pt x="567" y="224"/>
                  </a:lnTo>
                  <a:lnTo>
                    <a:pt x="571" y="217"/>
                  </a:lnTo>
                  <a:lnTo>
                    <a:pt x="572" y="209"/>
                  </a:lnTo>
                  <a:lnTo>
                    <a:pt x="574" y="204"/>
                  </a:lnTo>
                  <a:lnTo>
                    <a:pt x="576" y="196"/>
                  </a:lnTo>
                  <a:lnTo>
                    <a:pt x="578" y="190"/>
                  </a:lnTo>
                  <a:lnTo>
                    <a:pt x="580" y="185"/>
                  </a:lnTo>
                  <a:lnTo>
                    <a:pt x="582" y="181"/>
                  </a:lnTo>
                  <a:lnTo>
                    <a:pt x="584" y="175"/>
                  </a:lnTo>
                  <a:lnTo>
                    <a:pt x="584" y="171"/>
                  </a:lnTo>
                  <a:lnTo>
                    <a:pt x="586" y="166"/>
                  </a:lnTo>
                  <a:lnTo>
                    <a:pt x="588" y="162"/>
                  </a:lnTo>
                  <a:lnTo>
                    <a:pt x="588" y="158"/>
                  </a:lnTo>
                  <a:lnTo>
                    <a:pt x="590" y="150"/>
                  </a:lnTo>
                  <a:lnTo>
                    <a:pt x="591" y="147"/>
                  </a:lnTo>
                  <a:lnTo>
                    <a:pt x="591" y="139"/>
                  </a:lnTo>
                  <a:lnTo>
                    <a:pt x="591" y="133"/>
                  </a:lnTo>
                  <a:lnTo>
                    <a:pt x="591" y="128"/>
                  </a:lnTo>
                  <a:lnTo>
                    <a:pt x="590" y="122"/>
                  </a:lnTo>
                  <a:lnTo>
                    <a:pt x="588" y="116"/>
                  </a:lnTo>
                  <a:lnTo>
                    <a:pt x="586" y="112"/>
                  </a:lnTo>
                  <a:lnTo>
                    <a:pt x="584" y="105"/>
                  </a:lnTo>
                  <a:lnTo>
                    <a:pt x="582" y="99"/>
                  </a:lnTo>
                  <a:lnTo>
                    <a:pt x="576" y="91"/>
                  </a:lnTo>
                  <a:lnTo>
                    <a:pt x="572" y="86"/>
                  </a:lnTo>
                  <a:lnTo>
                    <a:pt x="567" y="78"/>
                  </a:lnTo>
                  <a:lnTo>
                    <a:pt x="563" y="74"/>
                  </a:lnTo>
                  <a:lnTo>
                    <a:pt x="557" y="69"/>
                  </a:lnTo>
                  <a:lnTo>
                    <a:pt x="552" y="63"/>
                  </a:lnTo>
                  <a:lnTo>
                    <a:pt x="546" y="59"/>
                  </a:lnTo>
                  <a:lnTo>
                    <a:pt x="540" y="55"/>
                  </a:lnTo>
                  <a:lnTo>
                    <a:pt x="533" y="50"/>
                  </a:lnTo>
                  <a:lnTo>
                    <a:pt x="529" y="48"/>
                  </a:lnTo>
                  <a:lnTo>
                    <a:pt x="523" y="46"/>
                  </a:lnTo>
                  <a:lnTo>
                    <a:pt x="519" y="44"/>
                  </a:lnTo>
                  <a:lnTo>
                    <a:pt x="514" y="40"/>
                  </a:lnTo>
                  <a:lnTo>
                    <a:pt x="512" y="40"/>
                  </a:lnTo>
                  <a:lnTo>
                    <a:pt x="500" y="14"/>
                  </a:lnTo>
                  <a:lnTo>
                    <a:pt x="504" y="14"/>
                  </a:lnTo>
                  <a:lnTo>
                    <a:pt x="508" y="14"/>
                  </a:lnTo>
                  <a:lnTo>
                    <a:pt x="514" y="15"/>
                  </a:lnTo>
                  <a:lnTo>
                    <a:pt x="519" y="17"/>
                  </a:lnTo>
                  <a:lnTo>
                    <a:pt x="527" y="21"/>
                  </a:lnTo>
                  <a:lnTo>
                    <a:pt x="531" y="23"/>
                  </a:lnTo>
                  <a:lnTo>
                    <a:pt x="534" y="25"/>
                  </a:lnTo>
                  <a:lnTo>
                    <a:pt x="540" y="27"/>
                  </a:lnTo>
                  <a:lnTo>
                    <a:pt x="544" y="29"/>
                  </a:lnTo>
                  <a:lnTo>
                    <a:pt x="548" y="33"/>
                  </a:lnTo>
                  <a:lnTo>
                    <a:pt x="553" y="34"/>
                  </a:lnTo>
                  <a:lnTo>
                    <a:pt x="557" y="36"/>
                  </a:lnTo>
                  <a:lnTo>
                    <a:pt x="563" y="42"/>
                  </a:lnTo>
                  <a:lnTo>
                    <a:pt x="567" y="44"/>
                  </a:lnTo>
                  <a:lnTo>
                    <a:pt x="571" y="48"/>
                  </a:lnTo>
                  <a:lnTo>
                    <a:pt x="574" y="53"/>
                  </a:lnTo>
                  <a:lnTo>
                    <a:pt x="580" y="57"/>
                  </a:lnTo>
                  <a:lnTo>
                    <a:pt x="584" y="63"/>
                  </a:lnTo>
                  <a:lnTo>
                    <a:pt x="588" y="67"/>
                  </a:lnTo>
                  <a:lnTo>
                    <a:pt x="591" y="72"/>
                  </a:lnTo>
                  <a:lnTo>
                    <a:pt x="595" y="78"/>
                  </a:lnTo>
                  <a:lnTo>
                    <a:pt x="599" y="84"/>
                  </a:lnTo>
                  <a:lnTo>
                    <a:pt x="603" y="91"/>
                  </a:lnTo>
                  <a:lnTo>
                    <a:pt x="605" y="99"/>
                  </a:lnTo>
                  <a:lnTo>
                    <a:pt x="609" y="107"/>
                  </a:lnTo>
                  <a:lnTo>
                    <a:pt x="610" y="112"/>
                  </a:lnTo>
                  <a:lnTo>
                    <a:pt x="612" y="120"/>
                  </a:lnTo>
                  <a:lnTo>
                    <a:pt x="614" y="129"/>
                  </a:lnTo>
                  <a:lnTo>
                    <a:pt x="616" y="137"/>
                  </a:lnTo>
                  <a:lnTo>
                    <a:pt x="616" y="145"/>
                  </a:lnTo>
                  <a:lnTo>
                    <a:pt x="616" y="154"/>
                  </a:lnTo>
                  <a:lnTo>
                    <a:pt x="616" y="158"/>
                  </a:lnTo>
                  <a:lnTo>
                    <a:pt x="616" y="162"/>
                  </a:lnTo>
                  <a:lnTo>
                    <a:pt x="616" y="166"/>
                  </a:lnTo>
                  <a:lnTo>
                    <a:pt x="616" y="171"/>
                  </a:lnTo>
                  <a:lnTo>
                    <a:pt x="614" y="175"/>
                  </a:lnTo>
                  <a:lnTo>
                    <a:pt x="614" y="179"/>
                  </a:lnTo>
                  <a:lnTo>
                    <a:pt x="612" y="183"/>
                  </a:lnTo>
                  <a:lnTo>
                    <a:pt x="612" y="188"/>
                  </a:lnTo>
                  <a:lnTo>
                    <a:pt x="612" y="192"/>
                  </a:lnTo>
                  <a:lnTo>
                    <a:pt x="610" y="196"/>
                  </a:lnTo>
                  <a:lnTo>
                    <a:pt x="610" y="202"/>
                  </a:lnTo>
                  <a:lnTo>
                    <a:pt x="609" y="205"/>
                  </a:lnTo>
                  <a:lnTo>
                    <a:pt x="609" y="209"/>
                  </a:lnTo>
                  <a:lnTo>
                    <a:pt x="607" y="215"/>
                  </a:lnTo>
                  <a:lnTo>
                    <a:pt x="605" y="219"/>
                  </a:lnTo>
                  <a:lnTo>
                    <a:pt x="605" y="224"/>
                  </a:lnTo>
                  <a:lnTo>
                    <a:pt x="603" y="228"/>
                  </a:lnTo>
                  <a:lnTo>
                    <a:pt x="601" y="232"/>
                  </a:lnTo>
                  <a:lnTo>
                    <a:pt x="599" y="238"/>
                  </a:lnTo>
                  <a:lnTo>
                    <a:pt x="599" y="242"/>
                  </a:lnTo>
                  <a:lnTo>
                    <a:pt x="595" y="249"/>
                  </a:lnTo>
                  <a:lnTo>
                    <a:pt x="591" y="257"/>
                  </a:lnTo>
                  <a:lnTo>
                    <a:pt x="588" y="262"/>
                  </a:lnTo>
                  <a:lnTo>
                    <a:pt x="586" y="266"/>
                  </a:lnTo>
                  <a:lnTo>
                    <a:pt x="584" y="270"/>
                  </a:lnTo>
                  <a:lnTo>
                    <a:pt x="582" y="274"/>
                  </a:lnTo>
                  <a:lnTo>
                    <a:pt x="576" y="283"/>
                  </a:lnTo>
                  <a:lnTo>
                    <a:pt x="572" y="291"/>
                  </a:lnTo>
                  <a:lnTo>
                    <a:pt x="567" y="299"/>
                  </a:lnTo>
                  <a:lnTo>
                    <a:pt x="561" y="306"/>
                  </a:lnTo>
                  <a:lnTo>
                    <a:pt x="555" y="312"/>
                  </a:lnTo>
                  <a:lnTo>
                    <a:pt x="550" y="319"/>
                  </a:lnTo>
                  <a:lnTo>
                    <a:pt x="542" y="325"/>
                  </a:lnTo>
                  <a:lnTo>
                    <a:pt x="536" y="331"/>
                  </a:lnTo>
                  <a:lnTo>
                    <a:pt x="529" y="337"/>
                  </a:lnTo>
                  <a:lnTo>
                    <a:pt x="523" y="342"/>
                  </a:lnTo>
                  <a:lnTo>
                    <a:pt x="515" y="346"/>
                  </a:lnTo>
                  <a:lnTo>
                    <a:pt x="510" y="352"/>
                  </a:lnTo>
                  <a:lnTo>
                    <a:pt x="449" y="392"/>
                  </a:lnTo>
                  <a:lnTo>
                    <a:pt x="447" y="394"/>
                  </a:lnTo>
                  <a:lnTo>
                    <a:pt x="447" y="399"/>
                  </a:lnTo>
                  <a:lnTo>
                    <a:pt x="445" y="403"/>
                  </a:lnTo>
                  <a:lnTo>
                    <a:pt x="443" y="409"/>
                  </a:lnTo>
                  <a:lnTo>
                    <a:pt x="443" y="413"/>
                  </a:lnTo>
                  <a:lnTo>
                    <a:pt x="441" y="420"/>
                  </a:lnTo>
                  <a:lnTo>
                    <a:pt x="439" y="426"/>
                  </a:lnTo>
                  <a:lnTo>
                    <a:pt x="437" y="434"/>
                  </a:lnTo>
                  <a:lnTo>
                    <a:pt x="436" y="437"/>
                  </a:lnTo>
                  <a:lnTo>
                    <a:pt x="436" y="441"/>
                  </a:lnTo>
                  <a:lnTo>
                    <a:pt x="434" y="447"/>
                  </a:lnTo>
                  <a:lnTo>
                    <a:pt x="434" y="451"/>
                  </a:lnTo>
                  <a:lnTo>
                    <a:pt x="434" y="454"/>
                  </a:lnTo>
                  <a:lnTo>
                    <a:pt x="432" y="460"/>
                  </a:lnTo>
                  <a:lnTo>
                    <a:pt x="430" y="464"/>
                  </a:lnTo>
                  <a:lnTo>
                    <a:pt x="430" y="470"/>
                  </a:lnTo>
                  <a:lnTo>
                    <a:pt x="428" y="473"/>
                  </a:lnTo>
                  <a:lnTo>
                    <a:pt x="428" y="479"/>
                  </a:lnTo>
                  <a:lnTo>
                    <a:pt x="426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22" y="498"/>
                  </a:lnTo>
                  <a:lnTo>
                    <a:pt x="420" y="504"/>
                  </a:lnTo>
                  <a:lnTo>
                    <a:pt x="418" y="510"/>
                  </a:lnTo>
                  <a:lnTo>
                    <a:pt x="417" y="513"/>
                  </a:lnTo>
                  <a:lnTo>
                    <a:pt x="415" y="519"/>
                  </a:lnTo>
                  <a:lnTo>
                    <a:pt x="415" y="525"/>
                  </a:lnTo>
                  <a:lnTo>
                    <a:pt x="413" y="530"/>
                  </a:lnTo>
                  <a:lnTo>
                    <a:pt x="411" y="534"/>
                  </a:lnTo>
                  <a:lnTo>
                    <a:pt x="409" y="540"/>
                  </a:lnTo>
                  <a:lnTo>
                    <a:pt x="407" y="546"/>
                  </a:lnTo>
                  <a:lnTo>
                    <a:pt x="405" y="551"/>
                  </a:lnTo>
                  <a:lnTo>
                    <a:pt x="403" y="555"/>
                  </a:lnTo>
                  <a:lnTo>
                    <a:pt x="403" y="561"/>
                  </a:lnTo>
                  <a:lnTo>
                    <a:pt x="401" y="567"/>
                  </a:lnTo>
                  <a:lnTo>
                    <a:pt x="399" y="572"/>
                  </a:lnTo>
                  <a:lnTo>
                    <a:pt x="398" y="576"/>
                  </a:lnTo>
                  <a:lnTo>
                    <a:pt x="396" y="582"/>
                  </a:lnTo>
                  <a:lnTo>
                    <a:pt x="394" y="587"/>
                  </a:lnTo>
                  <a:lnTo>
                    <a:pt x="392" y="591"/>
                  </a:lnTo>
                  <a:lnTo>
                    <a:pt x="390" y="597"/>
                  </a:lnTo>
                  <a:lnTo>
                    <a:pt x="388" y="601"/>
                  </a:lnTo>
                  <a:lnTo>
                    <a:pt x="386" y="606"/>
                  </a:lnTo>
                  <a:lnTo>
                    <a:pt x="384" y="612"/>
                  </a:lnTo>
                  <a:lnTo>
                    <a:pt x="382" y="616"/>
                  </a:lnTo>
                  <a:lnTo>
                    <a:pt x="380" y="620"/>
                  </a:lnTo>
                  <a:lnTo>
                    <a:pt x="379" y="624"/>
                  </a:lnTo>
                  <a:lnTo>
                    <a:pt x="377" y="629"/>
                  </a:lnTo>
                  <a:lnTo>
                    <a:pt x="373" y="637"/>
                  </a:lnTo>
                  <a:lnTo>
                    <a:pt x="371" y="644"/>
                  </a:lnTo>
                  <a:lnTo>
                    <a:pt x="365" y="652"/>
                  </a:lnTo>
                  <a:lnTo>
                    <a:pt x="361" y="658"/>
                  </a:lnTo>
                  <a:lnTo>
                    <a:pt x="358" y="665"/>
                  </a:lnTo>
                  <a:lnTo>
                    <a:pt x="354" y="673"/>
                  </a:lnTo>
                  <a:lnTo>
                    <a:pt x="350" y="679"/>
                  </a:lnTo>
                  <a:lnTo>
                    <a:pt x="346" y="686"/>
                  </a:lnTo>
                  <a:lnTo>
                    <a:pt x="342" y="692"/>
                  </a:lnTo>
                  <a:lnTo>
                    <a:pt x="339" y="700"/>
                  </a:lnTo>
                  <a:lnTo>
                    <a:pt x="333" y="703"/>
                  </a:lnTo>
                  <a:lnTo>
                    <a:pt x="329" y="711"/>
                  </a:lnTo>
                  <a:lnTo>
                    <a:pt x="325" y="717"/>
                  </a:lnTo>
                  <a:lnTo>
                    <a:pt x="322" y="722"/>
                  </a:lnTo>
                  <a:lnTo>
                    <a:pt x="316" y="728"/>
                  </a:lnTo>
                  <a:lnTo>
                    <a:pt x="312" y="734"/>
                  </a:lnTo>
                  <a:lnTo>
                    <a:pt x="308" y="739"/>
                  </a:lnTo>
                  <a:lnTo>
                    <a:pt x="304" y="745"/>
                  </a:lnTo>
                  <a:lnTo>
                    <a:pt x="299" y="749"/>
                  </a:lnTo>
                  <a:lnTo>
                    <a:pt x="295" y="755"/>
                  </a:lnTo>
                  <a:lnTo>
                    <a:pt x="289" y="758"/>
                  </a:lnTo>
                  <a:lnTo>
                    <a:pt x="285" y="762"/>
                  </a:lnTo>
                  <a:lnTo>
                    <a:pt x="282" y="766"/>
                  </a:lnTo>
                  <a:lnTo>
                    <a:pt x="278" y="770"/>
                  </a:lnTo>
                  <a:lnTo>
                    <a:pt x="272" y="774"/>
                  </a:lnTo>
                  <a:lnTo>
                    <a:pt x="268" y="779"/>
                  </a:lnTo>
                  <a:lnTo>
                    <a:pt x="264" y="781"/>
                  </a:lnTo>
                  <a:lnTo>
                    <a:pt x="259" y="785"/>
                  </a:lnTo>
                  <a:lnTo>
                    <a:pt x="255" y="787"/>
                  </a:lnTo>
                  <a:lnTo>
                    <a:pt x="249" y="791"/>
                  </a:lnTo>
                  <a:lnTo>
                    <a:pt x="245" y="793"/>
                  </a:lnTo>
                  <a:lnTo>
                    <a:pt x="240" y="795"/>
                  </a:lnTo>
                  <a:lnTo>
                    <a:pt x="236" y="796"/>
                  </a:lnTo>
                  <a:lnTo>
                    <a:pt x="232" y="800"/>
                  </a:lnTo>
                  <a:lnTo>
                    <a:pt x="226" y="800"/>
                  </a:lnTo>
                  <a:lnTo>
                    <a:pt x="223" y="800"/>
                  </a:lnTo>
                  <a:lnTo>
                    <a:pt x="217" y="802"/>
                  </a:lnTo>
                  <a:lnTo>
                    <a:pt x="211" y="804"/>
                  </a:lnTo>
                  <a:lnTo>
                    <a:pt x="206" y="804"/>
                  </a:lnTo>
                  <a:lnTo>
                    <a:pt x="202" y="804"/>
                  </a:lnTo>
                  <a:lnTo>
                    <a:pt x="198" y="804"/>
                  </a:lnTo>
                  <a:lnTo>
                    <a:pt x="192" y="806"/>
                  </a:lnTo>
                  <a:lnTo>
                    <a:pt x="188" y="806"/>
                  </a:lnTo>
                  <a:lnTo>
                    <a:pt x="183" y="806"/>
                  </a:lnTo>
                  <a:lnTo>
                    <a:pt x="179" y="806"/>
                  </a:lnTo>
                  <a:lnTo>
                    <a:pt x="173" y="806"/>
                  </a:lnTo>
                  <a:lnTo>
                    <a:pt x="169" y="806"/>
                  </a:lnTo>
                  <a:lnTo>
                    <a:pt x="166" y="806"/>
                  </a:lnTo>
                  <a:lnTo>
                    <a:pt x="162" y="806"/>
                  </a:lnTo>
                  <a:lnTo>
                    <a:pt x="156" y="806"/>
                  </a:lnTo>
                  <a:lnTo>
                    <a:pt x="152" y="804"/>
                  </a:lnTo>
                  <a:lnTo>
                    <a:pt x="149" y="804"/>
                  </a:lnTo>
                  <a:lnTo>
                    <a:pt x="145" y="802"/>
                  </a:lnTo>
                  <a:lnTo>
                    <a:pt x="141" y="802"/>
                  </a:lnTo>
                  <a:lnTo>
                    <a:pt x="133" y="800"/>
                  </a:lnTo>
                  <a:lnTo>
                    <a:pt x="126" y="800"/>
                  </a:lnTo>
                  <a:lnTo>
                    <a:pt x="120" y="796"/>
                  </a:lnTo>
                  <a:lnTo>
                    <a:pt x="114" y="796"/>
                  </a:lnTo>
                  <a:lnTo>
                    <a:pt x="109" y="793"/>
                  </a:lnTo>
                  <a:lnTo>
                    <a:pt x="105" y="791"/>
                  </a:lnTo>
                  <a:lnTo>
                    <a:pt x="99" y="789"/>
                  </a:lnTo>
                  <a:lnTo>
                    <a:pt x="95" y="787"/>
                  </a:lnTo>
                  <a:lnTo>
                    <a:pt x="90" y="783"/>
                  </a:lnTo>
                  <a:lnTo>
                    <a:pt x="82" y="781"/>
                  </a:lnTo>
                  <a:lnTo>
                    <a:pt x="76" y="779"/>
                  </a:lnTo>
                  <a:lnTo>
                    <a:pt x="69" y="776"/>
                  </a:lnTo>
                  <a:lnTo>
                    <a:pt x="61" y="774"/>
                  </a:lnTo>
                  <a:lnTo>
                    <a:pt x="53" y="772"/>
                  </a:lnTo>
                  <a:lnTo>
                    <a:pt x="46" y="768"/>
                  </a:lnTo>
                  <a:lnTo>
                    <a:pt x="40" y="766"/>
                  </a:lnTo>
                  <a:lnTo>
                    <a:pt x="33" y="762"/>
                  </a:lnTo>
                  <a:lnTo>
                    <a:pt x="27" y="760"/>
                  </a:lnTo>
                  <a:lnTo>
                    <a:pt x="19" y="757"/>
                  </a:lnTo>
                  <a:lnTo>
                    <a:pt x="15" y="755"/>
                  </a:lnTo>
                  <a:lnTo>
                    <a:pt x="10" y="751"/>
                  </a:lnTo>
                  <a:lnTo>
                    <a:pt x="8" y="747"/>
                  </a:lnTo>
                  <a:lnTo>
                    <a:pt x="4" y="743"/>
                  </a:lnTo>
                  <a:lnTo>
                    <a:pt x="2" y="739"/>
                  </a:lnTo>
                  <a:lnTo>
                    <a:pt x="0" y="734"/>
                  </a:lnTo>
                  <a:lnTo>
                    <a:pt x="0" y="730"/>
                  </a:lnTo>
                  <a:lnTo>
                    <a:pt x="0" y="722"/>
                  </a:lnTo>
                  <a:lnTo>
                    <a:pt x="4" y="715"/>
                  </a:lnTo>
                  <a:lnTo>
                    <a:pt x="6" y="705"/>
                  </a:lnTo>
                  <a:lnTo>
                    <a:pt x="12" y="700"/>
                  </a:lnTo>
                  <a:lnTo>
                    <a:pt x="17" y="694"/>
                  </a:lnTo>
                  <a:lnTo>
                    <a:pt x="25" y="692"/>
                  </a:lnTo>
                  <a:lnTo>
                    <a:pt x="69" y="692"/>
                  </a:lnTo>
                  <a:lnTo>
                    <a:pt x="69" y="692"/>
                  </a:lnTo>
                  <a:lnTo>
                    <a:pt x="69" y="696"/>
                  </a:lnTo>
                  <a:lnTo>
                    <a:pt x="65" y="700"/>
                  </a:lnTo>
                  <a:lnTo>
                    <a:pt x="61" y="703"/>
                  </a:lnTo>
                  <a:lnTo>
                    <a:pt x="55" y="703"/>
                  </a:lnTo>
                  <a:lnTo>
                    <a:pt x="50" y="703"/>
                  </a:lnTo>
                  <a:lnTo>
                    <a:pt x="42" y="703"/>
                  </a:lnTo>
                  <a:lnTo>
                    <a:pt x="36" y="705"/>
                  </a:lnTo>
                  <a:lnTo>
                    <a:pt x="31" y="707"/>
                  </a:lnTo>
                  <a:lnTo>
                    <a:pt x="27" y="711"/>
                  </a:lnTo>
                  <a:lnTo>
                    <a:pt x="25" y="715"/>
                  </a:lnTo>
                  <a:lnTo>
                    <a:pt x="23" y="722"/>
                  </a:lnTo>
                  <a:lnTo>
                    <a:pt x="25" y="728"/>
                  </a:lnTo>
                  <a:lnTo>
                    <a:pt x="31" y="734"/>
                  </a:lnTo>
                  <a:lnTo>
                    <a:pt x="34" y="736"/>
                  </a:lnTo>
                  <a:lnTo>
                    <a:pt x="38" y="738"/>
                  </a:lnTo>
                  <a:lnTo>
                    <a:pt x="44" y="739"/>
                  </a:lnTo>
                  <a:lnTo>
                    <a:pt x="50" y="741"/>
                  </a:lnTo>
                  <a:lnTo>
                    <a:pt x="53" y="741"/>
                  </a:lnTo>
                  <a:lnTo>
                    <a:pt x="61" y="745"/>
                  </a:lnTo>
                  <a:lnTo>
                    <a:pt x="65" y="745"/>
                  </a:lnTo>
                  <a:lnTo>
                    <a:pt x="72" y="747"/>
                  </a:lnTo>
                  <a:lnTo>
                    <a:pt x="76" y="749"/>
                  </a:lnTo>
                  <a:lnTo>
                    <a:pt x="82" y="751"/>
                  </a:lnTo>
                  <a:lnTo>
                    <a:pt x="88" y="753"/>
                  </a:lnTo>
                  <a:lnTo>
                    <a:pt x="91" y="755"/>
                  </a:lnTo>
                  <a:lnTo>
                    <a:pt x="95" y="758"/>
                  </a:lnTo>
                  <a:lnTo>
                    <a:pt x="99" y="760"/>
                  </a:lnTo>
                  <a:lnTo>
                    <a:pt x="105" y="764"/>
                  </a:lnTo>
                  <a:lnTo>
                    <a:pt x="110" y="768"/>
                  </a:lnTo>
                  <a:lnTo>
                    <a:pt x="116" y="770"/>
                  </a:lnTo>
                  <a:lnTo>
                    <a:pt x="124" y="774"/>
                  </a:lnTo>
                  <a:lnTo>
                    <a:pt x="131" y="777"/>
                  </a:lnTo>
                  <a:lnTo>
                    <a:pt x="139" y="781"/>
                  </a:lnTo>
                  <a:lnTo>
                    <a:pt x="147" y="783"/>
                  </a:lnTo>
                  <a:lnTo>
                    <a:pt x="156" y="783"/>
                  </a:lnTo>
                  <a:lnTo>
                    <a:pt x="160" y="783"/>
                  </a:lnTo>
                  <a:lnTo>
                    <a:pt x="166" y="785"/>
                  </a:lnTo>
                  <a:lnTo>
                    <a:pt x="169" y="785"/>
                  </a:lnTo>
                  <a:lnTo>
                    <a:pt x="175" y="785"/>
                  </a:lnTo>
                  <a:lnTo>
                    <a:pt x="179" y="785"/>
                  </a:lnTo>
                  <a:lnTo>
                    <a:pt x="185" y="785"/>
                  </a:lnTo>
                  <a:lnTo>
                    <a:pt x="190" y="783"/>
                  </a:lnTo>
                  <a:lnTo>
                    <a:pt x="196" y="783"/>
                  </a:lnTo>
                  <a:lnTo>
                    <a:pt x="200" y="781"/>
                  </a:lnTo>
                  <a:lnTo>
                    <a:pt x="206" y="779"/>
                  </a:lnTo>
                  <a:lnTo>
                    <a:pt x="211" y="777"/>
                  </a:lnTo>
                  <a:lnTo>
                    <a:pt x="219" y="776"/>
                  </a:lnTo>
                  <a:lnTo>
                    <a:pt x="223" y="772"/>
                  </a:lnTo>
                  <a:lnTo>
                    <a:pt x="228" y="768"/>
                  </a:lnTo>
                  <a:lnTo>
                    <a:pt x="234" y="766"/>
                  </a:lnTo>
                  <a:lnTo>
                    <a:pt x="240" y="762"/>
                  </a:lnTo>
                  <a:lnTo>
                    <a:pt x="244" y="758"/>
                  </a:lnTo>
                  <a:lnTo>
                    <a:pt x="251" y="753"/>
                  </a:lnTo>
                  <a:lnTo>
                    <a:pt x="255" y="749"/>
                  </a:lnTo>
                  <a:lnTo>
                    <a:pt x="261" y="745"/>
                  </a:lnTo>
                  <a:lnTo>
                    <a:pt x="266" y="739"/>
                  </a:lnTo>
                  <a:lnTo>
                    <a:pt x="272" y="734"/>
                  </a:lnTo>
                  <a:lnTo>
                    <a:pt x="276" y="728"/>
                  </a:lnTo>
                  <a:lnTo>
                    <a:pt x="282" y="724"/>
                  </a:lnTo>
                  <a:lnTo>
                    <a:pt x="285" y="719"/>
                  </a:lnTo>
                  <a:lnTo>
                    <a:pt x="291" y="713"/>
                  </a:lnTo>
                  <a:lnTo>
                    <a:pt x="295" y="707"/>
                  </a:lnTo>
                  <a:lnTo>
                    <a:pt x="301" y="701"/>
                  </a:lnTo>
                  <a:lnTo>
                    <a:pt x="304" y="696"/>
                  </a:lnTo>
                  <a:lnTo>
                    <a:pt x="308" y="690"/>
                  </a:lnTo>
                  <a:lnTo>
                    <a:pt x="312" y="684"/>
                  </a:lnTo>
                  <a:lnTo>
                    <a:pt x="318" y="679"/>
                  </a:lnTo>
                  <a:lnTo>
                    <a:pt x="322" y="673"/>
                  </a:lnTo>
                  <a:lnTo>
                    <a:pt x="325" y="667"/>
                  </a:lnTo>
                  <a:lnTo>
                    <a:pt x="329" y="662"/>
                  </a:lnTo>
                  <a:lnTo>
                    <a:pt x="333" y="656"/>
                  </a:lnTo>
                  <a:lnTo>
                    <a:pt x="335" y="650"/>
                  </a:lnTo>
                  <a:lnTo>
                    <a:pt x="339" y="644"/>
                  </a:lnTo>
                  <a:lnTo>
                    <a:pt x="341" y="639"/>
                  </a:lnTo>
                  <a:lnTo>
                    <a:pt x="344" y="633"/>
                  </a:lnTo>
                  <a:lnTo>
                    <a:pt x="346" y="629"/>
                  </a:lnTo>
                  <a:lnTo>
                    <a:pt x="348" y="624"/>
                  </a:lnTo>
                  <a:lnTo>
                    <a:pt x="352" y="618"/>
                  </a:lnTo>
                  <a:lnTo>
                    <a:pt x="354" y="614"/>
                  </a:lnTo>
                  <a:lnTo>
                    <a:pt x="356" y="608"/>
                  </a:lnTo>
                  <a:lnTo>
                    <a:pt x="358" y="605"/>
                  </a:lnTo>
                  <a:lnTo>
                    <a:pt x="360" y="597"/>
                  </a:lnTo>
                  <a:lnTo>
                    <a:pt x="361" y="591"/>
                  </a:lnTo>
                  <a:lnTo>
                    <a:pt x="363" y="582"/>
                  </a:lnTo>
                  <a:lnTo>
                    <a:pt x="365" y="576"/>
                  </a:lnTo>
                  <a:lnTo>
                    <a:pt x="369" y="567"/>
                  </a:lnTo>
                  <a:lnTo>
                    <a:pt x="371" y="559"/>
                  </a:lnTo>
                  <a:lnTo>
                    <a:pt x="371" y="553"/>
                  </a:lnTo>
                  <a:lnTo>
                    <a:pt x="373" y="549"/>
                  </a:lnTo>
                  <a:lnTo>
                    <a:pt x="373" y="546"/>
                  </a:lnTo>
                  <a:lnTo>
                    <a:pt x="375" y="540"/>
                  </a:lnTo>
                  <a:lnTo>
                    <a:pt x="375" y="536"/>
                  </a:lnTo>
                  <a:lnTo>
                    <a:pt x="377" y="530"/>
                  </a:lnTo>
                  <a:lnTo>
                    <a:pt x="377" y="527"/>
                  </a:lnTo>
                  <a:lnTo>
                    <a:pt x="379" y="521"/>
                  </a:lnTo>
                  <a:lnTo>
                    <a:pt x="380" y="517"/>
                  </a:lnTo>
                  <a:lnTo>
                    <a:pt x="380" y="511"/>
                  </a:lnTo>
                  <a:lnTo>
                    <a:pt x="382" y="508"/>
                  </a:lnTo>
                  <a:lnTo>
                    <a:pt x="384" y="502"/>
                  </a:lnTo>
                  <a:lnTo>
                    <a:pt x="384" y="498"/>
                  </a:lnTo>
                  <a:lnTo>
                    <a:pt x="386" y="492"/>
                  </a:lnTo>
                  <a:lnTo>
                    <a:pt x="386" y="489"/>
                  </a:lnTo>
                  <a:lnTo>
                    <a:pt x="388" y="483"/>
                  </a:lnTo>
                  <a:lnTo>
                    <a:pt x="388" y="479"/>
                  </a:lnTo>
                  <a:lnTo>
                    <a:pt x="390" y="473"/>
                  </a:lnTo>
                  <a:lnTo>
                    <a:pt x="390" y="470"/>
                  </a:lnTo>
                  <a:lnTo>
                    <a:pt x="392" y="464"/>
                  </a:lnTo>
                  <a:lnTo>
                    <a:pt x="392" y="460"/>
                  </a:lnTo>
                  <a:lnTo>
                    <a:pt x="394" y="454"/>
                  </a:lnTo>
                  <a:lnTo>
                    <a:pt x="394" y="451"/>
                  </a:lnTo>
                  <a:lnTo>
                    <a:pt x="396" y="447"/>
                  </a:lnTo>
                  <a:lnTo>
                    <a:pt x="398" y="441"/>
                  </a:lnTo>
                  <a:lnTo>
                    <a:pt x="398" y="437"/>
                  </a:lnTo>
                  <a:lnTo>
                    <a:pt x="398" y="434"/>
                  </a:lnTo>
                  <a:lnTo>
                    <a:pt x="399" y="430"/>
                  </a:lnTo>
                  <a:lnTo>
                    <a:pt x="401" y="422"/>
                  </a:lnTo>
                  <a:lnTo>
                    <a:pt x="405" y="416"/>
                  </a:lnTo>
                  <a:lnTo>
                    <a:pt x="405" y="409"/>
                  </a:lnTo>
                  <a:lnTo>
                    <a:pt x="407" y="403"/>
                  </a:lnTo>
                  <a:lnTo>
                    <a:pt x="409" y="396"/>
                  </a:lnTo>
                  <a:lnTo>
                    <a:pt x="411" y="392"/>
                  </a:lnTo>
                  <a:lnTo>
                    <a:pt x="413" y="388"/>
                  </a:lnTo>
                  <a:lnTo>
                    <a:pt x="415" y="384"/>
                  </a:lnTo>
                  <a:lnTo>
                    <a:pt x="415" y="382"/>
                  </a:lnTo>
                  <a:lnTo>
                    <a:pt x="417" y="382"/>
                  </a:lnTo>
                  <a:lnTo>
                    <a:pt x="422" y="377"/>
                  </a:lnTo>
                  <a:lnTo>
                    <a:pt x="428" y="371"/>
                  </a:lnTo>
                  <a:lnTo>
                    <a:pt x="432" y="367"/>
                  </a:lnTo>
                  <a:lnTo>
                    <a:pt x="436" y="365"/>
                  </a:lnTo>
                  <a:lnTo>
                    <a:pt x="441" y="361"/>
                  </a:lnTo>
                  <a:lnTo>
                    <a:pt x="445" y="359"/>
                  </a:lnTo>
                  <a:lnTo>
                    <a:pt x="453" y="354"/>
                  </a:lnTo>
                  <a:lnTo>
                    <a:pt x="460" y="350"/>
                  </a:lnTo>
                  <a:lnTo>
                    <a:pt x="464" y="346"/>
                  </a:lnTo>
                  <a:lnTo>
                    <a:pt x="468" y="346"/>
                  </a:lnTo>
                  <a:lnTo>
                    <a:pt x="464" y="342"/>
                  </a:lnTo>
                  <a:lnTo>
                    <a:pt x="460" y="338"/>
                  </a:lnTo>
                  <a:lnTo>
                    <a:pt x="457" y="335"/>
                  </a:lnTo>
                  <a:lnTo>
                    <a:pt x="455" y="331"/>
                  </a:lnTo>
                  <a:lnTo>
                    <a:pt x="449" y="327"/>
                  </a:lnTo>
                  <a:lnTo>
                    <a:pt x="445" y="323"/>
                  </a:lnTo>
                  <a:lnTo>
                    <a:pt x="437" y="318"/>
                  </a:lnTo>
                  <a:lnTo>
                    <a:pt x="434" y="312"/>
                  </a:lnTo>
                  <a:lnTo>
                    <a:pt x="426" y="306"/>
                  </a:lnTo>
                  <a:lnTo>
                    <a:pt x="422" y="300"/>
                  </a:lnTo>
                  <a:lnTo>
                    <a:pt x="415" y="295"/>
                  </a:lnTo>
                  <a:lnTo>
                    <a:pt x="407" y="289"/>
                  </a:lnTo>
                  <a:lnTo>
                    <a:pt x="401" y="283"/>
                  </a:lnTo>
                  <a:lnTo>
                    <a:pt x="394" y="280"/>
                  </a:lnTo>
                  <a:lnTo>
                    <a:pt x="386" y="272"/>
                  </a:lnTo>
                  <a:lnTo>
                    <a:pt x="379" y="264"/>
                  </a:lnTo>
                  <a:lnTo>
                    <a:pt x="373" y="261"/>
                  </a:lnTo>
                  <a:lnTo>
                    <a:pt x="369" y="257"/>
                  </a:lnTo>
                  <a:lnTo>
                    <a:pt x="363" y="253"/>
                  </a:lnTo>
                  <a:lnTo>
                    <a:pt x="360" y="251"/>
                  </a:lnTo>
                  <a:lnTo>
                    <a:pt x="354" y="245"/>
                  </a:lnTo>
                  <a:lnTo>
                    <a:pt x="350" y="243"/>
                  </a:lnTo>
                  <a:lnTo>
                    <a:pt x="344" y="238"/>
                  </a:lnTo>
                  <a:lnTo>
                    <a:pt x="341" y="236"/>
                  </a:lnTo>
                  <a:lnTo>
                    <a:pt x="335" y="232"/>
                  </a:lnTo>
                  <a:lnTo>
                    <a:pt x="331" y="228"/>
                  </a:lnTo>
                  <a:lnTo>
                    <a:pt x="327" y="224"/>
                  </a:lnTo>
                  <a:lnTo>
                    <a:pt x="323" y="221"/>
                  </a:lnTo>
                  <a:lnTo>
                    <a:pt x="318" y="217"/>
                  </a:lnTo>
                  <a:lnTo>
                    <a:pt x="314" y="213"/>
                  </a:lnTo>
                  <a:lnTo>
                    <a:pt x="308" y="209"/>
                  </a:lnTo>
                  <a:lnTo>
                    <a:pt x="304" y="205"/>
                  </a:lnTo>
                  <a:lnTo>
                    <a:pt x="297" y="200"/>
                  </a:lnTo>
                  <a:lnTo>
                    <a:pt x="289" y="194"/>
                  </a:lnTo>
                  <a:lnTo>
                    <a:pt x="284" y="186"/>
                  </a:lnTo>
                  <a:lnTo>
                    <a:pt x="280" y="183"/>
                  </a:lnTo>
                  <a:lnTo>
                    <a:pt x="278" y="179"/>
                  </a:lnTo>
                  <a:lnTo>
                    <a:pt x="276" y="177"/>
                  </a:lnTo>
                  <a:lnTo>
                    <a:pt x="274" y="171"/>
                  </a:lnTo>
                  <a:lnTo>
                    <a:pt x="276" y="166"/>
                  </a:lnTo>
                  <a:lnTo>
                    <a:pt x="278" y="160"/>
                  </a:lnTo>
                  <a:lnTo>
                    <a:pt x="284" y="156"/>
                  </a:lnTo>
                  <a:lnTo>
                    <a:pt x="287" y="150"/>
                  </a:lnTo>
                  <a:lnTo>
                    <a:pt x="293" y="145"/>
                  </a:lnTo>
                  <a:lnTo>
                    <a:pt x="299" y="139"/>
                  </a:lnTo>
                  <a:lnTo>
                    <a:pt x="304" y="133"/>
                  </a:lnTo>
                  <a:lnTo>
                    <a:pt x="306" y="129"/>
                  </a:lnTo>
                  <a:lnTo>
                    <a:pt x="310" y="124"/>
                  </a:lnTo>
                  <a:lnTo>
                    <a:pt x="312" y="118"/>
                  </a:lnTo>
                  <a:lnTo>
                    <a:pt x="314" y="114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3" y="99"/>
                  </a:lnTo>
                  <a:lnTo>
                    <a:pt x="327" y="95"/>
                  </a:lnTo>
                  <a:lnTo>
                    <a:pt x="331" y="90"/>
                  </a:lnTo>
                  <a:lnTo>
                    <a:pt x="335" y="84"/>
                  </a:lnTo>
                  <a:lnTo>
                    <a:pt x="339" y="78"/>
                  </a:lnTo>
                  <a:lnTo>
                    <a:pt x="344" y="72"/>
                  </a:lnTo>
                  <a:lnTo>
                    <a:pt x="348" y="67"/>
                  </a:lnTo>
                  <a:lnTo>
                    <a:pt x="352" y="61"/>
                  </a:lnTo>
                  <a:lnTo>
                    <a:pt x="356" y="53"/>
                  </a:lnTo>
                  <a:lnTo>
                    <a:pt x="360" y="48"/>
                  </a:lnTo>
                  <a:lnTo>
                    <a:pt x="363" y="42"/>
                  </a:lnTo>
                  <a:lnTo>
                    <a:pt x="369" y="36"/>
                  </a:lnTo>
                  <a:lnTo>
                    <a:pt x="371" y="31"/>
                  </a:lnTo>
                  <a:lnTo>
                    <a:pt x="375" y="27"/>
                  </a:lnTo>
                  <a:lnTo>
                    <a:pt x="377" y="21"/>
                  </a:lnTo>
                  <a:lnTo>
                    <a:pt x="380" y="17"/>
                  </a:lnTo>
                  <a:lnTo>
                    <a:pt x="384" y="14"/>
                  </a:lnTo>
                  <a:lnTo>
                    <a:pt x="386" y="10"/>
                  </a:lnTo>
                  <a:lnTo>
                    <a:pt x="388" y="6"/>
                  </a:lnTo>
                  <a:lnTo>
                    <a:pt x="390" y="4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420" y="14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080" y="5829480"/>
              <a:ext cx="293040" cy="399960"/>
            </a:xfrm>
            <a:custGeom>
              <a:avLst/>
              <a:gdLst/>
              <a:ahLst/>
              <a:rect l="l" t="t" r="r" b="b"/>
              <a:pathLst>
                <a:path w="331" h="504">
                  <a:moveTo>
                    <a:pt x="331" y="21"/>
                  </a:moveTo>
                  <a:lnTo>
                    <a:pt x="329" y="21"/>
                  </a:lnTo>
                  <a:lnTo>
                    <a:pt x="327" y="25"/>
                  </a:lnTo>
                  <a:lnTo>
                    <a:pt x="322" y="28"/>
                  </a:lnTo>
                  <a:lnTo>
                    <a:pt x="318" y="38"/>
                  </a:lnTo>
                  <a:lnTo>
                    <a:pt x="314" y="40"/>
                  </a:lnTo>
                  <a:lnTo>
                    <a:pt x="310" y="46"/>
                  </a:lnTo>
                  <a:lnTo>
                    <a:pt x="308" y="49"/>
                  </a:lnTo>
                  <a:lnTo>
                    <a:pt x="305" y="53"/>
                  </a:lnTo>
                  <a:lnTo>
                    <a:pt x="299" y="59"/>
                  </a:lnTo>
                  <a:lnTo>
                    <a:pt x="297" y="65"/>
                  </a:lnTo>
                  <a:lnTo>
                    <a:pt x="291" y="70"/>
                  </a:lnTo>
                  <a:lnTo>
                    <a:pt x="289" y="76"/>
                  </a:lnTo>
                  <a:lnTo>
                    <a:pt x="284" y="80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72" y="97"/>
                  </a:lnTo>
                  <a:lnTo>
                    <a:pt x="268" y="103"/>
                  </a:lnTo>
                  <a:lnTo>
                    <a:pt x="265" y="108"/>
                  </a:lnTo>
                  <a:lnTo>
                    <a:pt x="261" y="112"/>
                  </a:lnTo>
                  <a:lnTo>
                    <a:pt x="259" y="118"/>
                  </a:lnTo>
                  <a:lnTo>
                    <a:pt x="253" y="122"/>
                  </a:lnTo>
                  <a:lnTo>
                    <a:pt x="251" y="125"/>
                  </a:lnTo>
                  <a:lnTo>
                    <a:pt x="247" y="129"/>
                  </a:lnTo>
                  <a:lnTo>
                    <a:pt x="246" y="135"/>
                  </a:lnTo>
                  <a:lnTo>
                    <a:pt x="240" y="142"/>
                  </a:lnTo>
                  <a:lnTo>
                    <a:pt x="238" y="146"/>
                  </a:lnTo>
                  <a:lnTo>
                    <a:pt x="236" y="148"/>
                  </a:lnTo>
                  <a:lnTo>
                    <a:pt x="234" y="154"/>
                  </a:lnTo>
                  <a:lnTo>
                    <a:pt x="232" y="158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8" y="171"/>
                  </a:lnTo>
                  <a:lnTo>
                    <a:pt x="227" y="175"/>
                  </a:lnTo>
                  <a:lnTo>
                    <a:pt x="225" y="181"/>
                  </a:lnTo>
                  <a:lnTo>
                    <a:pt x="225" y="184"/>
                  </a:lnTo>
                  <a:lnTo>
                    <a:pt x="223" y="188"/>
                  </a:lnTo>
                  <a:lnTo>
                    <a:pt x="223" y="194"/>
                  </a:lnTo>
                  <a:lnTo>
                    <a:pt x="221" y="200"/>
                  </a:lnTo>
                  <a:lnTo>
                    <a:pt x="221" y="203"/>
                  </a:lnTo>
                  <a:lnTo>
                    <a:pt x="219" y="209"/>
                  </a:lnTo>
                  <a:lnTo>
                    <a:pt x="217" y="215"/>
                  </a:lnTo>
                  <a:lnTo>
                    <a:pt x="217" y="220"/>
                  </a:lnTo>
                  <a:lnTo>
                    <a:pt x="215" y="226"/>
                  </a:lnTo>
                  <a:lnTo>
                    <a:pt x="215" y="234"/>
                  </a:lnTo>
                  <a:lnTo>
                    <a:pt x="213" y="238"/>
                  </a:lnTo>
                  <a:lnTo>
                    <a:pt x="213" y="245"/>
                  </a:lnTo>
                  <a:lnTo>
                    <a:pt x="211" y="251"/>
                  </a:lnTo>
                  <a:lnTo>
                    <a:pt x="209" y="257"/>
                  </a:lnTo>
                  <a:lnTo>
                    <a:pt x="208" y="262"/>
                  </a:lnTo>
                  <a:lnTo>
                    <a:pt x="208" y="270"/>
                  </a:lnTo>
                  <a:lnTo>
                    <a:pt x="206" y="276"/>
                  </a:lnTo>
                  <a:lnTo>
                    <a:pt x="206" y="283"/>
                  </a:lnTo>
                  <a:lnTo>
                    <a:pt x="204" y="289"/>
                  </a:lnTo>
                  <a:lnTo>
                    <a:pt x="204" y="295"/>
                  </a:lnTo>
                  <a:lnTo>
                    <a:pt x="202" y="300"/>
                  </a:lnTo>
                  <a:lnTo>
                    <a:pt x="200" y="308"/>
                  </a:lnTo>
                  <a:lnTo>
                    <a:pt x="200" y="314"/>
                  </a:lnTo>
                  <a:lnTo>
                    <a:pt x="198" y="321"/>
                  </a:lnTo>
                  <a:lnTo>
                    <a:pt x="196" y="325"/>
                  </a:lnTo>
                  <a:lnTo>
                    <a:pt x="196" y="333"/>
                  </a:lnTo>
                  <a:lnTo>
                    <a:pt x="194" y="338"/>
                  </a:lnTo>
                  <a:lnTo>
                    <a:pt x="194" y="346"/>
                  </a:lnTo>
                  <a:lnTo>
                    <a:pt x="192" y="350"/>
                  </a:lnTo>
                  <a:lnTo>
                    <a:pt x="192" y="355"/>
                  </a:lnTo>
                  <a:lnTo>
                    <a:pt x="190" y="361"/>
                  </a:lnTo>
                  <a:lnTo>
                    <a:pt x="190" y="367"/>
                  </a:lnTo>
                  <a:lnTo>
                    <a:pt x="189" y="372"/>
                  </a:lnTo>
                  <a:lnTo>
                    <a:pt x="189" y="378"/>
                  </a:lnTo>
                  <a:lnTo>
                    <a:pt x="189" y="382"/>
                  </a:lnTo>
                  <a:lnTo>
                    <a:pt x="189" y="388"/>
                  </a:lnTo>
                  <a:lnTo>
                    <a:pt x="187" y="391"/>
                  </a:lnTo>
                  <a:lnTo>
                    <a:pt x="185" y="395"/>
                  </a:lnTo>
                  <a:lnTo>
                    <a:pt x="185" y="399"/>
                  </a:lnTo>
                  <a:lnTo>
                    <a:pt x="185" y="403"/>
                  </a:lnTo>
                  <a:lnTo>
                    <a:pt x="183" y="410"/>
                  </a:lnTo>
                  <a:lnTo>
                    <a:pt x="183" y="416"/>
                  </a:lnTo>
                  <a:lnTo>
                    <a:pt x="181" y="420"/>
                  </a:lnTo>
                  <a:lnTo>
                    <a:pt x="181" y="426"/>
                  </a:lnTo>
                  <a:lnTo>
                    <a:pt x="181" y="428"/>
                  </a:lnTo>
                  <a:lnTo>
                    <a:pt x="181" y="429"/>
                  </a:lnTo>
                  <a:lnTo>
                    <a:pt x="168" y="403"/>
                  </a:lnTo>
                  <a:lnTo>
                    <a:pt x="95" y="462"/>
                  </a:lnTo>
                  <a:lnTo>
                    <a:pt x="93" y="462"/>
                  </a:lnTo>
                  <a:lnTo>
                    <a:pt x="90" y="458"/>
                  </a:lnTo>
                  <a:lnTo>
                    <a:pt x="82" y="454"/>
                  </a:lnTo>
                  <a:lnTo>
                    <a:pt x="74" y="450"/>
                  </a:lnTo>
                  <a:lnTo>
                    <a:pt x="71" y="448"/>
                  </a:lnTo>
                  <a:lnTo>
                    <a:pt x="65" y="447"/>
                  </a:lnTo>
                  <a:lnTo>
                    <a:pt x="61" y="445"/>
                  </a:lnTo>
                  <a:lnTo>
                    <a:pt x="55" y="445"/>
                  </a:lnTo>
                  <a:lnTo>
                    <a:pt x="48" y="445"/>
                  </a:lnTo>
                  <a:lnTo>
                    <a:pt x="40" y="448"/>
                  </a:lnTo>
                  <a:lnTo>
                    <a:pt x="36" y="454"/>
                  </a:lnTo>
                  <a:lnTo>
                    <a:pt x="36" y="462"/>
                  </a:lnTo>
                  <a:lnTo>
                    <a:pt x="40" y="469"/>
                  </a:lnTo>
                  <a:lnTo>
                    <a:pt x="48" y="477"/>
                  </a:lnTo>
                  <a:lnTo>
                    <a:pt x="54" y="483"/>
                  </a:lnTo>
                  <a:lnTo>
                    <a:pt x="59" y="488"/>
                  </a:lnTo>
                  <a:lnTo>
                    <a:pt x="65" y="492"/>
                  </a:lnTo>
                  <a:lnTo>
                    <a:pt x="67" y="496"/>
                  </a:lnTo>
                  <a:lnTo>
                    <a:pt x="54" y="504"/>
                  </a:lnTo>
                  <a:lnTo>
                    <a:pt x="36" y="490"/>
                  </a:lnTo>
                  <a:lnTo>
                    <a:pt x="35" y="490"/>
                  </a:lnTo>
                  <a:lnTo>
                    <a:pt x="31" y="486"/>
                  </a:lnTo>
                  <a:lnTo>
                    <a:pt x="23" y="481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4" y="460"/>
                  </a:lnTo>
                  <a:lnTo>
                    <a:pt x="0" y="452"/>
                  </a:lnTo>
                  <a:lnTo>
                    <a:pt x="2" y="445"/>
                  </a:lnTo>
                  <a:lnTo>
                    <a:pt x="8" y="437"/>
                  </a:lnTo>
                  <a:lnTo>
                    <a:pt x="14" y="433"/>
                  </a:lnTo>
                  <a:lnTo>
                    <a:pt x="21" y="428"/>
                  </a:lnTo>
                  <a:lnTo>
                    <a:pt x="29" y="426"/>
                  </a:lnTo>
                  <a:lnTo>
                    <a:pt x="36" y="426"/>
                  </a:lnTo>
                  <a:lnTo>
                    <a:pt x="44" y="426"/>
                  </a:lnTo>
                  <a:lnTo>
                    <a:pt x="52" y="426"/>
                  </a:lnTo>
                  <a:lnTo>
                    <a:pt x="59" y="428"/>
                  </a:lnTo>
                  <a:lnTo>
                    <a:pt x="63" y="428"/>
                  </a:lnTo>
                  <a:lnTo>
                    <a:pt x="71" y="429"/>
                  </a:lnTo>
                  <a:lnTo>
                    <a:pt x="76" y="433"/>
                  </a:lnTo>
                  <a:lnTo>
                    <a:pt x="82" y="435"/>
                  </a:lnTo>
                  <a:lnTo>
                    <a:pt x="86" y="437"/>
                  </a:lnTo>
                  <a:lnTo>
                    <a:pt x="92" y="441"/>
                  </a:lnTo>
                  <a:lnTo>
                    <a:pt x="93" y="441"/>
                  </a:lnTo>
                  <a:lnTo>
                    <a:pt x="95" y="443"/>
                  </a:lnTo>
                  <a:lnTo>
                    <a:pt x="95" y="441"/>
                  </a:lnTo>
                  <a:lnTo>
                    <a:pt x="97" y="439"/>
                  </a:lnTo>
                  <a:lnTo>
                    <a:pt x="101" y="433"/>
                  </a:lnTo>
                  <a:lnTo>
                    <a:pt x="105" y="429"/>
                  </a:lnTo>
                  <a:lnTo>
                    <a:pt x="111" y="424"/>
                  </a:lnTo>
                  <a:lnTo>
                    <a:pt x="116" y="416"/>
                  </a:lnTo>
                  <a:lnTo>
                    <a:pt x="120" y="410"/>
                  </a:lnTo>
                  <a:lnTo>
                    <a:pt x="126" y="405"/>
                  </a:lnTo>
                  <a:lnTo>
                    <a:pt x="130" y="397"/>
                  </a:lnTo>
                  <a:lnTo>
                    <a:pt x="135" y="391"/>
                  </a:lnTo>
                  <a:lnTo>
                    <a:pt x="143" y="388"/>
                  </a:lnTo>
                  <a:lnTo>
                    <a:pt x="151" y="386"/>
                  </a:lnTo>
                  <a:lnTo>
                    <a:pt x="158" y="382"/>
                  </a:lnTo>
                  <a:lnTo>
                    <a:pt x="164" y="382"/>
                  </a:lnTo>
                  <a:lnTo>
                    <a:pt x="168" y="380"/>
                  </a:lnTo>
                  <a:lnTo>
                    <a:pt x="170" y="380"/>
                  </a:lnTo>
                  <a:lnTo>
                    <a:pt x="170" y="378"/>
                  </a:lnTo>
                  <a:lnTo>
                    <a:pt x="171" y="371"/>
                  </a:lnTo>
                  <a:lnTo>
                    <a:pt x="171" y="367"/>
                  </a:lnTo>
                  <a:lnTo>
                    <a:pt x="171" y="361"/>
                  </a:lnTo>
                  <a:lnTo>
                    <a:pt x="173" y="353"/>
                  </a:lnTo>
                  <a:lnTo>
                    <a:pt x="175" y="348"/>
                  </a:lnTo>
                  <a:lnTo>
                    <a:pt x="175" y="342"/>
                  </a:lnTo>
                  <a:lnTo>
                    <a:pt x="175" y="338"/>
                  </a:lnTo>
                  <a:lnTo>
                    <a:pt x="175" y="334"/>
                  </a:lnTo>
                  <a:lnTo>
                    <a:pt x="177" y="331"/>
                  </a:lnTo>
                  <a:lnTo>
                    <a:pt x="177" y="325"/>
                  </a:lnTo>
                  <a:lnTo>
                    <a:pt x="177" y="321"/>
                  </a:lnTo>
                  <a:lnTo>
                    <a:pt x="179" y="315"/>
                  </a:lnTo>
                  <a:lnTo>
                    <a:pt x="179" y="312"/>
                  </a:lnTo>
                  <a:lnTo>
                    <a:pt x="179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3" y="293"/>
                  </a:lnTo>
                  <a:lnTo>
                    <a:pt x="185" y="287"/>
                  </a:lnTo>
                  <a:lnTo>
                    <a:pt x="185" y="283"/>
                  </a:lnTo>
                  <a:lnTo>
                    <a:pt x="185" y="277"/>
                  </a:lnTo>
                  <a:lnTo>
                    <a:pt x="187" y="272"/>
                  </a:lnTo>
                  <a:lnTo>
                    <a:pt x="187" y="266"/>
                  </a:lnTo>
                  <a:lnTo>
                    <a:pt x="189" y="262"/>
                  </a:lnTo>
                  <a:lnTo>
                    <a:pt x="189" y="255"/>
                  </a:lnTo>
                  <a:lnTo>
                    <a:pt x="190" y="251"/>
                  </a:lnTo>
                  <a:lnTo>
                    <a:pt x="190" y="245"/>
                  </a:lnTo>
                  <a:lnTo>
                    <a:pt x="192" y="239"/>
                  </a:lnTo>
                  <a:lnTo>
                    <a:pt x="192" y="234"/>
                  </a:lnTo>
                  <a:lnTo>
                    <a:pt x="194" y="230"/>
                  </a:lnTo>
                  <a:lnTo>
                    <a:pt x="194" y="224"/>
                  </a:lnTo>
                  <a:lnTo>
                    <a:pt x="196" y="219"/>
                  </a:lnTo>
                  <a:lnTo>
                    <a:pt x="196" y="213"/>
                  </a:lnTo>
                  <a:lnTo>
                    <a:pt x="198" y="209"/>
                  </a:lnTo>
                  <a:lnTo>
                    <a:pt x="198" y="203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2" y="192"/>
                  </a:lnTo>
                  <a:lnTo>
                    <a:pt x="202" y="186"/>
                  </a:lnTo>
                  <a:lnTo>
                    <a:pt x="204" y="182"/>
                  </a:lnTo>
                  <a:lnTo>
                    <a:pt x="204" y="177"/>
                  </a:lnTo>
                  <a:lnTo>
                    <a:pt x="206" y="173"/>
                  </a:lnTo>
                  <a:lnTo>
                    <a:pt x="208" y="165"/>
                  </a:lnTo>
                  <a:lnTo>
                    <a:pt x="208" y="160"/>
                  </a:lnTo>
                  <a:lnTo>
                    <a:pt x="209" y="152"/>
                  </a:lnTo>
                  <a:lnTo>
                    <a:pt x="211" y="146"/>
                  </a:lnTo>
                  <a:lnTo>
                    <a:pt x="213" y="142"/>
                  </a:lnTo>
                  <a:lnTo>
                    <a:pt x="215" y="139"/>
                  </a:lnTo>
                  <a:lnTo>
                    <a:pt x="217" y="131"/>
                  </a:lnTo>
                  <a:lnTo>
                    <a:pt x="223" y="123"/>
                  </a:lnTo>
                  <a:lnTo>
                    <a:pt x="225" y="118"/>
                  </a:lnTo>
                  <a:lnTo>
                    <a:pt x="227" y="114"/>
                  </a:lnTo>
                  <a:lnTo>
                    <a:pt x="230" y="108"/>
                  </a:lnTo>
                  <a:lnTo>
                    <a:pt x="234" y="103"/>
                  </a:lnTo>
                  <a:lnTo>
                    <a:pt x="236" y="97"/>
                  </a:lnTo>
                  <a:lnTo>
                    <a:pt x="240" y="91"/>
                  </a:lnTo>
                  <a:lnTo>
                    <a:pt x="244" y="85"/>
                  </a:lnTo>
                  <a:lnTo>
                    <a:pt x="247" y="80"/>
                  </a:lnTo>
                  <a:lnTo>
                    <a:pt x="251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5" y="57"/>
                  </a:lnTo>
                  <a:lnTo>
                    <a:pt x="266" y="51"/>
                  </a:lnTo>
                  <a:lnTo>
                    <a:pt x="270" y="46"/>
                  </a:lnTo>
                  <a:lnTo>
                    <a:pt x="276" y="40"/>
                  </a:lnTo>
                  <a:lnTo>
                    <a:pt x="280" y="34"/>
                  </a:lnTo>
                  <a:lnTo>
                    <a:pt x="282" y="30"/>
                  </a:lnTo>
                  <a:lnTo>
                    <a:pt x="286" y="25"/>
                  </a:lnTo>
                  <a:lnTo>
                    <a:pt x="287" y="21"/>
                  </a:lnTo>
                  <a:lnTo>
                    <a:pt x="291" y="17"/>
                  </a:lnTo>
                  <a:lnTo>
                    <a:pt x="295" y="9"/>
                  </a:lnTo>
                  <a:lnTo>
                    <a:pt x="301" y="4"/>
                  </a:lnTo>
                  <a:lnTo>
                    <a:pt x="303" y="2"/>
                  </a:lnTo>
                  <a:lnTo>
                    <a:pt x="305" y="0"/>
                  </a:lnTo>
                  <a:lnTo>
                    <a:pt x="331" y="21"/>
                  </a:lnTo>
                  <a:lnTo>
                    <a:pt x="3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8760" y="5656320"/>
              <a:ext cx="726480" cy="752400"/>
            </a:xfrm>
            <a:custGeom>
              <a:avLst/>
              <a:gdLst/>
              <a:ahLst/>
              <a:rect l="l" t="t" r="r" b="b"/>
              <a:pathLst>
                <a:path w="820" h="949">
                  <a:moveTo>
                    <a:pt x="33" y="800"/>
                  </a:moveTo>
                  <a:lnTo>
                    <a:pt x="31" y="802"/>
                  </a:lnTo>
                  <a:lnTo>
                    <a:pt x="35" y="808"/>
                  </a:lnTo>
                  <a:lnTo>
                    <a:pt x="35" y="810"/>
                  </a:lnTo>
                  <a:lnTo>
                    <a:pt x="40" y="816"/>
                  </a:lnTo>
                  <a:lnTo>
                    <a:pt x="42" y="819"/>
                  </a:lnTo>
                  <a:lnTo>
                    <a:pt x="46" y="821"/>
                  </a:lnTo>
                  <a:lnTo>
                    <a:pt x="50" y="823"/>
                  </a:lnTo>
                  <a:lnTo>
                    <a:pt x="56" y="827"/>
                  </a:lnTo>
                  <a:lnTo>
                    <a:pt x="59" y="831"/>
                  </a:lnTo>
                  <a:lnTo>
                    <a:pt x="65" y="833"/>
                  </a:lnTo>
                  <a:lnTo>
                    <a:pt x="71" y="837"/>
                  </a:lnTo>
                  <a:lnTo>
                    <a:pt x="78" y="840"/>
                  </a:lnTo>
                  <a:lnTo>
                    <a:pt x="82" y="842"/>
                  </a:lnTo>
                  <a:lnTo>
                    <a:pt x="86" y="844"/>
                  </a:lnTo>
                  <a:lnTo>
                    <a:pt x="90" y="844"/>
                  </a:lnTo>
                  <a:lnTo>
                    <a:pt x="96" y="848"/>
                  </a:lnTo>
                  <a:lnTo>
                    <a:pt x="99" y="848"/>
                  </a:lnTo>
                  <a:lnTo>
                    <a:pt x="105" y="850"/>
                  </a:lnTo>
                  <a:lnTo>
                    <a:pt x="111" y="852"/>
                  </a:lnTo>
                  <a:lnTo>
                    <a:pt x="116" y="854"/>
                  </a:lnTo>
                  <a:lnTo>
                    <a:pt x="120" y="856"/>
                  </a:lnTo>
                  <a:lnTo>
                    <a:pt x="128" y="857"/>
                  </a:lnTo>
                  <a:lnTo>
                    <a:pt x="134" y="859"/>
                  </a:lnTo>
                  <a:lnTo>
                    <a:pt x="141" y="861"/>
                  </a:lnTo>
                  <a:lnTo>
                    <a:pt x="147" y="863"/>
                  </a:lnTo>
                  <a:lnTo>
                    <a:pt x="154" y="865"/>
                  </a:lnTo>
                  <a:lnTo>
                    <a:pt x="162" y="867"/>
                  </a:lnTo>
                  <a:lnTo>
                    <a:pt x="170" y="869"/>
                  </a:lnTo>
                  <a:lnTo>
                    <a:pt x="177" y="871"/>
                  </a:lnTo>
                  <a:lnTo>
                    <a:pt x="185" y="873"/>
                  </a:lnTo>
                  <a:lnTo>
                    <a:pt x="194" y="875"/>
                  </a:lnTo>
                  <a:lnTo>
                    <a:pt x="204" y="876"/>
                  </a:lnTo>
                  <a:lnTo>
                    <a:pt x="211" y="878"/>
                  </a:lnTo>
                  <a:lnTo>
                    <a:pt x="221" y="880"/>
                  </a:lnTo>
                  <a:lnTo>
                    <a:pt x="232" y="882"/>
                  </a:lnTo>
                  <a:lnTo>
                    <a:pt x="242" y="884"/>
                  </a:lnTo>
                  <a:lnTo>
                    <a:pt x="251" y="886"/>
                  </a:lnTo>
                  <a:lnTo>
                    <a:pt x="263" y="888"/>
                  </a:lnTo>
                  <a:lnTo>
                    <a:pt x="272" y="890"/>
                  </a:lnTo>
                  <a:lnTo>
                    <a:pt x="282" y="892"/>
                  </a:lnTo>
                  <a:lnTo>
                    <a:pt x="291" y="894"/>
                  </a:lnTo>
                  <a:lnTo>
                    <a:pt x="301" y="894"/>
                  </a:lnTo>
                  <a:lnTo>
                    <a:pt x="310" y="895"/>
                  </a:lnTo>
                  <a:lnTo>
                    <a:pt x="320" y="897"/>
                  </a:lnTo>
                  <a:lnTo>
                    <a:pt x="329" y="897"/>
                  </a:lnTo>
                  <a:lnTo>
                    <a:pt x="339" y="899"/>
                  </a:lnTo>
                  <a:lnTo>
                    <a:pt x="346" y="899"/>
                  </a:lnTo>
                  <a:lnTo>
                    <a:pt x="356" y="901"/>
                  </a:lnTo>
                  <a:lnTo>
                    <a:pt x="365" y="901"/>
                  </a:lnTo>
                  <a:lnTo>
                    <a:pt x="375" y="903"/>
                  </a:lnTo>
                  <a:lnTo>
                    <a:pt x="383" y="903"/>
                  </a:lnTo>
                  <a:lnTo>
                    <a:pt x="392" y="905"/>
                  </a:lnTo>
                  <a:lnTo>
                    <a:pt x="400" y="905"/>
                  </a:lnTo>
                  <a:lnTo>
                    <a:pt x="407" y="907"/>
                  </a:lnTo>
                  <a:lnTo>
                    <a:pt x="417" y="907"/>
                  </a:lnTo>
                  <a:lnTo>
                    <a:pt x="424" y="907"/>
                  </a:lnTo>
                  <a:lnTo>
                    <a:pt x="432" y="907"/>
                  </a:lnTo>
                  <a:lnTo>
                    <a:pt x="442" y="907"/>
                  </a:lnTo>
                  <a:lnTo>
                    <a:pt x="449" y="907"/>
                  </a:lnTo>
                  <a:lnTo>
                    <a:pt x="459" y="907"/>
                  </a:lnTo>
                  <a:lnTo>
                    <a:pt x="466" y="907"/>
                  </a:lnTo>
                  <a:lnTo>
                    <a:pt x="474" y="907"/>
                  </a:lnTo>
                  <a:lnTo>
                    <a:pt x="481" y="907"/>
                  </a:lnTo>
                  <a:lnTo>
                    <a:pt x="491" y="907"/>
                  </a:lnTo>
                  <a:lnTo>
                    <a:pt x="499" y="907"/>
                  </a:lnTo>
                  <a:lnTo>
                    <a:pt x="506" y="907"/>
                  </a:lnTo>
                  <a:lnTo>
                    <a:pt x="516" y="905"/>
                  </a:lnTo>
                  <a:lnTo>
                    <a:pt x="523" y="905"/>
                  </a:lnTo>
                  <a:lnTo>
                    <a:pt x="531" y="903"/>
                  </a:lnTo>
                  <a:lnTo>
                    <a:pt x="538" y="903"/>
                  </a:lnTo>
                  <a:lnTo>
                    <a:pt x="546" y="901"/>
                  </a:lnTo>
                  <a:lnTo>
                    <a:pt x="554" y="901"/>
                  </a:lnTo>
                  <a:lnTo>
                    <a:pt x="561" y="899"/>
                  </a:lnTo>
                  <a:lnTo>
                    <a:pt x="569" y="897"/>
                  </a:lnTo>
                  <a:lnTo>
                    <a:pt x="577" y="897"/>
                  </a:lnTo>
                  <a:lnTo>
                    <a:pt x="586" y="895"/>
                  </a:lnTo>
                  <a:lnTo>
                    <a:pt x="592" y="894"/>
                  </a:lnTo>
                  <a:lnTo>
                    <a:pt x="601" y="892"/>
                  </a:lnTo>
                  <a:lnTo>
                    <a:pt x="607" y="890"/>
                  </a:lnTo>
                  <a:lnTo>
                    <a:pt x="616" y="890"/>
                  </a:lnTo>
                  <a:lnTo>
                    <a:pt x="624" y="886"/>
                  </a:lnTo>
                  <a:lnTo>
                    <a:pt x="632" y="884"/>
                  </a:lnTo>
                  <a:lnTo>
                    <a:pt x="639" y="882"/>
                  </a:lnTo>
                  <a:lnTo>
                    <a:pt x="649" y="880"/>
                  </a:lnTo>
                  <a:lnTo>
                    <a:pt x="656" y="878"/>
                  </a:lnTo>
                  <a:lnTo>
                    <a:pt x="664" y="876"/>
                  </a:lnTo>
                  <a:lnTo>
                    <a:pt x="673" y="873"/>
                  </a:lnTo>
                  <a:lnTo>
                    <a:pt x="681" y="871"/>
                  </a:lnTo>
                  <a:lnTo>
                    <a:pt x="689" y="869"/>
                  </a:lnTo>
                  <a:lnTo>
                    <a:pt x="696" y="865"/>
                  </a:lnTo>
                  <a:lnTo>
                    <a:pt x="706" y="863"/>
                  </a:lnTo>
                  <a:lnTo>
                    <a:pt x="713" y="861"/>
                  </a:lnTo>
                  <a:lnTo>
                    <a:pt x="723" y="856"/>
                  </a:lnTo>
                  <a:lnTo>
                    <a:pt x="731" y="854"/>
                  </a:lnTo>
                  <a:lnTo>
                    <a:pt x="740" y="850"/>
                  </a:lnTo>
                  <a:lnTo>
                    <a:pt x="750" y="846"/>
                  </a:lnTo>
                  <a:lnTo>
                    <a:pt x="757" y="842"/>
                  </a:lnTo>
                  <a:lnTo>
                    <a:pt x="767" y="838"/>
                  </a:lnTo>
                  <a:lnTo>
                    <a:pt x="776" y="835"/>
                  </a:lnTo>
                  <a:lnTo>
                    <a:pt x="786" y="833"/>
                  </a:lnTo>
                  <a:lnTo>
                    <a:pt x="784" y="831"/>
                  </a:lnTo>
                  <a:lnTo>
                    <a:pt x="784" y="827"/>
                  </a:lnTo>
                  <a:lnTo>
                    <a:pt x="782" y="821"/>
                  </a:lnTo>
                  <a:lnTo>
                    <a:pt x="780" y="814"/>
                  </a:lnTo>
                  <a:lnTo>
                    <a:pt x="780" y="808"/>
                  </a:lnTo>
                  <a:lnTo>
                    <a:pt x="778" y="804"/>
                  </a:lnTo>
                  <a:lnTo>
                    <a:pt x="776" y="799"/>
                  </a:lnTo>
                  <a:lnTo>
                    <a:pt x="776" y="793"/>
                  </a:lnTo>
                  <a:lnTo>
                    <a:pt x="772" y="787"/>
                  </a:lnTo>
                  <a:lnTo>
                    <a:pt x="772" y="781"/>
                  </a:lnTo>
                  <a:lnTo>
                    <a:pt x="770" y="776"/>
                  </a:lnTo>
                  <a:lnTo>
                    <a:pt x="769" y="770"/>
                  </a:lnTo>
                  <a:lnTo>
                    <a:pt x="767" y="764"/>
                  </a:lnTo>
                  <a:lnTo>
                    <a:pt x="765" y="757"/>
                  </a:lnTo>
                  <a:lnTo>
                    <a:pt x="763" y="751"/>
                  </a:lnTo>
                  <a:lnTo>
                    <a:pt x="761" y="745"/>
                  </a:lnTo>
                  <a:lnTo>
                    <a:pt x="759" y="738"/>
                  </a:lnTo>
                  <a:lnTo>
                    <a:pt x="757" y="732"/>
                  </a:lnTo>
                  <a:lnTo>
                    <a:pt x="755" y="726"/>
                  </a:lnTo>
                  <a:lnTo>
                    <a:pt x="753" y="721"/>
                  </a:lnTo>
                  <a:lnTo>
                    <a:pt x="751" y="715"/>
                  </a:lnTo>
                  <a:lnTo>
                    <a:pt x="748" y="709"/>
                  </a:lnTo>
                  <a:lnTo>
                    <a:pt x="746" y="704"/>
                  </a:lnTo>
                  <a:lnTo>
                    <a:pt x="744" y="700"/>
                  </a:lnTo>
                  <a:lnTo>
                    <a:pt x="742" y="694"/>
                  </a:lnTo>
                  <a:lnTo>
                    <a:pt x="740" y="690"/>
                  </a:lnTo>
                  <a:lnTo>
                    <a:pt x="738" y="686"/>
                  </a:lnTo>
                  <a:lnTo>
                    <a:pt x="736" y="685"/>
                  </a:lnTo>
                  <a:lnTo>
                    <a:pt x="734" y="679"/>
                  </a:lnTo>
                  <a:lnTo>
                    <a:pt x="732" y="673"/>
                  </a:lnTo>
                  <a:lnTo>
                    <a:pt x="731" y="667"/>
                  </a:lnTo>
                  <a:lnTo>
                    <a:pt x="729" y="660"/>
                  </a:lnTo>
                  <a:lnTo>
                    <a:pt x="727" y="654"/>
                  </a:lnTo>
                  <a:lnTo>
                    <a:pt x="727" y="648"/>
                  </a:lnTo>
                  <a:lnTo>
                    <a:pt x="725" y="645"/>
                  </a:lnTo>
                  <a:lnTo>
                    <a:pt x="723" y="639"/>
                  </a:lnTo>
                  <a:lnTo>
                    <a:pt x="723" y="635"/>
                  </a:lnTo>
                  <a:lnTo>
                    <a:pt x="723" y="629"/>
                  </a:lnTo>
                  <a:lnTo>
                    <a:pt x="721" y="624"/>
                  </a:lnTo>
                  <a:lnTo>
                    <a:pt x="721" y="618"/>
                  </a:lnTo>
                  <a:lnTo>
                    <a:pt x="719" y="610"/>
                  </a:lnTo>
                  <a:lnTo>
                    <a:pt x="717" y="605"/>
                  </a:lnTo>
                  <a:lnTo>
                    <a:pt x="717" y="599"/>
                  </a:lnTo>
                  <a:lnTo>
                    <a:pt x="715" y="593"/>
                  </a:lnTo>
                  <a:lnTo>
                    <a:pt x="713" y="586"/>
                  </a:lnTo>
                  <a:lnTo>
                    <a:pt x="713" y="580"/>
                  </a:lnTo>
                  <a:lnTo>
                    <a:pt x="713" y="572"/>
                  </a:lnTo>
                  <a:lnTo>
                    <a:pt x="713" y="567"/>
                  </a:lnTo>
                  <a:lnTo>
                    <a:pt x="711" y="559"/>
                  </a:lnTo>
                  <a:lnTo>
                    <a:pt x="710" y="552"/>
                  </a:lnTo>
                  <a:lnTo>
                    <a:pt x="710" y="546"/>
                  </a:lnTo>
                  <a:lnTo>
                    <a:pt x="710" y="538"/>
                  </a:lnTo>
                  <a:lnTo>
                    <a:pt x="708" y="531"/>
                  </a:lnTo>
                  <a:lnTo>
                    <a:pt x="708" y="525"/>
                  </a:lnTo>
                  <a:lnTo>
                    <a:pt x="706" y="517"/>
                  </a:lnTo>
                  <a:lnTo>
                    <a:pt x="706" y="510"/>
                  </a:lnTo>
                  <a:lnTo>
                    <a:pt x="706" y="504"/>
                  </a:lnTo>
                  <a:lnTo>
                    <a:pt x="704" y="496"/>
                  </a:lnTo>
                  <a:lnTo>
                    <a:pt x="704" y="489"/>
                  </a:lnTo>
                  <a:lnTo>
                    <a:pt x="702" y="483"/>
                  </a:lnTo>
                  <a:lnTo>
                    <a:pt x="702" y="476"/>
                  </a:lnTo>
                  <a:lnTo>
                    <a:pt x="702" y="468"/>
                  </a:lnTo>
                  <a:lnTo>
                    <a:pt x="700" y="462"/>
                  </a:lnTo>
                  <a:lnTo>
                    <a:pt x="700" y="457"/>
                  </a:lnTo>
                  <a:lnTo>
                    <a:pt x="700" y="449"/>
                  </a:lnTo>
                  <a:lnTo>
                    <a:pt x="698" y="443"/>
                  </a:lnTo>
                  <a:lnTo>
                    <a:pt x="698" y="438"/>
                  </a:lnTo>
                  <a:lnTo>
                    <a:pt x="698" y="432"/>
                  </a:lnTo>
                  <a:lnTo>
                    <a:pt x="696" y="426"/>
                  </a:lnTo>
                  <a:lnTo>
                    <a:pt x="696" y="420"/>
                  </a:lnTo>
                  <a:lnTo>
                    <a:pt x="696" y="415"/>
                  </a:lnTo>
                  <a:lnTo>
                    <a:pt x="696" y="411"/>
                  </a:lnTo>
                  <a:lnTo>
                    <a:pt x="694" y="405"/>
                  </a:lnTo>
                  <a:lnTo>
                    <a:pt x="694" y="400"/>
                  </a:lnTo>
                  <a:lnTo>
                    <a:pt x="692" y="396"/>
                  </a:lnTo>
                  <a:lnTo>
                    <a:pt x="692" y="392"/>
                  </a:lnTo>
                  <a:lnTo>
                    <a:pt x="692" y="384"/>
                  </a:lnTo>
                  <a:lnTo>
                    <a:pt x="692" y="377"/>
                  </a:lnTo>
                  <a:lnTo>
                    <a:pt x="692" y="373"/>
                  </a:lnTo>
                  <a:lnTo>
                    <a:pt x="692" y="369"/>
                  </a:lnTo>
                  <a:lnTo>
                    <a:pt x="692" y="365"/>
                  </a:lnTo>
                  <a:lnTo>
                    <a:pt x="692" y="363"/>
                  </a:lnTo>
                  <a:lnTo>
                    <a:pt x="691" y="360"/>
                  </a:lnTo>
                  <a:lnTo>
                    <a:pt x="689" y="354"/>
                  </a:lnTo>
                  <a:lnTo>
                    <a:pt x="689" y="346"/>
                  </a:lnTo>
                  <a:lnTo>
                    <a:pt x="687" y="341"/>
                  </a:lnTo>
                  <a:lnTo>
                    <a:pt x="687" y="335"/>
                  </a:lnTo>
                  <a:lnTo>
                    <a:pt x="685" y="329"/>
                  </a:lnTo>
                  <a:lnTo>
                    <a:pt x="685" y="323"/>
                  </a:lnTo>
                  <a:lnTo>
                    <a:pt x="683" y="318"/>
                  </a:lnTo>
                  <a:lnTo>
                    <a:pt x="683" y="312"/>
                  </a:lnTo>
                  <a:lnTo>
                    <a:pt x="681" y="306"/>
                  </a:lnTo>
                  <a:lnTo>
                    <a:pt x="681" y="301"/>
                  </a:lnTo>
                  <a:lnTo>
                    <a:pt x="681" y="293"/>
                  </a:lnTo>
                  <a:lnTo>
                    <a:pt x="679" y="287"/>
                  </a:lnTo>
                  <a:lnTo>
                    <a:pt x="677" y="280"/>
                  </a:lnTo>
                  <a:lnTo>
                    <a:pt x="677" y="274"/>
                  </a:lnTo>
                  <a:lnTo>
                    <a:pt x="675" y="268"/>
                  </a:lnTo>
                  <a:lnTo>
                    <a:pt x="675" y="263"/>
                  </a:lnTo>
                  <a:lnTo>
                    <a:pt x="673" y="257"/>
                  </a:lnTo>
                  <a:lnTo>
                    <a:pt x="673" y="251"/>
                  </a:lnTo>
                  <a:lnTo>
                    <a:pt x="673" y="246"/>
                  </a:lnTo>
                  <a:lnTo>
                    <a:pt x="672" y="240"/>
                  </a:lnTo>
                  <a:lnTo>
                    <a:pt x="672" y="236"/>
                  </a:lnTo>
                  <a:lnTo>
                    <a:pt x="672" y="232"/>
                  </a:lnTo>
                  <a:lnTo>
                    <a:pt x="672" y="225"/>
                  </a:lnTo>
                  <a:lnTo>
                    <a:pt x="672" y="219"/>
                  </a:lnTo>
                  <a:lnTo>
                    <a:pt x="672" y="215"/>
                  </a:lnTo>
                  <a:lnTo>
                    <a:pt x="672" y="208"/>
                  </a:lnTo>
                  <a:lnTo>
                    <a:pt x="672" y="202"/>
                  </a:lnTo>
                  <a:lnTo>
                    <a:pt x="672" y="194"/>
                  </a:lnTo>
                  <a:lnTo>
                    <a:pt x="673" y="187"/>
                  </a:lnTo>
                  <a:lnTo>
                    <a:pt x="673" y="179"/>
                  </a:lnTo>
                  <a:lnTo>
                    <a:pt x="673" y="173"/>
                  </a:lnTo>
                  <a:lnTo>
                    <a:pt x="673" y="170"/>
                  </a:lnTo>
                  <a:lnTo>
                    <a:pt x="675" y="166"/>
                  </a:lnTo>
                  <a:lnTo>
                    <a:pt x="675" y="162"/>
                  </a:lnTo>
                  <a:lnTo>
                    <a:pt x="675" y="156"/>
                  </a:lnTo>
                  <a:lnTo>
                    <a:pt x="675" y="152"/>
                  </a:lnTo>
                  <a:lnTo>
                    <a:pt x="675" y="147"/>
                  </a:lnTo>
                  <a:lnTo>
                    <a:pt x="677" y="143"/>
                  </a:lnTo>
                  <a:lnTo>
                    <a:pt x="677" y="139"/>
                  </a:lnTo>
                  <a:lnTo>
                    <a:pt x="677" y="133"/>
                  </a:lnTo>
                  <a:lnTo>
                    <a:pt x="677" y="130"/>
                  </a:lnTo>
                  <a:lnTo>
                    <a:pt x="677" y="126"/>
                  </a:lnTo>
                  <a:lnTo>
                    <a:pt x="677" y="122"/>
                  </a:lnTo>
                  <a:lnTo>
                    <a:pt x="677" y="116"/>
                  </a:lnTo>
                  <a:lnTo>
                    <a:pt x="677" y="113"/>
                  </a:lnTo>
                  <a:lnTo>
                    <a:pt x="677" y="111"/>
                  </a:lnTo>
                  <a:lnTo>
                    <a:pt x="677" y="101"/>
                  </a:lnTo>
                  <a:lnTo>
                    <a:pt x="679" y="97"/>
                  </a:lnTo>
                  <a:lnTo>
                    <a:pt x="677" y="90"/>
                  </a:lnTo>
                  <a:lnTo>
                    <a:pt x="675" y="84"/>
                  </a:lnTo>
                  <a:lnTo>
                    <a:pt x="673" y="76"/>
                  </a:lnTo>
                  <a:lnTo>
                    <a:pt x="672" y="69"/>
                  </a:lnTo>
                  <a:lnTo>
                    <a:pt x="668" y="59"/>
                  </a:lnTo>
                  <a:lnTo>
                    <a:pt x="664" y="52"/>
                  </a:lnTo>
                  <a:lnTo>
                    <a:pt x="662" y="44"/>
                  </a:lnTo>
                  <a:lnTo>
                    <a:pt x="658" y="37"/>
                  </a:lnTo>
                  <a:lnTo>
                    <a:pt x="654" y="29"/>
                  </a:lnTo>
                  <a:lnTo>
                    <a:pt x="651" y="23"/>
                  </a:lnTo>
                  <a:lnTo>
                    <a:pt x="649" y="16"/>
                  </a:lnTo>
                  <a:lnTo>
                    <a:pt x="647" y="10"/>
                  </a:lnTo>
                  <a:lnTo>
                    <a:pt x="643" y="6"/>
                  </a:lnTo>
                  <a:lnTo>
                    <a:pt x="641" y="2"/>
                  </a:lnTo>
                  <a:lnTo>
                    <a:pt x="641" y="0"/>
                  </a:lnTo>
                  <a:lnTo>
                    <a:pt x="673" y="2"/>
                  </a:lnTo>
                  <a:lnTo>
                    <a:pt x="673" y="4"/>
                  </a:lnTo>
                  <a:lnTo>
                    <a:pt x="673" y="8"/>
                  </a:lnTo>
                  <a:lnTo>
                    <a:pt x="677" y="14"/>
                  </a:lnTo>
                  <a:lnTo>
                    <a:pt x="679" y="19"/>
                  </a:lnTo>
                  <a:lnTo>
                    <a:pt x="681" y="25"/>
                  </a:lnTo>
                  <a:lnTo>
                    <a:pt x="685" y="33"/>
                  </a:lnTo>
                  <a:lnTo>
                    <a:pt x="687" y="40"/>
                  </a:lnTo>
                  <a:lnTo>
                    <a:pt x="689" y="48"/>
                  </a:lnTo>
                  <a:lnTo>
                    <a:pt x="692" y="56"/>
                  </a:lnTo>
                  <a:lnTo>
                    <a:pt x="692" y="59"/>
                  </a:lnTo>
                  <a:lnTo>
                    <a:pt x="694" y="65"/>
                  </a:lnTo>
                  <a:lnTo>
                    <a:pt x="696" y="69"/>
                  </a:lnTo>
                  <a:lnTo>
                    <a:pt x="696" y="75"/>
                  </a:lnTo>
                  <a:lnTo>
                    <a:pt x="698" y="82"/>
                  </a:lnTo>
                  <a:lnTo>
                    <a:pt x="702" y="90"/>
                  </a:lnTo>
                  <a:lnTo>
                    <a:pt x="702" y="97"/>
                  </a:lnTo>
                  <a:lnTo>
                    <a:pt x="702" y="105"/>
                  </a:lnTo>
                  <a:lnTo>
                    <a:pt x="702" y="111"/>
                  </a:lnTo>
                  <a:lnTo>
                    <a:pt x="702" y="118"/>
                  </a:lnTo>
                  <a:lnTo>
                    <a:pt x="702" y="122"/>
                  </a:lnTo>
                  <a:lnTo>
                    <a:pt x="702" y="126"/>
                  </a:lnTo>
                  <a:lnTo>
                    <a:pt x="702" y="132"/>
                  </a:lnTo>
                  <a:lnTo>
                    <a:pt x="702" y="135"/>
                  </a:lnTo>
                  <a:lnTo>
                    <a:pt x="700" y="139"/>
                  </a:lnTo>
                  <a:lnTo>
                    <a:pt x="700" y="143"/>
                  </a:lnTo>
                  <a:lnTo>
                    <a:pt x="700" y="149"/>
                  </a:lnTo>
                  <a:lnTo>
                    <a:pt x="700" y="152"/>
                  </a:lnTo>
                  <a:lnTo>
                    <a:pt x="700" y="158"/>
                  </a:lnTo>
                  <a:lnTo>
                    <a:pt x="700" y="162"/>
                  </a:lnTo>
                  <a:lnTo>
                    <a:pt x="700" y="168"/>
                  </a:lnTo>
                  <a:lnTo>
                    <a:pt x="700" y="171"/>
                  </a:lnTo>
                  <a:lnTo>
                    <a:pt x="698" y="179"/>
                  </a:lnTo>
                  <a:lnTo>
                    <a:pt x="698" y="189"/>
                  </a:lnTo>
                  <a:lnTo>
                    <a:pt x="696" y="194"/>
                  </a:lnTo>
                  <a:lnTo>
                    <a:pt x="696" y="202"/>
                  </a:lnTo>
                  <a:lnTo>
                    <a:pt x="696" y="208"/>
                  </a:lnTo>
                  <a:lnTo>
                    <a:pt x="696" y="211"/>
                  </a:lnTo>
                  <a:lnTo>
                    <a:pt x="696" y="215"/>
                  </a:lnTo>
                  <a:lnTo>
                    <a:pt x="696" y="215"/>
                  </a:lnTo>
                  <a:lnTo>
                    <a:pt x="696" y="217"/>
                  </a:lnTo>
                  <a:lnTo>
                    <a:pt x="696" y="223"/>
                  </a:lnTo>
                  <a:lnTo>
                    <a:pt x="696" y="227"/>
                  </a:lnTo>
                  <a:lnTo>
                    <a:pt x="698" y="232"/>
                  </a:lnTo>
                  <a:lnTo>
                    <a:pt x="700" y="236"/>
                  </a:lnTo>
                  <a:lnTo>
                    <a:pt x="702" y="244"/>
                  </a:lnTo>
                  <a:lnTo>
                    <a:pt x="702" y="249"/>
                  </a:lnTo>
                  <a:lnTo>
                    <a:pt x="702" y="257"/>
                  </a:lnTo>
                  <a:lnTo>
                    <a:pt x="704" y="265"/>
                  </a:lnTo>
                  <a:lnTo>
                    <a:pt x="706" y="274"/>
                  </a:lnTo>
                  <a:lnTo>
                    <a:pt x="706" y="278"/>
                  </a:lnTo>
                  <a:lnTo>
                    <a:pt x="708" y="282"/>
                  </a:lnTo>
                  <a:lnTo>
                    <a:pt x="708" y="287"/>
                  </a:lnTo>
                  <a:lnTo>
                    <a:pt x="710" y="291"/>
                  </a:lnTo>
                  <a:lnTo>
                    <a:pt x="710" y="297"/>
                  </a:lnTo>
                  <a:lnTo>
                    <a:pt x="710" y="303"/>
                  </a:lnTo>
                  <a:lnTo>
                    <a:pt x="711" y="306"/>
                  </a:lnTo>
                  <a:lnTo>
                    <a:pt x="713" y="312"/>
                  </a:lnTo>
                  <a:lnTo>
                    <a:pt x="713" y="316"/>
                  </a:lnTo>
                  <a:lnTo>
                    <a:pt x="713" y="322"/>
                  </a:lnTo>
                  <a:lnTo>
                    <a:pt x="713" y="325"/>
                  </a:lnTo>
                  <a:lnTo>
                    <a:pt x="715" y="331"/>
                  </a:lnTo>
                  <a:lnTo>
                    <a:pt x="715" y="335"/>
                  </a:lnTo>
                  <a:lnTo>
                    <a:pt x="717" y="341"/>
                  </a:lnTo>
                  <a:lnTo>
                    <a:pt x="717" y="346"/>
                  </a:lnTo>
                  <a:lnTo>
                    <a:pt x="719" y="352"/>
                  </a:lnTo>
                  <a:lnTo>
                    <a:pt x="719" y="356"/>
                  </a:lnTo>
                  <a:lnTo>
                    <a:pt x="721" y="361"/>
                  </a:lnTo>
                  <a:lnTo>
                    <a:pt x="721" y="367"/>
                  </a:lnTo>
                  <a:lnTo>
                    <a:pt x="723" y="373"/>
                  </a:lnTo>
                  <a:lnTo>
                    <a:pt x="723" y="377"/>
                  </a:lnTo>
                  <a:lnTo>
                    <a:pt x="723" y="382"/>
                  </a:lnTo>
                  <a:lnTo>
                    <a:pt x="725" y="388"/>
                  </a:lnTo>
                  <a:lnTo>
                    <a:pt x="727" y="394"/>
                  </a:lnTo>
                  <a:lnTo>
                    <a:pt x="727" y="398"/>
                  </a:lnTo>
                  <a:lnTo>
                    <a:pt x="727" y="401"/>
                  </a:lnTo>
                  <a:lnTo>
                    <a:pt x="727" y="407"/>
                  </a:lnTo>
                  <a:lnTo>
                    <a:pt x="729" y="411"/>
                  </a:lnTo>
                  <a:lnTo>
                    <a:pt x="729" y="417"/>
                  </a:lnTo>
                  <a:lnTo>
                    <a:pt x="731" y="420"/>
                  </a:lnTo>
                  <a:lnTo>
                    <a:pt x="731" y="426"/>
                  </a:lnTo>
                  <a:lnTo>
                    <a:pt x="731" y="430"/>
                  </a:lnTo>
                  <a:lnTo>
                    <a:pt x="731" y="434"/>
                  </a:lnTo>
                  <a:lnTo>
                    <a:pt x="732" y="439"/>
                  </a:lnTo>
                  <a:lnTo>
                    <a:pt x="732" y="443"/>
                  </a:lnTo>
                  <a:lnTo>
                    <a:pt x="734" y="447"/>
                  </a:lnTo>
                  <a:lnTo>
                    <a:pt x="734" y="455"/>
                  </a:lnTo>
                  <a:lnTo>
                    <a:pt x="736" y="462"/>
                  </a:lnTo>
                  <a:lnTo>
                    <a:pt x="736" y="468"/>
                  </a:lnTo>
                  <a:lnTo>
                    <a:pt x="738" y="476"/>
                  </a:lnTo>
                  <a:lnTo>
                    <a:pt x="738" y="483"/>
                  </a:lnTo>
                  <a:lnTo>
                    <a:pt x="738" y="491"/>
                  </a:lnTo>
                  <a:lnTo>
                    <a:pt x="738" y="498"/>
                  </a:lnTo>
                  <a:lnTo>
                    <a:pt x="740" y="506"/>
                  </a:lnTo>
                  <a:lnTo>
                    <a:pt x="740" y="514"/>
                  </a:lnTo>
                  <a:lnTo>
                    <a:pt x="742" y="523"/>
                  </a:lnTo>
                  <a:lnTo>
                    <a:pt x="742" y="529"/>
                  </a:lnTo>
                  <a:lnTo>
                    <a:pt x="742" y="538"/>
                  </a:lnTo>
                  <a:lnTo>
                    <a:pt x="742" y="544"/>
                  </a:lnTo>
                  <a:lnTo>
                    <a:pt x="744" y="553"/>
                  </a:lnTo>
                  <a:lnTo>
                    <a:pt x="744" y="561"/>
                  </a:lnTo>
                  <a:lnTo>
                    <a:pt x="744" y="569"/>
                  </a:lnTo>
                  <a:lnTo>
                    <a:pt x="746" y="576"/>
                  </a:lnTo>
                  <a:lnTo>
                    <a:pt x="746" y="586"/>
                  </a:lnTo>
                  <a:lnTo>
                    <a:pt x="746" y="591"/>
                  </a:lnTo>
                  <a:lnTo>
                    <a:pt x="748" y="599"/>
                  </a:lnTo>
                  <a:lnTo>
                    <a:pt x="748" y="605"/>
                  </a:lnTo>
                  <a:lnTo>
                    <a:pt x="750" y="614"/>
                  </a:lnTo>
                  <a:lnTo>
                    <a:pt x="750" y="620"/>
                  </a:lnTo>
                  <a:lnTo>
                    <a:pt x="750" y="628"/>
                  </a:lnTo>
                  <a:lnTo>
                    <a:pt x="751" y="633"/>
                  </a:lnTo>
                  <a:lnTo>
                    <a:pt x="751" y="641"/>
                  </a:lnTo>
                  <a:lnTo>
                    <a:pt x="751" y="647"/>
                  </a:lnTo>
                  <a:lnTo>
                    <a:pt x="753" y="652"/>
                  </a:lnTo>
                  <a:lnTo>
                    <a:pt x="755" y="656"/>
                  </a:lnTo>
                  <a:lnTo>
                    <a:pt x="755" y="662"/>
                  </a:lnTo>
                  <a:lnTo>
                    <a:pt x="757" y="666"/>
                  </a:lnTo>
                  <a:lnTo>
                    <a:pt x="759" y="669"/>
                  </a:lnTo>
                  <a:lnTo>
                    <a:pt x="759" y="673"/>
                  </a:lnTo>
                  <a:lnTo>
                    <a:pt x="761" y="677"/>
                  </a:lnTo>
                  <a:lnTo>
                    <a:pt x="761" y="681"/>
                  </a:lnTo>
                  <a:lnTo>
                    <a:pt x="763" y="683"/>
                  </a:lnTo>
                  <a:lnTo>
                    <a:pt x="765" y="686"/>
                  </a:lnTo>
                  <a:lnTo>
                    <a:pt x="767" y="692"/>
                  </a:lnTo>
                  <a:lnTo>
                    <a:pt x="769" y="696"/>
                  </a:lnTo>
                  <a:lnTo>
                    <a:pt x="770" y="700"/>
                  </a:lnTo>
                  <a:lnTo>
                    <a:pt x="772" y="705"/>
                  </a:lnTo>
                  <a:lnTo>
                    <a:pt x="774" y="711"/>
                  </a:lnTo>
                  <a:lnTo>
                    <a:pt x="776" y="715"/>
                  </a:lnTo>
                  <a:lnTo>
                    <a:pt x="780" y="723"/>
                  </a:lnTo>
                  <a:lnTo>
                    <a:pt x="782" y="726"/>
                  </a:lnTo>
                  <a:lnTo>
                    <a:pt x="784" y="734"/>
                  </a:lnTo>
                  <a:lnTo>
                    <a:pt x="786" y="740"/>
                  </a:lnTo>
                  <a:lnTo>
                    <a:pt x="789" y="745"/>
                  </a:lnTo>
                  <a:lnTo>
                    <a:pt x="791" y="751"/>
                  </a:lnTo>
                  <a:lnTo>
                    <a:pt x="795" y="759"/>
                  </a:lnTo>
                  <a:lnTo>
                    <a:pt x="797" y="764"/>
                  </a:lnTo>
                  <a:lnTo>
                    <a:pt x="799" y="770"/>
                  </a:lnTo>
                  <a:lnTo>
                    <a:pt x="801" y="778"/>
                  </a:lnTo>
                  <a:lnTo>
                    <a:pt x="805" y="783"/>
                  </a:lnTo>
                  <a:lnTo>
                    <a:pt x="805" y="789"/>
                  </a:lnTo>
                  <a:lnTo>
                    <a:pt x="808" y="793"/>
                  </a:lnTo>
                  <a:lnTo>
                    <a:pt x="810" y="799"/>
                  </a:lnTo>
                  <a:lnTo>
                    <a:pt x="812" y="806"/>
                  </a:lnTo>
                  <a:lnTo>
                    <a:pt x="814" y="810"/>
                  </a:lnTo>
                  <a:lnTo>
                    <a:pt x="814" y="814"/>
                  </a:lnTo>
                  <a:lnTo>
                    <a:pt x="816" y="819"/>
                  </a:lnTo>
                  <a:lnTo>
                    <a:pt x="818" y="823"/>
                  </a:lnTo>
                  <a:lnTo>
                    <a:pt x="818" y="831"/>
                  </a:lnTo>
                  <a:lnTo>
                    <a:pt x="820" y="837"/>
                  </a:lnTo>
                  <a:lnTo>
                    <a:pt x="818" y="844"/>
                  </a:lnTo>
                  <a:lnTo>
                    <a:pt x="812" y="852"/>
                  </a:lnTo>
                  <a:lnTo>
                    <a:pt x="808" y="854"/>
                  </a:lnTo>
                  <a:lnTo>
                    <a:pt x="805" y="857"/>
                  </a:lnTo>
                  <a:lnTo>
                    <a:pt x="801" y="861"/>
                  </a:lnTo>
                  <a:lnTo>
                    <a:pt x="797" y="863"/>
                  </a:lnTo>
                  <a:lnTo>
                    <a:pt x="789" y="865"/>
                  </a:lnTo>
                  <a:lnTo>
                    <a:pt x="784" y="869"/>
                  </a:lnTo>
                  <a:lnTo>
                    <a:pt x="780" y="871"/>
                  </a:lnTo>
                  <a:lnTo>
                    <a:pt x="776" y="873"/>
                  </a:lnTo>
                  <a:lnTo>
                    <a:pt x="772" y="875"/>
                  </a:lnTo>
                  <a:lnTo>
                    <a:pt x="769" y="876"/>
                  </a:lnTo>
                  <a:lnTo>
                    <a:pt x="763" y="878"/>
                  </a:lnTo>
                  <a:lnTo>
                    <a:pt x="757" y="880"/>
                  </a:lnTo>
                  <a:lnTo>
                    <a:pt x="751" y="882"/>
                  </a:lnTo>
                  <a:lnTo>
                    <a:pt x="746" y="884"/>
                  </a:lnTo>
                  <a:lnTo>
                    <a:pt x="740" y="886"/>
                  </a:lnTo>
                  <a:lnTo>
                    <a:pt x="734" y="890"/>
                  </a:lnTo>
                  <a:lnTo>
                    <a:pt x="729" y="892"/>
                  </a:lnTo>
                  <a:lnTo>
                    <a:pt x="723" y="895"/>
                  </a:lnTo>
                  <a:lnTo>
                    <a:pt x="715" y="897"/>
                  </a:lnTo>
                  <a:lnTo>
                    <a:pt x="708" y="899"/>
                  </a:lnTo>
                  <a:lnTo>
                    <a:pt x="700" y="903"/>
                  </a:lnTo>
                  <a:lnTo>
                    <a:pt x="692" y="907"/>
                  </a:lnTo>
                  <a:lnTo>
                    <a:pt x="685" y="909"/>
                  </a:lnTo>
                  <a:lnTo>
                    <a:pt x="677" y="911"/>
                  </a:lnTo>
                  <a:lnTo>
                    <a:pt x="670" y="914"/>
                  </a:lnTo>
                  <a:lnTo>
                    <a:pt x="662" y="916"/>
                  </a:lnTo>
                  <a:lnTo>
                    <a:pt x="658" y="918"/>
                  </a:lnTo>
                  <a:lnTo>
                    <a:pt x="654" y="918"/>
                  </a:lnTo>
                  <a:lnTo>
                    <a:pt x="649" y="920"/>
                  </a:lnTo>
                  <a:lnTo>
                    <a:pt x="645" y="922"/>
                  </a:lnTo>
                  <a:lnTo>
                    <a:pt x="641" y="922"/>
                  </a:lnTo>
                  <a:lnTo>
                    <a:pt x="637" y="924"/>
                  </a:lnTo>
                  <a:lnTo>
                    <a:pt x="632" y="924"/>
                  </a:lnTo>
                  <a:lnTo>
                    <a:pt x="628" y="926"/>
                  </a:lnTo>
                  <a:lnTo>
                    <a:pt x="624" y="928"/>
                  </a:lnTo>
                  <a:lnTo>
                    <a:pt x="618" y="928"/>
                  </a:lnTo>
                  <a:lnTo>
                    <a:pt x="615" y="930"/>
                  </a:lnTo>
                  <a:lnTo>
                    <a:pt x="611" y="932"/>
                  </a:lnTo>
                  <a:lnTo>
                    <a:pt x="605" y="932"/>
                  </a:lnTo>
                  <a:lnTo>
                    <a:pt x="601" y="933"/>
                  </a:lnTo>
                  <a:lnTo>
                    <a:pt x="597" y="933"/>
                  </a:lnTo>
                  <a:lnTo>
                    <a:pt x="594" y="935"/>
                  </a:lnTo>
                  <a:lnTo>
                    <a:pt x="588" y="935"/>
                  </a:lnTo>
                  <a:lnTo>
                    <a:pt x="582" y="937"/>
                  </a:lnTo>
                  <a:lnTo>
                    <a:pt x="577" y="937"/>
                  </a:lnTo>
                  <a:lnTo>
                    <a:pt x="573" y="939"/>
                  </a:lnTo>
                  <a:lnTo>
                    <a:pt x="567" y="939"/>
                  </a:lnTo>
                  <a:lnTo>
                    <a:pt x="563" y="939"/>
                  </a:lnTo>
                  <a:lnTo>
                    <a:pt x="557" y="941"/>
                  </a:lnTo>
                  <a:lnTo>
                    <a:pt x="554" y="943"/>
                  </a:lnTo>
                  <a:lnTo>
                    <a:pt x="548" y="943"/>
                  </a:lnTo>
                  <a:lnTo>
                    <a:pt x="542" y="943"/>
                  </a:lnTo>
                  <a:lnTo>
                    <a:pt x="537" y="943"/>
                  </a:lnTo>
                  <a:lnTo>
                    <a:pt x="533" y="945"/>
                  </a:lnTo>
                  <a:lnTo>
                    <a:pt x="527" y="945"/>
                  </a:lnTo>
                  <a:lnTo>
                    <a:pt x="521" y="945"/>
                  </a:lnTo>
                  <a:lnTo>
                    <a:pt x="516" y="947"/>
                  </a:lnTo>
                  <a:lnTo>
                    <a:pt x="512" y="947"/>
                  </a:lnTo>
                  <a:lnTo>
                    <a:pt x="506" y="947"/>
                  </a:lnTo>
                  <a:lnTo>
                    <a:pt x="500" y="949"/>
                  </a:lnTo>
                  <a:lnTo>
                    <a:pt x="495" y="949"/>
                  </a:lnTo>
                  <a:lnTo>
                    <a:pt x="489" y="949"/>
                  </a:lnTo>
                  <a:lnTo>
                    <a:pt x="483" y="949"/>
                  </a:lnTo>
                  <a:lnTo>
                    <a:pt x="478" y="949"/>
                  </a:lnTo>
                  <a:lnTo>
                    <a:pt x="472" y="949"/>
                  </a:lnTo>
                  <a:lnTo>
                    <a:pt x="466" y="949"/>
                  </a:lnTo>
                  <a:lnTo>
                    <a:pt x="461" y="949"/>
                  </a:lnTo>
                  <a:lnTo>
                    <a:pt x="455" y="949"/>
                  </a:lnTo>
                  <a:lnTo>
                    <a:pt x="447" y="949"/>
                  </a:lnTo>
                  <a:lnTo>
                    <a:pt x="443" y="949"/>
                  </a:lnTo>
                  <a:lnTo>
                    <a:pt x="436" y="949"/>
                  </a:lnTo>
                  <a:lnTo>
                    <a:pt x="432" y="949"/>
                  </a:lnTo>
                  <a:lnTo>
                    <a:pt x="424" y="949"/>
                  </a:lnTo>
                  <a:lnTo>
                    <a:pt x="419" y="949"/>
                  </a:lnTo>
                  <a:lnTo>
                    <a:pt x="413" y="949"/>
                  </a:lnTo>
                  <a:lnTo>
                    <a:pt x="407" y="949"/>
                  </a:lnTo>
                  <a:lnTo>
                    <a:pt x="400" y="947"/>
                  </a:lnTo>
                  <a:lnTo>
                    <a:pt x="394" y="947"/>
                  </a:lnTo>
                  <a:lnTo>
                    <a:pt x="386" y="947"/>
                  </a:lnTo>
                  <a:lnTo>
                    <a:pt x="379" y="945"/>
                  </a:lnTo>
                  <a:lnTo>
                    <a:pt x="373" y="945"/>
                  </a:lnTo>
                  <a:lnTo>
                    <a:pt x="365" y="945"/>
                  </a:lnTo>
                  <a:lnTo>
                    <a:pt x="358" y="943"/>
                  </a:lnTo>
                  <a:lnTo>
                    <a:pt x="352" y="943"/>
                  </a:lnTo>
                  <a:lnTo>
                    <a:pt x="345" y="941"/>
                  </a:lnTo>
                  <a:lnTo>
                    <a:pt x="337" y="941"/>
                  </a:lnTo>
                  <a:lnTo>
                    <a:pt x="331" y="939"/>
                  </a:lnTo>
                  <a:lnTo>
                    <a:pt x="324" y="939"/>
                  </a:lnTo>
                  <a:lnTo>
                    <a:pt x="316" y="937"/>
                  </a:lnTo>
                  <a:lnTo>
                    <a:pt x="310" y="937"/>
                  </a:lnTo>
                  <a:lnTo>
                    <a:pt x="303" y="935"/>
                  </a:lnTo>
                  <a:lnTo>
                    <a:pt x="295" y="933"/>
                  </a:lnTo>
                  <a:lnTo>
                    <a:pt x="288" y="932"/>
                  </a:lnTo>
                  <a:lnTo>
                    <a:pt x="280" y="932"/>
                  </a:lnTo>
                  <a:lnTo>
                    <a:pt x="272" y="930"/>
                  </a:lnTo>
                  <a:lnTo>
                    <a:pt x="265" y="928"/>
                  </a:lnTo>
                  <a:lnTo>
                    <a:pt x="257" y="926"/>
                  </a:lnTo>
                  <a:lnTo>
                    <a:pt x="250" y="926"/>
                  </a:lnTo>
                  <a:lnTo>
                    <a:pt x="242" y="924"/>
                  </a:lnTo>
                  <a:lnTo>
                    <a:pt x="234" y="922"/>
                  </a:lnTo>
                  <a:lnTo>
                    <a:pt x="227" y="918"/>
                  </a:lnTo>
                  <a:lnTo>
                    <a:pt x="219" y="918"/>
                  </a:lnTo>
                  <a:lnTo>
                    <a:pt x="211" y="914"/>
                  </a:lnTo>
                  <a:lnTo>
                    <a:pt x="204" y="914"/>
                  </a:lnTo>
                  <a:lnTo>
                    <a:pt x="198" y="913"/>
                  </a:lnTo>
                  <a:lnTo>
                    <a:pt x="191" y="911"/>
                  </a:lnTo>
                  <a:lnTo>
                    <a:pt x="183" y="907"/>
                  </a:lnTo>
                  <a:lnTo>
                    <a:pt x="175" y="905"/>
                  </a:lnTo>
                  <a:lnTo>
                    <a:pt x="168" y="903"/>
                  </a:lnTo>
                  <a:lnTo>
                    <a:pt x="160" y="901"/>
                  </a:lnTo>
                  <a:lnTo>
                    <a:pt x="154" y="897"/>
                  </a:lnTo>
                  <a:lnTo>
                    <a:pt x="147" y="895"/>
                  </a:lnTo>
                  <a:lnTo>
                    <a:pt x="139" y="894"/>
                  </a:lnTo>
                  <a:lnTo>
                    <a:pt x="134" y="892"/>
                  </a:lnTo>
                  <a:lnTo>
                    <a:pt x="126" y="888"/>
                  </a:lnTo>
                  <a:lnTo>
                    <a:pt x="118" y="884"/>
                  </a:lnTo>
                  <a:lnTo>
                    <a:pt x="113" y="882"/>
                  </a:lnTo>
                  <a:lnTo>
                    <a:pt x="105" y="880"/>
                  </a:lnTo>
                  <a:lnTo>
                    <a:pt x="97" y="876"/>
                  </a:lnTo>
                  <a:lnTo>
                    <a:pt x="92" y="873"/>
                  </a:lnTo>
                  <a:lnTo>
                    <a:pt x="86" y="871"/>
                  </a:lnTo>
                  <a:lnTo>
                    <a:pt x="80" y="869"/>
                  </a:lnTo>
                  <a:lnTo>
                    <a:pt x="73" y="865"/>
                  </a:lnTo>
                  <a:lnTo>
                    <a:pt x="67" y="861"/>
                  </a:lnTo>
                  <a:lnTo>
                    <a:pt x="61" y="857"/>
                  </a:lnTo>
                  <a:lnTo>
                    <a:pt x="56" y="856"/>
                  </a:lnTo>
                  <a:lnTo>
                    <a:pt x="50" y="852"/>
                  </a:lnTo>
                  <a:lnTo>
                    <a:pt x="44" y="848"/>
                  </a:lnTo>
                  <a:lnTo>
                    <a:pt x="40" y="844"/>
                  </a:lnTo>
                  <a:lnTo>
                    <a:pt x="35" y="840"/>
                  </a:lnTo>
                  <a:lnTo>
                    <a:pt x="31" y="837"/>
                  </a:lnTo>
                  <a:lnTo>
                    <a:pt x="25" y="833"/>
                  </a:lnTo>
                  <a:lnTo>
                    <a:pt x="19" y="829"/>
                  </a:lnTo>
                  <a:lnTo>
                    <a:pt x="16" y="827"/>
                  </a:lnTo>
                  <a:lnTo>
                    <a:pt x="12" y="821"/>
                  </a:lnTo>
                  <a:lnTo>
                    <a:pt x="6" y="819"/>
                  </a:lnTo>
                  <a:lnTo>
                    <a:pt x="2" y="814"/>
                  </a:lnTo>
                  <a:lnTo>
                    <a:pt x="0" y="810"/>
                  </a:lnTo>
                  <a:lnTo>
                    <a:pt x="33" y="800"/>
                  </a:lnTo>
                  <a:lnTo>
                    <a:pt x="33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12160" y="5862600"/>
              <a:ext cx="44280" cy="9864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50" y="21"/>
                  </a:moveTo>
                  <a:lnTo>
                    <a:pt x="48" y="21"/>
                  </a:lnTo>
                  <a:lnTo>
                    <a:pt x="46" y="24"/>
                  </a:lnTo>
                  <a:lnTo>
                    <a:pt x="40" y="32"/>
                  </a:lnTo>
                  <a:lnTo>
                    <a:pt x="37" y="40"/>
                  </a:lnTo>
                  <a:lnTo>
                    <a:pt x="33" y="43"/>
                  </a:lnTo>
                  <a:lnTo>
                    <a:pt x="31" y="47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5" y="81"/>
                  </a:lnTo>
                  <a:lnTo>
                    <a:pt x="27" y="89"/>
                  </a:lnTo>
                  <a:lnTo>
                    <a:pt x="31" y="95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6" y="108"/>
                  </a:lnTo>
                  <a:lnTo>
                    <a:pt x="48" y="108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8" y="123"/>
                  </a:lnTo>
                  <a:lnTo>
                    <a:pt x="33" y="121"/>
                  </a:lnTo>
                  <a:lnTo>
                    <a:pt x="27" y="118"/>
                  </a:lnTo>
                  <a:lnTo>
                    <a:pt x="19" y="112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6" y="95"/>
                  </a:lnTo>
                  <a:lnTo>
                    <a:pt x="2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24"/>
                  </a:lnTo>
                  <a:lnTo>
                    <a:pt x="16" y="21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21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3280" y="5880240"/>
              <a:ext cx="74880" cy="968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3" y="32"/>
                  </a:moveTo>
                  <a:lnTo>
                    <a:pt x="71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7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27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2" y="91"/>
                  </a:lnTo>
                  <a:lnTo>
                    <a:pt x="50" y="93"/>
                  </a:lnTo>
                  <a:lnTo>
                    <a:pt x="55" y="91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7" y="91"/>
                  </a:lnTo>
                  <a:lnTo>
                    <a:pt x="71" y="91"/>
                  </a:lnTo>
                  <a:lnTo>
                    <a:pt x="76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6" y="98"/>
                  </a:lnTo>
                  <a:lnTo>
                    <a:pt x="84" y="100"/>
                  </a:lnTo>
                  <a:lnTo>
                    <a:pt x="82" y="104"/>
                  </a:lnTo>
                  <a:lnTo>
                    <a:pt x="80" y="108"/>
                  </a:lnTo>
                  <a:lnTo>
                    <a:pt x="76" y="112"/>
                  </a:lnTo>
                  <a:lnTo>
                    <a:pt x="69" y="116"/>
                  </a:lnTo>
                  <a:lnTo>
                    <a:pt x="63" y="117"/>
                  </a:lnTo>
                  <a:lnTo>
                    <a:pt x="57" y="119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29" y="116"/>
                  </a:lnTo>
                  <a:lnTo>
                    <a:pt x="23" y="112"/>
                  </a:lnTo>
                  <a:lnTo>
                    <a:pt x="19" y="108"/>
                  </a:lnTo>
                  <a:lnTo>
                    <a:pt x="16" y="104"/>
                  </a:lnTo>
                  <a:lnTo>
                    <a:pt x="10" y="98"/>
                  </a:lnTo>
                  <a:lnTo>
                    <a:pt x="8" y="93"/>
                  </a:lnTo>
                  <a:lnTo>
                    <a:pt x="4" y="89"/>
                  </a:lnTo>
                  <a:lnTo>
                    <a:pt x="2" y="81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7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7" y="7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3" y="32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27120" y="5884920"/>
              <a:ext cx="49680" cy="745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2" y="19"/>
                  </a:moveTo>
                  <a:lnTo>
                    <a:pt x="2" y="19"/>
                  </a:lnTo>
                  <a:lnTo>
                    <a:pt x="6" y="21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3" y="33"/>
                  </a:lnTo>
                  <a:lnTo>
                    <a:pt x="31" y="40"/>
                  </a:lnTo>
                  <a:lnTo>
                    <a:pt x="35" y="48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1" y="74"/>
                  </a:lnTo>
                  <a:lnTo>
                    <a:pt x="25" y="80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2" y="91"/>
                  </a:lnTo>
                  <a:lnTo>
                    <a:pt x="12" y="93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2" y="91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7" y="71"/>
                  </a:lnTo>
                  <a:lnTo>
                    <a:pt x="57" y="67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8" y="40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8" y="25"/>
                  </a:lnTo>
                  <a:lnTo>
                    <a:pt x="35" y="21"/>
                  </a:lnTo>
                  <a:lnTo>
                    <a:pt x="33" y="17"/>
                  </a:lnTo>
                  <a:lnTo>
                    <a:pt x="25" y="10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58240" y="5702400"/>
              <a:ext cx="93960" cy="184320"/>
            </a:xfrm>
            <a:custGeom>
              <a:avLst/>
              <a:gdLst/>
              <a:ahLst/>
              <a:rect l="l" t="t" r="r" b="b"/>
              <a:pathLst>
                <a:path w="106" h="232">
                  <a:moveTo>
                    <a:pt x="11" y="54"/>
                  </a:moveTo>
                  <a:lnTo>
                    <a:pt x="15" y="57"/>
                  </a:lnTo>
                  <a:lnTo>
                    <a:pt x="19" y="59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6" y="78"/>
                  </a:lnTo>
                  <a:lnTo>
                    <a:pt x="44" y="84"/>
                  </a:lnTo>
                  <a:lnTo>
                    <a:pt x="51" y="93"/>
                  </a:lnTo>
                  <a:lnTo>
                    <a:pt x="57" y="101"/>
                  </a:lnTo>
                  <a:lnTo>
                    <a:pt x="64" y="109"/>
                  </a:lnTo>
                  <a:lnTo>
                    <a:pt x="68" y="114"/>
                  </a:lnTo>
                  <a:lnTo>
                    <a:pt x="74" y="122"/>
                  </a:lnTo>
                  <a:lnTo>
                    <a:pt x="78" y="128"/>
                  </a:lnTo>
                  <a:lnTo>
                    <a:pt x="82" y="133"/>
                  </a:lnTo>
                  <a:lnTo>
                    <a:pt x="82" y="137"/>
                  </a:lnTo>
                  <a:lnTo>
                    <a:pt x="80" y="141"/>
                  </a:lnTo>
                  <a:lnTo>
                    <a:pt x="76" y="143"/>
                  </a:lnTo>
                  <a:lnTo>
                    <a:pt x="72" y="145"/>
                  </a:lnTo>
                  <a:lnTo>
                    <a:pt x="68" y="149"/>
                  </a:lnTo>
                  <a:lnTo>
                    <a:pt x="63" y="154"/>
                  </a:lnTo>
                  <a:lnTo>
                    <a:pt x="57" y="158"/>
                  </a:lnTo>
                  <a:lnTo>
                    <a:pt x="51" y="162"/>
                  </a:lnTo>
                  <a:lnTo>
                    <a:pt x="45" y="168"/>
                  </a:lnTo>
                  <a:lnTo>
                    <a:pt x="40" y="173"/>
                  </a:lnTo>
                  <a:lnTo>
                    <a:pt x="34" y="177"/>
                  </a:lnTo>
                  <a:lnTo>
                    <a:pt x="28" y="181"/>
                  </a:lnTo>
                  <a:lnTo>
                    <a:pt x="23" y="185"/>
                  </a:lnTo>
                  <a:lnTo>
                    <a:pt x="19" y="188"/>
                  </a:lnTo>
                  <a:lnTo>
                    <a:pt x="15" y="192"/>
                  </a:lnTo>
                  <a:lnTo>
                    <a:pt x="11" y="194"/>
                  </a:lnTo>
                  <a:lnTo>
                    <a:pt x="9" y="196"/>
                  </a:lnTo>
                  <a:lnTo>
                    <a:pt x="9" y="198"/>
                  </a:lnTo>
                  <a:lnTo>
                    <a:pt x="11" y="232"/>
                  </a:lnTo>
                  <a:lnTo>
                    <a:pt x="13" y="230"/>
                  </a:lnTo>
                  <a:lnTo>
                    <a:pt x="15" y="228"/>
                  </a:lnTo>
                  <a:lnTo>
                    <a:pt x="21" y="225"/>
                  </a:lnTo>
                  <a:lnTo>
                    <a:pt x="26" y="221"/>
                  </a:lnTo>
                  <a:lnTo>
                    <a:pt x="34" y="213"/>
                  </a:lnTo>
                  <a:lnTo>
                    <a:pt x="44" y="207"/>
                  </a:lnTo>
                  <a:lnTo>
                    <a:pt x="47" y="204"/>
                  </a:lnTo>
                  <a:lnTo>
                    <a:pt x="51" y="200"/>
                  </a:lnTo>
                  <a:lnTo>
                    <a:pt x="57" y="196"/>
                  </a:lnTo>
                  <a:lnTo>
                    <a:pt x="61" y="192"/>
                  </a:lnTo>
                  <a:lnTo>
                    <a:pt x="64" y="188"/>
                  </a:lnTo>
                  <a:lnTo>
                    <a:pt x="70" y="185"/>
                  </a:lnTo>
                  <a:lnTo>
                    <a:pt x="74" y="181"/>
                  </a:lnTo>
                  <a:lnTo>
                    <a:pt x="78" y="175"/>
                  </a:lnTo>
                  <a:lnTo>
                    <a:pt x="85" y="168"/>
                  </a:lnTo>
                  <a:lnTo>
                    <a:pt x="93" y="160"/>
                  </a:lnTo>
                  <a:lnTo>
                    <a:pt x="99" y="154"/>
                  </a:lnTo>
                  <a:lnTo>
                    <a:pt x="102" y="147"/>
                  </a:lnTo>
                  <a:lnTo>
                    <a:pt x="104" y="143"/>
                  </a:lnTo>
                  <a:lnTo>
                    <a:pt x="106" y="139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7" y="107"/>
                  </a:lnTo>
                  <a:lnTo>
                    <a:pt x="85" y="101"/>
                  </a:lnTo>
                  <a:lnTo>
                    <a:pt x="82" y="97"/>
                  </a:lnTo>
                  <a:lnTo>
                    <a:pt x="78" y="92"/>
                  </a:lnTo>
                  <a:lnTo>
                    <a:pt x="74" y="86"/>
                  </a:lnTo>
                  <a:lnTo>
                    <a:pt x="70" y="80"/>
                  </a:lnTo>
                  <a:lnTo>
                    <a:pt x="66" y="76"/>
                  </a:lnTo>
                  <a:lnTo>
                    <a:pt x="64" y="71"/>
                  </a:lnTo>
                  <a:lnTo>
                    <a:pt x="59" y="65"/>
                  </a:lnTo>
                  <a:lnTo>
                    <a:pt x="55" y="59"/>
                  </a:lnTo>
                  <a:lnTo>
                    <a:pt x="51" y="54"/>
                  </a:lnTo>
                  <a:lnTo>
                    <a:pt x="47" y="48"/>
                  </a:lnTo>
                  <a:lnTo>
                    <a:pt x="42" y="42"/>
                  </a:lnTo>
                  <a:lnTo>
                    <a:pt x="38" y="38"/>
                  </a:lnTo>
                  <a:lnTo>
                    <a:pt x="34" y="33"/>
                  </a:lnTo>
                  <a:lnTo>
                    <a:pt x="30" y="29"/>
                  </a:lnTo>
                  <a:lnTo>
                    <a:pt x="26" y="23"/>
                  </a:lnTo>
                  <a:lnTo>
                    <a:pt x="21" y="19"/>
                  </a:lnTo>
                  <a:lnTo>
                    <a:pt x="17" y="14"/>
                  </a:lnTo>
                  <a:lnTo>
                    <a:pt x="13" y="12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911520" y="5635800"/>
              <a:ext cx="248400" cy="268200"/>
            </a:xfrm>
            <a:custGeom>
              <a:avLst/>
              <a:gdLst/>
              <a:ahLst/>
              <a:rect l="l" t="t" r="r" b="b"/>
              <a:pathLst>
                <a:path w="279" h="338">
                  <a:moveTo>
                    <a:pt x="13" y="338"/>
                  </a:moveTo>
                  <a:lnTo>
                    <a:pt x="15" y="336"/>
                  </a:lnTo>
                  <a:lnTo>
                    <a:pt x="17" y="332"/>
                  </a:lnTo>
                  <a:lnTo>
                    <a:pt x="21" y="327"/>
                  </a:lnTo>
                  <a:lnTo>
                    <a:pt x="28" y="319"/>
                  </a:lnTo>
                  <a:lnTo>
                    <a:pt x="32" y="313"/>
                  </a:lnTo>
                  <a:lnTo>
                    <a:pt x="36" y="309"/>
                  </a:lnTo>
                  <a:lnTo>
                    <a:pt x="40" y="304"/>
                  </a:lnTo>
                  <a:lnTo>
                    <a:pt x="45" y="298"/>
                  </a:lnTo>
                  <a:lnTo>
                    <a:pt x="51" y="292"/>
                  </a:lnTo>
                  <a:lnTo>
                    <a:pt x="57" y="285"/>
                  </a:lnTo>
                  <a:lnTo>
                    <a:pt x="62" y="279"/>
                  </a:lnTo>
                  <a:lnTo>
                    <a:pt x="70" y="273"/>
                  </a:lnTo>
                  <a:lnTo>
                    <a:pt x="72" y="270"/>
                  </a:lnTo>
                  <a:lnTo>
                    <a:pt x="76" y="266"/>
                  </a:lnTo>
                  <a:lnTo>
                    <a:pt x="79" y="260"/>
                  </a:lnTo>
                  <a:lnTo>
                    <a:pt x="83" y="256"/>
                  </a:lnTo>
                  <a:lnTo>
                    <a:pt x="87" y="251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16" y="220"/>
                  </a:lnTo>
                  <a:lnTo>
                    <a:pt x="121" y="216"/>
                  </a:lnTo>
                  <a:lnTo>
                    <a:pt x="127" y="209"/>
                  </a:lnTo>
                  <a:lnTo>
                    <a:pt x="131" y="205"/>
                  </a:lnTo>
                  <a:lnTo>
                    <a:pt x="135" y="199"/>
                  </a:lnTo>
                  <a:lnTo>
                    <a:pt x="140" y="194"/>
                  </a:lnTo>
                  <a:lnTo>
                    <a:pt x="144" y="188"/>
                  </a:lnTo>
                  <a:lnTo>
                    <a:pt x="150" y="182"/>
                  </a:lnTo>
                  <a:lnTo>
                    <a:pt x="154" y="176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5" y="163"/>
                  </a:lnTo>
                  <a:lnTo>
                    <a:pt x="169" y="157"/>
                  </a:lnTo>
                  <a:lnTo>
                    <a:pt x="173" y="154"/>
                  </a:lnTo>
                  <a:lnTo>
                    <a:pt x="178" y="146"/>
                  </a:lnTo>
                  <a:lnTo>
                    <a:pt x="184" y="138"/>
                  </a:lnTo>
                  <a:lnTo>
                    <a:pt x="188" y="135"/>
                  </a:lnTo>
                  <a:lnTo>
                    <a:pt x="190" y="131"/>
                  </a:lnTo>
                  <a:lnTo>
                    <a:pt x="190" y="125"/>
                  </a:lnTo>
                  <a:lnTo>
                    <a:pt x="190" y="121"/>
                  </a:lnTo>
                  <a:lnTo>
                    <a:pt x="192" y="114"/>
                  </a:lnTo>
                  <a:lnTo>
                    <a:pt x="194" y="106"/>
                  </a:lnTo>
                  <a:lnTo>
                    <a:pt x="194" y="102"/>
                  </a:lnTo>
                  <a:lnTo>
                    <a:pt x="194" y="97"/>
                  </a:lnTo>
                  <a:lnTo>
                    <a:pt x="195" y="93"/>
                  </a:lnTo>
                  <a:lnTo>
                    <a:pt x="195" y="89"/>
                  </a:lnTo>
                  <a:lnTo>
                    <a:pt x="197" y="83"/>
                  </a:lnTo>
                  <a:lnTo>
                    <a:pt x="197" y="80"/>
                  </a:lnTo>
                  <a:lnTo>
                    <a:pt x="199" y="74"/>
                  </a:lnTo>
                  <a:lnTo>
                    <a:pt x="201" y="70"/>
                  </a:lnTo>
                  <a:lnTo>
                    <a:pt x="201" y="64"/>
                  </a:lnTo>
                  <a:lnTo>
                    <a:pt x="201" y="59"/>
                  </a:lnTo>
                  <a:lnTo>
                    <a:pt x="203" y="55"/>
                  </a:lnTo>
                  <a:lnTo>
                    <a:pt x="205" y="51"/>
                  </a:lnTo>
                  <a:lnTo>
                    <a:pt x="207" y="42"/>
                  </a:lnTo>
                  <a:lnTo>
                    <a:pt x="211" y="34"/>
                  </a:lnTo>
                  <a:lnTo>
                    <a:pt x="213" y="28"/>
                  </a:lnTo>
                  <a:lnTo>
                    <a:pt x="216" y="23"/>
                  </a:lnTo>
                  <a:lnTo>
                    <a:pt x="218" y="19"/>
                  </a:lnTo>
                  <a:lnTo>
                    <a:pt x="224" y="19"/>
                  </a:lnTo>
                  <a:lnTo>
                    <a:pt x="230" y="17"/>
                  </a:lnTo>
                  <a:lnTo>
                    <a:pt x="237" y="19"/>
                  </a:lnTo>
                  <a:lnTo>
                    <a:pt x="243" y="23"/>
                  </a:lnTo>
                  <a:lnTo>
                    <a:pt x="249" y="26"/>
                  </a:lnTo>
                  <a:lnTo>
                    <a:pt x="252" y="32"/>
                  </a:lnTo>
                  <a:lnTo>
                    <a:pt x="258" y="38"/>
                  </a:lnTo>
                  <a:lnTo>
                    <a:pt x="260" y="43"/>
                  </a:lnTo>
                  <a:lnTo>
                    <a:pt x="262" y="51"/>
                  </a:lnTo>
                  <a:lnTo>
                    <a:pt x="262" y="53"/>
                  </a:lnTo>
                  <a:lnTo>
                    <a:pt x="262" y="59"/>
                  </a:lnTo>
                  <a:lnTo>
                    <a:pt x="260" y="62"/>
                  </a:lnTo>
                  <a:lnTo>
                    <a:pt x="260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4" y="89"/>
                  </a:lnTo>
                  <a:lnTo>
                    <a:pt x="252" y="97"/>
                  </a:lnTo>
                  <a:lnTo>
                    <a:pt x="251" y="104"/>
                  </a:lnTo>
                  <a:lnTo>
                    <a:pt x="249" y="110"/>
                  </a:lnTo>
                  <a:lnTo>
                    <a:pt x="247" y="116"/>
                  </a:lnTo>
                  <a:lnTo>
                    <a:pt x="245" y="121"/>
                  </a:lnTo>
                  <a:lnTo>
                    <a:pt x="243" y="125"/>
                  </a:lnTo>
                  <a:lnTo>
                    <a:pt x="243" y="129"/>
                  </a:lnTo>
                  <a:lnTo>
                    <a:pt x="243" y="131"/>
                  </a:lnTo>
                  <a:lnTo>
                    <a:pt x="243" y="133"/>
                  </a:lnTo>
                  <a:lnTo>
                    <a:pt x="251" y="152"/>
                  </a:lnTo>
                  <a:lnTo>
                    <a:pt x="251" y="150"/>
                  </a:lnTo>
                  <a:lnTo>
                    <a:pt x="251" y="146"/>
                  </a:lnTo>
                  <a:lnTo>
                    <a:pt x="252" y="142"/>
                  </a:lnTo>
                  <a:lnTo>
                    <a:pt x="254" y="137"/>
                  </a:lnTo>
                  <a:lnTo>
                    <a:pt x="256" y="129"/>
                  </a:lnTo>
                  <a:lnTo>
                    <a:pt x="258" y="121"/>
                  </a:lnTo>
                  <a:lnTo>
                    <a:pt x="260" y="114"/>
                  </a:lnTo>
                  <a:lnTo>
                    <a:pt x="264" y="106"/>
                  </a:lnTo>
                  <a:lnTo>
                    <a:pt x="264" y="100"/>
                  </a:lnTo>
                  <a:lnTo>
                    <a:pt x="266" y="97"/>
                  </a:lnTo>
                  <a:lnTo>
                    <a:pt x="268" y="91"/>
                  </a:lnTo>
                  <a:lnTo>
                    <a:pt x="270" y="87"/>
                  </a:lnTo>
                  <a:lnTo>
                    <a:pt x="271" y="81"/>
                  </a:lnTo>
                  <a:lnTo>
                    <a:pt x="273" y="78"/>
                  </a:lnTo>
                  <a:lnTo>
                    <a:pt x="273" y="72"/>
                  </a:lnTo>
                  <a:lnTo>
                    <a:pt x="275" y="66"/>
                  </a:lnTo>
                  <a:lnTo>
                    <a:pt x="277" y="62"/>
                  </a:lnTo>
                  <a:lnTo>
                    <a:pt x="277" y="57"/>
                  </a:lnTo>
                  <a:lnTo>
                    <a:pt x="277" y="51"/>
                  </a:lnTo>
                  <a:lnTo>
                    <a:pt x="279" y="47"/>
                  </a:lnTo>
                  <a:lnTo>
                    <a:pt x="277" y="42"/>
                  </a:lnTo>
                  <a:lnTo>
                    <a:pt x="277" y="38"/>
                  </a:lnTo>
                  <a:lnTo>
                    <a:pt x="275" y="32"/>
                  </a:lnTo>
                  <a:lnTo>
                    <a:pt x="273" y="28"/>
                  </a:lnTo>
                  <a:lnTo>
                    <a:pt x="271" y="24"/>
                  </a:lnTo>
                  <a:lnTo>
                    <a:pt x="268" y="19"/>
                  </a:lnTo>
                  <a:lnTo>
                    <a:pt x="264" y="15"/>
                  </a:lnTo>
                  <a:lnTo>
                    <a:pt x="262" y="13"/>
                  </a:lnTo>
                  <a:lnTo>
                    <a:pt x="256" y="7"/>
                  </a:lnTo>
                  <a:lnTo>
                    <a:pt x="249" y="4"/>
                  </a:lnTo>
                  <a:lnTo>
                    <a:pt x="241" y="2"/>
                  </a:lnTo>
                  <a:lnTo>
                    <a:pt x="235" y="0"/>
                  </a:lnTo>
                  <a:lnTo>
                    <a:pt x="226" y="2"/>
                  </a:lnTo>
                  <a:lnTo>
                    <a:pt x="218" y="5"/>
                  </a:lnTo>
                  <a:lnTo>
                    <a:pt x="213" y="7"/>
                  </a:lnTo>
                  <a:lnTo>
                    <a:pt x="209" y="11"/>
                  </a:lnTo>
                  <a:lnTo>
                    <a:pt x="203" y="17"/>
                  </a:lnTo>
                  <a:lnTo>
                    <a:pt x="199" y="26"/>
                  </a:lnTo>
                  <a:lnTo>
                    <a:pt x="197" y="30"/>
                  </a:lnTo>
                  <a:lnTo>
                    <a:pt x="195" y="34"/>
                  </a:lnTo>
                  <a:lnTo>
                    <a:pt x="194" y="40"/>
                  </a:lnTo>
                  <a:lnTo>
                    <a:pt x="192" y="45"/>
                  </a:lnTo>
                  <a:lnTo>
                    <a:pt x="190" y="49"/>
                  </a:lnTo>
                  <a:lnTo>
                    <a:pt x="188" y="55"/>
                  </a:lnTo>
                  <a:lnTo>
                    <a:pt x="186" y="61"/>
                  </a:lnTo>
                  <a:lnTo>
                    <a:pt x="184" y="66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6" y="95"/>
                  </a:lnTo>
                  <a:lnTo>
                    <a:pt x="175" y="99"/>
                  </a:lnTo>
                  <a:lnTo>
                    <a:pt x="175" y="104"/>
                  </a:lnTo>
                  <a:lnTo>
                    <a:pt x="173" y="110"/>
                  </a:lnTo>
                  <a:lnTo>
                    <a:pt x="173" y="116"/>
                  </a:lnTo>
                  <a:lnTo>
                    <a:pt x="173" y="119"/>
                  </a:lnTo>
                  <a:lnTo>
                    <a:pt x="173" y="121"/>
                  </a:lnTo>
                  <a:lnTo>
                    <a:pt x="171" y="121"/>
                  </a:lnTo>
                  <a:lnTo>
                    <a:pt x="169" y="123"/>
                  </a:lnTo>
                  <a:lnTo>
                    <a:pt x="167" y="125"/>
                  </a:lnTo>
                  <a:lnTo>
                    <a:pt x="165" y="129"/>
                  </a:lnTo>
                  <a:lnTo>
                    <a:pt x="161" y="135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2" y="154"/>
                  </a:lnTo>
                  <a:lnTo>
                    <a:pt x="146" y="159"/>
                  </a:lnTo>
                  <a:lnTo>
                    <a:pt x="140" y="167"/>
                  </a:lnTo>
                  <a:lnTo>
                    <a:pt x="136" y="173"/>
                  </a:lnTo>
                  <a:lnTo>
                    <a:pt x="131" y="180"/>
                  </a:lnTo>
                  <a:lnTo>
                    <a:pt x="127" y="186"/>
                  </a:lnTo>
                  <a:lnTo>
                    <a:pt x="121" y="194"/>
                  </a:lnTo>
                  <a:lnTo>
                    <a:pt x="116" y="199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98" y="214"/>
                  </a:lnTo>
                  <a:lnTo>
                    <a:pt x="93" y="220"/>
                  </a:lnTo>
                  <a:lnTo>
                    <a:pt x="85" y="228"/>
                  </a:lnTo>
                  <a:lnTo>
                    <a:pt x="79" y="233"/>
                  </a:lnTo>
                  <a:lnTo>
                    <a:pt x="72" y="241"/>
                  </a:lnTo>
                  <a:lnTo>
                    <a:pt x="66" y="247"/>
                  </a:lnTo>
                  <a:lnTo>
                    <a:pt x="59" y="254"/>
                  </a:lnTo>
                  <a:lnTo>
                    <a:pt x="51" y="262"/>
                  </a:lnTo>
                  <a:lnTo>
                    <a:pt x="43" y="268"/>
                  </a:lnTo>
                  <a:lnTo>
                    <a:pt x="38" y="275"/>
                  </a:lnTo>
                  <a:lnTo>
                    <a:pt x="32" y="281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3" y="298"/>
                  </a:lnTo>
                  <a:lnTo>
                    <a:pt x="9" y="304"/>
                  </a:lnTo>
                  <a:lnTo>
                    <a:pt x="2" y="311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3" y="328"/>
                  </a:lnTo>
                  <a:lnTo>
                    <a:pt x="5" y="332"/>
                  </a:lnTo>
                  <a:lnTo>
                    <a:pt x="9" y="336"/>
                  </a:lnTo>
                  <a:lnTo>
                    <a:pt x="11" y="338"/>
                  </a:lnTo>
                  <a:lnTo>
                    <a:pt x="13" y="338"/>
                  </a:lnTo>
                  <a:lnTo>
                    <a:pt x="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90280" y="5507280"/>
              <a:ext cx="335520" cy="552240"/>
            </a:xfrm>
            <a:custGeom>
              <a:avLst/>
              <a:gdLst/>
              <a:ahLst/>
              <a:rect l="l" t="t" r="r" b="b"/>
              <a:pathLst>
                <a:path w="378" h="698">
                  <a:moveTo>
                    <a:pt x="0" y="645"/>
                  </a:moveTo>
                  <a:lnTo>
                    <a:pt x="0" y="645"/>
                  </a:lnTo>
                  <a:lnTo>
                    <a:pt x="6" y="648"/>
                  </a:lnTo>
                  <a:lnTo>
                    <a:pt x="8" y="648"/>
                  </a:lnTo>
                  <a:lnTo>
                    <a:pt x="13" y="650"/>
                  </a:lnTo>
                  <a:lnTo>
                    <a:pt x="17" y="652"/>
                  </a:lnTo>
                  <a:lnTo>
                    <a:pt x="23" y="654"/>
                  </a:lnTo>
                  <a:lnTo>
                    <a:pt x="28" y="654"/>
                  </a:lnTo>
                  <a:lnTo>
                    <a:pt x="36" y="654"/>
                  </a:lnTo>
                  <a:lnTo>
                    <a:pt x="40" y="652"/>
                  </a:lnTo>
                  <a:lnTo>
                    <a:pt x="44" y="652"/>
                  </a:lnTo>
                  <a:lnTo>
                    <a:pt x="49" y="652"/>
                  </a:lnTo>
                  <a:lnTo>
                    <a:pt x="53" y="652"/>
                  </a:lnTo>
                  <a:lnTo>
                    <a:pt x="57" y="650"/>
                  </a:lnTo>
                  <a:lnTo>
                    <a:pt x="61" y="648"/>
                  </a:lnTo>
                  <a:lnTo>
                    <a:pt x="66" y="646"/>
                  </a:lnTo>
                  <a:lnTo>
                    <a:pt x="72" y="645"/>
                  </a:lnTo>
                  <a:lnTo>
                    <a:pt x="76" y="641"/>
                  </a:lnTo>
                  <a:lnTo>
                    <a:pt x="82" y="639"/>
                  </a:lnTo>
                  <a:lnTo>
                    <a:pt x="85" y="635"/>
                  </a:lnTo>
                  <a:lnTo>
                    <a:pt x="93" y="633"/>
                  </a:lnTo>
                  <a:lnTo>
                    <a:pt x="97" y="627"/>
                  </a:lnTo>
                  <a:lnTo>
                    <a:pt x="103" y="624"/>
                  </a:lnTo>
                  <a:lnTo>
                    <a:pt x="108" y="618"/>
                  </a:lnTo>
                  <a:lnTo>
                    <a:pt x="114" y="614"/>
                  </a:lnTo>
                  <a:lnTo>
                    <a:pt x="120" y="607"/>
                  </a:lnTo>
                  <a:lnTo>
                    <a:pt x="123" y="603"/>
                  </a:lnTo>
                  <a:lnTo>
                    <a:pt x="129" y="595"/>
                  </a:lnTo>
                  <a:lnTo>
                    <a:pt x="135" y="589"/>
                  </a:lnTo>
                  <a:lnTo>
                    <a:pt x="141" y="582"/>
                  </a:lnTo>
                  <a:lnTo>
                    <a:pt x="144" y="576"/>
                  </a:lnTo>
                  <a:lnTo>
                    <a:pt x="148" y="568"/>
                  </a:lnTo>
                  <a:lnTo>
                    <a:pt x="154" y="563"/>
                  </a:lnTo>
                  <a:lnTo>
                    <a:pt x="158" y="555"/>
                  </a:lnTo>
                  <a:lnTo>
                    <a:pt x="161" y="549"/>
                  </a:lnTo>
                  <a:lnTo>
                    <a:pt x="165" y="542"/>
                  </a:lnTo>
                  <a:lnTo>
                    <a:pt x="171" y="536"/>
                  </a:lnTo>
                  <a:lnTo>
                    <a:pt x="173" y="529"/>
                  </a:lnTo>
                  <a:lnTo>
                    <a:pt x="177" y="521"/>
                  </a:lnTo>
                  <a:lnTo>
                    <a:pt x="181" y="515"/>
                  </a:lnTo>
                  <a:lnTo>
                    <a:pt x="184" y="510"/>
                  </a:lnTo>
                  <a:lnTo>
                    <a:pt x="186" y="502"/>
                  </a:lnTo>
                  <a:lnTo>
                    <a:pt x="190" y="496"/>
                  </a:lnTo>
                  <a:lnTo>
                    <a:pt x="192" y="492"/>
                  </a:lnTo>
                  <a:lnTo>
                    <a:pt x="196" y="487"/>
                  </a:lnTo>
                  <a:lnTo>
                    <a:pt x="198" y="483"/>
                  </a:lnTo>
                  <a:lnTo>
                    <a:pt x="198" y="479"/>
                  </a:lnTo>
                  <a:lnTo>
                    <a:pt x="200" y="475"/>
                  </a:lnTo>
                  <a:lnTo>
                    <a:pt x="201" y="473"/>
                  </a:lnTo>
                  <a:lnTo>
                    <a:pt x="203" y="468"/>
                  </a:lnTo>
                  <a:lnTo>
                    <a:pt x="205" y="468"/>
                  </a:lnTo>
                  <a:lnTo>
                    <a:pt x="264" y="388"/>
                  </a:lnTo>
                  <a:lnTo>
                    <a:pt x="264" y="386"/>
                  </a:lnTo>
                  <a:lnTo>
                    <a:pt x="272" y="380"/>
                  </a:lnTo>
                  <a:lnTo>
                    <a:pt x="276" y="377"/>
                  </a:lnTo>
                  <a:lnTo>
                    <a:pt x="283" y="369"/>
                  </a:lnTo>
                  <a:lnTo>
                    <a:pt x="287" y="363"/>
                  </a:lnTo>
                  <a:lnTo>
                    <a:pt x="293" y="359"/>
                  </a:lnTo>
                  <a:lnTo>
                    <a:pt x="296" y="354"/>
                  </a:lnTo>
                  <a:lnTo>
                    <a:pt x="302" y="348"/>
                  </a:lnTo>
                  <a:lnTo>
                    <a:pt x="304" y="342"/>
                  </a:lnTo>
                  <a:lnTo>
                    <a:pt x="306" y="339"/>
                  </a:lnTo>
                  <a:lnTo>
                    <a:pt x="310" y="335"/>
                  </a:lnTo>
                  <a:lnTo>
                    <a:pt x="312" y="329"/>
                  </a:lnTo>
                  <a:lnTo>
                    <a:pt x="314" y="323"/>
                  </a:lnTo>
                  <a:lnTo>
                    <a:pt x="314" y="320"/>
                  </a:lnTo>
                  <a:lnTo>
                    <a:pt x="315" y="316"/>
                  </a:lnTo>
                  <a:lnTo>
                    <a:pt x="317" y="310"/>
                  </a:lnTo>
                  <a:lnTo>
                    <a:pt x="319" y="304"/>
                  </a:lnTo>
                  <a:lnTo>
                    <a:pt x="319" y="299"/>
                  </a:lnTo>
                  <a:lnTo>
                    <a:pt x="321" y="293"/>
                  </a:lnTo>
                  <a:lnTo>
                    <a:pt x="321" y="289"/>
                  </a:lnTo>
                  <a:lnTo>
                    <a:pt x="321" y="283"/>
                  </a:lnTo>
                  <a:lnTo>
                    <a:pt x="323" y="278"/>
                  </a:lnTo>
                  <a:lnTo>
                    <a:pt x="323" y="272"/>
                  </a:lnTo>
                  <a:lnTo>
                    <a:pt x="325" y="268"/>
                  </a:lnTo>
                  <a:lnTo>
                    <a:pt x="325" y="263"/>
                  </a:lnTo>
                  <a:lnTo>
                    <a:pt x="325" y="257"/>
                  </a:lnTo>
                  <a:lnTo>
                    <a:pt x="325" y="253"/>
                  </a:lnTo>
                  <a:lnTo>
                    <a:pt x="327" y="247"/>
                  </a:lnTo>
                  <a:lnTo>
                    <a:pt x="327" y="244"/>
                  </a:lnTo>
                  <a:lnTo>
                    <a:pt x="327" y="238"/>
                  </a:lnTo>
                  <a:lnTo>
                    <a:pt x="327" y="234"/>
                  </a:lnTo>
                  <a:lnTo>
                    <a:pt x="327" y="230"/>
                  </a:lnTo>
                  <a:lnTo>
                    <a:pt x="327" y="225"/>
                  </a:lnTo>
                  <a:lnTo>
                    <a:pt x="327" y="221"/>
                  </a:lnTo>
                  <a:lnTo>
                    <a:pt x="327" y="217"/>
                  </a:lnTo>
                  <a:lnTo>
                    <a:pt x="327" y="217"/>
                  </a:lnTo>
                  <a:lnTo>
                    <a:pt x="329" y="215"/>
                  </a:lnTo>
                  <a:lnTo>
                    <a:pt x="333" y="211"/>
                  </a:lnTo>
                  <a:lnTo>
                    <a:pt x="338" y="207"/>
                  </a:lnTo>
                  <a:lnTo>
                    <a:pt x="344" y="202"/>
                  </a:lnTo>
                  <a:lnTo>
                    <a:pt x="348" y="196"/>
                  </a:lnTo>
                  <a:lnTo>
                    <a:pt x="350" y="192"/>
                  </a:lnTo>
                  <a:lnTo>
                    <a:pt x="354" y="187"/>
                  </a:lnTo>
                  <a:lnTo>
                    <a:pt x="355" y="181"/>
                  </a:lnTo>
                  <a:lnTo>
                    <a:pt x="357" y="175"/>
                  </a:lnTo>
                  <a:lnTo>
                    <a:pt x="359" y="169"/>
                  </a:lnTo>
                  <a:lnTo>
                    <a:pt x="361" y="162"/>
                  </a:lnTo>
                  <a:lnTo>
                    <a:pt x="361" y="154"/>
                  </a:lnTo>
                  <a:lnTo>
                    <a:pt x="361" y="147"/>
                  </a:lnTo>
                  <a:lnTo>
                    <a:pt x="361" y="141"/>
                  </a:lnTo>
                  <a:lnTo>
                    <a:pt x="361" y="133"/>
                  </a:lnTo>
                  <a:lnTo>
                    <a:pt x="361" y="130"/>
                  </a:lnTo>
                  <a:lnTo>
                    <a:pt x="359" y="124"/>
                  </a:lnTo>
                  <a:lnTo>
                    <a:pt x="359" y="120"/>
                  </a:lnTo>
                  <a:lnTo>
                    <a:pt x="359" y="116"/>
                  </a:lnTo>
                  <a:lnTo>
                    <a:pt x="359" y="114"/>
                  </a:lnTo>
                  <a:lnTo>
                    <a:pt x="359" y="111"/>
                  </a:lnTo>
                  <a:lnTo>
                    <a:pt x="357" y="109"/>
                  </a:lnTo>
                  <a:lnTo>
                    <a:pt x="354" y="107"/>
                  </a:lnTo>
                  <a:lnTo>
                    <a:pt x="352" y="111"/>
                  </a:lnTo>
                  <a:lnTo>
                    <a:pt x="348" y="111"/>
                  </a:lnTo>
                  <a:lnTo>
                    <a:pt x="346" y="114"/>
                  </a:lnTo>
                  <a:lnTo>
                    <a:pt x="344" y="118"/>
                  </a:lnTo>
                  <a:lnTo>
                    <a:pt x="340" y="124"/>
                  </a:lnTo>
                  <a:lnTo>
                    <a:pt x="336" y="130"/>
                  </a:lnTo>
                  <a:lnTo>
                    <a:pt x="334" y="137"/>
                  </a:lnTo>
                  <a:lnTo>
                    <a:pt x="331" y="143"/>
                  </a:lnTo>
                  <a:lnTo>
                    <a:pt x="327" y="152"/>
                  </a:lnTo>
                  <a:lnTo>
                    <a:pt x="323" y="158"/>
                  </a:lnTo>
                  <a:lnTo>
                    <a:pt x="321" y="166"/>
                  </a:lnTo>
                  <a:lnTo>
                    <a:pt x="317" y="171"/>
                  </a:lnTo>
                  <a:lnTo>
                    <a:pt x="315" y="177"/>
                  </a:lnTo>
                  <a:lnTo>
                    <a:pt x="314" y="181"/>
                  </a:lnTo>
                  <a:lnTo>
                    <a:pt x="312" y="185"/>
                  </a:lnTo>
                  <a:lnTo>
                    <a:pt x="312" y="187"/>
                  </a:lnTo>
                  <a:lnTo>
                    <a:pt x="312" y="188"/>
                  </a:lnTo>
                  <a:lnTo>
                    <a:pt x="312" y="187"/>
                  </a:lnTo>
                  <a:lnTo>
                    <a:pt x="312" y="183"/>
                  </a:lnTo>
                  <a:lnTo>
                    <a:pt x="312" y="177"/>
                  </a:lnTo>
                  <a:lnTo>
                    <a:pt x="312" y="169"/>
                  </a:lnTo>
                  <a:lnTo>
                    <a:pt x="312" y="166"/>
                  </a:lnTo>
                  <a:lnTo>
                    <a:pt x="312" y="160"/>
                  </a:lnTo>
                  <a:lnTo>
                    <a:pt x="312" y="154"/>
                  </a:lnTo>
                  <a:lnTo>
                    <a:pt x="312" y="150"/>
                  </a:lnTo>
                  <a:lnTo>
                    <a:pt x="312" y="143"/>
                  </a:lnTo>
                  <a:lnTo>
                    <a:pt x="312" y="139"/>
                  </a:lnTo>
                  <a:lnTo>
                    <a:pt x="312" y="131"/>
                  </a:lnTo>
                  <a:lnTo>
                    <a:pt x="314" y="128"/>
                  </a:lnTo>
                  <a:lnTo>
                    <a:pt x="312" y="120"/>
                  </a:lnTo>
                  <a:lnTo>
                    <a:pt x="312" y="114"/>
                  </a:lnTo>
                  <a:lnTo>
                    <a:pt x="312" y="107"/>
                  </a:lnTo>
                  <a:lnTo>
                    <a:pt x="312" y="103"/>
                  </a:lnTo>
                  <a:lnTo>
                    <a:pt x="312" y="95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2" y="80"/>
                  </a:lnTo>
                  <a:lnTo>
                    <a:pt x="310" y="73"/>
                  </a:lnTo>
                  <a:lnTo>
                    <a:pt x="310" y="69"/>
                  </a:lnTo>
                  <a:lnTo>
                    <a:pt x="310" y="65"/>
                  </a:lnTo>
                  <a:lnTo>
                    <a:pt x="310" y="61"/>
                  </a:lnTo>
                  <a:lnTo>
                    <a:pt x="308" y="52"/>
                  </a:lnTo>
                  <a:lnTo>
                    <a:pt x="308" y="48"/>
                  </a:lnTo>
                  <a:lnTo>
                    <a:pt x="306" y="44"/>
                  </a:lnTo>
                  <a:lnTo>
                    <a:pt x="302" y="40"/>
                  </a:lnTo>
                  <a:lnTo>
                    <a:pt x="300" y="36"/>
                  </a:lnTo>
                  <a:lnTo>
                    <a:pt x="298" y="33"/>
                  </a:lnTo>
                  <a:lnTo>
                    <a:pt x="295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1" y="25"/>
                  </a:lnTo>
                  <a:lnTo>
                    <a:pt x="277" y="29"/>
                  </a:lnTo>
                  <a:lnTo>
                    <a:pt x="276" y="36"/>
                  </a:lnTo>
                  <a:lnTo>
                    <a:pt x="272" y="40"/>
                  </a:lnTo>
                  <a:lnTo>
                    <a:pt x="270" y="48"/>
                  </a:lnTo>
                  <a:lnTo>
                    <a:pt x="268" y="50"/>
                  </a:lnTo>
                  <a:lnTo>
                    <a:pt x="268" y="55"/>
                  </a:lnTo>
                  <a:lnTo>
                    <a:pt x="268" y="61"/>
                  </a:lnTo>
                  <a:lnTo>
                    <a:pt x="268" y="65"/>
                  </a:lnTo>
                  <a:lnTo>
                    <a:pt x="266" y="71"/>
                  </a:lnTo>
                  <a:lnTo>
                    <a:pt x="264" y="76"/>
                  </a:lnTo>
                  <a:lnTo>
                    <a:pt x="264" y="82"/>
                  </a:lnTo>
                  <a:lnTo>
                    <a:pt x="264" y="88"/>
                  </a:lnTo>
                  <a:lnTo>
                    <a:pt x="262" y="93"/>
                  </a:lnTo>
                  <a:lnTo>
                    <a:pt x="262" y="99"/>
                  </a:lnTo>
                  <a:lnTo>
                    <a:pt x="260" y="105"/>
                  </a:lnTo>
                  <a:lnTo>
                    <a:pt x="260" y="112"/>
                  </a:lnTo>
                  <a:lnTo>
                    <a:pt x="260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8" y="135"/>
                  </a:lnTo>
                  <a:lnTo>
                    <a:pt x="258" y="139"/>
                  </a:lnTo>
                  <a:lnTo>
                    <a:pt x="257" y="143"/>
                  </a:lnTo>
                  <a:lnTo>
                    <a:pt x="257" y="149"/>
                  </a:lnTo>
                  <a:lnTo>
                    <a:pt x="257" y="152"/>
                  </a:lnTo>
                  <a:lnTo>
                    <a:pt x="257" y="160"/>
                  </a:lnTo>
                  <a:lnTo>
                    <a:pt x="257" y="166"/>
                  </a:lnTo>
                  <a:lnTo>
                    <a:pt x="257" y="168"/>
                  </a:lnTo>
                  <a:lnTo>
                    <a:pt x="257" y="169"/>
                  </a:lnTo>
                  <a:lnTo>
                    <a:pt x="257" y="166"/>
                  </a:lnTo>
                  <a:lnTo>
                    <a:pt x="255" y="162"/>
                  </a:lnTo>
                  <a:lnTo>
                    <a:pt x="255" y="156"/>
                  </a:lnTo>
                  <a:lnTo>
                    <a:pt x="253" y="149"/>
                  </a:lnTo>
                  <a:lnTo>
                    <a:pt x="251" y="141"/>
                  </a:lnTo>
                  <a:lnTo>
                    <a:pt x="247" y="133"/>
                  </a:lnTo>
                  <a:lnTo>
                    <a:pt x="247" y="130"/>
                  </a:lnTo>
                  <a:lnTo>
                    <a:pt x="245" y="124"/>
                  </a:lnTo>
                  <a:lnTo>
                    <a:pt x="243" y="120"/>
                  </a:lnTo>
                  <a:lnTo>
                    <a:pt x="243" y="116"/>
                  </a:lnTo>
                  <a:lnTo>
                    <a:pt x="239" y="111"/>
                  </a:lnTo>
                  <a:lnTo>
                    <a:pt x="239" y="107"/>
                  </a:lnTo>
                  <a:lnTo>
                    <a:pt x="238" y="103"/>
                  </a:lnTo>
                  <a:lnTo>
                    <a:pt x="236" y="97"/>
                  </a:lnTo>
                  <a:lnTo>
                    <a:pt x="234" y="93"/>
                  </a:lnTo>
                  <a:lnTo>
                    <a:pt x="232" y="88"/>
                  </a:lnTo>
                  <a:lnTo>
                    <a:pt x="232" y="84"/>
                  </a:lnTo>
                  <a:lnTo>
                    <a:pt x="230" y="82"/>
                  </a:lnTo>
                  <a:lnTo>
                    <a:pt x="226" y="73"/>
                  </a:lnTo>
                  <a:lnTo>
                    <a:pt x="222" y="67"/>
                  </a:lnTo>
                  <a:lnTo>
                    <a:pt x="220" y="61"/>
                  </a:lnTo>
                  <a:lnTo>
                    <a:pt x="219" y="59"/>
                  </a:lnTo>
                  <a:lnTo>
                    <a:pt x="213" y="55"/>
                  </a:lnTo>
                  <a:lnTo>
                    <a:pt x="207" y="52"/>
                  </a:lnTo>
                  <a:lnTo>
                    <a:pt x="201" y="52"/>
                  </a:lnTo>
                  <a:lnTo>
                    <a:pt x="196" y="54"/>
                  </a:lnTo>
                  <a:lnTo>
                    <a:pt x="190" y="57"/>
                  </a:lnTo>
                  <a:lnTo>
                    <a:pt x="186" y="63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4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6" y="92"/>
                  </a:lnTo>
                  <a:lnTo>
                    <a:pt x="186" y="95"/>
                  </a:lnTo>
                  <a:lnTo>
                    <a:pt x="188" y="101"/>
                  </a:lnTo>
                  <a:lnTo>
                    <a:pt x="190" y="105"/>
                  </a:lnTo>
                  <a:lnTo>
                    <a:pt x="190" y="111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6"/>
                  </a:lnTo>
                  <a:lnTo>
                    <a:pt x="196" y="131"/>
                  </a:lnTo>
                  <a:lnTo>
                    <a:pt x="196" y="137"/>
                  </a:lnTo>
                  <a:lnTo>
                    <a:pt x="198" y="143"/>
                  </a:lnTo>
                  <a:lnTo>
                    <a:pt x="200" y="149"/>
                  </a:lnTo>
                  <a:lnTo>
                    <a:pt x="201" y="156"/>
                  </a:lnTo>
                  <a:lnTo>
                    <a:pt x="201" y="160"/>
                  </a:lnTo>
                  <a:lnTo>
                    <a:pt x="203" y="166"/>
                  </a:lnTo>
                  <a:lnTo>
                    <a:pt x="205" y="171"/>
                  </a:lnTo>
                  <a:lnTo>
                    <a:pt x="207" y="177"/>
                  </a:lnTo>
                  <a:lnTo>
                    <a:pt x="207" y="181"/>
                  </a:lnTo>
                  <a:lnTo>
                    <a:pt x="209" y="185"/>
                  </a:lnTo>
                  <a:lnTo>
                    <a:pt x="209" y="190"/>
                  </a:lnTo>
                  <a:lnTo>
                    <a:pt x="211" y="194"/>
                  </a:lnTo>
                  <a:lnTo>
                    <a:pt x="213" y="202"/>
                  </a:lnTo>
                  <a:lnTo>
                    <a:pt x="215" y="207"/>
                  </a:lnTo>
                  <a:lnTo>
                    <a:pt x="217" y="211"/>
                  </a:lnTo>
                  <a:lnTo>
                    <a:pt x="217" y="213"/>
                  </a:lnTo>
                  <a:lnTo>
                    <a:pt x="207" y="261"/>
                  </a:lnTo>
                  <a:lnTo>
                    <a:pt x="205" y="259"/>
                  </a:lnTo>
                  <a:lnTo>
                    <a:pt x="205" y="253"/>
                  </a:lnTo>
                  <a:lnTo>
                    <a:pt x="203" y="249"/>
                  </a:lnTo>
                  <a:lnTo>
                    <a:pt x="201" y="245"/>
                  </a:lnTo>
                  <a:lnTo>
                    <a:pt x="201" y="240"/>
                  </a:lnTo>
                  <a:lnTo>
                    <a:pt x="200" y="236"/>
                  </a:lnTo>
                  <a:lnTo>
                    <a:pt x="198" y="230"/>
                  </a:lnTo>
                  <a:lnTo>
                    <a:pt x="198" y="225"/>
                  </a:lnTo>
                  <a:lnTo>
                    <a:pt x="196" y="217"/>
                  </a:lnTo>
                  <a:lnTo>
                    <a:pt x="194" y="211"/>
                  </a:lnTo>
                  <a:lnTo>
                    <a:pt x="192" y="204"/>
                  </a:lnTo>
                  <a:lnTo>
                    <a:pt x="190" y="196"/>
                  </a:lnTo>
                  <a:lnTo>
                    <a:pt x="188" y="188"/>
                  </a:lnTo>
                  <a:lnTo>
                    <a:pt x="186" y="181"/>
                  </a:lnTo>
                  <a:lnTo>
                    <a:pt x="184" y="173"/>
                  </a:lnTo>
                  <a:lnTo>
                    <a:pt x="182" y="166"/>
                  </a:lnTo>
                  <a:lnTo>
                    <a:pt x="181" y="158"/>
                  </a:lnTo>
                  <a:lnTo>
                    <a:pt x="179" y="150"/>
                  </a:lnTo>
                  <a:lnTo>
                    <a:pt x="177" y="143"/>
                  </a:lnTo>
                  <a:lnTo>
                    <a:pt x="175" y="135"/>
                  </a:lnTo>
                  <a:lnTo>
                    <a:pt x="173" y="130"/>
                  </a:lnTo>
                  <a:lnTo>
                    <a:pt x="173" y="124"/>
                  </a:lnTo>
                  <a:lnTo>
                    <a:pt x="171" y="116"/>
                  </a:lnTo>
                  <a:lnTo>
                    <a:pt x="171" y="111"/>
                  </a:lnTo>
                  <a:lnTo>
                    <a:pt x="169" y="105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69" y="69"/>
                  </a:lnTo>
                  <a:lnTo>
                    <a:pt x="173" y="65"/>
                  </a:lnTo>
                  <a:lnTo>
                    <a:pt x="173" y="61"/>
                  </a:lnTo>
                  <a:lnTo>
                    <a:pt x="177" y="55"/>
                  </a:lnTo>
                  <a:lnTo>
                    <a:pt x="179" y="52"/>
                  </a:lnTo>
                  <a:lnTo>
                    <a:pt x="181" y="48"/>
                  </a:lnTo>
                  <a:lnTo>
                    <a:pt x="186" y="40"/>
                  </a:lnTo>
                  <a:lnTo>
                    <a:pt x="194" y="33"/>
                  </a:lnTo>
                  <a:lnTo>
                    <a:pt x="201" y="29"/>
                  </a:lnTo>
                  <a:lnTo>
                    <a:pt x="209" y="27"/>
                  </a:lnTo>
                  <a:lnTo>
                    <a:pt x="215" y="29"/>
                  </a:lnTo>
                  <a:lnTo>
                    <a:pt x="222" y="35"/>
                  </a:lnTo>
                  <a:lnTo>
                    <a:pt x="226" y="38"/>
                  </a:lnTo>
                  <a:lnTo>
                    <a:pt x="230" y="42"/>
                  </a:lnTo>
                  <a:lnTo>
                    <a:pt x="232" y="48"/>
                  </a:lnTo>
                  <a:lnTo>
                    <a:pt x="236" y="52"/>
                  </a:lnTo>
                  <a:lnTo>
                    <a:pt x="236" y="57"/>
                  </a:lnTo>
                  <a:lnTo>
                    <a:pt x="239" y="61"/>
                  </a:lnTo>
                  <a:lnTo>
                    <a:pt x="239" y="65"/>
                  </a:lnTo>
                  <a:lnTo>
                    <a:pt x="241" y="71"/>
                  </a:lnTo>
                  <a:lnTo>
                    <a:pt x="243" y="76"/>
                  </a:lnTo>
                  <a:lnTo>
                    <a:pt x="245" y="80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1"/>
                  </a:lnTo>
                  <a:lnTo>
                    <a:pt x="247" y="67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3" y="48"/>
                  </a:lnTo>
                  <a:lnTo>
                    <a:pt x="255" y="40"/>
                  </a:lnTo>
                  <a:lnTo>
                    <a:pt x="258" y="33"/>
                  </a:lnTo>
                  <a:lnTo>
                    <a:pt x="260" y="27"/>
                  </a:lnTo>
                  <a:lnTo>
                    <a:pt x="262" y="19"/>
                  </a:lnTo>
                  <a:lnTo>
                    <a:pt x="266" y="14"/>
                  </a:lnTo>
                  <a:lnTo>
                    <a:pt x="268" y="8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7" y="2"/>
                  </a:lnTo>
                  <a:lnTo>
                    <a:pt x="281" y="0"/>
                  </a:lnTo>
                  <a:lnTo>
                    <a:pt x="289" y="2"/>
                  </a:lnTo>
                  <a:lnTo>
                    <a:pt x="295" y="6"/>
                  </a:lnTo>
                  <a:lnTo>
                    <a:pt x="300" y="12"/>
                  </a:lnTo>
                  <a:lnTo>
                    <a:pt x="306" y="17"/>
                  </a:lnTo>
                  <a:lnTo>
                    <a:pt x="310" y="25"/>
                  </a:lnTo>
                  <a:lnTo>
                    <a:pt x="314" y="31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6"/>
                  </a:lnTo>
                  <a:lnTo>
                    <a:pt x="317" y="52"/>
                  </a:lnTo>
                  <a:lnTo>
                    <a:pt x="319" y="59"/>
                  </a:lnTo>
                  <a:lnTo>
                    <a:pt x="319" y="67"/>
                  </a:lnTo>
                  <a:lnTo>
                    <a:pt x="319" y="74"/>
                  </a:lnTo>
                  <a:lnTo>
                    <a:pt x="319" y="82"/>
                  </a:lnTo>
                  <a:lnTo>
                    <a:pt x="319" y="92"/>
                  </a:lnTo>
                  <a:lnTo>
                    <a:pt x="319" y="99"/>
                  </a:lnTo>
                  <a:lnTo>
                    <a:pt x="319" y="107"/>
                  </a:lnTo>
                  <a:lnTo>
                    <a:pt x="319" y="112"/>
                  </a:lnTo>
                  <a:lnTo>
                    <a:pt x="319" y="120"/>
                  </a:lnTo>
                  <a:lnTo>
                    <a:pt x="319" y="124"/>
                  </a:lnTo>
                  <a:lnTo>
                    <a:pt x="319" y="128"/>
                  </a:lnTo>
                  <a:lnTo>
                    <a:pt x="319" y="131"/>
                  </a:lnTo>
                  <a:lnTo>
                    <a:pt x="319" y="131"/>
                  </a:lnTo>
                  <a:lnTo>
                    <a:pt x="319" y="130"/>
                  </a:lnTo>
                  <a:lnTo>
                    <a:pt x="323" y="124"/>
                  </a:lnTo>
                  <a:lnTo>
                    <a:pt x="327" y="118"/>
                  </a:lnTo>
                  <a:lnTo>
                    <a:pt x="334" y="111"/>
                  </a:lnTo>
                  <a:lnTo>
                    <a:pt x="340" y="101"/>
                  </a:lnTo>
                  <a:lnTo>
                    <a:pt x="348" y="95"/>
                  </a:lnTo>
                  <a:lnTo>
                    <a:pt x="355" y="92"/>
                  </a:lnTo>
                  <a:lnTo>
                    <a:pt x="361" y="92"/>
                  </a:lnTo>
                  <a:lnTo>
                    <a:pt x="367" y="93"/>
                  </a:lnTo>
                  <a:lnTo>
                    <a:pt x="371" y="97"/>
                  </a:lnTo>
                  <a:lnTo>
                    <a:pt x="373" y="103"/>
                  </a:lnTo>
                  <a:lnTo>
                    <a:pt x="374" y="111"/>
                  </a:lnTo>
                  <a:lnTo>
                    <a:pt x="374" y="114"/>
                  </a:lnTo>
                  <a:lnTo>
                    <a:pt x="376" y="118"/>
                  </a:lnTo>
                  <a:lnTo>
                    <a:pt x="376" y="124"/>
                  </a:lnTo>
                  <a:lnTo>
                    <a:pt x="376" y="128"/>
                  </a:lnTo>
                  <a:lnTo>
                    <a:pt x="376" y="131"/>
                  </a:lnTo>
                  <a:lnTo>
                    <a:pt x="376" y="137"/>
                  </a:lnTo>
                  <a:lnTo>
                    <a:pt x="376" y="143"/>
                  </a:lnTo>
                  <a:lnTo>
                    <a:pt x="378" y="149"/>
                  </a:lnTo>
                  <a:lnTo>
                    <a:pt x="376" y="152"/>
                  </a:lnTo>
                  <a:lnTo>
                    <a:pt x="376" y="158"/>
                  </a:lnTo>
                  <a:lnTo>
                    <a:pt x="376" y="162"/>
                  </a:lnTo>
                  <a:lnTo>
                    <a:pt x="376" y="168"/>
                  </a:lnTo>
                  <a:lnTo>
                    <a:pt x="376" y="171"/>
                  </a:lnTo>
                  <a:lnTo>
                    <a:pt x="376" y="177"/>
                  </a:lnTo>
                  <a:lnTo>
                    <a:pt x="376" y="181"/>
                  </a:lnTo>
                  <a:lnTo>
                    <a:pt x="376" y="185"/>
                  </a:lnTo>
                  <a:lnTo>
                    <a:pt x="374" y="194"/>
                  </a:lnTo>
                  <a:lnTo>
                    <a:pt x="373" y="200"/>
                  </a:lnTo>
                  <a:lnTo>
                    <a:pt x="371" y="206"/>
                  </a:lnTo>
                  <a:lnTo>
                    <a:pt x="367" y="211"/>
                  </a:lnTo>
                  <a:lnTo>
                    <a:pt x="363" y="213"/>
                  </a:lnTo>
                  <a:lnTo>
                    <a:pt x="359" y="219"/>
                  </a:lnTo>
                  <a:lnTo>
                    <a:pt x="355" y="223"/>
                  </a:lnTo>
                  <a:lnTo>
                    <a:pt x="352" y="226"/>
                  </a:lnTo>
                  <a:lnTo>
                    <a:pt x="346" y="230"/>
                  </a:lnTo>
                  <a:lnTo>
                    <a:pt x="344" y="234"/>
                  </a:lnTo>
                  <a:lnTo>
                    <a:pt x="342" y="234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4"/>
                  </a:lnTo>
                  <a:lnTo>
                    <a:pt x="340" y="247"/>
                  </a:lnTo>
                  <a:lnTo>
                    <a:pt x="340" y="253"/>
                  </a:lnTo>
                  <a:lnTo>
                    <a:pt x="338" y="261"/>
                  </a:lnTo>
                  <a:lnTo>
                    <a:pt x="338" y="266"/>
                  </a:lnTo>
                  <a:lnTo>
                    <a:pt x="336" y="274"/>
                  </a:lnTo>
                  <a:lnTo>
                    <a:pt x="336" y="282"/>
                  </a:lnTo>
                  <a:lnTo>
                    <a:pt x="334" y="289"/>
                  </a:lnTo>
                  <a:lnTo>
                    <a:pt x="334" y="299"/>
                  </a:lnTo>
                  <a:lnTo>
                    <a:pt x="333" y="304"/>
                  </a:lnTo>
                  <a:lnTo>
                    <a:pt x="331" y="314"/>
                  </a:lnTo>
                  <a:lnTo>
                    <a:pt x="331" y="320"/>
                  </a:lnTo>
                  <a:lnTo>
                    <a:pt x="329" y="329"/>
                  </a:lnTo>
                  <a:lnTo>
                    <a:pt x="327" y="335"/>
                  </a:lnTo>
                  <a:lnTo>
                    <a:pt x="327" y="342"/>
                  </a:lnTo>
                  <a:lnTo>
                    <a:pt x="325" y="348"/>
                  </a:lnTo>
                  <a:lnTo>
                    <a:pt x="323" y="354"/>
                  </a:lnTo>
                  <a:lnTo>
                    <a:pt x="321" y="359"/>
                  </a:lnTo>
                  <a:lnTo>
                    <a:pt x="317" y="365"/>
                  </a:lnTo>
                  <a:lnTo>
                    <a:pt x="315" y="369"/>
                  </a:lnTo>
                  <a:lnTo>
                    <a:pt x="314" y="373"/>
                  </a:lnTo>
                  <a:lnTo>
                    <a:pt x="310" y="380"/>
                  </a:lnTo>
                  <a:lnTo>
                    <a:pt x="304" y="388"/>
                  </a:lnTo>
                  <a:lnTo>
                    <a:pt x="300" y="394"/>
                  </a:lnTo>
                  <a:lnTo>
                    <a:pt x="295" y="399"/>
                  </a:lnTo>
                  <a:lnTo>
                    <a:pt x="289" y="403"/>
                  </a:lnTo>
                  <a:lnTo>
                    <a:pt x="285" y="409"/>
                  </a:lnTo>
                  <a:lnTo>
                    <a:pt x="279" y="413"/>
                  </a:lnTo>
                  <a:lnTo>
                    <a:pt x="274" y="416"/>
                  </a:lnTo>
                  <a:lnTo>
                    <a:pt x="270" y="418"/>
                  </a:lnTo>
                  <a:lnTo>
                    <a:pt x="266" y="422"/>
                  </a:lnTo>
                  <a:lnTo>
                    <a:pt x="264" y="422"/>
                  </a:lnTo>
                  <a:lnTo>
                    <a:pt x="264" y="424"/>
                  </a:lnTo>
                  <a:lnTo>
                    <a:pt x="224" y="481"/>
                  </a:lnTo>
                  <a:lnTo>
                    <a:pt x="222" y="483"/>
                  </a:lnTo>
                  <a:lnTo>
                    <a:pt x="220" y="489"/>
                  </a:lnTo>
                  <a:lnTo>
                    <a:pt x="219" y="491"/>
                  </a:lnTo>
                  <a:lnTo>
                    <a:pt x="217" y="494"/>
                  </a:lnTo>
                  <a:lnTo>
                    <a:pt x="215" y="500"/>
                  </a:lnTo>
                  <a:lnTo>
                    <a:pt x="213" y="506"/>
                  </a:lnTo>
                  <a:lnTo>
                    <a:pt x="209" y="510"/>
                  </a:lnTo>
                  <a:lnTo>
                    <a:pt x="207" y="517"/>
                  </a:lnTo>
                  <a:lnTo>
                    <a:pt x="203" y="523"/>
                  </a:lnTo>
                  <a:lnTo>
                    <a:pt x="200" y="532"/>
                  </a:lnTo>
                  <a:lnTo>
                    <a:pt x="196" y="538"/>
                  </a:lnTo>
                  <a:lnTo>
                    <a:pt x="192" y="546"/>
                  </a:lnTo>
                  <a:lnTo>
                    <a:pt x="188" y="553"/>
                  </a:lnTo>
                  <a:lnTo>
                    <a:pt x="184" y="563"/>
                  </a:lnTo>
                  <a:lnTo>
                    <a:pt x="179" y="568"/>
                  </a:lnTo>
                  <a:lnTo>
                    <a:pt x="175" y="578"/>
                  </a:lnTo>
                  <a:lnTo>
                    <a:pt x="169" y="586"/>
                  </a:lnTo>
                  <a:lnTo>
                    <a:pt x="165" y="595"/>
                  </a:lnTo>
                  <a:lnTo>
                    <a:pt x="160" y="603"/>
                  </a:lnTo>
                  <a:lnTo>
                    <a:pt x="154" y="610"/>
                  </a:lnTo>
                  <a:lnTo>
                    <a:pt x="148" y="618"/>
                  </a:lnTo>
                  <a:lnTo>
                    <a:pt x="144" y="626"/>
                  </a:lnTo>
                  <a:lnTo>
                    <a:pt x="137" y="631"/>
                  </a:lnTo>
                  <a:lnTo>
                    <a:pt x="131" y="639"/>
                  </a:lnTo>
                  <a:lnTo>
                    <a:pt x="125" y="645"/>
                  </a:lnTo>
                  <a:lnTo>
                    <a:pt x="120" y="652"/>
                  </a:lnTo>
                  <a:lnTo>
                    <a:pt x="114" y="656"/>
                  </a:lnTo>
                  <a:lnTo>
                    <a:pt x="108" y="662"/>
                  </a:lnTo>
                  <a:lnTo>
                    <a:pt x="103" y="665"/>
                  </a:lnTo>
                  <a:lnTo>
                    <a:pt x="99" y="671"/>
                  </a:lnTo>
                  <a:lnTo>
                    <a:pt x="91" y="673"/>
                  </a:lnTo>
                  <a:lnTo>
                    <a:pt x="85" y="677"/>
                  </a:lnTo>
                  <a:lnTo>
                    <a:pt x="80" y="679"/>
                  </a:lnTo>
                  <a:lnTo>
                    <a:pt x="76" y="681"/>
                  </a:lnTo>
                  <a:lnTo>
                    <a:pt x="70" y="683"/>
                  </a:lnTo>
                  <a:lnTo>
                    <a:pt x="66" y="684"/>
                  </a:lnTo>
                  <a:lnTo>
                    <a:pt x="61" y="686"/>
                  </a:lnTo>
                  <a:lnTo>
                    <a:pt x="57" y="690"/>
                  </a:lnTo>
                  <a:lnTo>
                    <a:pt x="53" y="690"/>
                  </a:lnTo>
                  <a:lnTo>
                    <a:pt x="49" y="692"/>
                  </a:lnTo>
                  <a:lnTo>
                    <a:pt x="46" y="692"/>
                  </a:lnTo>
                  <a:lnTo>
                    <a:pt x="42" y="694"/>
                  </a:lnTo>
                  <a:lnTo>
                    <a:pt x="34" y="696"/>
                  </a:lnTo>
                  <a:lnTo>
                    <a:pt x="30" y="698"/>
                  </a:lnTo>
                  <a:lnTo>
                    <a:pt x="23" y="698"/>
                  </a:lnTo>
                  <a:lnTo>
                    <a:pt x="19" y="698"/>
                  </a:lnTo>
                  <a:lnTo>
                    <a:pt x="15" y="698"/>
                  </a:lnTo>
                  <a:lnTo>
                    <a:pt x="13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0" y="645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2920" y="6351840"/>
              <a:ext cx="589680" cy="349200"/>
            </a:xfrm>
            <a:custGeom>
              <a:avLst/>
              <a:gdLst/>
              <a:ahLst/>
              <a:rect l="l" t="t" r="r" b="b"/>
              <a:pathLst>
                <a:path w="663" h="441">
                  <a:moveTo>
                    <a:pt x="23" y="42"/>
                  </a:moveTo>
                  <a:lnTo>
                    <a:pt x="205" y="274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5" y="284"/>
                  </a:lnTo>
                  <a:lnTo>
                    <a:pt x="205" y="291"/>
                  </a:lnTo>
                  <a:lnTo>
                    <a:pt x="205" y="295"/>
                  </a:lnTo>
                  <a:lnTo>
                    <a:pt x="207" y="301"/>
                  </a:lnTo>
                  <a:lnTo>
                    <a:pt x="207" y="305"/>
                  </a:lnTo>
                  <a:lnTo>
                    <a:pt x="209" y="310"/>
                  </a:lnTo>
                  <a:lnTo>
                    <a:pt x="209" y="314"/>
                  </a:lnTo>
                  <a:lnTo>
                    <a:pt x="209" y="322"/>
                  </a:lnTo>
                  <a:lnTo>
                    <a:pt x="211" y="327"/>
                  </a:lnTo>
                  <a:lnTo>
                    <a:pt x="213" y="333"/>
                  </a:lnTo>
                  <a:lnTo>
                    <a:pt x="213" y="339"/>
                  </a:lnTo>
                  <a:lnTo>
                    <a:pt x="215" y="343"/>
                  </a:lnTo>
                  <a:lnTo>
                    <a:pt x="216" y="348"/>
                  </a:lnTo>
                  <a:lnTo>
                    <a:pt x="218" y="356"/>
                  </a:lnTo>
                  <a:lnTo>
                    <a:pt x="220" y="360"/>
                  </a:lnTo>
                  <a:lnTo>
                    <a:pt x="222" y="365"/>
                  </a:lnTo>
                  <a:lnTo>
                    <a:pt x="224" y="371"/>
                  </a:lnTo>
                  <a:lnTo>
                    <a:pt x="226" y="377"/>
                  </a:lnTo>
                  <a:lnTo>
                    <a:pt x="230" y="381"/>
                  </a:lnTo>
                  <a:lnTo>
                    <a:pt x="232" y="386"/>
                  </a:lnTo>
                  <a:lnTo>
                    <a:pt x="234" y="390"/>
                  </a:lnTo>
                  <a:lnTo>
                    <a:pt x="237" y="394"/>
                  </a:lnTo>
                  <a:lnTo>
                    <a:pt x="241" y="398"/>
                  </a:lnTo>
                  <a:lnTo>
                    <a:pt x="245" y="401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7"/>
                  </a:lnTo>
                  <a:lnTo>
                    <a:pt x="262" y="409"/>
                  </a:lnTo>
                  <a:lnTo>
                    <a:pt x="266" y="409"/>
                  </a:lnTo>
                  <a:lnTo>
                    <a:pt x="273" y="409"/>
                  </a:lnTo>
                  <a:lnTo>
                    <a:pt x="277" y="407"/>
                  </a:lnTo>
                  <a:lnTo>
                    <a:pt x="283" y="407"/>
                  </a:lnTo>
                  <a:lnTo>
                    <a:pt x="291" y="405"/>
                  </a:lnTo>
                  <a:lnTo>
                    <a:pt x="296" y="403"/>
                  </a:lnTo>
                  <a:lnTo>
                    <a:pt x="304" y="401"/>
                  </a:lnTo>
                  <a:lnTo>
                    <a:pt x="310" y="398"/>
                  </a:lnTo>
                  <a:lnTo>
                    <a:pt x="317" y="396"/>
                  </a:lnTo>
                  <a:lnTo>
                    <a:pt x="325" y="392"/>
                  </a:lnTo>
                  <a:lnTo>
                    <a:pt x="331" y="388"/>
                  </a:lnTo>
                  <a:lnTo>
                    <a:pt x="338" y="384"/>
                  </a:lnTo>
                  <a:lnTo>
                    <a:pt x="346" y="381"/>
                  </a:lnTo>
                  <a:lnTo>
                    <a:pt x="353" y="377"/>
                  </a:lnTo>
                  <a:lnTo>
                    <a:pt x="359" y="373"/>
                  </a:lnTo>
                  <a:lnTo>
                    <a:pt x="365" y="369"/>
                  </a:lnTo>
                  <a:lnTo>
                    <a:pt x="370" y="363"/>
                  </a:lnTo>
                  <a:lnTo>
                    <a:pt x="378" y="360"/>
                  </a:lnTo>
                  <a:lnTo>
                    <a:pt x="384" y="356"/>
                  </a:lnTo>
                  <a:lnTo>
                    <a:pt x="389" y="352"/>
                  </a:lnTo>
                  <a:lnTo>
                    <a:pt x="395" y="348"/>
                  </a:lnTo>
                  <a:lnTo>
                    <a:pt x="401" y="346"/>
                  </a:lnTo>
                  <a:lnTo>
                    <a:pt x="405" y="341"/>
                  </a:lnTo>
                  <a:lnTo>
                    <a:pt x="408" y="339"/>
                  </a:lnTo>
                  <a:lnTo>
                    <a:pt x="412" y="335"/>
                  </a:lnTo>
                  <a:lnTo>
                    <a:pt x="416" y="333"/>
                  </a:lnTo>
                  <a:lnTo>
                    <a:pt x="422" y="327"/>
                  </a:lnTo>
                  <a:lnTo>
                    <a:pt x="426" y="327"/>
                  </a:lnTo>
                  <a:lnTo>
                    <a:pt x="429" y="324"/>
                  </a:lnTo>
                  <a:lnTo>
                    <a:pt x="435" y="320"/>
                  </a:lnTo>
                  <a:lnTo>
                    <a:pt x="439" y="316"/>
                  </a:lnTo>
                  <a:lnTo>
                    <a:pt x="445" y="314"/>
                  </a:lnTo>
                  <a:lnTo>
                    <a:pt x="448" y="310"/>
                  </a:lnTo>
                  <a:lnTo>
                    <a:pt x="456" y="306"/>
                  </a:lnTo>
                  <a:lnTo>
                    <a:pt x="462" y="303"/>
                  </a:lnTo>
                  <a:lnTo>
                    <a:pt x="469" y="299"/>
                  </a:lnTo>
                  <a:lnTo>
                    <a:pt x="475" y="293"/>
                  </a:lnTo>
                  <a:lnTo>
                    <a:pt x="483" y="289"/>
                  </a:lnTo>
                  <a:lnTo>
                    <a:pt x="490" y="284"/>
                  </a:lnTo>
                  <a:lnTo>
                    <a:pt x="500" y="280"/>
                  </a:lnTo>
                  <a:lnTo>
                    <a:pt x="507" y="274"/>
                  </a:lnTo>
                  <a:lnTo>
                    <a:pt x="515" y="268"/>
                  </a:lnTo>
                  <a:lnTo>
                    <a:pt x="524" y="263"/>
                  </a:lnTo>
                  <a:lnTo>
                    <a:pt x="532" y="257"/>
                  </a:lnTo>
                  <a:lnTo>
                    <a:pt x="540" y="251"/>
                  </a:lnTo>
                  <a:lnTo>
                    <a:pt x="547" y="244"/>
                  </a:lnTo>
                  <a:lnTo>
                    <a:pt x="555" y="238"/>
                  </a:lnTo>
                  <a:lnTo>
                    <a:pt x="562" y="230"/>
                  </a:lnTo>
                  <a:lnTo>
                    <a:pt x="570" y="225"/>
                  </a:lnTo>
                  <a:lnTo>
                    <a:pt x="576" y="219"/>
                  </a:lnTo>
                  <a:lnTo>
                    <a:pt x="581" y="211"/>
                  </a:lnTo>
                  <a:lnTo>
                    <a:pt x="587" y="206"/>
                  </a:lnTo>
                  <a:lnTo>
                    <a:pt x="593" y="198"/>
                  </a:lnTo>
                  <a:lnTo>
                    <a:pt x="597" y="192"/>
                  </a:lnTo>
                  <a:lnTo>
                    <a:pt x="600" y="185"/>
                  </a:lnTo>
                  <a:lnTo>
                    <a:pt x="604" y="179"/>
                  </a:lnTo>
                  <a:lnTo>
                    <a:pt x="606" y="173"/>
                  </a:lnTo>
                  <a:lnTo>
                    <a:pt x="608" y="168"/>
                  </a:lnTo>
                  <a:lnTo>
                    <a:pt x="608" y="160"/>
                  </a:lnTo>
                  <a:lnTo>
                    <a:pt x="608" y="154"/>
                  </a:lnTo>
                  <a:lnTo>
                    <a:pt x="608" y="151"/>
                  </a:lnTo>
                  <a:lnTo>
                    <a:pt x="608" y="147"/>
                  </a:lnTo>
                  <a:lnTo>
                    <a:pt x="608" y="139"/>
                  </a:lnTo>
                  <a:lnTo>
                    <a:pt x="606" y="132"/>
                  </a:lnTo>
                  <a:lnTo>
                    <a:pt x="602" y="126"/>
                  </a:lnTo>
                  <a:lnTo>
                    <a:pt x="599" y="124"/>
                  </a:lnTo>
                  <a:lnTo>
                    <a:pt x="595" y="122"/>
                  </a:lnTo>
                  <a:lnTo>
                    <a:pt x="591" y="120"/>
                  </a:lnTo>
                  <a:lnTo>
                    <a:pt x="583" y="118"/>
                  </a:lnTo>
                  <a:lnTo>
                    <a:pt x="578" y="118"/>
                  </a:lnTo>
                  <a:lnTo>
                    <a:pt x="570" y="120"/>
                  </a:lnTo>
                  <a:lnTo>
                    <a:pt x="562" y="120"/>
                  </a:lnTo>
                  <a:lnTo>
                    <a:pt x="559" y="120"/>
                  </a:lnTo>
                  <a:lnTo>
                    <a:pt x="553" y="122"/>
                  </a:lnTo>
                  <a:lnTo>
                    <a:pt x="549" y="122"/>
                  </a:lnTo>
                  <a:lnTo>
                    <a:pt x="545" y="122"/>
                  </a:lnTo>
                  <a:lnTo>
                    <a:pt x="540" y="122"/>
                  </a:lnTo>
                  <a:lnTo>
                    <a:pt x="536" y="122"/>
                  </a:lnTo>
                  <a:lnTo>
                    <a:pt x="532" y="122"/>
                  </a:lnTo>
                  <a:lnTo>
                    <a:pt x="526" y="124"/>
                  </a:lnTo>
                  <a:lnTo>
                    <a:pt x="521" y="124"/>
                  </a:lnTo>
                  <a:lnTo>
                    <a:pt x="515" y="124"/>
                  </a:lnTo>
                  <a:lnTo>
                    <a:pt x="509" y="124"/>
                  </a:lnTo>
                  <a:lnTo>
                    <a:pt x="504" y="126"/>
                  </a:lnTo>
                  <a:lnTo>
                    <a:pt x="494" y="126"/>
                  </a:lnTo>
                  <a:lnTo>
                    <a:pt x="488" y="128"/>
                  </a:lnTo>
                  <a:lnTo>
                    <a:pt x="481" y="130"/>
                  </a:lnTo>
                  <a:lnTo>
                    <a:pt x="473" y="132"/>
                  </a:lnTo>
                  <a:lnTo>
                    <a:pt x="465" y="134"/>
                  </a:lnTo>
                  <a:lnTo>
                    <a:pt x="458" y="135"/>
                  </a:lnTo>
                  <a:lnTo>
                    <a:pt x="448" y="137"/>
                  </a:lnTo>
                  <a:lnTo>
                    <a:pt x="441" y="139"/>
                  </a:lnTo>
                  <a:lnTo>
                    <a:pt x="437" y="141"/>
                  </a:lnTo>
                  <a:lnTo>
                    <a:pt x="431" y="143"/>
                  </a:lnTo>
                  <a:lnTo>
                    <a:pt x="427" y="143"/>
                  </a:lnTo>
                  <a:lnTo>
                    <a:pt x="424" y="145"/>
                  </a:lnTo>
                  <a:lnTo>
                    <a:pt x="416" y="147"/>
                  </a:lnTo>
                  <a:lnTo>
                    <a:pt x="408" y="151"/>
                  </a:lnTo>
                  <a:lnTo>
                    <a:pt x="399" y="153"/>
                  </a:lnTo>
                  <a:lnTo>
                    <a:pt x="391" y="154"/>
                  </a:lnTo>
                  <a:lnTo>
                    <a:pt x="384" y="158"/>
                  </a:lnTo>
                  <a:lnTo>
                    <a:pt x="378" y="160"/>
                  </a:lnTo>
                  <a:lnTo>
                    <a:pt x="370" y="162"/>
                  </a:lnTo>
                  <a:lnTo>
                    <a:pt x="363" y="164"/>
                  </a:lnTo>
                  <a:lnTo>
                    <a:pt x="357" y="166"/>
                  </a:lnTo>
                  <a:lnTo>
                    <a:pt x="353" y="168"/>
                  </a:lnTo>
                  <a:lnTo>
                    <a:pt x="346" y="170"/>
                  </a:lnTo>
                  <a:lnTo>
                    <a:pt x="342" y="172"/>
                  </a:lnTo>
                  <a:lnTo>
                    <a:pt x="338" y="173"/>
                  </a:lnTo>
                  <a:lnTo>
                    <a:pt x="334" y="175"/>
                  </a:lnTo>
                  <a:lnTo>
                    <a:pt x="331" y="175"/>
                  </a:lnTo>
                  <a:lnTo>
                    <a:pt x="329" y="177"/>
                  </a:lnTo>
                  <a:lnTo>
                    <a:pt x="123" y="6"/>
                  </a:lnTo>
                  <a:lnTo>
                    <a:pt x="142" y="0"/>
                  </a:lnTo>
                  <a:lnTo>
                    <a:pt x="350" y="149"/>
                  </a:lnTo>
                  <a:lnTo>
                    <a:pt x="350" y="147"/>
                  </a:lnTo>
                  <a:lnTo>
                    <a:pt x="355" y="147"/>
                  </a:lnTo>
                  <a:lnTo>
                    <a:pt x="357" y="145"/>
                  </a:lnTo>
                  <a:lnTo>
                    <a:pt x="363" y="143"/>
                  </a:lnTo>
                  <a:lnTo>
                    <a:pt x="367" y="141"/>
                  </a:lnTo>
                  <a:lnTo>
                    <a:pt x="372" y="139"/>
                  </a:lnTo>
                  <a:lnTo>
                    <a:pt x="378" y="135"/>
                  </a:lnTo>
                  <a:lnTo>
                    <a:pt x="384" y="134"/>
                  </a:lnTo>
                  <a:lnTo>
                    <a:pt x="391" y="132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14" y="124"/>
                  </a:lnTo>
                  <a:lnTo>
                    <a:pt x="418" y="122"/>
                  </a:lnTo>
                  <a:lnTo>
                    <a:pt x="424" y="122"/>
                  </a:lnTo>
                  <a:lnTo>
                    <a:pt x="427" y="120"/>
                  </a:lnTo>
                  <a:lnTo>
                    <a:pt x="431" y="118"/>
                  </a:lnTo>
                  <a:lnTo>
                    <a:pt x="437" y="116"/>
                  </a:lnTo>
                  <a:lnTo>
                    <a:pt x="441" y="116"/>
                  </a:lnTo>
                  <a:lnTo>
                    <a:pt x="445" y="115"/>
                  </a:lnTo>
                  <a:lnTo>
                    <a:pt x="450" y="113"/>
                  </a:lnTo>
                  <a:lnTo>
                    <a:pt x="454" y="111"/>
                  </a:lnTo>
                  <a:lnTo>
                    <a:pt x="460" y="111"/>
                  </a:lnTo>
                  <a:lnTo>
                    <a:pt x="464" y="109"/>
                  </a:lnTo>
                  <a:lnTo>
                    <a:pt x="469" y="109"/>
                  </a:lnTo>
                  <a:lnTo>
                    <a:pt x="473" y="107"/>
                  </a:lnTo>
                  <a:lnTo>
                    <a:pt x="479" y="105"/>
                  </a:lnTo>
                  <a:lnTo>
                    <a:pt x="483" y="105"/>
                  </a:lnTo>
                  <a:lnTo>
                    <a:pt x="488" y="103"/>
                  </a:lnTo>
                  <a:lnTo>
                    <a:pt x="492" y="101"/>
                  </a:lnTo>
                  <a:lnTo>
                    <a:pt x="498" y="101"/>
                  </a:lnTo>
                  <a:lnTo>
                    <a:pt x="504" y="101"/>
                  </a:lnTo>
                  <a:lnTo>
                    <a:pt x="507" y="101"/>
                  </a:lnTo>
                  <a:lnTo>
                    <a:pt x="513" y="99"/>
                  </a:lnTo>
                  <a:lnTo>
                    <a:pt x="517" y="97"/>
                  </a:lnTo>
                  <a:lnTo>
                    <a:pt x="523" y="97"/>
                  </a:lnTo>
                  <a:lnTo>
                    <a:pt x="528" y="97"/>
                  </a:lnTo>
                  <a:lnTo>
                    <a:pt x="532" y="97"/>
                  </a:lnTo>
                  <a:lnTo>
                    <a:pt x="536" y="96"/>
                  </a:lnTo>
                  <a:lnTo>
                    <a:pt x="542" y="96"/>
                  </a:lnTo>
                  <a:lnTo>
                    <a:pt x="547" y="96"/>
                  </a:lnTo>
                  <a:lnTo>
                    <a:pt x="551" y="96"/>
                  </a:lnTo>
                  <a:lnTo>
                    <a:pt x="555" y="96"/>
                  </a:lnTo>
                  <a:lnTo>
                    <a:pt x="561" y="96"/>
                  </a:lnTo>
                  <a:lnTo>
                    <a:pt x="564" y="96"/>
                  </a:lnTo>
                  <a:lnTo>
                    <a:pt x="570" y="96"/>
                  </a:lnTo>
                  <a:lnTo>
                    <a:pt x="574" y="96"/>
                  </a:lnTo>
                  <a:lnTo>
                    <a:pt x="578" y="97"/>
                  </a:lnTo>
                  <a:lnTo>
                    <a:pt x="583" y="97"/>
                  </a:lnTo>
                  <a:lnTo>
                    <a:pt x="591" y="97"/>
                  </a:lnTo>
                  <a:lnTo>
                    <a:pt x="599" y="99"/>
                  </a:lnTo>
                  <a:lnTo>
                    <a:pt x="604" y="99"/>
                  </a:lnTo>
                  <a:lnTo>
                    <a:pt x="612" y="101"/>
                  </a:lnTo>
                  <a:lnTo>
                    <a:pt x="618" y="103"/>
                  </a:lnTo>
                  <a:lnTo>
                    <a:pt x="623" y="105"/>
                  </a:lnTo>
                  <a:lnTo>
                    <a:pt x="629" y="107"/>
                  </a:lnTo>
                  <a:lnTo>
                    <a:pt x="635" y="111"/>
                  </a:lnTo>
                  <a:lnTo>
                    <a:pt x="639" y="113"/>
                  </a:lnTo>
                  <a:lnTo>
                    <a:pt x="642" y="115"/>
                  </a:lnTo>
                  <a:lnTo>
                    <a:pt x="644" y="118"/>
                  </a:lnTo>
                  <a:lnTo>
                    <a:pt x="648" y="122"/>
                  </a:lnTo>
                  <a:lnTo>
                    <a:pt x="654" y="128"/>
                  </a:lnTo>
                  <a:lnTo>
                    <a:pt x="659" y="135"/>
                  </a:lnTo>
                  <a:lnTo>
                    <a:pt x="661" y="143"/>
                  </a:lnTo>
                  <a:lnTo>
                    <a:pt x="661" y="151"/>
                  </a:lnTo>
                  <a:lnTo>
                    <a:pt x="661" y="158"/>
                  </a:lnTo>
                  <a:lnTo>
                    <a:pt x="663" y="168"/>
                  </a:lnTo>
                  <a:lnTo>
                    <a:pt x="661" y="173"/>
                  </a:lnTo>
                  <a:lnTo>
                    <a:pt x="659" y="183"/>
                  </a:lnTo>
                  <a:lnTo>
                    <a:pt x="658" y="189"/>
                  </a:lnTo>
                  <a:lnTo>
                    <a:pt x="656" y="198"/>
                  </a:lnTo>
                  <a:lnTo>
                    <a:pt x="652" y="200"/>
                  </a:lnTo>
                  <a:lnTo>
                    <a:pt x="650" y="206"/>
                  </a:lnTo>
                  <a:lnTo>
                    <a:pt x="646" y="210"/>
                  </a:lnTo>
                  <a:lnTo>
                    <a:pt x="642" y="215"/>
                  </a:lnTo>
                  <a:lnTo>
                    <a:pt x="637" y="219"/>
                  </a:lnTo>
                  <a:lnTo>
                    <a:pt x="633" y="225"/>
                  </a:lnTo>
                  <a:lnTo>
                    <a:pt x="627" y="230"/>
                  </a:lnTo>
                  <a:lnTo>
                    <a:pt x="621" y="236"/>
                  </a:lnTo>
                  <a:lnTo>
                    <a:pt x="616" y="240"/>
                  </a:lnTo>
                  <a:lnTo>
                    <a:pt x="608" y="246"/>
                  </a:lnTo>
                  <a:lnTo>
                    <a:pt x="600" y="251"/>
                  </a:lnTo>
                  <a:lnTo>
                    <a:pt x="593" y="259"/>
                  </a:lnTo>
                  <a:lnTo>
                    <a:pt x="585" y="263"/>
                  </a:lnTo>
                  <a:lnTo>
                    <a:pt x="578" y="270"/>
                  </a:lnTo>
                  <a:lnTo>
                    <a:pt x="568" y="276"/>
                  </a:lnTo>
                  <a:lnTo>
                    <a:pt x="561" y="284"/>
                  </a:lnTo>
                  <a:lnTo>
                    <a:pt x="557" y="286"/>
                  </a:lnTo>
                  <a:lnTo>
                    <a:pt x="551" y="287"/>
                  </a:lnTo>
                  <a:lnTo>
                    <a:pt x="547" y="291"/>
                  </a:lnTo>
                  <a:lnTo>
                    <a:pt x="543" y="295"/>
                  </a:lnTo>
                  <a:lnTo>
                    <a:pt x="538" y="297"/>
                  </a:lnTo>
                  <a:lnTo>
                    <a:pt x="534" y="301"/>
                  </a:lnTo>
                  <a:lnTo>
                    <a:pt x="528" y="303"/>
                  </a:lnTo>
                  <a:lnTo>
                    <a:pt x="524" y="306"/>
                  </a:lnTo>
                  <a:lnTo>
                    <a:pt x="521" y="308"/>
                  </a:lnTo>
                  <a:lnTo>
                    <a:pt x="515" y="312"/>
                  </a:lnTo>
                  <a:lnTo>
                    <a:pt x="511" y="314"/>
                  </a:lnTo>
                  <a:lnTo>
                    <a:pt x="507" y="318"/>
                  </a:lnTo>
                  <a:lnTo>
                    <a:pt x="498" y="322"/>
                  </a:lnTo>
                  <a:lnTo>
                    <a:pt x="490" y="329"/>
                  </a:lnTo>
                  <a:lnTo>
                    <a:pt x="486" y="331"/>
                  </a:lnTo>
                  <a:lnTo>
                    <a:pt x="481" y="333"/>
                  </a:lnTo>
                  <a:lnTo>
                    <a:pt x="479" y="335"/>
                  </a:lnTo>
                  <a:lnTo>
                    <a:pt x="475" y="339"/>
                  </a:lnTo>
                  <a:lnTo>
                    <a:pt x="465" y="343"/>
                  </a:lnTo>
                  <a:lnTo>
                    <a:pt x="460" y="346"/>
                  </a:lnTo>
                  <a:lnTo>
                    <a:pt x="452" y="350"/>
                  </a:lnTo>
                  <a:lnTo>
                    <a:pt x="445" y="356"/>
                  </a:lnTo>
                  <a:lnTo>
                    <a:pt x="439" y="360"/>
                  </a:lnTo>
                  <a:lnTo>
                    <a:pt x="433" y="363"/>
                  </a:lnTo>
                  <a:lnTo>
                    <a:pt x="429" y="363"/>
                  </a:lnTo>
                  <a:lnTo>
                    <a:pt x="424" y="367"/>
                  </a:lnTo>
                  <a:lnTo>
                    <a:pt x="420" y="369"/>
                  </a:lnTo>
                  <a:lnTo>
                    <a:pt x="416" y="373"/>
                  </a:lnTo>
                  <a:lnTo>
                    <a:pt x="412" y="375"/>
                  </a:lnTo>
                  <a:lnTo>
                    <a:pt x="408" y="379"/>
                  </a:lnTo>
                  <a:lnTo>
                    <a:pt x="403" y="381"/>
                  </a:lnTo>
                  <a:lnTo>
                    <a:pt x="399" y="384"/>
                  </a:lnTo>
                  <a:lnTo>
                    <a:pt x="393" y="388"/>
                  </a:lnTo>
                  <a:lnTo>
                    <a:pt x="388" y="392"/>
                  </a:lnTo>
                  <a:lnTo>
                    <a:pt x="382" y="396"/>
                  </a:lnTo>
                  <a:lnTo>
                    <a:pt x="376" y="400"/>
                  </a:lnTo>
                  <a:lnTo>
                    <a:pt x="370" y="403"/>
                  </a:lnTo>
                  <a:lnTo>
                    <a:pt x="365" y="407"/>
                  </a:lnTo>
                  <a:lnTo>
                    <a:pt x="357" y="411"/>
                  </a:lnTo>
                  <a:lnTo>
                    <a:pt x="351" y="415"/>
                  </a:lnTo>
                  <a:lnTo>
                    <a:pt x="346" y="417"/>
                  </a:lnTo>
                  <a:lnTo>
                    <a:pt x="340" y="420"/>
                  </a:lnTo>
                  <a:lnTo>
                    <a:pt x="332" y="424"/>
                  </a:lnTo>
                  <a:lnTo>
                    <a:pt x="327" y="426"/>
                  </a:lnTo>
                  <a:lnTo>
                    <a:pt x="321" y="430"/>
                  </a:lnTo>
                  <a:lnTo>
                    <a:pt x="315" y="432"/>
                  </a:lnTo>
                  <a:lnTo>
                    <a:pt x="308" y="434"/>
                  </a:lnTo>
                  <a:lnTo>
                    <a:pt x="304" y="436"/>
                  </a:lnTo>
                  <a:lnTo>
                    <a:pt x="296" y="438"/>
                  </a:lnTo>
                  <a:lnTo>
                    <a:pt x="292" y="439"/>
                  </a:lnTo>
                  <a:lnTo>
                    <a:pt x="287" y="439"/>
                  </a:lnTo>
                  <a:lnTo>
                    <a:pt x="283" y="441"/>
                  </a:lnTo>
                  <a:lnTo>
                    <a:pt x="279" y="441"/>
                  </a:lnTo>
                  <a:lnTo>
                    <a:pt x="275" y="441"/>
                  </a:lnTo>
                  <a:lnTo>
                    <a:pt x="266" y="438"/>
                  </a:lnTo>
                  <a:lnTo>
                    <a:pt x="258" y="436"/>
                  </a:lnTo>
                  <a:lnTo>
                    <a:pt x="251" y="434"/>
                  </a:lnTo>
                  <a:lnTo>
                    <a:pt x="245" y="430"/>
                  </a:lnTo>
                  <a:lnTo>
                    <a:pt x="237" y="426"/>
                  </a:lnTo>
                  <a:lnTo>
                    <a:pt x="230" y="422"/>
                  </a:lnTo>
                  <a:lnTo>
                    <a:pt x="222" y="417"/>
                  </a:lnTo>
                  <a:lnTo>
                    <a:pt x="216" y="411"/>
                  </a:lnTo>
                  <a:lnTo>
                    <a:pt x="211" y="405"/>
                  </a:lnTo>
                  <a:lnTo>
                    <a:pt x="205" y="400"/>
                  </a:lnTo>
                  <a:lnTo>
                    <a:pt x="201" y="392"/>
                  </a:lnTo>
                  <a:lnTo>
                    <a:pt x="197" y="388"/>
                  </a:lnTo>
                  <a:lnTo>
                    <a:pt x="192" y="381"/>
                  </a:lnTo>
                  <a:lnTo>
                    <a:pt x="190" y="375"/>
                  </a:lnTo>
                  <a:lnTo>
                    <a:pt x="188" y="369"/>
                  </a:lnTo>
                  <a:lnTo>
                    <a:pt x="188" y="363"/>
                  </a:lnTo>
                  <a:lnTo>
                    <a:pt x="186" y="358"/>
                  </a:lnTo>
                  <a:lnTo>
                    <a:pt x="184" y="350"/>
                  </a:lnTo>
                  <a:lnTo>
                    <a:pt x="184" y="343"/>
                  </a:lnTo>
                  <a:lnTo>
                    <a:pt x="184" y="337"/>
                  </a:lnTo>
                  <a:lnTo>
                    <a:pt x="184" y="331"/>
                  </a:lnTo>
                  <a:lnTo>
                    <a:pt x="184" y="324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84" y="303"/>
                  </a:lnTo>
                  <a:lnTo>
                    <a:pt x="184" y="297"/>
                  </a:lnTo>
                  <a:lnTo>
                    <a:pt x="184" y="293"/>
                  </a:lnTo>
                  <a:lnTo>
                    <a:pt x="184" y="287"/>
                  </a:lnTo>
                  <a:lnTo>
                    <a:pt x="184" y="282"/>
                  </a:lnTo>
                  <a:lnTo>
                    <a:pt x="184" y="280"/>
                  </a:lnTo>
                  <a:lnTo>
                    <a:pt x="0" y="54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41760" y="6473880"/>
              <a:ext cx="163080" cy="11268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118"/>
                  </a:moveTo>
                  <a:lnTo>
                    <a:pt x="93" y="105"/>
                  </a:lnTo>
                  <a:lnTo>
                    <a:pt x="93" y="105"/>
                  </a:lnTo>
                  <a:lnTo>
                    <a:pt x="95" y="101"/>
                  </a:lnTo>
                  <a:lnTo>
                    <a:pt x="97" y="97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4" y="76"/>
                  </a:lnTo>
                  <a:lnTo>
                    <a:pt x="106" y="73"/>
                  </a:lnTo>
                  <a:lnTo>
                    <a:pt x="108" y="69"/>
                  </a:lnTo>
                  <a:lnTo>
                    <a:pt x="110" y="63"/>
                  </a:lnTo>
                  <a:lnTo>
                    <a:pt x="112" y="59"/>
                  </a:lnTo>
                  <a:lnTo>
                    <a:pt x="114" y="56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3" y="37"/>
                  </a:lnTo>
                  <a:lnTo>
                    <a:pt x="127" y="33"/>
                  </a:lnTo>
                  <a:lnTo>
                    <a:pt x="129" y="29"/>
                  </a:lnTo>
                  <a:lnTo>
                    <a:pt x="131" y="25"/>
                  </a:lnTo>
                  <a:lnTo>
                    <a:pt x="137" y="16"/>
                  </a:lnTo>
                  <a:lnTo>
                    <a:pt x="142" y="10"/>
                  </a:lnTo>
                  <a:lnTo>
                    <a:pt x="148" y="4"/>
                  </a:lnTo>
                  <a:lnTo>
                    <a:pt x="15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71" y="10"/>
                  </a:lnTo>
                  <a:lnTo>
                    <a:pt x="165" y="14"/>
                  </a:lnTo>
                  <a:lnTo>
                    <a:pt x="160" y="21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3"/>
                  </a:lnTo>
                  <a:lnTo>
                    <a:pt x="148" y="37"/>
                  </a:lnTo>
                  <a:lnTo>
                    <a:pt x="144" y="40"/>
                  </a:lnTo>
                  <a:lnTo>
                    <a:pt x="142" y="46"/>
                  </a:lnTo>
                  <a:lnTo>
                    <a:pt x="139" y="50"/>
                  </a:lnTo>
                  <a:lnTo>
                    <a:pt x="135" y="56"/>
                  </a:lnTo>
                  <a:lnTo>
                    <a:pt x="133" y="59"/>
                  </a:lnTo>
                  <a:lnTo>
                    <a:pt x="131" y="67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22" y="92"/>
                  </a:lnTo>
                  <a:lnTo>
                    <a:pt x="118" y="97"/>
                  </a:lnTo>
                  <a:lnTo>
                    <a:pt x="118" y="105"/>
                  </a:lnTo>
                  <a:lnTo>
                    <a:pt x="116" y="113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0" y="133"/>
                  </a:lnTo>
                  <a:lnTo>
                    <a:pt x="106" y="133"/>
                  </a:lnTo>
                  <a:lnTo>
                    <a:pt x="101" y="133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0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5" y="133"/>
                  </a:lnTo>
                  <a:lnTo>
                    <a:pt x="42" y="133"/>
                  </a:lnTo>
                  <a:lnTo>
                    <a:pt x="38" y="135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5" y="139"/>
                  </a:lnTo>
                  <a:lnTo>
                    <a:pt x="9" y="143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520" y="6369120"/>
              <a:ext cx="369360" cy="41292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45" y="10"/>
                  </a:moveTo>
                  <a:lnTo>
                    <a:pt x="101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4" y="175"/>
                  </a:lnTo>
                  <a:lnTo>
                    <a:pt x="71" y="177"/>
                  </a:lnTo>
                  <a:lnTo>
                    <a:pt x="65" y="177"/>
                  </a:lnTo>
                  <a:lnTo>
                    <a:pt x="61" y="179"/>
                  </a:lnTo>
                  <a:lnTo>
                    <a:pt x="53" y="183"/>
                  </a:lnTo>
                  <a:lnTo>
                    <a:pt x="48" y="187"/>
                  </a:lnTo>
                  <a:lnTo>
                    <a:pt x="46" y="187"/>
                  </a:lnTo>
                  <a:lnTo>
                    <a:pt x="46" y="190"/>
                  </a:lnTo>
                  <a:lnTo>
                    <a:pt x="44" y="192"/>
                  </a:lnTo>
                  <a:lnTo>
                    <a:pt x="44" y="198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0" y="228"/>
                  </a:lnTo>
                  <a:lnTo>
                    <a:pt x="40" y="236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9"/>
                  </a:lnTo>
                  <a:lnTo>
                    <a:pt x="40" y="253"/>
                  </a:lnTo>
                  <a:lnTo>
                    <a:pt x="40" y="257"/>
                  </a:lnTo>
                  <a:lnTo>
                    <a:pt x="40" y="263"/>
                  </a:lnTo>
                  <a:lnTo>
                    <a:pt x="40" y="266"/>
                  </a:lnTo>
                  <a:lnTo>
                    <a:pt x="40" y="272"/>
                  </a:lnTo>
                  <a:lnTo>
                    <a:pt x="40" y="276"/>
                  </a:lnTo>
                  <a:lnTo>
                    <a:pt x="40" y="282"/>
                  </a:lnTo>
                  <a:lnTo>
                    <a:pt x="40" y="287"/>
                  </a:lnTo>
                  <a:lnTo>
                    <a:pt x="40" y="291"/>
                  </a:lnTo>
                  <a:lnTo>
                    <a:pt x="40" y="297"/>
                  </a:lnTo>
                  <a:lnTo>
                    <a:pt x="40" y="301"/>
                  </a:lnTo>
                  <a:lnTo>
                    <a:pt x="40" y="306"/>
                  </a:lnTo>
                  <a:lnTo>
                    <a:pt x="40" y="312"/>
                  </a:lnTo>
                  <a:lnTo>
                    <a:pt x="40" y="316"/>
                  </a:lnTo>
                  <a:lnTo>
                    <a:pt x="42" y="320"/>
                  </a:lnTo>
                  <a:lnTo>
                    <a:pt x="42" y="325"/>
                  </a:lnTo>
                  <a:lnTo>
                    <a:pt x="42" y="331"/>
                  </a:lnTo>
                  <a:lnTo>
                    <a:pt x="42" y="335"/>
                  </a:lnTo>
                  <a:lnTo>
                    <a:pt x="42" y="340"/>
                  </a:lnTo>
                  <a:lnTo>
                    <a:pt x="44" y="344"/>
                  </a:lnTo>
                  <a:lnTo>
                    <a:pt x="44" y="350"/>
                  </a:lnTo>
                  <a:lnTo>
                    <a:pt x="44" y="354"/>
                  </a:lnTo>
                  <a:lnTo>
                    <a:pt x="44" y="358"/>
                  </a:lnTo>
                  <a:lnTo>
                    <a:pt x="46" y="363"/>
                  </a:lnTo>
                  <a:lnTo>
                    <a:pt x="46" y="367"/>
                  </a:lnTo>
                  <a:lnTo>
                    <a:pt x="48" y="375"/>
                  </a:lnTo>
                  <a:lnTo>
                    <a:pt x="48" y="382"/>
                  </a:lnTo>
                  <a:lnTo>
                    <a:pt x="50" y="390"/>
                  </a:lnTo>
                  <a:lnTo>
                    <a:pt x="52" y="397"/>
                  </a:lnTo>
                  <a:lnTo>
                    <a:pt x="53" y="403"/>
                  </a:lnTo>
                  <a:lnTo>
                    <a:pt x="55" y="409"/>
                  </a:lnTo>
                  <a:lnTo>
                    <a:pt x="59" y="413"/>
                  </a:lnTo>
                  <a:lnTo>
                    <a:pt x="61" y="418"/>
                  </a:lnTo>
                  <a:lnTo>
                    <a:pt x="67" y="424"/>
                  </a:lnTo>
                  <a:lnTo>
                    <a:pt x="74" y="432"/>
                  </a:lnTo>
                  <a:lnTo>
                    <a:pt x="80" y="434"/>
                  </a:lnTo>
                  <a:lnTo>
                    <a:pt x="84" y="437"/>
                  </a:lnTo>
                  <a:lnTo>
                    <a:pt x="90" y="439"/>
                  </a:lnTo>
                  <a:lnTo>
                    <a:pt x="95" y="443"/>
                  </a:lnTo>
                  <a:lnTo>
                    <a:pt x="101" y="445"/>
                  </a:lnTo>
                  <a:lnTo>
                    <a:pt x="107" y="449"/>
                  </a:lnTo>
                  <a:lnTo>
                    <a:pt x="114" y="451"/>
                  </a:lnTo>
                  <a:lnTo>
                    <a:pt x="122" y="454"/>
                  </a:lnTo>
                  <a:lnTo>
                    <a:pt x="128" y="456"/>
                  </a:lnTo>
                  <a:lnTo>
                    <a:pt x="135" y="458"/>
                  </a:lnTo>
                  <a:lnTo>
                    <a:pt x="143" y="462"/>
                  </a:lnTo>
                  <a:lnTo>
                    <a:pt x="150" y="464"/>
                  </a:lnTo>
                  <a:lnTo>
                    <a:pt x="158" y="466"/>
                  </a:lnTo>
                  <a:lnTo>
                    <a:pt x="166" y="466"/>
                  </a:lnTo>
                  <a:lnTo>
                    <a:pt x="173" y="468"/>
                  </a:lnTo>
                  <a:lnTo>
                    <a:pt x="183" y="470"/>
                  </a:lnTo>
                  <a:lnTo>
                    <a:pt x="188" y="472"/>
                  </a:lnTo>
                  <a:lnTo>
                    <a:pt x="198" y="473"/>
                  </a:lnTo>
                  <a:lnTo>
                    <a:pt x="206" y="473"/>
                  </a:lnTo>
                  <a:lnTo>
                    <a:pt x="213" y="475"/>
                  </a:lnTo>
                  <a:lnTo>
                    <a:pt x="221" y="475"/>
                  </a:lnTo>
                  <a:lnTo>
                    <a:pt x="228" y="475"/>
                  </a:lnTo>
                  <a:lnTo>
                    <a:pt x="236" y="477"/>
                  </a:lnTo>
                  <a:lnTo>
                    <a:pt x="244" y="477"/>
                  </a:lnTo>
                  <a:lnTo>
                    <a:pt x="251" y="477"/>
                  </a:lnTo>
                  <a:lnTo>
                    <a:pt x="257" y="477"/>
                  </a:lnTo>
                  <a:lnTo>
                    <a:pt x="265" y="477"/>
                  </a:lnTo>
                  <a:lnTo>
                    <a:pt x="272" y="477"/>
                  </a:lnTo>
                  <a:lnTo>
                    <a:pt x="276" y="477"/>
                  </a:lnTo>
                  <a:lnTo>
                    <a:pt x="282" y="475"/>
                  </a:lnTo>
                  <a:lnTo>
                    <a:pt x="287" y="475"/>
                  </a:lnTo>
                  <a:lnTo>
                    <a:pt x="293" y="473"/>
                  </a:lnTo>
                  <a:lnTo>
                    <a:pt x="297" y="473"/>
                  </a:lnTo>
                  <a:lnTo>
                    <a:pt x="303" y="472"/>
                  </a:lnTo>
                  <a:lnTo>
                    <a:pt x="308" y="470"/>
                  </a:lnTo>
                  <a:lnTo>
                    <a:pt x="312" y="470"/>
                  </a:lnTo>
                  <a:lnTo>
                    <a:pt x="318" y="468"/>
                  </a:lnTo>
                  <a:lnTo>
                    <a:pt x="322" y="466"/>
                  </a:lnTo>
                  <a:lnTo>
                    <a:pt x="325" y="464"/>
                  </a:lnTo>
                  <a:lnTo>
                    <a:pt x="329" y="462"/>
                  </a:lnTo>
                  <a:lnTo>
                    <a:pt x="337" y="458"/>
                  </a:lnTo>
                  <a:lnTo>
                    <a:pt x="344" y="454"/>
                  </a:lnTo>
                  <a:lnTo>
                    <a:pt x="350" y="451"/>
                  </a:lnTo>
                  <a:lnTo>
                    <a:pt x="354" y="445"/>
                  </a:lnTo>
                  <a:lnTo>
                    <a:pt x="358" y="441"/>
                  </a:lnTo>
                  <a:lnTo>
                    <a:pt x="363" y="437"/>
                  </a:lnTo>
                  <a:lnTo>
                    <a:pt x="363" y="432"/>
                  </a:lnTo>
                  <a:lnTo>
                    <a:pt x="367" y="428"/>
                  </a:lnTo>
                  <a:lnTo>
                    <a:pt x="367" y="424"/>
                  </a:lnTo>
                  <a:lnTo>
                    <a:pt x="367" y="420"/>
                  </a:lnTo>
                  <a:lnTo>
                    <a:pt x="365" y="415"/>
                  </a:lnTo>
                  <a:lnTo>
                    <a:pt x="361" y="411"/>
                  </a:lnTo>
                  <a:lnTo>
                    <a:pt x="356" y="403"/>
                  </a:lnTo>
                  <a:lnTo>
                    <a:pt x="350" y="396"/>
                  </a:lnTo>
                  <a:lnTo>
                    <a:pt x="346" y="392"/>
                  </a:lnTo>
                  <a:lnTo>
                    <a:pt x="342" y="386"/>
                  </a:lnTo>
                  <a:lnTo>
                    <a:pt x="339" y="382"/>
                  </a:lnTo>
                  <a:lnTo>
                    <a:pt x="335" y="378"/>
                  </a:lnTo>
                  <a:lnTo>
                    <a:pt x="331" y="373"/>
                  </a:lnTo>
                  <a:lnTo>
                    <a:pt x="327" y="369"/>
                  </a:lnTo>
                  <a:lnTo>
                    <a:pt x="323" y="365"/>
                  </a:lnTo>
                  <a:lnTo>
                    <a:pt x="322" y="361"/>
                  </a:lnTo>
                  <a:lnTo>
                    <a:pt x="316" y="356"/>
                  </a:lnTo>
                  <a:lnTo>
                    <a:pt x="312" y="352"/>
                  </a:lnTo>
                  <a:lnTo>
                    <a:pt x="308" y="346"/>
                  </a:lnTo>
                  <a:lnTo>
                    <a:pt x="304" y="342"/>
                  </a:lnTo>
                  <a:lnTo>
                    <a:pt x="297" y="335"/>
                  </a:lnTo>
                  <a:lnTo>
                    <a:pt x="291" y="329"/>
                  </a:lnTo>
                  <a:lnTo>
                    <a:pt x="285" y="323"/>
                  </a:lnTo>
                  <a:lnTo>
                    <a:pt x="282" y="320"/>
                  </a:lnTo>
                  <a:lnTo>
                    <a:pt x="280" y="316"/>
                  </a:lnTo>
                  <a:lnTo>
                    <a:pt x="236" y="225"/>
                  </a:lnTo>
                  <a:lnTo>
                    <a:pt x="380" y="34"/>
                  </a:lnTo>
                  <a:lnTo>
                    <a:pt x="417" y="38"/>
                  </a:lnTo>
                  <a:lnTo>
                    <a:pt x="263" y="232"/>
                  </a:lnTo>
                  <a:lnTo>
                    <a:pt x="289" y="301"/>
                  </a:lnTo>
                  <a:lnTo>
                    <a:pt x="289" y="301"/>
                  </a:lnTo>
                  <a:lnTo>
                    <a:pt x="293" y="304"/>
                  </a:lnTo>
                  <a:lnTo>
                    <a:pt x="297" y="306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2" y="316"/>
                  </a:lnTo>
                  <a:lnTo>
                    <a:pt x="318" y="320"/>
                  </a:lnTo>
                  <a:lnTo>
                    <a:pt x="322" y="321"/>
                  </a:lnTo>
                  <a:lnTo>
                    <a:pt x="325" y="325"/>
                  </a:lnTo>
                  <a:lnTo>
                    <a:pt x="331" y="329"/>
                  </a:lnTo>
                  <a:lnTo>
                    <a:pt x="335" y="333"/>
                  </a:lnTo>
                  <a:lnTo>
                    <a:pt x="341" y="337"/>
                  </a:lnTo>
                  <a:lnTo>
                    <a:pt x="346" y="340"/>
                  </a:lnTo>
                  <a:lnTo>
                    <a:pt x="350" y="344"/>
                  </a:lnTo>
                  <a:lnTo>
                    <a:pt x="354" y="350"/>
                  </a:lnTo>
                  <a:lnTo>
                    <a:pt x="360" y="354"/>
                  </a:lnTo>
                  <a:lnTo>
                    <a:pt x="363" y="359"/>
                  </a:lnTo>
                  <a:lnTo>
                    <a:pt x="369" y="363"/>
                  </a:lnTo>
                  <a:lnTo>
                    <a:pt x="373" y="369"/>
                  </a:lnTo>
                  <a:lnTo>
                    <a:pt x="377" y="375"/>
                  </a:lnTo>
                  <a:lnTo>
                    <a:pt x="380" y="378"/>
                  </a:lnTo>
                  <a:lnTo>
                    <a:pt x="384" y="384"/>
                  </a:lnTo>
                  <a:lnTo>
                    <a:pt x="386" y="390"/>
                  </a:lnTo>
                  <a:lnTo>
                    <a:pt x="390" y="396"/>
                  </a:lnTo>
                  <a:lnTo>
                    <a:pt x="392" y="399"/>
                  </a:lnTo>
                  <a:lnTo>
                    <a:pt x="394" y="405"/>
                  </a:lnTo>
                  <a:lnTo>
                    <a:pt x="394" y="411"/>
                  </a:lnTo>
                  <a:lnTo>
                    <a:pt x="396" y="416"/>
                  </a:lnTo>
                  <a:lnTo>
                    <a:pt x="396" y="420"/>
                  </a:lnTo>
                  <a:lnTo>
                    <a:pt x="396" y="426"/>
                  </a:lnTo>
                  <a:lnTo>
                    <a:pt x="394" y="430"/>
                  </a:lnTo>
                  <a:lnTo>
                    <a:pt x="394" y="435"/>
                  </a:lnTo>
                  <a:lnTo>
                    <a:pt x="394" y="439"/>
                  </a:lnTo>
                  <a:lnTo>
                    <a:pt x="392" y="445"/>
                  </a:lnTo>
                  <a:lnTo>
                    <a:pt x="392" y="449"/>
                  </a:lnTo>
                  <a:lnTo>
                    <a:pt x="392" y="453"/>
                  </a:lnTo>
                  <a:lnTo>
                    <a:pt x="386" y="460"/>
                  </a:lnTo>
                  <a:lnTo>
                    <a:pt x="384" y="468"/>
                  </a:lnTo>
                  <a:lnTo>
                    <a:pt x="379" y="473"/>
                  </a:lnTo>
                  <a:lnTo>
                    <a:pt x="375" y="481"/>
                  </a:lnTo>
                  <a:lnTo>
                    <a:pt x="367" y="487"/>
                  </a:lnTo>
                  <a:lnTo>
                    <a:pt x="361" y="491"/>
                  </a:lnTo>
                  <a:lnTo>
                    <a:pt x="354" y="494"/>
                  </a:lnTo>
                  <a:lnTo>
                    <a:pt x="346" y="498"/>
                  </a:lnTo>
                  <a:lnTo>
                    <a:pt x="341" y="500"/>
                  </a:lnTo>
                  <a:lnTo>
                    <a:pt x="335" y="502"/>
                  </a:lnTo>
                  <a:lnTo>
                    <a:pt x="329" y="502"/>
                  </a:lnTo>
                  <a:lnTo>
                    <a:pt x="325" y="504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08" y="508"/>
                  </a:lnTo>
                  <a:lnTo>
                    <a:pt x="303" y="508"/>
                  </a:lnTo>
                  <a:lnTo>
                    <a:pt x="297" y="508"/>
                  </a:lnTo>
                  <a:lnTo>
                    <a:pt x="289" y="510"/>
                  </a:lnTo>
                  <a:lnTo>
                    <a:pt x="282" y="510"/>
                  </a:lnTo>
                  <a:lnTo>
                    <a:pt x="274" y="511"/>
                  </a:lnTo>
                  <a:lnTo>
                    <a:pt x="266" y="511"/>
                  </a:lnTo>
                  <a:lnTo>
                    <a:pt x="259" y="513"/>
                  </a:lnTo>
                  <a:lnTo>
                    <a:pt x="253" y="513"/>
                  </a:lnTo>
                  <a:lnTo>
                    <a:pt x="249" y="515"/>
                  </a:lnTo>
                  <a:lnTo>
                    <a:pt x="245" y="515"/>
                  </a:lnTo>
                  <a:lnTo>
                    <a:pt x="242" y="515"/>
                  </a:lnTo>
                  <a:lnTo>
                    <a:pt x="236" y="515"/>
                  </a:lnTo>
                  <a:lnTo>
                    <a:pt x="232" y="517"/>
                  </a:lnTo>
                  <a:lnTo>
                    <a:pt x="226" y="517"/>
                  </a:lnTo>
                  <a:lnTo>
                    <a:pt x="223" y="517"/>
                  </a:lnTo>
                  <a:lnTo>
                    <a:pt x="217" y="517"/>
                  </a:lnTo>
                  <a:lnTo>
                    <a:pt x="213" y="519"/>
                  </a:lnTo>
                  <a:lnTo>
                    <a:pt x="209" y="519"/>
                  </a:lnTo>
                  <a:lnTo>
                    <a:pt x="206" y="519"/>
                  </a:lnTo>
                  <a:lnTo>
                    <a:pt x="200" y="519"/>
                  </a:lnTo>
                  <a:lnTo>
                    <a:pt x="196" y="519"/>
                  </a:lnTo>
                  <a:lnTo>
                    <a:pt x="190" y="519"/>
                  </a:lnTo>
                  <a:lnTo>
                    <a:pt x="187" y="519"/>
                  </a:lnTo>
                  <a:lnTo>
                    <a:pt x="181" y="519"/>
                  </a:lnTo>
                  <a:lnTo>
                    <a:pt x="177" y="519"/>
                  </a:lnTo>
                  <a:lnTo>
                    <a:pt x="171" y="519"/>
                  </a:lnTo>
                  <a:lnTo>
                    <a:pt x="168" y="519"/>
                  </a:lnTo>
                  <a:lnTo>
                    <a:pt x="164" y="519"/>
                  </a:lnTo>
                  <a:lnTo>
                    <a:pt x="158" y="517"/>
                  </a:lnTo>
                  <a:lnTo>
                    <a:pt x="154" y="517"/>
                  </a:lnTo>
                  <a:lnTo>
                    <a:pt x="149" y="515"/>
                  </a:lnTo>
                  <a:lnTo>
                    <a:pt x="145" y="515"/>
                  </a:lnTo>
                  <a:lnTo>
                    <a:pt x="139" y="513"/>
                  </a:lnTo>
                  <a:lnTo>
                    <a:pt x="135" y="513"/>
                  </a:lnTo>
                  <a:lnTo>
                    <a:pt x="131" y="511"/>
                  </a:lnTo>
                  <a:lnTo>
                    <a:pt x="126" y="511"/>
                  </a:lnTo>
                  <a:lnTo>
                    <a:pt x="122" y="510"/>
                  </a:lnTo>
                  <a:lnTo>
                    <a:pt x="116" y="508"/>
                  </a:lnTo>
                  <a:lnTo>
                    <a:pt x="112" y="508"/>
                  </a:lnTo>
                  <a:lnTo>
                    <a:pt x="103" y="502"/>
                  </a:lnTo>
                  <a:lnTo>
                    <a:pt x="95" y="498"/>
                  </a:lnTo>
                  <a:lnTo>
                    <a:pt x="92" y="496"/>
                  </a:lnTo>
                  <a:lnTo>
                    <a:pt x="86" y="494"/>
                  </a:lnTo>
                  <a:lnTo>
                    <a:pt x="82" y="491"/>
                  </a:lnTo>
                  <a:lnTo>
                    <a:pt x="78" y="489"/>
                  </a:lnTo>
                  <a:lnTo>
                    <a:pt x="71" y="481"/>
                  </a:lnTo>
                  <a:lnTo>
                    <a:pt x="65" y="475"/>
                  </a:lnTo>
                  <a:lnTo>
                    <a:pt x="59" y="472"/>
                  </a:lnTo>
                  <a:lnTo>
                    <a:pt x="57" y="468"/>
                  </a:lnTo>
                  <a:lnTo>
                    <a:pt x="53" y="462"/>
                  </a:lnTo>
                  <a:lnTo>
                    <a:pt x="52" y="458"/>
                  </a:lnTo>
                  <a:lnTo>
                    <a:pt x="48" y="454"/>
                  </a:lnTo>
                  <a:lnTo>
                    <a:pt x="44" y="449"/>
                  </a:lnTo>
                  <a:lnTo>
                    <a:pt x="42" y="445"/>
                  </a:lnTo>
                  <a:lnTo>
                    <a:pt x="40" y="441"/>
                  </a:lnTo>
                  <a:lnTo>
                    <a:pt x="36" y="434"/>
                  </a:lnTo>
                  <a:lnTo>
                    <a:pt x="34" y="428"/>
                  </a:lnTo>
                  <a:lnTo>
                    <a:pt x="31" y="424"/>
                  </a:lnTo>
                  <a:lnTo>
                    <a:pt x="29" y="418"/>
                  </a:lnTo>
                  <a:lnTo>
                    <a:pt x="27" y="411"/>
                  </a:lnTo>
                  <a:lnTo>
                    <a:pt x="25" y="407"/>
                  </a:lnTo>
                  <a:lnTo>
                    <a:pt x="23" y="401"/>
                  </a:lnTo>
                  <a:lnTo>
                    <a:pt x="21" y="396"/>
                  </a:lnTo>
                  <a:lnTo>
                    <a:pt x="19" y="390"/>
                  </a:lnTo>
                  <a:lnTo>
                    <a:pt x="17" y="384"/>
                  </a:lnTo>
                  <a:lnTo>
                    <a:pt x="15" y="378"/>
                  </a:lnTo>
                  <a:lnTo>
                    <a:pt x="14" y="375"/>
                  </a:lnTo>
                  <a:lnTo>
                    <a:pt x="12" y="367"/>
                  </a:lnTo>
                  <a:lnTo>
                    <a:pt x="12" y="361"/>
                  </a:lnTo>
                  <a:lnTo>
                    <a:pt x="10" y="356"/>
                  </a:lnTo>
                  <a:lnTo>
                    <a:pt x="10" y="352"/>
                  </a:lnTo>
                  <a:lnTo>
                    <a:pt x="8" y="344"/>
                  </a:lnTo>
                  <a:lnTo>
                    <a:pt x="6" y="340"/>
                  </a:lnTo>
                  <a:lnTo>
                    <a:pt x="6" y="335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2" y="318"/>
                  </a:lnTo>
                  <a:lnTo>
                    <a:pt x="2" y="312"/>
                  </a:lnTo>
                  <a:lnTo>
                    <a:pt x="2" y="308"/>
                  </a:lnTo>
                  <a:lnTo>
                    <a:pt x="2" y="302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1"/>
                  </a:lnTo>
                  <a:lnTo>
                    <a:pt x="0" y="257"/>
                  </a:lnTo>
                  <a:lnTo>
                    <a:pt x="0" y="251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2" y="215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0" y="181"/>
                  </a:lnTo>
                  <a:lnTo>
                    <a:pt x="14" y="177"/>
                  </a:lnTo>
                  <a:lnTo>
                    <a:pt x="17" y="169"/>
                  </a:lnTo>
                  <a:lnTo>
                    <a:pt x="21" y="166"/>
                  </a:lnTo>
                  <a:lnTo>
                    <a:pt x="25" y="164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6" y="154"/>
                  </a:lnTo>
                  <a:lnTo>
                    <a:pt x="52" y="152"/>
                  </a:lnTo>
                  <a:lnTo>
                    <a:pt x="55" y="150"/>
                  </a:lnTo>
                  <a:lnTo>
                    <a:pt x="61" y="150"/>
                  </a:lnTo>
                  <a:lnTo>
                    <a:pt x="67" y="149"/>
                  </a:lnTo>
                  <a:lnTo>
                    <a:pt x="71" y="147"/>
                  </a:lnTo>
                  <a:lnTo>
                    <a:pt x="74" y="145"/>
                  </a:lnTo>
                  <a:lnTo>
                    <a:pt x="78" y="145"/>
                  </a:lnTo>
                  <a:lnTo>
                    <a:pt x="84" y="145"/>
                  </a:lnTo>
                  <a:lnTo>
                    <a:pt x="86" y="145"/>
                  </a:lnTo>
                  <a:lnTo>
                    <a:pt x="219" y="0"/>
                  </a:lnTo>
                  <a:lnTo>
                    <a:pt x="245" y="10"/>
                  </a:lnTo>
                  <a:lnTo>
                    <a:pt x="2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9440" y="6497640"/>
              <a:ext cx="158040" cy="112680"/>
            </a:xfrm>
            <a:custGeom>
              <a:avLst/>
              <a:gdLst/>
              <a:ahLst/>
              <a:rect l="l" t="t" r="r" b="b"/>
              <a:pathLst>
                <a:path w="177" h="142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3" y="38"/>
                  </a:lnTo>
                  <a:lnTo>
                    <a:pt x="15" y="44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5" y="63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8" y="89"/>
                  </a:lnTo>
                  <a:lnTo>
                    <a:pt x="40" y="95"/>
                  </a:lnTo>
                  <a:lnTo>
                    <a:pt x="44" y="102"/>
                  </a:lnTo>
                  <a:lnTo>
                    <a:pt x="46" y="108"/>
                  </a:lnTo>
                  <a:lnTo>
                    <a:pt x="49" y="114"/>
                  </a:lnTo>
                  <a:lnTo>
                    <a:pt x="53" y="120"/>
                  </a:lnTo>
                  <a:lnTo>
                    <a:pt x="55" y="125"/>
                  </a:lnTo>
                  <a:lnTo>
                    <a:pt x="59" y="131"/>
                  </a:lnTo>
                  <a:lnTo>
                    <a:pt x="65" y="137"/>
                  </a:lnTo>
                  <a:lnTo>
                    <a:pt x="67" y="140"/>
                  </a:lnTo>
                  <a:lnTo>
                    <a:pt x="70" y="142"/>
                  </a:lnTo>
                  <a:lnTo>
                    <a:pt x="72" y="137"/>
                  </a:lnTo>
                  <a:lnTo>
                    <a:pt x="76" y="129"/>
                  </a:lnTo>
                  <a:lnTo>
                    <a:pt x="76" y="125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2" y="112"/>
                  </a:lnTo>
                  <a:lnTo>
                    <a:pt x="82" y="106"/>
                  </a:lnTo>
                  <a:lnTo>
                    <a:pt x="82" y="102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86" y="89"/>
                  </a:lnTo>
                  <a:lnTo>
                    <a:pt x="86" y="87"/>
                  </a:lnTo>
                  <a:lnTo>
                    <a:pt x="175" y="78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7"/>
                  </a:lnTo>
                  <a:lnTo>
                    <a:pt x="169" y="47"/>
                  </a:lnTo>
                  <a:lnTo>
                    <a:pt x="163" y="47"/>
                  </a:lnTo>
                  <a:lnTo>
                    <a:pt x="156" y="47"/>
                  </a:lnTo>
                  <a:lnTo>
                    <a:pt x="148" y="49"/>
                  </a:lnTo>
                  <a:lnTo>
                    <a:pt x="141" y="49"/>
                  </a:lnTo>
                  <a:lnTo>
                    <a:pt x="133" y="49"/>
                  </a:lnTo>
                  <a:lnTo>
                    <a:pt x="127" y="49"/>
                  </a:lnTo>
                  <a:lnTo>
                    <a:pt x="124" y="49"/>
                  </a:lnTo>
                  <a:lnTo>
                    <a:pt x="118" y="49"/>
                  </a:lnTo>
                  <a:lnTo>
                    <a:pt x="114" y="51"/>
                  </a:lnTo>
                  <a:lnTo>
                    <a:pt x="106" y="51"/>
                  </a:lnTo>
                  <a:lnTo>
                    <a:pt x="101" y="51"/>
                  </a:lnTo>
                  <a:lnTo>
                    <a:pt x="93" y="51"/>
                  </a:lnTo>
                  <a:lnTo>
                    <a:pt x="87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6" y="55"/>
                  </a:lnTo>
                  <a:lnTo>
                    <a:pt x="72" y="59"/>
                  </a:lnTo>
                  <a:lnTo>
                    <a:pt x="68" y="64"/>
                  </a:lnTo>
                  <a:lnTo>
                    <a:pt x="65" y="72"/>
                  </a:lnTo>
                  <a:lnTo>
                    <a:pt x="61" y="78"/>
                  </a:lnTo>
                  <a:lnTo>
                    <a:pt x="61" y="85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"/>
          <p:cNvSpPr/>
          <p:nvPr/>
        </p:nvSpPr>
        <p:spPr>
          <a:xfrm flipH="1">
            <a:off x="6711840" y="343224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6789600" y="3436920"/>
            <a:ext cx="158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099120" y="3252600"/>
            <a:ext cx="1335240" cy="56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099120" y="3817800"/>
            <a:ext cx="492120" cy="17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576840" y="4563720"/>
            <a:ext cx="1509840" cy="10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6171840" y="437256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6190920" y="445032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6225840" y="4513680"/>
            <a:ext cx="252360" cy="11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7139160" y="502884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7259760" y="4905000"/>
            <a:ext cx="1551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7193160" y="4982400"/>
            <a:ext cx="154800" cy="22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242520" y="5937120"/>
            <a:ext cx="1266480" cy="1939320"/>
            <a:chOff x="3242520" y="5937120"/>
            <a:chExt cx="1266480" cy="1939320"/>
          </a:xfrm>
        </p:grpSpPr>
        <p:sp>
          <p:nvSpPr>
            <p:cNvPr id="1386" name=""/>
            <p:cNvSpPr/>
            <p:nvPr/>
          </p:nvSpPr>
          <p:spPr>
            <a:xfrm flipH="1" rot="193800">
              <a:off x="3965400" y="5940000"/>
              <a:ext cx="106560" cy="14760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0" y="317"/>
                  </a:moveTo>
                  <a:lnTo>
                    <a:pt x="14" y="321"/>
                  </a:lnTo>
                  <a:lnTo>
                    <a:pt x="28" y="321"/>
                  </a:lnTo>
                  <a:lnTo>
                    <a:pt x="42" y="317"/>
                  </a:lnTo>
                  <a:lnTo>
                    <a:pt x="56" y="310"/>
                  </a:lnTo>
                  <a:lnTo>
                    <a:pt x="70" y="303"/>
                  </a:lnTo>
                  <a:lnTo>
                    <a:pt x="87" y="293"/>
                  </a:lnTo>
                  <a:lnTo>
                    <a:pt x="108" y="279"/>
                  </a:lnTo>
                  <a:lnTo>
                    <a:pt x="133" y="265"/>
                  </a:lnTo>
                  <a:lnTo>
                    <a:pt x="150" y="244"/>
                  </a:lnTo>
                  <a:lnTo>
                    <a:pt x="168" y="223"/>
                  </a:lnTo>
                  <a:lnTo>
                    <a:pt x="175" y="209"/>
                  </a:lnTo>
                  <a:lnTo>
                    <a:pt x="178" y="206"/>
                  </a:lnTo>
                  <a:lnTo>
                    <a:pt x="181" y="181"/>
                  </a:lnTo>
                  <a:lnTo>
                    <a:pt x="192" y="136"/>
                  </a:lnTo>
                  <a:lnTo>
                    <a:pt x="202" y="87"/>
                  </a:lnTo>
                  <a:lnTo>
                    <a:pt x="213" y="56"/>
                  </a:lnTo>
                  <a:lnTo>
                    <a:pt x="216" y="42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216" y="0"/>
                  </a:lnTo>
                  <a:lnTo>
                    <a:pt x="202" y="7"/>
                  </a:lnTo>
                  <a:lnTo>
                    <a:pt x="192" y="18"/>
                  </a:lnTo>
                  <a:lnTo>
                    <a:pt x="185" y="28"/>
                  </a:lnTo>
                  <a:lnTo>
                    <a:pt x="178" y="46"/>
                  </a:lnTo>
                  <a:lnTo>
                    <a:pt x="164" y="80"/>
                  </a:lnTo>
                  <a:lnTo>
                    <a:pt x="154" y="129"/>
                  </a:lnTo>
                  <a:lnTo>
                    <a:pt x="147" y="174"/>
                  </a:lnTo>
                  <a:lnTo>
                    <a:pt x="140" y="192"/>
                  </a:lnTo>
                  <a:lnTo>
                    <a:pt x="140" y="195"/>
                  </a:lnTo>
                  <a:lnTo>
                    <a:pt x="133" y="206"/>
                  </a:lnTo>
                  <a:lnTo>
                    <a:pt x="122" y="220"/>
                  </a:lnTo>
                  <a:lnTo>
                    <a:pt x="108" y="234"/>
                  </a:lnTo>
                  <a:lnTo>
                    <a:pt x="87" y="248"/>
                  </a:lnTo>
                  <a:lnTo>
                    <a:pt x="67" y="262"/>
                  </a:lnTo>
                  <a:lnTo>
                    <a:pt x="49" y="269"/>
                  </a:lnTo>
                  <a:lnTo>
                    <a:pt x="39" y="276"/>
                  </a:lnTo>
                  <a:lnTo>
                    <a:pt x="25" y="282"/>
                  </a:lnTo>
                  <a:lnTo>
                    <a:pt x="14" y="293"/>
                  </a:lnTo>
                  <a:lnTo>
                    <a:pt x="7" y="303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rot="193800">
              <a:off x="3971880" y="5954760"/>
              <a:ext cx="115920" cy="131400"/>
            </a:xfrm>
            <a:custGeom>
              <a:avLst/>
              <a:gdLst/>
              <a:ahLst/>
              <a:rect l="l" t="t" r="r" b="b"/>
              <a:pathLst>
                <a:path w="233" h="285">
                  <a:moveTo>
                    <a:pt x="0" y="271"/>
                  </a:moveTo>
                  <a:lnTo>
                    <a:pt x="4" y="275"/>
                  </a:lnTo>
                  <a:lnTo>
                    <a:pt x="11" y="282"/>
                  </a:lnTo>
                  <a:lnTo>
                    <a:pt x="24" y="285"/>
                  </a:lnTo>
                  <a:lnTo>
                    <a:pt x="49" y="282"/>
                  </a:lnTo>
                  <a:lnTo>
                    <a:pt x="171" y="205"/>
                  </a:lnTo>
                  <a:lnTo>
                    <a:pt x="233" y="0"/>
                  </a:lnTo>
                  <a:lnTo>
                    <a:pt x="185" y="17"/>
                  </a:lnTo>
                  <a:lnTo>
                    <a:pt x="0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rot="193800">
              <a:off x="3973320" y="5954400"/>
              <a:ext cx="162000" cy="361800"/>
            </a:xfrm>
            <a:custGeom>
              <a:avLst/>
              <a:gdLst/>
              <a:ahLst/>
              <a:rect l="l" t="t" r="r" b="b"/>
              <a:pathLst>
                <a:path w="330" h="788">
                  <a:moveTo>
                    <a:pt x="163" y="788"/>
                  </a:moveTo>
                  <a:lnTo>
                    <a:pt x="153" y="756"/>
                  </a:lnTo>
                  <a:lnTo>
                    <a:pt x="142" y="728"/>
                  </a:lnTo>
                  <a:lnTo>
                    <a:pt x="132" y="700"/>
                  </a:lnTo>
                  <a:lnTo>
                    <a:pt x="118" y="669"/>
                  </a:lnTo>
                  <a:lnTo>
                    <a:pt x="108" y="641"/>
                  </a:lnTo>
                  <a:lnTo>
                    <a:pt x="90" y="596"/>
                  </a:lnTo>
                  <a:lnTo>
                    <a:pt x="69" y="547"/>
                  </a:lnTo>
                  <a:lnTo>
                    <a:pt x="48" y="495"/>
                  </a:lnTo>
                  <a:lnTo>
                    <a:pt x="38" y="474"/>
                  </a:lnTo>
                  <a:lnTo>
                    <a:pt x="38" y="453"/>
                  </a:lnTo>
                  <a:lnTo>
                    <a:pt x="45" y="432"/>
                  </a:lnTo>
                  <a:lnTo>
                    <a:pt x="55" y="411"/>
                  </a:lnTo>
                  <a:lnTo>
                    <a:pt x="62" y="394"/>
                  </a:lnTo>
                  <a:lnTo>
                    <a:pt x="69" y="383"/>
                  </a:lnTo>
                  <a:lnTo>
                    <a:pt x="73" y="373"/>
                  </a:lnTo>
                  <a:lnTo>
                    <a:pt x="76" y="369"/>
                  </a:lnTo>
                  <a:lnTo>
                    <a:pt x="80" y="359"/>
                  </a:lnTo>
                  <a:lnTo>
                    <a:pt x="94" y="331"/>
                  </a:lnTo>
                  <a:lnTo>
                    <a:pt x="118" y="293"/>
                  </a:lnTo>
                  <a:lnTo>
                    <a:pt x="149" y="248"/>
                  </a:lnTo>
                  <a:lnTo>
                    <a:pt x="177" y="199"/>
                  </a:lnTo>
                  <a:lnTo>
                    <a:pt x="209" y="153"/>
                  </a:lnTo>
                  <a:lnTo>
                    <a:pt x="236" y="115"/>
                  </a:lnTo>
                  <a:lnTo>
                    <a:pt x="254" y="91"/>
                  </a:lnTo>
                  <a:lnTo>
                    <a:pt x="275" y="63"/>
                  </a:lnTo>
                  <a:lnTo>
                    <a:pt x="292" y="42"/>
                  </a:lnTo>
                  <a:lnTo>
                    <a:pt x="310" y="18"/>
                  </a:lnTo>
                  <a:lnTo>
                    <a:pt x="330" y="0"/>
                  </a:lnTo>
                  <a:lnTo>
                    <a:pt x="299" y="4"/>
                  </a:lnTo>
                  <a:lnTo>
                    <a:pt x="271" y="18"/>
                  </a:lnTo>
                  <a:lnTo>
                    <a:pt x="247" y="42"/>
                  </a:lnTo>
                  <a:lnTo>
                    <a:pt x="226" y="66"/>
                  </a:lnTo>
                  <a:lnTo>
                    <a:pt x="205" y="91"/>
                  </a:lnTo>
                  <a:lnTo>
                    <a:pt x="177" y="129"/>
                  </a:lnTo>
                  <a:lnTo>
                    <a:pt x="146" y="174"/>
                  </a:lnTo>
                  <a:lnTo>
                    <a:pt x="115" y="223"/>
                  </a:lnTo>
                  <a:lnTo>
                    <a:pt x="83" y="272"/>
                  </a:lnTo>
                  <a:lnTo>
                    <a:pt x="59" y="314"/>
                  </a:lnTo>
                  <a:lnTo>
                    <a:pt x="45" y="345"/>
                  </a:lnTo>
                  <a:lnTo>
                    <a:pt x="38" y="356"/>
                  </a:lnTo>
                  <a:lnTo>
                    <a:pt x="38" y="359"/>
                  </a:lnTo>
                  <a:lnTo>
                    <a:pt x="35" y="366"/>
                  </a:lnTo>
                  <a:lnTo>
                    <a:pt x="28" y="380"/>
                  </a:lnTo>
                  <a:lnTo>
                    <a:pt x="21" y="397"/>
                  </a:lnTo>
                  <a:lnTo>
                    <a:pt x="14" y="404"/>
                  </a:lnTo>
                  <a:lnTo>
                    <a:pt x="10" y="418"/>
                  </a:lnTo>
                  <a:lnTo>
                    <a:pt x="7" y="429"/>
                  </a:lnTo>
                  <a:lnTo>
                    <a:pt x="3" y="443"/>
                  </a:lnTo>
                  <a:lnTo>
                    <a:pt x="0" y="460"/>
                  </a:lnTo>
                  <a:lnTo>
                    <a:pt x="0" y="477"/>
                  </a:lnTo>
                  <a:lnTo>
                    <a:pt x="3" y="495"/>
                  </a:lnTo>
                  <a:lnTo>
                    <a:pt x="10" y="509"/>
                  </a:lnTo>
                  <a:lnTo>
                    <a:pt x="31" y="561"/>
                  </a:lnTo>
                  <a:lnTo>
                    <a:pt x="52" y="613"/>
                  </a:lnTo>
                  <a:lnTo>
                    <a:pt x="69" y="655"/>
                  </a:lnTo>
                  <a:lnTo>
                    <a:pt x="83" y="683"/>
                  </a:lnTo>
                  <a:lnTo>
                    <a:pt x="101" y="714"/>
                  </a:lnTo>
                  <a:lnTo>
                    <a:pt x="118" y="742"/>
                  </a:lnTo>
                  <a:lnTo>
                    <a:pt x="139" y="763"/>
                  </a:lnTo>
                  <a:lnTo>
                    <a:pt x="163" y="788"/>
                  </a:lnTo>
                  <a:lnTo>
                    <a:pt x="163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rot="193800">
              <a:off x="3640680" y="6017760"/>
              <a:ext cx="144360" cy="67680"/>
            </a:xfrm>
            <a:custGeom>
              <a:avLst/>
              <a:gdLst/>
              <a:ahLst/>
              <a:rect l="l" t="t" r="r" b="b"/>
              <a:pathLst>
                <a:path w="293" h="147">
                  <a:moveTo>
                    <a:pt x="0" y="94"/>
                  </a:moveTo>
                  <a:lnTo>
                    <a:pt x="4" y="98"/>
                  </a:lnTo>
                  <a:lnTo>
                    <a:pt x="11" y="105"/>
                  </a:lnTo>
                  <a:lnTo>
                    <a:pt x="21" y="115"/>
                  </a:lnTo>
                  <a:lnTo>
                    <a:pt x="32" y="122"/>
                  </a:lnTo>
                  <a:lnTo>
                    <a:pt x="143" y="147"/>
                  </a:lnTo>
                  <a:lnTo>
                    <a:pt x="293" y="4"/>
                  </a:lnTo>
                  <a:lnTo>
                    <a:pt x="282" y="0"/>
                  </a:lnTo>
                  <a:lnTo>
                    <a:pt x="258" y="0"/>
                  </a:lnTo>
                  <a:lnTo>
                    <a:pt x="223" y="0"/>
                  </a:lnTo>
                  <a:lnTo>
                    <a:pt x="199" y="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 rot="193800">
              <a:off x="3785760" y="6176160"/>
              <a:ext cx="450720" cy="414360"/>
            </a:xfrm>
            <a:custGeom>
              <a:avLst/>
              <a:gdLst/>
              <a:ahLst/>
              <a:rect l="l" t="t" r="r" b="b"/>
              <a:pathLst>
                <a:path w="916" h="902">
                  <a:moveTo>
                    <a:pt x="0" y="359"/>
                  </a:moveTo>
                  <a:lnTo>
                    <a:pt x="84" y="526"/>
                  </a:lnTo>
                  <a:lnTo>
                    <a:pt x="112" y="672"/>
                  </a:lnTo>
                  <a:lnTo>
                    <a:pt x="87" y="759"/>
                  </a:lnTo>
                  <a:lnTo>
                    <a:pt x="14" y="864"/>
                  </a:lnTo>
                  <a:lnTo>
                    <a:pt x="63" y="902"/>
                  </a:lnTo>
                  <a:lnTo>
                    <a:pt x="227" y="728"/>
                  </a:lnTo>
                  <a:lnTo>
                    <a:pt x="916" y="174"/>
                  </a:lnTo>
                  <a:lnTo>
                    <a:pt x="892" y="122"/>
                  </a:lnTo>
                  <a:lnTo>
                    <a:pt x="770" y="167"/>
                  </a:lnTo>
                  <a:lnTo>
                    <a:pt x="665" y="132"/>
                  </a:lnTo>
                  <a:lnTo>
                    <a:pt x="603" y="101"/>
                  </a:lnTo>
                  <a:lnTo>
                    <a:pt x="540" y="66"/>
                  </a:lnTo>
                  <a:lnTo>
                    <a:pt x="477" y="31"/>
                  </a:lnTo>
                  <a:lnTo>
                    <a:pt x="418" y="0"/>
                  </a:lnTo>
                  <a:lnTo>
                    <a:pt x="168" y="153"/>
                  </a:lnTo>
                  <a:lnTo>
                    <a:pt x="4" y="303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rot="193800">
              <a:off x="3917520" y="6171120"/>
              <a:ext cx="137880" cy="10764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47" y="219"/>
                  </a:moveTo>
                  <a:lnTo>
                    <a:pt x="202" y="237"/>
                  </a:lnTo>
                  <a:lnTo>
                    <a:pt x="122" y="104"/>
                  </a:lnTo>
                  <a:lnTo>
                    <a:pt x="115" y="94"/>
                  </a:lnTo>
                  <a:lnTo>
                    <a:pt x="94" y="77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157" y="3"/>
                  </a:lnTo>
                  <a:lnTo>
                    <a:pt x="271" y="136"/>
                  </a:lnTo>
                  <a:lnTo>
                    <a:pt x="278" y="188"/>
                  </a:lnTo>
                  <a:lnTo>
                    <a:pt x="247" y="219"/>
                  </a:lnTo>
                  <a:lnTo>
                    <a:pt x="247" y="2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rot="193800">
              <a:off x="3285720" y="6269760"/>
              <a:ext cx="1179360" cy="1574280"/>
            </a:xfrm>
            <a:custGeom>
              <a:avLst/>
              <a:gdLst/>
              <a:ahLst/>
              <a:rect l="l" t="t" r="r" b="b"/>
              <a:pathLst>
                <a:path w="2396" h="3429">
                  <a:moveTo>
                    <a:pt x="1508" y="53"/>
                  </a:moveTo>
                  <a:lnTo>
                    <a:pt x="1393" y="0"/>
                  </a:lnTo>
                  <a:lnTo>
                    <a:pt x="1188" y="115"/>
                  </a:lnTo>
                  <a:lnTo>
                    <a:pt x="752" y="526"/>
                  </a:lnTo>
                  <a:lnTo>
                    <a:pt x="749" y="610"/>
                  </a:lnTo>
                  <a:lnTo>
                    <a:pt x="836" y="777"/>
                  </a:lnTo>
                  <a:lnTo>
                    <a:pt x="1031" y="857"/>
                  </a:lnTo>
                  <a:lnTo>
                    <a:pt x="1062" y="938"/>
                  </a:lnTo>
                  <a:lnTo>
                    <a:pt x="1062" y="1059"/>
                  </a:lnTo>
                  <a:lnTo>
                    <a:pt x="923" y="1108"/>
                  </a:lnTo>
                  <a:lnTo>
                    <a:pt x="812" y="1199"/>
                  </a:lnTo>
                  <a:lnTo>
                    <a:pt x="770" y="1317"/>
                  </a:lnTo>
                  <a:lnTo>
                    <a:pt x="784" y="1471"/>
                  </a:lnTo>
                  <a:lnTo>
                    <a:pt x="857" y="1586"/>
                  </a:lnTo>
                  <a:lnTo>
                    <a:pt x="933" y="1627"/>
                  </a:lnTo>
                  <a:lnTo>
                    <a:pt x="933" y="1822"/>
                  </a:lnTo>
                  <a:lnTo>
                    <a:pt x="860" y="1795"/>
                  </a:lnTo>
                  <a:lnTo>
                    <a:pt x="690" y="1770"/>
                  </a:lnTo>
                  <a:lnTo>
                    <a:pt x="383" y="1829"/>
                  </a:lnTo>
                  <a:lnTo>
                    <a:pt x="150" y="1969"/>
                  </a:lnTo>
                  <a:lnTo>
                    <a:pt x="25" y="2150"/>
                  </a:lnTo>
                  <a:lnTo>
                    <a:pt x="0" y="2307"/>
                  </a:lnTo>
                  <a:lnTo>
                    <a:pt x="70" y="2418"/>
                  </a:lnTo>
                  <a:lnTo>
                    <a:pt x="167" y="2481"/>
                  </a:lnTo>
                  <a:lnTo>
                    <a:pt x="348" y="2397"/>
                  </a:lnTo>
                  <a:lnTo>
                    <a:pt x="530" y="2317"/>
                  </a:lnTo>
                  <a:lnTo>
                    <a:pt x="707" y="2234"/>
                  </a:lnTo>
                  <a:lnTo>
                    <a:pt x="888" y="2153"/>
                  </a:lnTo>
                  <a:lnTo>
                    <a:pt x="1010" y="2450"/>
                  </a:lnTo>
                  <a:lnTo>
                    <a:pt x="906" y="2446"/>
                  </a:lnTo>
                  <a:lnTo>
                    <a:pt x="550" y="2530"/>
                  </a:lnTo>
                  <a:lnTo>
                    <a:pt x="481" y="2596"/>
                  </a:lnTo>
                  <a:lnTo>
                    <a:pt x="366" y="2822"/>
                  </a:lnTo>
                  <a:lnTo>
                    <a:pt x="164" y="2972"/>
                  </a:lnTo>
                  <a:lnTo>
                    <a:pt x="154" y="3014"/>
                  </a:lnTo>
                  <a:lnTo>
                    <a:pt x="369" y="3188"/>
                  </a:lnTo>
                  <a:lnTo>
                    <a:pt x="791" y="3429"/>
                  </a:lnTo>
                  <a:lnTo>
                    <a:pt x="798" y="3429"/>
                  </a:lnTo>
                  <a:lnTo>
                    <a:pt x="808" y="3425"/>
                  </a:lnTo>
                  <a:lnTo>
                    <a:pt x="818" y="3411"/>
                  </a:lnTo>
                  <a:lnTo>
                    <a:pt x="812" y="3383"/>
                  </a:lnTo>
                  <a:lnTo>
                    <a:pt x="557" y="2948"/>
                  </a:lnTo>
                  <a:lnTo>
                    <a:pt x="585" y="2878"/>
                  </a:lnTo>
                  <a:lnTo>
                    <a:pt x="954" y="2676"/>
                  </a:lnTo>
                  <a:lnTo>
                    <a:pt x="1020" y="2599"/>
                  </a:lnTo>
                  <a:lnTo>
                    <a:pt x="1038" y="2561"/>
                  </a:lnTo>
                  <a:lnTo>
                    <a:pt x="1132" y="2519"/>
                  </a:lnTo>
                  <a:lnTo>
                    <a:pt x="1111" y="2481"/>
                  </a:lnTo>
                  <a:lnTo>
                    <a:pt x="1083" y="2209"/>
                  </a:lnTo>
                  <a:lnTo>
                    <a:pt x="1160" y="2150"/>
                  </a:lnTo>
                  <a:lnTo>
                    <a:pt x="1191" y="2157"/>
                  </a:lnTo>
                  <a:lnTo>
                    <a:pt x="1243" y="2216"/>
                  </a:lnTo>
                  <a:lnTo>
                    <a:pt x="1428" y="2335"/>
                  </a:lnTo>
                  <a:lnTo>
                    <a:pt x="1424" y="2401"/>
                  </a:lnTo>
                  <a:lnTo>
                    <a:pt x="1504" y="2467"/>
                  </a:lnTo>
                  <a:lnTo>
                    <a:pt x="1494" y="2624"/>
                  </a:lnTo>
                  <a:lnTo>
                    <a:pt x="1539" y="2749"/>
                  </a:lnTo>
                  <a:lnTo>
                    <a:pt x="1692" y="2930"/>
                  </a:lnTo>
                  <a:lnTo>
                    <a:pt x="1873" y="3213"/>
                  </a:lnTo>
                  <a:lnTo>
                    <a:pt x="1912" y="3216"/>
                  </a:lnTo>
                  <a:lnTo>
                    <a:pt x="2385" y="2753"/>
                  </a:lnTo>
                  <a:lnTo>
                    <a:pt x="2385" y="2753"/>
                  </a:lnTo>
                  <a:lnTo>
                    <a:pt x="2392" y="2749"/>
                  </a:lnTo>
                  <a:lnTo>
                    <a:pt x="2396" y="2742"/>
                  </a:lnTo>
                  <a:lnTo>
                    <a:pt x="2396" y="2732"/>
                  </a:lnTo>
                  <a:lnTo>
                    <a:pt x="2382" y="2728"/>
                  </a:lnTo>
                  <a:lnTo>
                    <a:pt x="2361" y="2725"/>
                  </a:lnTo>
                  <a:lnTo>
                    <a:pt x="2340" y="2728"/>
                  </a:lnTo>
                  <a:lnTo>
                    <a:pt x="2333" y="2728"/>
                  </a:lnTo>
                  <a:lnTo>
                    <a:pt x="1800" y="2798"/>
                  </a:lnTo>
                  <a:lnTo>
                    <a:pt x="1623" y="2408"/>
                  </a:lnTo>
                  <a:lnTo>
                    <a:pt x="1678" y="2373"/>
                  </a:lnTo>
                  <a:lnTo>
                    <a:pt x="1609" y="2300"/>
                  </a:lnTo>
                  <a:lnTo>
                    <a:pt x="1633" y="2216"/>
                  </a:lnTo>
                  <a:lnTo>
                    <a:pt x="1543" y="2018"/>
                  </a:lnTo>
                  <a:lnTo>
                    <a:pt x="1532" y="1767"/>
                  </a:lnTo>
                  <a:lnTo>
                    <a:pt x="1407" y="1627"/>
                  </a:lnTo>
                  <a:lnTo>
                    <a:pt x="1369" y="1638"/>
                  </a:lnTo>
                  <a:lnTo>
                    <a:pt x="1382" y="1812"/>
                  </a:lnTo>
                  <a:lnTo>
                    <a:pt x="1480" y="2105"/>
                  </a:lnTo>
                  <a:lnTo>
                    <a:pt x="1438" y="2185"/>
                  </a:lnTo>
                  <a:lnTo>
                    <a:pt x="1271" y="2045"/>
                  </a:lnTo>
                  <a:lnTo>
                    <a:pt x="1309" y="1910"/>
                  </a:lnTo>
                  <a:lnTo>
                    <a:pt x="1292" y="1648"/>
                  </a:lnTo>
                  <a:lnTo>
                    <a:pt x="1445" y="1593"/>
                  </a:lnTo>
                  <a:lnTo>
                    <a:pt x="1508" y="1624"/>
                  </a:lnTo>
                  <a:lnTo>
                    <a:pt x="1536" y="1593"/>
                  </a:lnTo>
                  <a:lnTo>
                    <a:pt x="1564" y="1495"/>
                  </a:lnTo>
                  <a:lnTo>
                    <a:pt x="1525" y="1394"/>
                  </a:lnTo>
                  <a:lnTo>
                    <a:pt x="1539" y="1303"/>
                  </a:lnTo>
                  <a:lnTo>
                    <a:pt x="1508" y="1300"/>
                  </a:lnTo>
                  <a:lnTo>
                    <a:pt x="1442" y="1314"/>
                  </a:lnTo>
                  <a:lnTo>
                    <a:pt x="1362" y="1188"/>
                  </a:lnTo>
                  <a:lnTo>
                    <a:pt x="1247" y="1094"/>
                  </a:lnTo>
                  <a:lnTo>
                    <a:pt x="1170" y="1066"/>
                  </a:lnTo>
                  <a:lnTo>
                    <a:pt x="1198" y="972"/>
                  </a:lnTo>
                  <a:lnTo>
                    <a:pt x="1306" y="993"/>
                  </a:lnTo>
                  <a:lnTo>
                    <a:pt x="1407" y="965"/>
                  </a:lnTo>
                  <a:lnTo>
                    <a:pt x="1428" y="927"/>
                  </a:lnTo>
                  <a:lnTo>
                    <a:pt x="1424" y="826"/>
                  </a:lnTo>
                  <a:lnTo>
                    <a:pt x="1567" y="840"/>
                  </a:lnTo>
                  <a:lnTo>
                    <a:pt x="1685" y="798"/>
                  </a:lnTo>
                  <a:lnTo>
                    <a:pt x="1762" y="704"/>
                  </a:lnTo>
                  <a:lnTo>
                    <a:pt x="1783" y="506"/>
                  </a:lnTo>
                  <a:lnTo>
                    <a:pt x="1731" y="293"/>
                  </a:lnTo>
                  <a:lnTo>
                    <a:pt x="1595" y="133"/>
                  </a:lnTo>
                  <a:lnTo>
                    <a:pt x="1508" y="53"/>
                  </a:lnTo>
                  <a:lnTo>
                    <a:pt x="1508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rot="193800">
              <a:off x="3834720" y="6606000"/>
              <a:ext cx="88560" cy="727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0" y="0"/>
                  </a:moveTo>
                  <a:lnTo>
                    <a:pt x="94" y="0"/>
                  </a:lnTo>
                  <a:lnTo>
                    <a:pt x="171" y="111"/>
                  </a:lnTo>
                  <a:lnTo>
                    <a:pt x="171" y="115"/>
                  </a:lnTo>
                  <a:lnTo>
                    <a:pt x="174" y="129"/>
                  </a:lnTo>
                  <a:lnTo>
                    <a:pt x="178" y="146"/>
                  </a:lnTo>
                  <a:lnTo>
                    <a:pt x="174" y="160"/>
                  </a:lnTo>
                  <a:lnTo>
                    <a:pt x="84" y="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rot="193800">
              <a:off x="3980520" y="6259320"/>
              <a:ext cx="138240" cy="47160"/>
            </a:xfrm>
            <a:custGeom>
              <a:avLst/>
              <a:gdLst/>
              <a:ahLst/>
              <a:rect l="l" t="t" r="r" b="b"/>
              <a:pathLst>
                <a:path w="279" h="104">
                  <a:moveTo>
                    <a:pt x="247" y="20"/>
                  </a:moveTo>
                  <a:lnTo>
                    <a:pt x="233" y="17"/>
                  </a:lnTo>
                  <a:lnTo>
                    <a:pt x="212" y="7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4" y="20"/>
                  </a:lnTo>
                  <a:lnTo>
                    <a:pt x="35" y="59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24" y="90"/>
                  </a:lnTo>
                  <a:lnTo>
                    <a:pt x="66" y="69"/>
                  </a:lnTo>
                  <a:lnTo>
                    <a:pt x="115" y="52"/>
                  </a:lnTo>
                  <a:lnTo>
                    <a:pt x="146" y="45"/>
                  </a:lnTo>
                  <a:lnTo>
                    <a:pt x="174" y="55"/>
                  </a:lnTo>
                  <a:lnTo>
                    <a:pt x="216" y="69"/>
                  </a:lnTo>
                  <a:lnTo>
                    <a:pt x="254" y="76"/>
                  </a:lnTo>
                  <a:lnTo>
                    <a:pt x="275" y="76"/>
                  </a:lnTo>
                  <a:lnTo>
                    <a:pt x="279" y="62"/>
                  </a:lnTo>
                  <a:lnTo>
                    <a:pt x="268" y="45"/>
                  </a:lnTo>
                  <a:lnTo>
                    <a:pt x="254" y="27"/>
                  </a:lnTo>
                  <a:lnTo>
                    <a:pt x="247" y="20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rot="193800">
              <a:off x="3653640" y="6363720"/>
              <a:ext cx="92160" cy="158400"/>
            </a:xfrm>
            <a:custGeom>
              <a:avLst/>
              <a:gdLst/>
              <a:ahLst/>
              <a:rect l="l" t="t" r="r" b="b"/>
              <a:pathLst>
                <a:path w="188" h="345">
                  <a:moveTo>
                    <a:pt x="49" y="3"/>
                  </a:moveTo>
                  <a:lnTo>
                    <a:pt x="21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7" y="45"/>
                  </a:lnTo>
                  <a:lnTo>
                    <a:pt x="32" y="80"/>
                  </a:lnTo>
                  <a:lnTo>
                    <a:pt x="66" y="132"/>
                  </a:lnTo>
                  <a:lnTo>
                    <a:pt x="105" y="184"/>
                  </a:lnTo>
                  <a:lnTo>
                    <a:pt x="132" y="233"/>
                  </a:lnTo>
                  <a:lnTo>
                    <a:pt x="143" y="275"/>
                  </a:lnTo>
                  <a:lnTo>
                    <a:pt x="153" y="313"/>
                  </a:lnTo>
                  <a:lnTo>
                    <a:pt x="160" y="338"/>
                  </a:lnTo>
                  <a:lnTo>
                    <a:pt x="171" y="345"/>
                  </a:lnTo>
                  <a:lnTo>
                    <a:pt x="181" y="324"/>
                  </a:lnTo>
                  <a:lnTo>
                    <a:pt x="188" y="292"/>
                  </a:lnTo>
                  <a:lnTo>
                    <a:pt x="188" y="251"/>
                  </a:lnTo>
                  <a:lnTo>
                    <a:pt x="178" y="202"/>
                  </a:lnTo>
                  <a:lnTo>
                    <a:pt x="160" y="143"/>
                  </a:lnTo>
                  <a:lnTo>
                    <a:pt x="129" y="80"/>
                  </a:lnTo>
                  <a:lnTo>
                    <a:pt x="91" y="28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rot="193800">
              <a:off x="3954240" y="6450480"/>
              <a:ext cx="90360" cy="26640"/>
            </a:xfrm>
            <a:custGeom>
              <a:avLst/>
              <a:gdLst/>
              <a:ahLst/>
              <a:rect l="l" t="t" r="r" b="b"/>
              <a:pathLst>
                <a:path w="184" h="59">
                  <a:moveTo>
                    <a:pt x="90" y="4"/>
                  </a:moveTo>
                  <a:lnTo>
                    <a:pt x="52" y="14"/>
                  </a:lnTo>
                  <a:lnTo>
                    <a:pt x="17" y="28"/>
                  </a:lnTo>
                  <a:lnTo>
                    <a:pt x="0" y="38"/>
                  </a:lnTo>
                  <a:lnTo>
                    <a:pt x="7" y="49"/>
                  </a:lnTo>
                  <a:lnTo>
                    <a:pt x="31" y="49"/>
                  </a:lnTo>
                  <a:lnTo>
                    <a:pt x="59" y="45"/>
                  </a:lnTo>
                  <a:lnTo>
                    <a:pt x="87" y="38"/>
                  </a:lnTo>
                  <a:lnTo>
                    <a:pt x="108" y="38"/>
                  </a:lnTo>
                  <a:lnTo>
                    <a:pt x="125" y="45"/>
                  </a:lnTo>
                  <a:lnTo>
                    <a:pt x="150" y="56"/>
                  </a:lnTo>
                  <a:lnTo>
                    <a:pt x="171" y="59"/>
                  </a:lnTo>
                  <a:lnTo>
                    <a:pt x="184" y="52"/>
                  </a:lnTo>
                  <a:lnTo>
                    <a:pt x="181" y="35"/>
                  </a:lnTo>
                  <a:lnTo>
                    <a:pt x="167" y="14"/>
                  </a:lnTo>
                  <a:lnTo>
                    <a:pt x="136" y="0"/>
                  </a:lnTo>
                  <a:lnTo>
                    <a:pt x="90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rot="193800">
              <a:off x="3827160" y="6803280"/>
              <a:ext cx="55800" cy="378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8" y="0"/>
                  </a:moveTo>
                  <a:lnTo>
                    <a:pt x="4" y="10"/>
                  </a:lnTo>
                  <a:lnTo>
                    <a:pt x="0" y="28"/>
                  </a:lnTo>
                  <a:lnTo>
                    <a:pt x="0" y="45"/>
                  </a:lnTo>
                  <a:lnTo>
                    <a:pt x="14" y="59"/>
                  </a:lnTo>
                  <a:lnTo>
                    <a:pt x="42" y="70"/>
                  </a:lnTo>
                  <a:lnTo>
                    <a:pt x="77" y="84"/>
                  </a:lnTo>
                  <a:lnTo>
                    <a:pt x="108" y="84"/>
                  </a:lnTo>
                  <a:lnTo>
                    <a:pt x="115" y="70"/>
                  </a:lnTo>
                  <a:lnTo>
                    <a:pt x="91" y="45"/>
                  </a:lnTo>
                  <a:lnTo>
                    <a:pt x="60" y="24"/>
                  </a:lnTo>
                  <a:lnTo>
                    <a:pt x="32" y="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rot="193800">
              <a:off x="3818880" y="6914520"/>
              <a:ext cx="25200" cy="23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7" y="0"/>
                  </a:moveTo>
                  <a:lnTo>
                    <a:pt x="4" y="7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10" y="35"/>
                  </a:lnTo>
                  <a:lnTo>
                    <a:pt x="24" y="46"/>
                  </a:lnTo>
                  <a:lnTo>
                    <a:pt x="35" y="49"/>
                  </a:lnTo>
                  <a:lnTo>
                    <a:pt x="45" y="46"/>
                  </a:lnTo>
                  <a:lnTo>
                    <a:pt x="52" y="39"/>
                  </a:lnTo>
                  <a:lnTo>
                    <a:pt x="45" y="25"/>
                  </a:lnTo>
                  <a:lnTo>
                    <a:pt x="35" y="1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rot="193800">
              <a:off x="3782160" y="6947640"/>
              <a:ext cx="25560" cy="172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7" y="3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24" y="38"/>
                  </a:lnTo>
                  <a:lnTo>
                    <a:pt x="38" y="31"/>
                  </a:lnTo>
                  <a:lnTo>
                    <a:pt x="48" y="20"/>
                  </a:lnTo>
                  <a:lnTo>
                    <a:pt x="52" y="10"/>
                  </a:lnTo>
                  <a:lnTo>
                    <a:pt x="45" y="3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 rot="193800">
              <a:off x="4052160" y="7124400"/>
              <a:ext cx="230040" cy="72720"/>
            </a:xfrm>
            <a:custGeom>
              <a:avLst/>
              <a:gdLst/>
              <a:ahLst/>
              <a:rect l="l" t="t" r="r" b="b"/>
              <a:pathLst>
                <a:path w="467" h="157">
                  <a:moveTo>
                    <a:pt x="432" y="10"/>
                  </a:moveTo>
                  <a:lnTo>
                    <a:pt x="390" y="3"/>
                  </a:lnTo>
                  <a:lnTo>
                    <a:pt x="286" y="0"/>
                  </a:lnTo>
                  <a:lnTo>
                    <a:pt x="154" y="14"/>
                  </a:lnTo>
                  <a:lnTo>
                    <a:pt x="28" y="66"/>
                  </a:lnTo>
                  <a:lnTo>
                    <a:pt x="18" y="77"/>
                  </a:lnTo>
                  <a:lnTo>
                    <a:pt x="7" y="94"/>
                  </a:lnTo>
                  <a:lnTo>
                    <a:pt x="0" y="118"/>
                  </a:lnTo>
                  <a:lnTo>
                    <a:pt x="4" y="146"/>
                  </a:lnTo>
                  <a:lnTo>
                    <a:pt x="21" y="157"/>
                  </a:lnTo>
                  <a:lnTo>
                    <a:pt x="63" y="139"/>
                  </a:lnTo>
                  <a:lnTo>
                    <a:pt x="112" y="108"/>
                  </a:lnTo>
                  <a:lnTo>
                    <a:pt x="157" y="87"/>
                  </a:lnTo>
                  <a:lnTo>
                    <a:pt x="202" y="70"/>
                  </a:lnTo>
                  <a:lnTo>
                    <a:pt x="265" y="52"/>
                  </a:lnTo>
                  <a:lnTo>
                    <a:pt x="324" y="38"/>
                  </a:lnTo>
                  <a:lnTo>
                    <a:pt x="373" y="35"/>
                  </a:lnTo>
                  <a:lnTo>
                    <a:pt x="411" y="35"/>
                  </a:lnTo>
                  <a:lnTo>
                    <a:pt x="439" y="35"/>
                  </a:lnTo>
                  <a:lnTo>
                    <a:pt x="456" y="35"/>
                  </a:lnTo>
                  <a:lnTo>
                    <a:pt x="467" y="31"/>
                  </a:lnTo>
                  <a:lnTo>
                    <a:pt x="460" y="24"/>
                  </a:lnTo>
                  <a:lnTo>
                    <a:pt x="450" y="17"/>
                  </a:lnTo>
                  <a:lnTo>
                    <a:pt x="439" y="10"/>
                  </a:lnTo>
                  <a:lnTo>
                    <a:pt x="432" y="10"/>
                  </a:lnTo>
                  <a:lnTo>
                    <a:pt x="432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rot="193800">
              <a:off x="4312080" y="7200000"/>
              <a:ext cx="111240" cy="110160"/>
            </a:xfrm>
            <a:custGeom>
              <a:avLst/>
              <a:gdLst/>
              <a:ahLst/>
              <a:rect l="l" t="t" r="r" b="b"/>
              <a:pathLst>
                <a:path w="226" h="244">
                  <a:moveTo>
                    <a:pt x="171" y="10"/>
                  </a:moveTo>
                  <a:lnTo>
                    <a:pt x="132" y="45"/>
                  </a:lnTo>
                  <a:lnTo>
                    <a:pt x="84" y="90"/>
                  </a:lnTo>
                  <a:lnTo>
                    <a:pt x="38" y="143"/>
                  </a:lnTo>
                  <a:lnTo>
                    <a:pt x="10" y="195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21" y="233"/>
                  </a:lnTo>
                  <a:lnTo>
                    <a:pt x="49" y="205"/>
                  </a:lnTo>
                  <a:lnTo>
                    <a:pt x="91" y="167"/>
                  </a:lnTo>
                  <a:lnTo>
                    <a:pt x="132" y="129"/>
                  </a:lnTo>
                  <a:lnTo>
                    <a:pt x="160" y="104"/>
                  </a:lnTo>
                  <a:lnTo>
                    <a:pt x="181" y="90"/>
                  </a:lnTo>
                  <a:lnTo>
                    <a:pt x="198" y="80"/>
                  </a:lnTo>
                  <a:lnTo>
                    <a:pt x="216" y="73"/>
                  </a:lnTo>
                  <a:lnTo>
                    <a:pt x="223" y="63"/>
                  </a:lnTo>
                  <a:lnTo>
                    <a:pt x="223" y="45"/>
                  </a:lnTo>
                  <a:lnTo>
                    <a:pt x="226" y="28"/>
                  </a:lnTo>
                  <a:lnTo>
                    <a:pt x="219" y="10"/>
                  </a:lnTo>
                  <a:lnTo>
                    <a:pt x="212" y="0"/>
                  </a:lnTo>
                  <a:lnTo>
                    <a:pt x="198" y="0"/>
                  </a:lnTo>
                  <a:lnTo>
                    <a:pt x="185" y="3"/>
                  </a:lnTo>
                  <a:lnTo>
                    <a:pt x="174" y="10"/>
                  </a:lnTo>
                  <a:lnTo>
                    <a:pt x="171" y="10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rot="193800">
              <a:off x="3932640" y="7409520"/>
              <a:ext cx="27000" cy="18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4" y="0"/>
                  </a:moveTo>
                  <a:lnTo>
                    <a:pt x="10" y="0"/>
                  </a:lnTo>
                  <a:lnTo>
                    <a:pt x="3" y="7"/>
                  </a:lnTo>
                  <a:lnTo>
                    <a:pt x="0" y="14"/>
                  </a:lnTo>
                  <a:lnTo>
                    <a:pt x="7" y="25"/>
                  </a:lnTo>
                  <a:lnTo>
                    <a:pt x="17" y="32"/>
                  </a:lnTo>
                  <a:lnTo>
                    <a:pt x="31" y="39"/>
                  </a:lnTo>
                  <a:lnTo>
                    <a:pt x="41" y="42"/>
                  </a:lnTo>
                  <a:lnTo>
                    <a:pt x="52" y="39"/>
                  </a:lnTo>
                  <a:lnTo>
                    <a:pt x="55" y="28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rot="193800">
              <a:off x="3663000" y="7329960"/>
              <a:ext cx="56880" cy="313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56" y="0"/>
                  </a:moveTo>
                  <a:lnTo>
                    <a:pt x="38" y="11"/>
                  </a:lnTo>
                  <a:lnTo>
                    <a:pt x="17" y="28"/>
                  </a:lnTo>
                  <a:lnTo>
                    <a:pt x="0" y="45"/>
                  </a:lnTo>
                  <a:lnTo>
                    <a:pt x="3" y="63"/>
                  </a:lnTo>
                  <a:lnTo>
                    <a:pt x="17" y="66"/>
                  </a:lnTo>
                  <a:lnTo>
                    <a:pt x="31" y="63"/>
                  </a:lnTo>
                  <a:lnTo>
                    <a:pt x="45" y="56"/>
                  </a:lnTo>
                  <a:lnTo>
                    <a:pt x="59" y="49"/>
                  </a:lnTo>
                  <a:lnTo>
                    <a:pt x="80" y="38"/>
                  </a:lnTo>
                  <a:lnTo>
                    <a:pt x="97" y="31"/>
                  </a:lnTo>
                  <a:lnTo>
                    <a:pt x="111" y="24"/>
                  </a:lnTo>
                  <a:lnTo>
                    <a:pt x="115" y="14"/>
                  </a:lnTo>
                  <a:lnTo>
                    <a:pt x="101" y="7"/>
                  </a:lnTo>
                  <a:lnTo>
                    <a:pt x="80" y="4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93800">
              <a:off x="4002120" y="7440840"/>
              <a:ext cx="198360" cy="8532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401" y="0"/>
                  </a:moveTo>
                  <a:lnTo>
                    <a:pt x="310" y="11"/>
                  </a:lnTo>
                  <a:lnTo>
                    <a:pt x="199" y="32"/>
                  </a:lnTo>
                  <a:lnTo>
                    <a:pt x="101" y="59"/>
                  </a:lnTo>
                  <a:lnTo>
                    <a:pt x="45" y="87"/>
                  </a:lnTo>
                  <a:lnTo>
                    <a:pt x="21" y="126"/>
                  </a:lnTo>
                  <a:lnTo>
                    <a:pt x="4" y="164"/>
                  </a:lnTo>
                  <a:lnTo>
                    <a:pt x="0" y="188"/>
                  </a:lnTo>
                  <a:lnTo>
                    <a:pt x="32" y="185"/>
                  </a:lnTo>
                  <a:lnTo>
                    <a:pt x="115" y="140"/>
                  </a:lnTo>
                  <a:lnTo>
                    <a:pt x="237" y="77"/>
                  </a:lnTo>
                  <a:lnTo>
                    <a:pt x="352" y="25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rot="193800">
              <a:off x="3343320" y="7529040"/>
              <a:ext cx="196920" cy="44280"/>
            </a:xfrm>
            <a:custGeom>
              <a:avLst/>
              <a:gdLst/>
              <a:ahLst/>
              <a:rect l="l" t="t" r="r" b="b"/>
              <a:pathLst>
                <a:path w="401" h="95">
                  <a:moveTo>
                    <a:pt x="324" y="7"/>
                  </a:moveTo>
                  <a:lnTo>
                    <a:pt x="268" y="11"/>
                  </a:lnTo>
                  <a:lnTo>
                    <a:pt x="195" y="18"/>
                  </a:lnTo>
                  <a:lnTo>
                    <a:pt x="125" y="25"/>
                  </a:lnTo>
                  <a:lnTo>
                    <a:pt x="80" y="35"/>
                  </a:lnTo>
                  <a:lnTo>
                    <a:pt x="49" y="49"/>
                  </a:lnTo>
                  <a:lnTo>
                    <a:pt x="21" y="70"/>
                  </a:lnTo>
                  <a:lnTo>
                    <a:pt x="0" y="88"/>
                  </a:lnTo>
                  <a:lnTo>
                    <a:pt x="4" y="95"/>
                  </a:lnTo>
                  <a:lnTo>
                    <a:pt x="31" y="91"/>
                  </a:lnTo>
                  <a:lnTo>
                    <a:pt x="80" y="81"/>
                  </a:lnTo>
                  <a:lnTo>
                    <a:pt x="136" y="70"/>
                  </a:lnTo>
                  <a:lnTo>
                    <a:pt x="185" y="60"/>
                  </a:lnTo>
                  <a:lnTo>
                    <a:pt x="244" y="46"/>
                  </a:lnTo>
                  <a:lnTo>
                    <a:pt x="317" y="32"/>
                  </a:lnTo>
                  <a:lnTo>
                    <a:pt x="380" y="18"/>
                  </a:lnTo>
                  <a:lnTo>
                    <a:pt x="401" y="7"/>
                  </a:lnTo>
                  <a:lnTo>
                    <a:pt x="376" y="0"/>
                  </a:lnTo>
                  <a:lnTo>
                    <a:pt x="352" y="4"/>
                  </a:lnTo>
                  <a:lnTo>
                    <a:pt x="331" y="4"/>
                  </a:lnTo>
                  <a:lnTo>
                    <a:pt x="324" y="7"/>
                  </a:lnTo>
                  <a:lnTo>
                    <a:pt x="324" y="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rot="193800">
              <a:off x="3900600" y="6671520"/>
              <a:ext cx="77760" cy="8820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35" y="157"/>
                  </a:moveTo>
                  <a:lnTo>
                    <a:pt x="39" y="157"/>
                  </a:lnTo>
                  <a:lnTo>
                    <a:pt x="49" y="153"/>
                  </a:lnTo>
                  <a:lnTo>
                    <a:pt x="63" y="153"/>
                  </a:lnTo>
                  <a:lnTo>
                    <a:pt x="80" y="153"/>
                  </a:lnTo>
                  <a:lnTo>
                    <a:pt x="94" y="160"/>
                  </a:lnTo>
                  <a:lnTo>
                    <a:pt x="108" y="174"/>
                  </a:lnTo>
                  <a:lnTo>
                    <a:pt x="119" y="185"/>
                  </a:lnTo>
                  <a:lnTo>
                    <a:pt x="126" y="191"/>
                  </a:lnTo>
                  <a:lnTo>
                    <a:pt x="161" y="94"/>
                  </a:lnTo>
                  <a:lnTo>
                    <a:pt x="0" y="0"/>
                  </a:lnTo>
                  <a:lnTo>
                    <a:pt x="42" y="97"/>
                  </a:lnTo>
                  <a:lnTo>
                    <a:pt x="35" y="157"/>
                  </a:lnTo>
                  <a:lnTo>
                    <a:pt x="35" y="15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rot="193800">
              <a:off x="4019760" y="6927840"/>
              <a:ext cx="73080" cy="97920"/>
            </a:xfrm>
            <a:custGeom>
              <a:avLst/>
              <a:gdLst/>
              <a:ahLst/>
              <a:rect l="l" t="t" r="r" b="b"/>
              <a:pathLst>
                <a:path w="150" h="213">
                  <a:moveTo>
                    <a:pt x="46" y="115"/>
                  </a:moveTo>
                  <a:lnTo>
                    <a:pt x="70" y="94"/>
                  </a:lnTo>
                  <a:lnTo>
                    <a:pt x="112" y="119"/>
                  </a:lnTo>
                  <a:lnTo>
                    <a:pt x="140" y="213"/>
                  </a:lnTo>
                  <a:lnTo>
                    <a:pt x="150" y="67"/>
                  </a:lnTo>
                  <a:lnTo>
                    <a:pt x="0" y="0"/>
                  </a:lnTo>
                  <a:lnTo>
                    <a:pt x="46" y="115"/>
                  </a:lnTo>
                  <a:lnTo>
                    <a:pt x="46" y="11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rot="193800">
              <a:off x="3870360" y="6961320"/>
              <a:ext cx="106200" cy="78840"/>
            </a:xfrm>
            <a:custGeom>
              <a:avLst/>
              <a:gdLst/>
              <a:ahLst/>
              <a:rect l="l" t="t" r="r" b="b"/>
              <a:pathLst>
                <a:path w="215" h="175">
                  <a:moveTo>
                    <a:pt x="41" y="175"/>
                  </a:moveTo>
                  <a:lnTo>
                    <a:pt x="73" y="98"/>
                  </a:lnTo>
                  <a:lnTo>
                    <a:pt x="135" y="67"/>
                  </a:lnTo>
                  <a:lnTo>
                    <a:pt x="215" y="28"/>
                  </a:lnTo>
                  <a:lnTo>
                    <a:pt x="0" y="0"/>
                  </a:lnTo>
                  <a:lnTo>
                    <a:pt x="41" y="175"/>
                  </a:lnTo>
                  <a:lnTo>
                    <a:pt x="41" y="1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rot="193800">
              <a:off x="3717000" y="7014240"/>
              <a:ext cx="82800" cy="101160"/>
            </a:xfrm>
            <a:custGeom>
              <a:avLst/>
              <a:gdLst/>
              <a:ahLst/>
              <a:rect l="l" t="t" r="r" b="b"/>
              <a:pathLst>
                <a:path w="167" h="223">
                  <a:moveTo>
                    <a:pt x="45" y="223"/>
                  </a:moveTo>
                  <a:lnTo>
                    <a:pt x="49" y="213"/>
                  </a:lnTo>
                  <a:lnTo>
                    <a:pt x="56" y="195"/>
                  </a:lnTo>
                  <a:lnTo>
                    <a:pt x="66" y="175"/>
                  </a:lnTo>
                  <a:lnTo>
                    <a:pt x="87" y="161"/>
                  </a:lnTo>
                  <a:lnTo>
                    <a:pt x="108" y="157"/>
                  </a:lnTo>
                  <a:lnTo>
                    <a:pt x="132" y="161"/>
                  </a:lnTo>
                  <a:lnTo>
                    <a:pt x="146" y="164"/>
                  </a:lnTo>
                  <a:lnTo>
                    <a:pt x="153" y="164"/>
                  </a:lnTo>
                  <a:lnTo>
                    <a:pt x="167" y="12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14" y="98"/>
                  </a:lnTo>
                  <a:lnTo>
                    <a:pt x="45" y="223"/>
                  </a:lnTo>
                  <a:lnTo>
                    <a:pt x="45" y="2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rot="193800">
              <a:off x="3777480" y="7205760"/>
              <a:ext cx="98280" cy="10404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198" y="111"/>
                  </a:moveTo>
                  <a:lnTo>
                    <a:pt x="188" y="111"/>
                  </a:lnTo>
                  <a:lnTo>
                    <a:pt x="170" y="115"/>
                  </a:lnTo>
                  <a:lnTo>
                    <a:pt x="146" y="125"/>
                  </a:lnTo>
                  <a:lnTo>
                    <a:pt x="125" y="139"/>
                  </a:lnTo>
                  <a:lnTo>
                    <a:pt x="121" y="160"/>
                  </a:lnTo>
                  <a:lnTo>
                    <a:pt x="125" y="192"/>
                  </a:lnTo>
                  <a:lnTo>
                    <a:pt x="128" y="219"/>
                  </a:lnTo>
                  <a:lnTo>
                    <a:pt x="132" y="230"/>
                  </a:lnTo>
                  <a:lnTo>
                    <a:pt x="31" y="143"/>
                  </a:lnTo>
                  <a:lnTo>
                    <a:pt x="0" y="115"/>
                  </a:lnTo>
                  <a:lnTo>
                    <a:pt x="83" y="0"/>
                  </a:lnTo>
                  <a:lnTo>
                    <a:pt x="198" y="111"/>
                  </a:lnTo>
                  <a:lnTo>
                    <a:pt x="198" y="1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rot="193800">
              <a:off x="3628080" y="7372800"/>
              <a:ext cx="60480" cy="500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6" y="14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4" y="52"/>
                  </a:lnTo>
                  <a:lnTo>
                    <a:pt x="28" y="77"/>
                  </a:lnTo>
                  <a:lnTo>
                    <a:pt x="52" y="101"/>
                  </a:lnTo>
                  <a:lnTo>
                    <a:pt x="77" y="112"/>
                  </a:lnTo>
                  <a:lnTo>
                    <a:pt x="101" y="108"/>
                  </a:lnTo>
                  <a:lnTo>
                    <a:pt x="115" y="94"/>
                  </a:lnTo>
                  <a:lnTo>
                    <a:pt x="122" y="87"/>
                  </a:lnTo>
                  <a:lnTo>
                    <a:pt x="77" y="0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rot="193800">
              <a:off x="3915000" y="7433280"/>
              <a:ext cx="111240" cy="6732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140" y="0"/>
                  </a:moveTo>
                  <a:lnTo>
                    <a:pt x="115" y="18"/>
                  </a:lnTo>
                  <a:lnTo>
                    <a:pt x="66" y="56"/>
                  </a:lnTo>
                  <a:lnTo>
                    <a:pt x="18" y="98"/>
                  </a:lnTo>
                  <a:lnTo>
                    <a:pt x="0" y="129"/>
                  </a:lnTo>
                  <a:lnTo>
                    <a:pt x="21" y="143"/>
                  </a:lnTo>
                  <a:lnTo>
                    <a:pt x="60" y="150"/>
                  </a:lnTo>
                  <a:lnTo>
                    <a:pt x="98" y="150"/>
                  </a:lnTo>
                  <a:lnTo>
                    <a:pt x="115" y="150"/>
                  </a:lnTo>
                  <a:lnTo>
                    <a:pt x="223" y="4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rot="193800">
              <a:off x="4016880" y="7238160"/>
              <a:ext cx="373320" cy="196560"/>
            </a:xfrm>
            <a:custGeom>
              <a:avLst/>
              <a:gdLst/>
              <a:ahLst/>
              <a:rect l="l" t="t" r="r" b="b"/>
              <a:pathLst>
                <a:path w="759" h="429">
                  <a:moveTo>
                    <a:pt x="0" y="397"/>
                  </a:moveTo>
                  <a:lnTo>
                    <a:pt x="18" y="394"/>
                  </a:lnTo>
                  <a:lnTo>
                    <a:pt x="66" y="387"/>
                  </a:lnTo>
                  <a:lnTo>
                    <a:pt x="122" y="373"/>
                  </a:lnTo>
                  <a:lnTo>
                    <a:pt x="174" y="352"/>
                  </a:lnTo>
                  <a:lnTo>
                    <a:pt x="216" y="328"/>
                  </a:lnTo>
                  <a:lnTo>
                    <a:pt x="251" y="303"/>
                  </a:lnTo>
                  <a:lnTo>
                    <a:pt x="279" y="283"/>
                  </a:lnTo>
                  <a:lnTo>
                    <a:pt x="282" y="269"/>
                  </a:lnTo>
                  <a:lnTo>
                    <a:pt x="265" y="241"/>
                  </a:lnTo>
                  <a:lnTo>
                    <a:pt x="240" y="192"/>
                  </a:lnTo>
                  <a:lnTo>
                    <a:pt x="213" y="143"/>
                  </a:lnTo>
                  <a:lnTo>
                    <a:pt x="199" y="105"/>
                  </a:lnTo>
                  <a:lnTo>
                    <a:pt x="195" y="73"/>
                  </a:lnTo>
                  <a:lnTo>
                    <a:pt x="199" y="39"/>
                  </a:lnTo>
                  <a:lnTo>
                    <a:pt x="202" y="14"/>
                  </a:lnTo>
                  <a:lnTo>
                    <a:pt x="202" y="7"/>
                  </a:lnTo>
                  <a:lnTo>
                    <a:pt x="324" y="206"/>
                  </a:lnTo>
                  <a:lnTo>
                    <a:pt x="362" y="251"/>
                  </a:lnTo>
                  <a:lnTo>
                    <a:pt x="387" y="244"/>
                  </a:lnTo>
                  <a:lnTo>
                    <a:pt x="442" y="223"/>
                  </a:lnTo>
                  <a:lnTo>
                    <a:pt x="508" y="195"/>
                  </a:lnTo>
                  <a:lnTo>
                    <a:pt x="571" y="164"/>
                  </a:lnTo>
                  <a:lnTo>
                    <a:pt x="620" y="115"/>
                  </a:lnTo>
                  <a:lnTo>
                    <a:pt x="662" y="63"/>
                  </a:lnTo>
                  <a:lnTo>
                    <a:pt x="686" y="18"/>
                  </a:lnTo>
                  <a:lnTo>
                    <a:pt x="696" y="0"/>
                  </a:lnTo>
                  <a:lnTo>
                    <a:pt x="759" y="84"/>
                  </a:lnTo>
                  <a:lnTo>
                    <a:pt x="759" y="105"/>
                  </a:lnTo>
                  <a:lnTo>
                    <a:pt x="703" y="143"/>
                  </a:lnTo>
                  <a:lnTo>
                    <a:pt x="630" y="251"/>
                  </a:lnTo>
                  <a:lnTo>
                    <a:pt x="474" y="356"/>
                  </a:lnTo>
                  <a:lnTo>
                    <a:pt x="314" y="418"/>
                  </a:lnTo>
                  <a:lnTo>
                    <a:pt x="139" y="429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rot="193800">
              <a:off x="3678480" y="6024600"/>
              <a:ext cx="239400" cy="205920"/>
            </a:xfrm>
            <a:custGeom>
              <a:avLst/>
              <a:gdLst/>
              <a:ahLst/>
              <a:rect l="l" t="t" r="r" b="b"/>
              <a:pathLst>
                <a:path w="487" h="449">
                  <a:moveTo>
                    <a:pt x="0" y="449"/>
                  </a:moveTo>
                  <a:lnTo>
                    <a:pt x="17" y="428"/>
                  </a:lnTo>
                  <a:lnTo>
                    <a:pt x="35" y="411"/>
                  </a:lnTo>
                  <a:lnTo>
                    <a:pt x="45" y="390"/>
                  </a:lnTo>
                  <a:lnTo>
                    <a:pt x="59" y="369"/>
                  </a:lnTo>
                  <a:lnTo>
                    <a:pt x="69" y="341"/>
                  </a:lnTo>
                  <a:lnTo>
                    <a:pt x="80" y="306"/>
                  </a:lnTo>
                  <a:lnTo>
                    <a:pt x="94" y="265"/>
                  </a:lnTo>
                  <a:lnTo>
                    <a:pt x="108" y="223"/>
                  </a:lnTo>
                  <a:lnTo>
                    <a:pt x="118" y="184"/>
                  </a:lnTo>
                  <a:lnTo>
                    <a:pt x="136" y="160"/>
                  </a:lnTo>
                  <a:lnTo>
                    <a:pt x="153" y="146"/>
                  </a:lnTo>
                  <a:lnTo>
                    <a:pt x="160" y="143"/>
                  </a:lnTo>
                  <a:lnTo>
                    <a:pt x="167" y="139"/>
                  </a:lnTo>
                  <a:lnTo>
                    <a:pt x="188" y="129"/>
                  </a:lnTo>
                  <a:lnTo>
                    <a:pt x="223" y="118"/>
                  </a:lnTo>
                  <a:lnTo>
                    <a:pt x="268" y="108"/>
                  </a:lnTo>
                  <a:lnTo>
                    <a:pt x="310" y="90"/>
                  </a:lnTo>
                  <a:lnTo>
                    <a:pt x="351" y="73"/>
                  </a:lnTo>
                  <a:lnTo>
                    <a:pt x="383" y="59"/>
                  </a:lnTo>
                  <a:lnTo>
                    <a:pt x="404" y="52"/>
                  </a:lnTo>
                  <a:lnTo>
                    <a:pt x="432" y="38"/>
                  </a:lnTo>
                  <a:lnTo>
                    <a:pt x="452" y="28"/>
                  </a:lnTo>
                  <a:lnTo>
                    <a:pt x="470" y="14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42" y="0"/>
                  </a:lnTo>
                  <a:lnTo>
                    <a:pt x="418" y="7"/>
                  </a:lnTo>
                  <a:lnTo>
                    <a:pt x="390" y="17"/>
                  </a:lnTo>
                  <a:lnTo>
                    <a:pt x="369" y="24"/>
                  </a:lnTo>
                  <a:lnTo>
                    <a:pt x="338" y="38"/>
                  </a:lnTo>
                  <a:lnTo>
                    <a:pt x="296" y="56"/>
                  </a:lnTo>
                  <a:lnTo>
                    <a:pt x="257" y="69"/>
                  </a:lnTo>
                  <a:lnTo>
                    <a:pt x="212" y="80"/>
                  </a:lnTo>
                  <a:lnTo>
                    <a:pt x="177" y="94"/>
                  </a:lnTo>
                  <a:lnTo>
                    <a:pt x="153" y="104"/>
                  </a:lnTo>
                  <a:lnTo>
                    <a:pt x="143" y="108"/>
                  </a:lnTo>
                  <a:lnTo>
                    <a:pt x="139" y="108"/>
                  </a:lnTo>
                  <a:lnTo>
                    <a:pt x="132" y="111"/>
                  </a:lnTo>
                  <a:lnTo>
                    <a:pt x="122" y="118"/>
                  </a:lnTo>
                  <a:lnTo>
                    <a:pt x="111" y="132"/>
                  </a:lnTo>
                  <a:lnTo>
                    <a:pt x="94" y="146"/>
                  </a:lnTo>
                  <a:lnTo>
                    <a:pt x="83" y="167"/>
                  </a:lnTo>
                  <a:lnTo>
                    <a:pt x="73" y="188"/>
                  </a:lnTo>
                  <a:lnTo>
                    <a:pt x="66" y="212"/>
                  </a:lnTo>
                  <a:lnTo>
                    <a:pt x="56" y="258"/>
                  </a:lnTo>
                  <a:lnTo>
                    <a:pt x="45" y="296"/>
                  </a:lnTo>
                  <a:lnTo>
                    <a:pt x="35" y="331"/>
                  </a:lnTo>
                  <a:lnTo>
                    <a:pt x="28" y="352"/>
                  </a:lnTo>
                  <a:lnTo>
                    <a:pt x="17" y="376"/>
                  </a:lnTo>
                  <a:lnTo>
                    <a:pt x="10" y="400"/>
                  </a:lnTo>
                  <a:lnTo>
                    <a:pt x="3" y="421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rot="193800">
              <a:off x="3639600" y="6017400"/>
              <a:ext cx="139680" cy="7092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0" y="108"/>
                  </a:moveTo>
                  <a:lnTo>
                    <a:pt x="7" y="119"/>
                  </a:lnTo>
                  <a:lnTo>
                    <a:pt x="17" y="129"/>
                  </a:lnTo>
                  <a:lnTo>
                    <a:pt x="28" y="133"/>
                  </a:lnTo>
                  <a:lnTo>
                    <a:pt x="38" y="140"/>
                  </a:lnTo>
                  <a:lnTo>
                    <a:pt x="52" y="143"/>
                  </a:lnTo>
                  <a:lnTo>
                    <a:pt x="66" y="150"/>
                  </a:lnTo>
                  <a:lnTo>
                    <a:pt x="87" y="154"/>
                  </a:lnTo>
                  <a:lnTo>
                    <a:pt x="111" y="157"/>
                  </a:lnTo>
                  <a:lnTo>
                    <a:pt x="125" y="154"/>
                  </a:lnTo>
                  <a:lnTo>
                    <a:pt x="139" y="150"/>
                  </a:lnTo>
                  <a:lnTo>
                    <a:pt x="153" y="147"/>
                  </a:lnTo>
                  <a:lnTo>
                    <a:pt x="163" y="143"/>
                  </a:lnTo>
                  <a:lnTo>
                    <a:pt x="167" y="136"/>
                  </a:lnTo>
                  <a:lnTo>
                    <a:pt x="170" y="129"/>
                  </a:lnTo>
                  <a:lnTo>
                    <a:pt x="174" y="129"/>
                  </a:lnTo>
                  <a:lnTo>
                    <a:pt x="174" y="129"/>
                  </a:lnTo>
                  <a:lnTo>
                    <a:pt x="177" y="122"/>
                  </a:lnTo>
                  <a:lnTo>
                    <a:pt x="188" y="112"/>
                  </a:lnTo>
                  <a:lnTo>
                    <a:pt x="198" y="101"/>
                  </a:lnTo>
                  <a:lnTo>
                    <a:pt x="209" y="87"/>
                  </a:lnTo>
                  <a:lnTo>
                    <a:pt x="226" y="73"/>
                  </a:lnTo>
                  <a:lnTo>
                    <a:pt x="240" y="63"/>
                  </a:lnTo>
                  <a:lnTo>
                    <a:pt x="254" y="53"/>
                  </a:lnTo>
                  <a:lnTo>
                    <a:pt x="261" y="42"/>
                  </a:lnTo>
                  <a:lnTo>
                    <a:pt x="271" y="32"/>
                  </a:lnTo>
                  <a:lnTo>
                    <a:pt x="278" y="21"/>
                  </a:lnTo>
                  <a:lnTo>
                    <a:pt x="282" y="11"/>
                  </a:lnTo>
                  <a:lnTo>
                    <a:pt x="285" y="0"/>
                  </a:lnTo>
                  <a:lnTo>
                    <a:pt x="271" y="0"/>
                  </a:lnTo>
                  <a:lnTo>
                    <a:pt x="261" y="0"/>
                  </a:lnTo>
                  <a:lnTo>
                    <a:pt x="250" y="4"/>
                  </a:lnTo>
                  <a:lnTo>
                    <a:pt x="240" y="11"/>
                  </a:lnTo>
                  <a:lnTo>
                    <a:pt x="230" y="18"/>
                  </a:lnTo>
                  <a:lnTo>
                    <a:pt x="216" y="32"/>
                  </a:lnTo>
                  <a:lnTo>
                    <a:pt x="202" y="42"/>
                  </a:lnTo>
                  <a:lnTo>
                    <a:pt x="184" y="60"/>
                  </a:lnTo>
                  <a:lnTo>
                    <a:pt x="167" y="73"/>
                  </a:lnTo>
                  <a:lnTo>
                    <a:pt x="156" y="87"/>
                  </a:lnTo>
                  <a:lnTo>
                    <a:pt x="150" y="98"/>
                  </a:lnTo>
                  <a:lnTo>
                    <a:pt x="146" y="101"/>
                  </a:lnTo>
                  <a:lnTo>
                    <a:pt x="143" y="101"/>
                  </a:lnTo>
                  <a:lnTo>
                    <a:pt x="143" y="105"/>
                  </a:lnTo>
                  <a:lnTo>
                    <a:pt x="139" y="108"/>
                  </a:lnTo>
                  <a:lnTo>
                    <a:pt x="139" y="112"/>
                  </a:lnTo>
                  <a:lnTo>
                    <a:pt x="132" y="115"/>
                  </a:lnTo>
                  <a:lnTo>
                    <a:pt x="129" y="115"/>
                  </a:lnTo>
                  <a:lnTo>
                    <a:pt x="122" y="115"/>
                  </a:lnTo>
                  <a:lnTo>
                    <a:pt x="115" y="115"/>
                  </a:lnTo>
                  <a:lnTo>
                    <a:pt x="94" y="115"/>
                  </a:lnTo>
                  <a:lnTo>
                    <a:pt x="76" y="112"/>
                  </a:lnTo>
                  <a:lnTo>
                    <a:pt x="62" y="105"/>
                  </a:lnTo>
                  <a:lnTo>
                    <a:pt x="52" y="101"/>
                  </a:lnTo>
                  <a:lnTo>
                    <a:pt x="38" y="101"/>
                  </a:lnTo>
                  <a:lnTo>
                    <a:pt x="24" y="101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rot="193800">
              <a:off x="3942000" y="6226560"/>
              <a:ext cx="288720" cy="356760"/>
            </a:xfrm>
            <a:custGeom>
              <a:avLst/>
              <a:gdLst/>
              <a:ahLst/>
              <a:rect l="l" t="t" r="r" b="b"/>
              <a:pathLst>
                <a:path w="589" h="777">
                  <a:moveTo>
                    <a:pt x="0" y="777"/>
                  </a:moveTo>
                  <a:lnTo>
                    <a:pt x="28" y="749"/>
                  </a:lnTo>
                  <a:lnTo>
                    <a:pt x="56" y="721"/>
                  </a:lnTo>
                  <a:lnTo>
                    <a:pt x="80" y="690"/>
                  </a:lnTo>
                  <a:lnTo>
                    <a:pt x="101" y="651"/>
                  </a:lnTo>
                  <a:lnTo>
                    <a:pt x="112" y="637"/>
                  </a:lnTo>
                  <a:lnTo>
                    <a:pt x="119" y="613"/>
                  </a:lnTo>
                  <a:lnTo>
                    <a:pt x="122" y="582"/>
                  </a:lnTo>
                  <a:lnTo>
                    <a:pt x="126" y="550"/>
                  </a:lnTo>
                  <a:lnTo>
                    <a:pt x="119" y="516"/>
                  </a:lnTo>
                  <a:lnTo>
                    <a:pt x="115" y="477"/>
                  </a:lnTo>
                  <a:lnTo>
                    <a:pt x="112" y="442"/>
                  </a:lnTo>
                  <a:lnTo>
                    <a:pt x="115" y="408"/>
                  </a:lnTo>
                  <a:lnTo>
                    <a:pt x="126" y="341"/>
                  </a:lnTo>
                  <a:lnTo>
                    <a:pt x="143" y="286"/>
                  </a:lnTo>
                  <a:lnTo>
                    <a:pt x="157" y="247"/>
                  </a:lnTo>
                  <a:lnTo>
                    <a:pt x="164" y="237"/>
                  </a:lnTo>
                  <a:lnTo>
                    <a:pt x="171" y="223"/>
                  </a:lnTo>
                  <a:lnTo>
                    <a:pt x="188" y="188"/>
                  </a:lnTo>
                  <a:lnTo>
                    <a:pt x="223" y="139"/>
                  </a:lnTo>
                  <a:lnTo>
                    <a:pt x="268" y="94"/>
                  </a:lnTo>
                  <a:lnTo>
                    <a:pt x="296" y="73"/>
                  </a:lnTo>
                  <a:lnTo>
                    <a:pt x="328" y="59"/>
                  </a:lnTo>
                  <a:lnTo>
                    <a:pt x="356" y="49"/>
                  </a:lnTo>
                  <a:lnTo>
                    <a:pt x="387" y="42"/>
                  </a:lnTo>
                  <a:lnTo>
                    <a:pt x="415" y="38"/>
                  </a:lnTo>
                  <a:lnTo>
                    <a:pt x="439" y="38"/>
                  </a:lnTo>
                  <a:lnTo>
                    <a:pt x="456" y="42"/>
                  </a:lnTo>
                  <a:lnTo>
                    <a:pt x="474" y="49"/>
                  </a:lnTo>
                  <a:lnTo>
                    <a:pt x="505" y="66"/>
                  </a:lnTo>
                  <a:lnTo>
                    <a:pt x="533" y="91"/>
                  </a:lnTo>
                  <a:lnTo>
                    <a:pt x="561" y="111"/>
                  </a:lnTo>
                  <a:lnTo>
                    <a:pt x="589" y="139"/>
                  </a:lnTo>
                  <a:lnTo>
                    <a:pt x="575" y="104"/>
                  </a:lnTo>
                  <a:lnTo>
                    <a:pt x="557" y="70"/>
                  </a:lnTo>
                  <a:lnTo>
                    <a:pt x="530" y="38"/>
                  </a:lnTo>
                  <a:lnTo>
                    <a:pt x="488" y="10"/>
                  </a:lnTo>
                  <a:lnTo>
                    <a:pt x="470" y="3"/>
                  </a:lnTo>
                  <a:lnTo>
                    <a:pt x="446" y="0"/>
                  </a:lnTo>
                  <a:lnTo>
                    <a:pt x="415" y="0"/>
                  </a:lnTo>
                  <a:lnTo>
                    <a:pt x="383" y="3"/>
                  </a:lnTo>
                  <a:lnTo>
                    <a:pt x="345" y="10"/>
                  </a:lnTo>
                  <a:lnTo>
                    <a:pt x="310" y="24"/>
                  </a:lnTo>
                  <a:lnTo>
                    <a:pt x="275" y="42"/>
                  </a:lnTo>
                  <a:lnTo>
                    <a:pt x="244" y="66"/>
                  </a:lnTo>
                  <a:lnTo>
                    <a:pt x="192" y="118"/>
                  </a:lnTo>
                  <a:lnTo>
                    <a:pt x="157" y="167"/>
                  </a:lnTo>
                  <a:lnTo>
                    <a:pt x="136" y="205"/>
                  </a:lnTo>
                  <a:lnTo>
                    <a:pt x="129" y="219"/>
                  </a:lnTo>
                  <a:lnTo>
                    <a:pt x="122" y="233"/>
                  </a:lnTo>
                  <a:lnTo>
                    <a:pt x="105" y="272"/>
                  </a:lnTo>
                  <a:lnTo>
                    <a:pt x="87" y="331"/>
                  </a:lnTo>
                  <a:lnTo>
                    <a:pt x="77" y="404"/>
                  </a:lnTo>
                  <a:lnTo>
                    <a:pt x="74" y="442"/>
                  </a:lnTo>
                  <a:lnTo>
                    <a:pt x="77" y="481"/>
                  </a:lnTo>
                  <a:lnTo>
                    <a:pt x="80" y="516"/>
                  </a:lnTo>
                  <a:lnTo>
                    <a:pt x="84" y="550"/>
                  </a:lnTo>
                  <a:lnTo>
                    <a:pt x="84" y="578"/>
                  </a:lnTo>
                  <a:lnTo>
                    <a:pt x="80" y="603"/>
                  </a:lnTo>
                  <a:lnTo>
                    <a:pt x="77" y="620"/>
                  </a:lnTo>
                  <a:lnTo>
                    <a:pt x="70" y="634"/>
                  </a:lnTo>
                  <a:lnTo>
                    <a:pt x="49" y="672"/>
                  </a:lnTo>
                  <a:lnTo>
                    <a:pt x="32" y="707"/>
                  </a:lnTo>
                  <a:lnTo>
                    <a:pt x="18" y="739"/>
                  </a:lnTo>
                  <a:lnTo>
                    <a:pt x="0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rot="193800">
              <a:off x="3905640" y="6164280"/>
              <a:ext cx="344520" cy="269640"/>
            </a:xfrm>
            <a:custGeom>
              <a:avLst/>
              <a:gdLst/>
              <a:ahLst/>
              <a:rect l="l" t="t" r="r" b="b"/>
              <a:pathLst>
                <a:path w="700" h="589">
                  <a:moveTo>
                    <a:pt x="111" y="589"/>
                  </a:moveTo>
                  <a:lnTo>
                    <a:pt x="101" y="547"/>
                  </a:lnTo>
                  <a:lnTo>
                    <a:pt x="87" y="512"/>
                  </a:lnTo>
                  <a:lnTo>
                    <a:pt x="70" y="474"/>
                  </a:lnTo>
                  <a:lnTo>
                    <a:pt x="52" y="436"/>
                  </a:lnTo>
                  <a:lnTo>
                    <a:pt x="45" y="418"/>
                  </a:lnTo>
                  <a:lnTo>
                    <a:pt x="42" y="401"/>
                  </a:lnTo>
                  <a:lnTo>
                    <a:pt x="38" y="376"/>
                  </a:lnTo>
                  <a:lnTo>
                    <a:pt x="45" y="355"/>
                  </a:lnTo>
                  <a:lnTo>
                    <a:pt x="63" y="328"/>
                  </a:lnTo>
                  <a:lnTo>
                    <a:pt x="91" y="303"/>
                  </a:lnTo>
                  <a:lnTo>
                    <a:pt x="118" y="279"/>
                  </a:lnTo>
                  <a:lnTo>
                    <a:pt x="150" y="251"/>
                  </a:lnTo>
                  <a:lnTo>
                    <a:pt x="202" y="206"/>
                  </a:lnTo>
                  <a:lnTo>
                    <a:pt x="251" y="167"/>
                  </a:lnTo>
                  <a:lnTo>
                    <a:pt x="289" y="139"/>
                  </a:lnTo>
                  <a:lnTo>
                    <a:pt x="303" y="132"/>
                  </a:lnTo>
                  <a:lnTo>
                    <a:pt x="313" y="122"/>
                  </a:lnTo>
                  <a:lnTo>
                    <a:pt x="352" y="101"/>
                  </a:lnTo>
                  <a:lnTo>
                    <a:pt x="404" y="73"/>
                  </a:lnTo>
                  <a:lnTo>
                    <a:pt x="474" y="49"/>
                  </a:lnTo>
                  <a:lnTo>
                    <a:pt x="505" y="38"/>
                  </a:lnTo>
                  <a:lnTo>
                    <a:pt x="536" y="42"/>
                  </a:lnTo>
                  <a:lnTo>
                    <a:pt x="564" y="56"/>
                  </a:lnTo>
                  <a:lnTo>
                    <a:pt x="585" y="77"/>
                  </a:lnTo>
                  <a:lnTo>
                    <a:pt x="606" y="101"/>
                  </a:lnTo>
                  <a:lnTo>
                    <a:pt x="623" y="122"/>
                  </a:lnTo>
                  <a:lnTo>
                    <a:pt x="637" y="139"/>
                  </a:lnTo>
                  <a:lnTo>
                    <a:pt x="648" y="153"/>
                  </a:lnTo>
                  <a:lnTo>
                    <a:pt x="655" y="171"/>
                  </a:lnTo>
                  <a:lnTo>
                    <a:pt x="662" y="188"/>
                  </a:lnTo>
                  <a:lnTo>
                    <a:pt x="665" y="202"/>
                  </a:lnTo>
                  <a:lnTo>
                    <a:pt x="662" y="216"/>
                  </a:lnTo>
                  <a:lnTo>
                    <a:pt x="651" y="230"/>
                  </a:lnTo>
                  <a:lnTo>
                    <a:pt x="641" y="240"/>
                  </a:lnTo>
                  <a:lnTo>
                    <a:pt x="623" y="254"/>
                  </a:lnTo>
                  <a:lnTo>
                    <a:pt x="606" y="268"/>
                  </a:lnTo>
                  <a:lnTo>
                    <a:pt x="627" y="258"/>
                  </a:lnTo>
                  <a:lnTo>
                    <a:pt x="648" y="254"/>
                  </a:lnTo>
                  <a:lnTo>
                    <a:pt x="665" y="247"/>
                  </a:lnTo>
                  <a:lnTo>
                    <a:pt x="682" y="233"/>
                  </a:lnTo>
                  <a:lnTo>
                    <a:pt x="696" y="209"/>
                  </a:lnTo>
                  <a:lnTo>
                    <a:pt x="700" y="185"/>
                  </a:lnTo>
                  <a:lnTo>
                    <a:pt x="693" y="160"/>
                  </a:lnTo>
                  <a:lnTo>
                    <a:pt x="679" y="136"/>
                  </a:lnTo>
                  <a:lnTo>
                    <a:pt x="668" y="119"/>
                  </a:lnTo>
                  <a:lnTo>
                    <a:pt x="655" y="98"/>
                  </a:lnTo>
                  <a:lnTo>
                    <a:pt x="637" y="77"/>
                  </a:lnTo>
                  <a:lnTo>
                    <a:pt x="613" y="52"/>
                  </a:lnTo>
                  <a:lnTo>
                    <a:pt x="599" y="38"/>
                  </a:lnTo>
                  <a:lnTo>
                    <a:pt x="585" y="24"/>
                  </a:lnTo>
                  <a:lnTo>
                    <a:pt x="568" y="11"/>
                  </a:lnTo>
                  <a:lnTo>
                    <a:pt x="543" y="4"/>
                  </a:lnTo>
                  <a:lnTo>
                    <a:pt x="522" y="0"/>
                  </a:lnTo>
                  <a:lnTo>
                    <a:pt x="501" y="4"/>
                  </a:lnTo>
                  <a:lnTo>
                    <a:pt x="477" y="7"/>
                  </a:lnTo>
                  <a:lnTo>
                    <a:pt x="456" y="11"/>
                  </a:lnTo>
                  <a:lnTo>
                    <a:pt x="386" y="38"/>
                  </a:lnTo>
                  <a:lnTo>
                    <a:pt x="331" y="70"/>
                  </a:lnTo>
                  <a:lnTo>
                    <a:pt x="292" y="91"/>
                  </a:lnTo>
                  <a:lnTo>
                    <a:pt x="279" y="101"/>
                  </a:lnTo>
                  <a:lnTo>
                    <a:pt x="265" y="108"/>
                  </a:lnTo>
                  <a:lnTo>
                    <a:pt x="230" y="136"/>
                  </a:lnTo>
                  <a:lnTo>
                    <a:pt x="178" y="174"/>
                  </a:lnTo>
                  <a:lnTo>
                    <a:pt x="122" y="223"/>
                  </a:lnTo>
                  <a:lnTo>
                    <a:pt x="94" y="247"/>
                  </a:lnTo>
                  <a:lnTo>
                    <a:pt x="63" y="275"/>
                  </a:lnTo>
                  <a:lnTo>
                    <a:pt x="35" y="303"/>
                  </a:lnTo>
                  <a:lnTo>
                    <a:pt x="14" y="338"/>
                  </a:lnTo>
                  <a:lnTo>
                    <a:pt x="4" y="355"/>
                  </a:lnTo>
                  <a:lnTo>
                    <a:pt x="0" y="373"/>
                  </a:lnTo>
                  <a:lnTo>
                    <a:pt x="0" y="394"/>
                  </a:lnTo>
                  <a:lnTo>
                    <a:pt x="4" y="411"/>
                  </a:lnTo>
                  <a:lnTo>
                    <a:pt x="7" y="422"/>
                  </a:lnTo>
                  <a:lnTo>
                    <a:pt x="10" y="432"/>
                  </a:lnTo>
                  <a:lnTo>
                    <a:pt x="14" y="443"/>
                  </a:lnTo>
                  <a:lnTo>
                    <a:pt x="17" y="449"/>
                  </a:lnTo>
                  <a:lnTo>
                    <a:pt x="42" y="491"/>
                  </a:lnTo>
                  <a:lnTo>
                    <a:pt x="63" y="526"/>
                  </a:lnTo>
                  <a:lnTo>
                    <a:pt x="87" y="554"/>
                  </a:lnTo>
                  <a:lnTo>
                    <a:pt x="111" y="589"/>
                  </a:lnTo>
                  <a:lnTo>
                    <a:pt x="111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 rot="193800">
              <a:off x="3801960" y="6220080"/>
              <a:ext cx="119160" cy="32760"/>
            </a:xfrm>
            <a:custGeom>
              <a:avLst/>
              <a:gdLst/>
              <a:ahLst/>
              <a:rect l="l" t="t" r="r" b="b"/>
              <a:pathLst>
                <a:path w="244" h="73">
                  <a:moveTo>
                    <a:pt x="0" y="0"/>
                  </a:moveTo>
                  <a:lnTo>
                    <a:pt x="3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8" y="49"/>
                  </a:lnTo>
                  <a:lnTo>
                    <a:pt x="52" y="56"/>
                  </a:lnTo>
                  <a:lnTo>
                    <a:pt x="70" y="66"/>
                  </a:lnTo>
                  <a:lnTo>
                    <a:pt x="90" y="70"/>
                  </a:lnTo>
                  <a:lnTo>
                    <a:pt x="108" y="73"/>
                  </a:lnTo>
                  <a:lnTo>
                    <a:pt x="118" y="70"/>
                  </a:lnTo>
                  <a:lnTo>
                    <a:pt x="125" y="70"/>
                  </a:lnTo>
                  <a:lnTo>
                    <a:pt x="139" y="66"/>
                  </a:lnTo>
                  <a:lnTo>
                    <a:pt x="167" y="56"/>
                  </a:lnTo>
                  <a:lnTo>
                    <a:pt x="198" y="42"/>
                  </a:lnTo>
                  <a:lnTo>
                    <a:pt x="219" y="38"/>
                  </a:lnTo>
                  <a:lnTo>
                    <a:pt x="226" y="31"/>
                  </a:lnTo>
                  <a:lnTo>
                    <a:pt x="233" y="24"/>
                  </a:lnTo>
                  <a:lnTo>
                    <a:pt x="237" y="17"/>
                  </a:lnTo>
                  <a:lnTo>
                    <a:pt x="244" y="7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2" y="0"/>
                  </a:lnTo>
                  <a:lnTo>
                    <a:pt x="181" y="10"/>
                  </a:lnTo>
                  <a:lnTo>
                    <a:pt x="153" y="21"/>
                  </a:lnTo>
                  <a:lnTo>
                    <a:pt x="125" y="31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97" y="35"/>
                  </a:lnTo>
                  <a:lnTo>
                    <a:pt x="87" y="31"/>
                  </a:lnTo>
                  <a:lnTo>
                    <a:pt x="73" y="21"/>
                  </a:lnTo>
                  <a:lnTo>
                    <a:pt x="59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rot="193800">
              <a:off x="3774600" y="6234480"/>
              <a:ext cx="455400" cy="358560"/>
            </a:xfrm>
            <a:custGeom>
              <a:avLst/>
              <a:gdLst/>
              <a:ahLst/>
              <a:rect l="l" t="t" r="r" b="b"/>
              <a:pathLst>
                <a:path w="926" h="780">
                  <a:moveTo>
                    <a:pt x="926" y="38"/>
                  </a:moveTo>
                  <a:lnTo>
                    <a:pt x="926" y="35"/>
                  </a:lnTo>
                  <a:lnTo>
                    <a:pt x="920" y="31"/>
                  </a:lnTo>
                  <a:lnTo>
                    <a:pt x="913" y="24"/>
                  </a:lnTo>
                  <a:lnTo>
                    <a:pt x="906" y="17"/>
                  </a:lnTo>
                  <a:lnTo>
                    <a:pt x="895" y="10"/>
                  </a:lnTo>
                  <a:lnTo>
                    <a:pt x="888" y="0"/>
                  </a:lnTo>
                  <a:lnTo>
                    <a:pt x="892" y="10"/>
                  </a:lnTo>
                  <a:lnTo>
                    <a:pt x="895" y="21"/>
                  </a:lnTo>
                  <a:lnTo>
                    <a:pt x="899" y="28"/>
                  </a:lnTo>
                  <a:lnTo>
                    <a:pt x="902" y="38"/>
                  </a:lnTo>
                  <a:lnTo>
                    <a:pt x="899" y="38"/>
                  </a:lnTo>
                  <a:lnTo>
                    <a:pt x="881" y="45"/>
                  </a:lnTo>
                  <a:lnTo>
                    <a:pt x="864" y="52"/>
                  </a:lnTo>
                  <a:lnTo>
                    <a:pt x="843" y="63"/>
                  </a:lnTo>
                  <a:lnTo>
                    <a:pt x="826" y="69"/>
                  </a:lnTo>
                  <a:lnTo>
                    <a:pt x="801" y="80"/>
                  </a:lnTo>
                  <a:lnTo>
                    <a:pt x="763" y="97"/>
                  </a:lnTo>
                  <a:lnTo>
                    <a:pt x="711" y="132"/>
                  </a:lnTo>
                  <a:lnTo>
                    <a:pt x="648" y="177"/>
                  </a:lnTo>
                  <a:lnTo>
                    <a:pt x="585" y="226"/>
                  </a:lnTo>
                  <a:lnTo>
                    <a:pt x="530" y="275"/>
                  </a:lnTo>
                  <a:lnTo>
                    <a:pt x="481" y="317"/>
                  </a:lnTo>
                  <a:lnTo>
                    <a:pt x="450" y="345"/>
                  </a:lnTo>
                  <a:lnTo>
                    <a:pt x="436" y="359"/>
                  </a:lnTo>
                  <a:lnTo>
                    <a:pt x="394" y="397"/>
                  </a:lnTo>
                  <a:lnTo>
                    <a:pt x="289" y="495"/>
                  </a:lnTo>
                  <a:lnTo>
                    <a:pt x="178" y="599"/>
                  </a:lnTo>
                  <a:lnTo>
                    <a:pt x="112" y="683"/>
                  </a:lnTo>
                  <a:lnTo>
                    <a:pt x="98" y="700"/>
                  </a:lnTo>
                  <a:lnTo>
                    <a:pt x="84" y="717"/>
                  </a:lnTo>
                  <a:lnTo>
                    <a:pt x="70" y="735"/>
                  </a:lnTo>
                  <a:lnTo>
                    <a:pt x="60" y="749"/>
                  </a:lnTo>
                  <a:lnTo>
                    <a:pt x="53" y="752"/>
                  </a:lnTo>
                  <a:lnTo>
                    <a:pt x="53" y="756"/>
                  </a:lnTo>
                  <a:lnTo>
                    <a:pt x="49" y="756"/>
                  </a:lnTo>
                  <a:lnTo>
                    <a:pt x="42" y="752"/>
                  </a:lnTo>
                  <a:lnTo>
                    <a:pt x="32" y="745"/>
                  </a:lnTo>
                  <a:lnTo>
                    <a:pt x="21" y="742"/>
                  </a:lnTo>
                  <a:lnTo>
                    <a:pt x="11" y="738"/>
                  </a:lnTo>
                  <a:lnTo>
                    <a:pt x="0" y="738"/>
                  </a:lnTo>
                  <a:lnTo>
                    <a:pt x="11" y="742"/>
                  </a:lnTo>
                  <a:lnTo>
                    <a:pt x="18" y="749"/>
                  </a:lnTo>
                  <a:lnTo>
                    <a:pt x="25" y="756"/>
                  </a:lnTo>
                  <a:lnTo>
                    <a:pt x="28" y="763"/>
                  </a:lnTo>
                  <a:lnTo>
                    <a:pt x="32" y="766"/>
                  </a:lnTo>
                  <a:lnTo>
                    <a:pt x="35" y="773"/>
                  </a:lnTo>
                  <a:lnTo>
                    <a:pt x="42" y="777"/>
                  </a:lnTo>
                  <a:lnTo>
                    <a:pt x="56" y="780"/>
                  </a:lnTo>
                  <a:lnTo>
                    <a:pt x="63" y="777"/>
                  </a:lnTo>
                  <a:lnTo>
                    <a:pt x="70" y="777"/>
                  </a:lnTo>
                  <a:lnTo>
                    <a:pt x="74" y="773"/>
                  </a:lnTo>
                  <a:lnTo>
                    <a:pt x="77" y="770"/>
                  </a:lnTo>
                  <a:lnTo>
                    <a:pt x="94" y="756"/>
                  </a:lnTo>
                  <a:lnTo>
                    <a:pt x="112" y="742"/>
                  </a:lnTo>
                  <a:lnTo>
                    <a:pt x="126" y="724"/>
                  </a:lnTo>
                  <a:lnTo>
                    <a:pt x="143" y="704"/>
                  </a:lnTo>
                  <a:lnTo>
                    <a:pt x="206" y="627"/>
                  </a:lnTo>
                  <a:lnTo>
                    <a:pt x="314" y="522"/>
                  </a:lnTo>
                  <a:lnTo>
                    <a:pt x="418" y="428"/>
                  </a:lnTo>
                  <a:lnTo>
                    <a:pt x="463" y="387"/>
                  </a:lnTo>
                  <a:lnTo>
                    <a:pt x="474" y="376"/>
                  </a:lnTo>
                  <a:lnTo>
                    <a:pt x="505" y="345"/>
                  </a:lnTo>
                  <a:lnTo>
                    <a:pt x="554" y="303"/>
                  </a:lnTo>
                  <a:lnTo>
                    <a:pt x="613" y="258"/>
                  </a:lnTo>
                  <a:lnTo>
                    <a:pt x="672" y="205"/>
                  </a:lnTo>
                  <a:lnTo>
                    <a:pt x="732" y="167"/>
                  </a:lnTo>
                  <a:lnTo>
                    <a:pt x="780" y="132"/>
                  </a:lnTo>
                  <a:lnTo>
                    <a:pt x="819" y="118"/>
                  </a:lnTo>
                  <a:lnTo>
                    <a:pt x="839" y="104"/>
                  </a:lnTo>
                  <a:lnTo>
                    <a:pt x="860" y="94"/>
                  </a:lnTo>
                  <a:lnTo>
                    <a:pt x="878" y="83"/>
                  </a:lnTo>
                  <a:lnTo>
                    <a:pt x="895" y="69"/>
                  </a:lnTo>
                  <a:lnTo>
                    <a:pt x="899" y="66"/>
                  </a:lnTo>
                  <a:lnTo>
                    <a:pt x="902" y="66"/>
                  </a:lnTo>
                  <a:lnTo>
                    <a:pt x="906" y="63"/>
                  </a:lnTo>
                  <a:lnTo>
                    <a:pt x="909" y="59"/>
                  </a:lnTo>
                  <a:lnTo>
                    <a:pt x="920" y="52"/>
                  </a:lnTo>
                  <a:lnTo>
                    <a:pt x="920" y="49"/>
                  </a:lnTo>
                  <a:lnTo>
                    <a:pt x="923" y="38"/>
                  </a:lnTo>
                  <a:lnTo>
                    <a:pt x="923" y="35"/>
                  </a:lnTo>
                  <a:lnTo>
                    <a:pt x="923" y="38"/>
                  </a:lnTo>
                  <a:lnTo>
                    <a:pt x="926" y="38"/>
                  </a:lnTo>
                  <a:lnTo>
                    <a:pt x="9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 rot="193800">
              <a:off x="3780000" y="6524640"/>
              <a:ext cx="347760" cy="213840"/>
            </a:xfrm>
            <a:custGeom>
              <a:avLst/>
              <a:gdLst/>
              <a:ahLst/>
              <a:rect l="l" t="t" r="r" b="b"/>
              <a:pathLst>
                <a:path w="707" h="464">
                  <a:moveTo>
                    <a:pt x="7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3" y="101"/>
                  </a:lnTo>
                  <a:lnTo>
                    <a:pt x="17" y="140"/>
                  </a:lnTo>
                  <a:lnTo>
                    <a:pt x="21" y="154"/>
                  </a:lnTo>
                  <a:lnTo>
                    <a:pt x="31" y="171"/>
                  </a:lnTo>
                  <a:lnTo>
                    <a:pt x="45" y="192"/>
                  </a:lnTo>
                  <a:lnTo>
                    <a:pt x="63" y="216"/>
                  </a:lnTo>
                  <a:lnTo>
                    <a:pt x="87" y="237"/>
                  </a:lnTo>
                  <a:lnTo>
                    <a:pt x="115" y="258"/>
                  </a:lnTo>
                  <a:lnTo>
                    <a:pt x="143" y="276"/>
                  </a:lnTo>
                  <a:lnTo>
                    <a:pt x="171" y="290"/>
                  </a:lnTo>
                  <a:lnTo>
                    <a:pt x="230" y="310"/>
                  </a:lnTo>
                  <a:lnTo>
                    <a:pt x="278" y="331"/>
                  </a:lnTo>
                  <a:lnTo>
                    <a:pt x="310" y="345"/>
                  </a:lnTo>
                  <a:lnTo>
                    <a:pt x="320" y="352"/>
                  </a:lnTo>
                  <a:lnTo>
                    <a:pt x="331" y="356"/>
                  </a:lnTo>
                  <a:lnTo>
                    <a:pt x="362" y="377"/>
                  </a:lnTo>
                  <a:lnTo>
                    <a:pt x="404" y="404"/>
                  </a:lnTo>
                  <a:lnTo>
                    <a:pt x="459" y="436"/>
                  </a:lnTo>
                  <a:lnTo>
                    <a:pt x="491" y="446"/>
                  </a:lnTo>
                  <a:lnTo>
                    <a:pt x="522" y="457"/>
                  </a:lnTo>
                  <a:lnTo>
                    <a:pt x="557" y="464"/>
                  </a:lnTo>
                  <a:lnTo>
                    <a:pt x="592" y="460"/>
                  </a:lnTo>
                  <a:lnTo>
                    <a:pt x="620" y="457"/>
                  </a:lnTo>
                  <a:lnTo>
                    <a:pt x="644" y="446"/>
                  </a:lnTo>
                  <a:lnTo>
                    <a:pt x="661" y="439"/>
                  </a:lnTo>
                  <a:lnTo>
                    <a:pt x="679" y="432"/>
                  </a:lnTo>
                  <a:lnTo>
                    <a:pt x="703" y="391"/>
                  </a:lnTo>
                  <a:lnTo>
                    <a:pt x="707" y="345"/>
                  </a:lnTo>
                  <a:lnTo>
                    <a:pt x="693" y="300"/>
                  </a:lnTo>
                  <a:lnTo>
                    <a:pt x="672" y="265"/>
                  </a:lnTo>
                  <a:lnTo>
                    <a:pt x="675" y="303"/>
                  </a:lnTo>
                  <a:lnTo>
                    <a:pt x="679" y="338"/>
                  </a:lnTo>
                  <a:lnTo>
                    <a:pt x="672" y="373"/>
                  </a:lnTo>
                  <a:lnTo>
                    <a:pt x="651" y="401"/>
                  </a:lnTo>
                  <a:lnTo>
                    <a:pt x="644" y="404"/>
                  </a:lnTo>
                  <a:lnTo>
                    <a:pt x="630" y="411"/>
                  </a:lnTo>
                  <a:lnTo>
                    <a:pt x="609" y="418"/>
                  </a:lnTo>
                  <a:lnTo>
                    <a:pt x="588" y="425"/>
                  </a:lnTo>
                  <a:lnTo>
                    <a:pt x="560" y="425"/>
                  </a:lnTo>
                  <a:lnTo>
                    <a:pt x="533" y="418"/>
                  </a:lnTo>
                  <a:lnTo>
                    <a:pt x="505" y="411"/>
                  </a:lnTo>
                  <a:lnTo>
                    <a:pt x="477" y="401"/>
                  </a:lnTo>
                  <a:lnTo>
                    <a:pt x="425" y="370"/>
                  </a:lnTo>
                  <a:lnTo>
                    <a:pt x="379" y="345"/>
                  </a:lnTo>
                  <a:lnTo>
                    <a:pt x="352" y="324"/>
                  </a:lnTo>
                  <a:lnTo>
                    <a:pt x="338" y="317"/>
                  </a:lnTo>
                  <a:lnTo>
                    <a:pt x="327" y="310"/>
                  </a:lnTo>
                  <a:lnTo>
                    <a:pt x="292" y="296"/>
                  </a:lnTo>
                  <a:lnTo>
                    <a:pt x="244" y="276"/>
                  </a:lnTo>
                  <a:lnTo>
                    <a:pt x="191" y="255"/>
                  </a:lnTo>
                  <a:lnTo>
                    <a:pt x="136" y="227"/>
                  </a:lnTo>
                  <a:lnTo>
                    <a:pt x="94" y="192"/>
                  </a:lnTo>
                  <a:lnTo>
                    <a:pt x="66" y="154"/>
                  </a:lnTo>
                  <a:lnTo>
                    <a:pt x="52" y="126"/>
                  </a:lnTo>
                  <a:lnTo>
                    <a:pt x="38" y="91"/>
                  </a:lnTo>
                  <a:lnTo>
                    <a:pt x="28" y="60"/>
                  </a:lnTo>
                  <a:lnTo>
                    <a:pt x="17" y="3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 rot="193800">
              <a:off x="3699720" y="6861600"/>
              <a:ext cx="179280" cy="131400"/>
            </a:xfrm>
            <a:custGeom>
              <a:avLst/>
              <a:gdLst/>
              <a:ahLst/>
              <a:rect l="l" t="t" r="r" b="b"/>
              <a:pathLst>
                <a:path w="365" h="286">
                  <a:moveTo>
                    <a:pt x="0" y="286"/>
                  </a:moveTo>
                  <a:lnTo>
                    <a:pt x="14" y="254"/>
                  </a:lnTo>
                  <a:lnTo>
                    <a:pt x="28" y="212"/>
                  </a:lnTo>
                  <a:lnTo>
                    <a:pt x="38" y="171"/>
                  </a:lnTo>
                  <a:lnTo>
                    <a:pt x="49" y="139"/>
                  </a:lnTo>
                  <a:lnTo>
                    <a:pt x="52" y="118"/>
                  </a:lnTo>
                  <a:lnTo>
                    <a:pt x="59" y="94"/>
                  </a:lnTo>
                  <a:lnTo>
                    <a:pt x="73" y="63"/>
                  </a:lnTo>
                  <a:lnTo>
                    <a:pt x="90" y="42"/>
                  </a:lnTo>
                  <a:lnTo>
                    <a:pt x="115" y="35"/>
                  </a:lnTo>
                  <a:lnTo>
                    <a:pt x="139" y="42"/>
                  </a:lnTo>
                  <a:lnTo>
                    <a:pt x="157" y="45"/>
                  </a:lnTo>
                  <a:lnTo>
                    <a:pt x="164" y="52"/>
                  </a:lnTo>
                  <a:lnTo>
                    <a:pt x="188" y="59"/>
                  </a:lnTo>
                  <a:lnTo>
                    <a:pt x="247" y="90"/>
                  </a:lnTo>
                  <a:lnTo>
                    <a:pt x="303" y="129"/>
                  </a:lnTo>
                  <a:lnTo>
                    <a:pt x="324" y="164"/>
                  </a:lnTo>
                  <a:lnTo>
                    <a:pt x="331" y="181"/>
                  </a:lnTo>
                  <a:lnTo>
                    <a:pt x="334" y="198"/>
                  </a:lnTo>
                  <a:lnTo>
                    <a:pt x="338" y="216"/>
                  </a:lnTo>
                  <a:lnTo>
                    <a:pt x="341" y="240"/>
                  </a:lnTo>
                  <a:lnTo>
                    <a:pt x="355" y="219"/>
                  </a:lnTo>
                  <a:lnTo>
                    <a:pt x="362" y="202"/>
                  </a:lnTo>
                  <a:lnTo>
                    <a:pt x="365" y="178"/>
                  </a:lnTo>
                  <a:lnTo>
                    <a:pt x="362" y="153"/>
                  </a:lnTo>
                  <a:lnTo>
                    <a:pt x="352" y="129"/>
                  </a:lnTo>
                  <a:lnTo>
                    <a:pt x="331" y="104"/>
                  </a:lnTo>
                  <a:lnTo>
                    <a:pt x="299" y="80"/>
                  </a:lnTo>
                  <a:lnTo>
                    <a:pt x="265" y="59"/>
                  </a:lnTo>
                  <a:lnTo>
                    <a:pt x="233" y="42"/>
                  </a:lnTo>
                  <a:lnTo>
                    <a:pt x="209" y="28"/>
                  </a:lnTo>
                  <a:lnTo>
                    <a:pt x="188" y="17"/>
                  </a:lnTo>
                  <a:lnTo>
                    <a:pt x="181" y="14"/>
                  </a:lnTo>
                  <a:lnTo>
                    <a:pt x="177" y="14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50" y="3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94" y="0"/>
                  </a:lnTo>
                  <a:lnTo>
                    <a:pt x="70" y="10"/>
                  </a:lnTo>
                  <a:lnTo>
                    <a:pt x="38" y="45"/>
                  </a:lnTo>
                  <a:lnTo>
                    <a:pt x="24" y="80"/>
                  </a:lnTo>
                  <a:lnTo>
                    <a:pt x="17" y="111"/>
                  </a:lnTo>
                  <a:lnTo>
                    <a:pt x="10" y="129"/>
                  </a:lnTo>
                  <a:lnTo>
                    <a:pt x="3" y="164"/>
                  </a:lnTo>
                  <a:lnTo>
                    <a:pt x="0" y="205"/>
                  </a:lnTo>
                  <a:lnTo>
                    <a:pt x="0" y="251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rot="193800">
              <a:off x="3713040" y="6887520"/>
              <a:ext cx="119160" cy="64800"/>
            </a:xfrm>
            <a:custGeom>
              <a:avLst/>
              <a:gdLst/>
              <a:ahLst/>
              <a:rect l="l" t="t" r="r" b="b"/>
              <a:pathLst>
                <a:path w="244" h="139">
                  <a:moveTo>
                    <a:pt x="0" y="52"/>
                  </a:moveTo>
                  <a:lnTo>
                    <a:pt x="11" y="49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39" y="28"/>
                  </a:lnTo>
                  <a:lnTo>
                    <a:pt x="53" y="24"/>
                  </a:lnTo>
                  <a:lnTo>
                    <a:pt x="67" y="28"/>
                  </a:lnTo>
                  <a:lnTo>
                    <a:pt x="80" y="35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12" y="52"/>
                  </a:lnTo>
                  <a:lnTo>
                    <a:pt x="140" y="66"/>
                  </a:lnTo>
                  <a:lnTo>
                    <a:pt x="168" y="80"/>
                  </a:lnTo>
                  <a:lnTo>
                    <a:pt x="185" y="94"/>
                  </a:lnTo>
                  <a:lnTo>
                    <a:pt x="199" y="101"/>
                  </a:lnTo>
                  <a:lnTo>
                    <a:pt x="213" y="108"/>
                  </a:lnTo>
                  <a:lnTo>
                    <a:pt x="227" y="122"/>
                  </a:lnTo>
                  <a:lnTo>
                    <a:pt x="244" y="139"/>
                  </a:lnTo>
                  <a:lnTo>
                    <a:pt x="244" y="129"/>
                  </a:lnTo>
                  <a:lnTo>
                    <a:pt x="237" y="115"/>
                  </a:lnTo>
                  <a:lnTo>
                    <a:pt x="227" y="105"/>
                  </a:lnTo>
                  <a:lnTo>
                    <a:pt x="220" y="98"/>
                  </a:lnTo>
                  <a:lnTo>
                    <a:pt x="199" y="80"/>
                  </a:lnTo>
                  <a:lnTo>
                    <a:pt x="168" y="63"/>
                  </a:lnTo>
                  <a:lnTo>
                    <a:pt x="140" y="45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15" y="31"/>
                  </a:lnTo>
                  <a:lnTo>
                    <a:pt x="105" y="24"/>
                  </a:lnTo>
                  <a:lnTo>
                    <a:pt x="87" y="14"/>
                  </a:lnTo>
                  <a:lnTo>
                    <a:pt x="80" y="7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8" y="11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 rot="193800">
              <a:off x="3709800" y="6920640"/>
              <a:ext cx="96840" cy="961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35"/>
                  </a:moveTo>
                  <a:lnTo>
                    <a:pt x="10" y="39"/>
                  </a:lnTo>
                  <a:lnTo>
                    <a:pt x="21" y="35"/>
                  </a:lnTo>
                  <a:lnTo>
                    <a:pt x="31" y="32"/>
                  </a:lnTo>
                  <a:lnTo>
                    <a:pt x="41" y="32"/>
                  </a:lnTo>
                  <a:lnTo>
                    <a:pt x="52" y="32"/>
                  </a:lnTo>
                  <a:lnTo>
                    <a:pt x="73" y="39"/>
                  </a:lnTo>
                  <a:lnTo>
                    <a:pt x="97" y="46"/>
                  </a:lnTo>
                  <a:lnTo>
                    <a:pt x="115" y="53"/>
                  </a:lnTo>
                  <a:lnTo>
                    <a:pt x="128" y="59"/>
                  </a:lnTo>
                  <a:lnTo>
                    <a:pt x="139" y="66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49" y="77"/>
                  </a:lnTo>
                  <a:lnTo>
                    <a:pt x="156" y="87"/>
                  </a:lnTo>
                  <a:lnTo>
                    <a:pt x="163" y="98"/>
                  </a:lnTo>
                  <a:lnTo>
                    <a:pt x="170" y="112"/>
                  </a:lnTo>
                  <a:lnTo>
                    <a:pt x="170" y="122"/>
                  </a:lnTo>
                  <a:lnTo>
                    <a:pt x="167" y="136"/>
                  </a:lnTo>
                  <a:lnTo>
                    <a:pt x="163" y="147"/>
                  </a:lnTo>
                  <a:lnTo>
                    <a:pt x="163" y="157"/>
                  </a:lnTo>
                  <a:lnTo>
                    <a:pt x="139" y="185"/>
                  </a:lnTo>
                  <a:lnTo>
                    <a:pt x="167" y="209"/>
                  </a:lnTo>
                  <a:lnTo>
                    <a:pt x="174" y="199"/>
                  </a:lnTo>
                  <a:lnTo>
                    <a:pt x="184" y="185"/>
                  </a:lnTo>
                  <a:lnTo>
                    <a:pt x="188" y="167"/>
                  </a:lnTo>
                  <a:lnTo>
                    <a:pt x="191" y="157"/>
                  </a:lnTo>
                  <a:lnTo>
                    <a:pt x="195" y="147"/>
                  </a:lnTo>
                  <a:lnTo>
                    <a:pt x="198" y="133"/>
                  </a:lnTo>
                  <a:lnTo>
                    <a:pt x="198" y="115"/>
                  </a:lnTo>
                  <a:lnTo>
                    <a:pt x="195" y="98"/>
                  </a:lnTo>
                  <a:lnTo>
                    <a:pt x="184" y="80"/>
                  </a:lnTo>
                  <a:lnTo>
                    <a:pt x="177" y="66"/>
                  </a:lnTo>
                  <a:lnTo>
                    <a:pt x="170" y="59"/>
                  </a:lnTo>
                  <a:lnTo>
                    <a:pt x="167" y="56"/>
                  </a:lnTo>
                  <a:lnTo>
                    <a:pt x="163" y="53"/>
                  </a:lnTo>
                  <a:lnTo>
                    <a:pt x="153" y="46"/>
                  </a:lnTo>
                  <a:lnTo>
                    <a:pt x="139" y="35"/>
                  </a:lnTo>
                  <a:lnTo>
                    <a:pt x="118" y="28"/>
                  </a:lnTo>
                  <a:lnTo>
                    <a:pt x="94" y="21"/>
                  </a:lnTo>
                  <a:lnTo>
                    <a:pt x="66" y="11"/>
                  </a:lnTo>
                  <a:lnTo>
                    <a:pt x="41" y="4"/>
                  </a:lnTo>
                  <a:lnTo>
                    <a:pt x="24" y="0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3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 rot="193800">
              <a:off x="3711600" y="6851520"/>
              <a:ext cx="81000" cy="53640"/>
            </a:xfrm>
            <a:custGeom>
              <a:avLst/>
              <a:gdLst/>
              <a:ahLst/>
              <a:rect l="l" t="t" r="r" b="b"/>
              <a:pathLst>
                <a:path w="164" h="119">
                  <a:moveTo>
                    <a:pt x="0" y="63"/>
                  </a:moveTo>
                  <a:lnTo>
                    <a:pt x="14" y="70"/>
                  </a:lnTo>
                  <a:lnTo>
                    <a:pt x="24" y="70"/>
                  </a:lnTo>
                  <a:lnTo>
                    <a:pt x="31" y="70"/>
                  </a:lnTo>
                  <a:lnTo>
                    <a:pt x="42" y="70"/>
                  </a:lnTo>
                  <a:lnTo>
                    <a:pt x="59" y="60"/>
                  </a:lnTo>
                  <a:lnTo>
                    <a:pt x="87" y="49"/>
                  </a:lnTo>
                  <a:lnTo>
                    <a:pt x="108" y="42"/>
                  </a:lnTo>
                  <a:lnTo>
                    <a:pt x="118" y="39"/>
                  </a:lnTo>
                  <a:lnTo>
                    <a:pt x="118" y="42"/>
                  </a:lnTo>
                  <a:lnTo>
                    <a:pt x="122" y="42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2" y="67"/>
                  </a:lnTo>
                  <a:lnTo>
                    <a:pt x="118" y="77"/>
                  </a:lnTo>
                  <a:lnTo>
                    <a:pt x="118" y="84"/>
                  </a:lnTo>
                  <a:lnTo>
                    <a:pt x="115" y="91"/>
                  </a:lnTo>
                  <a:lnTo>
                    <a:pt x="115" y="101"/>
                  </a:lnTo>
                  <a:lnTo>
                    <a:pt x="115" y="108"/>
                  </a:lnTo>
                  <a:lnTo>
                    <a:pt x="118" y="119"/>
                  </a:lnTo>
                  <a:lnTo>
                    <a:pt x="129" y="119"/>
                  </a:lnTo>
                  <a:lnTo>
                    <a:pt x="139" y="115"/>
                  </a:lnTo>
                  <a:lnTo>
                    <a:pt x="146" y="108"/>
                  </a:lnTo>
                  <a:lnTo>
                    <a:pt x="153" y="98"/>
                  </a:lnTo>
                  <a:lnTo>
                    <a:pt x="157" y="88"/>
                  </a:lnTo>
                  <a:lnTo>
                    <a:pt x="160" y="77"/>
                  </a:lnTo>
                  <a:lnTo>
                    <a:pt x="164" y="60"/>
                  </a:lnTo>
                  <a:lnTo>
                    <a:pt x="160" y="39"/>
                  </a:lnTo>
                  <a:lnTo>
                    <a:pt x="150" y="18"/>
                  </a:lnTo>
                  <a:lnTo>
                    <a:pt x="136" y="4"/>
                  </a:lnTo>
                  <a:lnTo>
                    <a:pt x="118" y="0"/>
                  </a:lnTo>
                  <a:lnTo>
                    <a:pt x="115" y="4"/>
                  </a:lnTo>
                  <a:lnTo>
                    <a:pt x="97" y="4"/>
                  </a:lnTo>
                  <a:lnTo>
                    <a:pt x="70" y="14"/>
                  </a:lnTo>
                  <a:lnTo>
                    <a:pt x="42" y="28"/>
                  </a:lnTo>
                  <a:lnTo>
                    <a:pt x="24" y="35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56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 rot="193800">
              <a:off x="3891240" y="6712560"/>
              <a:ext cx="30240" cy="102960"/>
            </a:xfrm>
            <a:custGeom>
              <a:avLst/>
              <a:gdLst/>
              <a:ahLst/>
              <a:rect l="l" t="t" r="r" b="b"/>
              <a:pathLst>
                <a:path w="62" h="223">
                  <a:moveTo>
                    <a:pt x="62" y="3"/>
                  </a:moveTo>
                  <a:lnTo>
                    <a:pt x="52" y="0"/>
                  </a:lnTo>
                  <a:lnTo>
                    <a:pt x="42" y="0"/>
                  </a:lnTo>
                  <a:lnTo>
                    <a:pt x="31" y="3"/>
                  </a:lnTo>
                  <a:lnTo>
                    <a:pt x="24" y="14"/>
                  </a:lnTo>
                  <a:lnTo>
                    <a:pt x="10" y="31"/>
                  </a:lnTo>
                  <a:lnTo>
                    <a:pt x="3" y="6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0" y="171"/>
                  </a:lnTo>
                  <a:lnTo>
                    <a:pt x="3" y="192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7" y="216"/>
                  </a:lnTo>
                  <a:lnTo>
                    <a:pt x="28" y="223"/>
                  </a:lnTo>
                  <a:lnTo>
                    <a:pt x="35" y="212"/>
                  </a:lnTo>
                  <a:lnTo>
                    <a:pt x="38" y="205"/>
                  </a:lnTo>
                  <a:lnTo>
                    <a:pt x="42" y="199"/>
                  </a:lnTo>
                  <a:lnTo>
                    <a:pt x="42" y="188"/>
                  </a:lnTo>
                  <a:lnTo>
                    <a:pt x="42" y="167"/>
                  </a:lnTo>
                  <a:lnTo>
                    <a:pt x="38" y="139"/>
                  </a:lnTo>
                  <a:lnTo>
                    <a:pt x="38" y="115"/>
                  </a:lnTo>
                  <a:lnTo>
                    <a:pt x="38" y="104"/>
                  </a:lnTo>
                  <a:lnTo>
                    <a:pt x="38" y="94"/>
                  </a:lnTo>
                  <a:lnTo>
                    <a:pt x="42" y="70"/>
                  </a:lnTo>
                  <a:lnTo>
                    <a:pt x="49" y="49"/>
                  </a:lnTo>
                  <a:lnTo>
                    <a:pt x="55" y="35"/>
                  </a:lnTo>
                  <a:lnTo>
                    <a:pt x="55" y="28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 rot="193800">
              <a:off x="3768840" y="6766920"/>
              <a:ext cx="111240" cy="10728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0" y="0"/>
                  </a:moveTo>
                  <a:lnTo>
                    <a:pt x="7" y="14"/>
                  </a:lnTo>
                  <a:lnTo>
                    <a:pt x="14" y="25"/>
                  </a:lnTo>
                  <a:lnTo>
                    <a:pt x="21" y="32"/>
                  </a:lnTo>
                  <a:lnTo>
                    <a:pt x="32" y="42"/>
                  </a:lnTo>
                  <a:lnTo>
                    <a:pt x="53" y="56"/>
                  </a:lnTo>
                  <a:lnTo>
                    <a:pt x="84" y="77"/>
                  </a:lnTo>
                  <a:lnTo>
                    <a:pt x="112" y="101"/>
                  </a:lnTo>
                  <a:lnTo>
                    <a:pt x="122" y="115"/>
                  </a:lnTo>
                  <a:lnTo>
                    <a:pt x="133" y="122"/>
                  </a:lnTo>
                  <a:lnTo>
                    <a:pt x="154" y="150"/>
                  </a:lnTo>
                  <a:lnTo>
                    <a:pt x="174" y="182"/>
                  </a:lnTo>
                  <a:lnTo>
                    <a:pt x="185" y="206"/>
                  </a:lnTo>
                  <a:lnTo>
                    <a:pt x="192" y="216"/>
                  </a:lnTo>
                  <a:lnTo>
                    <a:pt x="202" y="227"/>
                  </a:lnTo>
                  <a:lnTo>
                    <a:pt x="209" y="230"/>
                  </a:lnTo>
                  <a:lnTo>
                    <a:pt x="220" y="237"/>
                  </a:lnTo>
                  <a:lnTo>
                    <a:pt x="223" y="227"/>
                  </a:lnTo>
                  <a:lnTo>
                    <a:pt x="227" y="213"/>
                  </a:lnTo>
                  <a:lnTo>
                    <a:pt x="227" y="202"/>
                  </a:lnTo>
                  <a:lnTo>
                    <a:pt x="223" y="192"/>
                  </a:lnTo>
                  <a:lnTo>
                    <a:pt x="209" y="164"/>
                  </a:lnTo>
                  <a:lnTo>
                    <a:pt x="185" y="129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6" y="74"/>
                  </a:lnTo>
                  <a:lnTo>
                    <a:pt x="108" y="49"/>
                  </a:lnTo>
                  <a:lnTo>
                    <a:pt x="73" y="21"/>
                  </a:lnTo>
                  <a:lnTo>
                    <a:pt x="53" y="7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rot="193800">
              <a:off x="3873600" y="6868440"/>
              <a:ext cx="125640" cy="193320"/>
            </a:xfrm>
            <a:custGeom>
              <a:avLst/>
              <a:gdLst/>
              <a:ahLst/>
              <a:rect l="l" t="t" r="r" b="b"/>
              <a:pathLst>
                <a:path w="254" h="422">
                  <a:moveTo>
                    <a:pt x="216" y="283"/>
                  </a:moveTo>
                  <a:lnTo>
                    <a:pt x="198" y="297"/>
                  </a:lnTo>
                  <a:lnTo>
                    <a:pt x="174" y="314"/>
                  </a:lnTo>
                  <a:lnTo>
                    <a:pt x="149" y="331"/>
                  </a:lnTo>
                  <a:lnTo>
                    <a:pt x="139" y="338"/>
                  </a:lnTo>
                  <a:lnTo>
                    <a:pt x="132" y="342"/>
                  </a:lnTo>
                  <a:lnTo>
                    <a:pt x="118" y="352"/>
                  </a:lnTo>
                  <a:lnTo>
                    <a:pt x="101" y="359"/>
                  </a:lnTo>
                  <a:lnTo>
                    <a:pt x="80" y="370"/>
                  </a:lnTo>
                  <a:lnTo>
                    <a:pt x="83" y="363"/>
                  </a:lnTo>
                  <a:lnTo>
                    <a:pt x="83" y="356"/>
                  </a:lnTo>
                  <a:lnTo>
                    <a:pt x="83" y="345"/>
                  </a:lnTo>
                  <a:lnTo>
                    <a:pt x="83" y="335"/>
                  </a:lnTo>
                  <a:lnTo>
                    <a:pt x="80" y="314"/>
                  </a:lnTo>
                  <a:lnTo>
                    <a:pt x="73" y="286"/>
                  </a:lnTo>
                  <a:lnTo>
                    <a:pt x="66" y="248"/>
                  </a:lnTo>
                  <a:lnTo>
                    <a:pt x="62" y="220"/>
                  </a:lnTo>
                  <a:lnTo>
                    <a:pt x="73" y="220"/>
                  </a:lnTo>
                  <a:lnTo>
                    <a:pt x="83" y="227"/>
                  </a:lnTo>
                  <a:lnTo>
                    <a:pt x="90" y="227"/>
                  </a:lnTo>
                  <a:lnTo>
                    <a:pt x="94" y="230"/>
                  </a:lnTo>
                  <a:lnTo>
                    <a:pt x="101" y="230"/>
                  </a:lnTo>
                  <a:lnTo>
                    <a:pt x="115" y="234"/>
                  </a:lnTo>
                  <a:lnTo>
                    <a:pt x="132" y="234"/>
                  </a:lnTo>
                  <a:lnTo>
                    <a:pt x="142" y="237"/>
                  </a:lnTo>
                  <a:lnTo>
                    <a:pt x="146" y="237"/>
                  </a:lnTo>
                  <a:lnTo>
                    <a:pt x="149" y="234"/>
                  </a:lnTo>
                  <a:lnTo>
                    <a:pt x="153" y="227"/>
                  </a:lnTo>
                  <a:lnTo>
                    <a:pt x="160" y="223"/>
                  </a:lnTo>
                  <a:lnTo>
                    <a:pt x="156" y="213"/>
                  </a:lnTo>
                  <a:lnTo>
                    <a:pt x="153" y="206"/>
                  </a:lnTo>
                  <a:lnTo>
                    <a:pt x="149" y="202"/>
                  </a:lnTo>
                  <a:lnTo>
                    <a:pt x="146" y="199"/>
                  </a:lnTo>
                  <a:lnTo>
                    <a:pt x="136" y="199"/>
                  </a:lnTo>
                  <a:lnTo>
                    <a:pt x="122" y="195"/>
                  </a:lnTo>
                  <a:lnTo>
                    <a:pt x="111" y="192"/>
                  </a:lnTo>
                  <a:lnTo>
                    <a:pt x="104" y="189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82"/>
                  </a:lnTo>
                  <a:lnTo>
                    <a:pt x="66" y="178"/>
                  </a:lnTo>
                  <a:lnTo>
                    <a:pt x="59" y="175"/>
                  </a:lnTo>
                  <a:lnTo>
                    <a:pt x="55" y="178"/>
                  </a:lnTo>
                  <a:lnTo>
                    <a:pt x="48" y="147"/>
                  </a:lnTo>
                  <a:lnTo>
                    <a:pt x="45" y="108"/>
                  </a:lnTo>
                  <a:lnTo>
                    <a:pt x="38" y="74"/>
                  </a:lnTo>
                  <a:lnTo>
                    <a:pt x="35" y="49"/>
                  </a:lnTo>
                  <a:lnTo>
                    <a:pt x="31" y="35"/>
                  </a:lnTo>
                  <a:lnTo>
                    <a:pt x="28" y="25"/>
                  </a:lnTo>
                  <a:lnTo>
                    <a:pt x="21" y="11"/>
                  </a:lnTo>
                  <a:lnTo>
                    <a:pt x="10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3" y="91"/>
                  </a:lnTo>
                  <a:lnTo>
                    <a:pt x="14" y="136"/>
                  </a:lnTo>
                  <a:lnTo>
                    <a:pt x="17" y="182"/>
                  </a:lnTo>
                  <a:lnTo>
                    <a:pt x="21" y="199"/>
                  </a:lnTo>
                  <a:lnTo>
                    <a:pt x="24" y="220"/>
                  </a:lnTo>
                  <a:lnTo>
                    <a:pt x="31" y="265"/>
                  </a:lnTo>
                  <a:lnTo>
                    <a:pt x="38" y="310"/>
                  </a:lnTo>
                  <a:lnTo>
                    <a:pt x="45" y="342"/>
                  </a:lnTo>
                  <a:lnTo>
                    <a:pt x="45" y="352"/>
                  </a:lnTo>
                  <a:lnTo>
                    <a:pt x="52" y="366"/>
                  </a:lnTo>
                  <a:lnTo>
                    <a:pt x="59" y="373"/>
                  </a:lnTo>
                  <a:lnTo>
                    <a:pt x="66" y="384"/>
                  </a:lnTo>
                  <a:lnTo>
                    <a:pt x="59" y="384"/>
                  </a:lnTo>
                  <a:lnTo>
                    <a:pt x="59" y="387"/>
                  </a:lnTo>
                  <a:lnTo>
                    <a:pt x="48" y="391"/>
                  </a:lnTo>
                  <a:lnTo>
                    <a:pt x="42" y="398"/>
                  </a:lnTo>
                  <a:lnTo>
                    <a:pt x="38" y="408"/>
                  </a:lnTo>
                  <a:lnTo>
                    <a:pt x="31" y="418"/>
                  </a:lnTo>
                  <a:lnTo>
                    <a:pt x="45" y="422"/>
                  </a:lnTo>
                  <a:lnTo>
                    <a:pt x="55" y="422"/>
                  </a:lnTo>
                  <a:lnTo>
                    <a:pt x="66" y="422"/>
                  </a:lnTo>
                  <a:lnTo>
                    <a:pt x="73" y="418"/>
                  </a:lnTo>
                  <a:lnTo>
                    <a:pt x="94" y="408"/>
                  </a:lnTo>
                  <a:lnTo>
                    <a:pt x="125" y="394"/>
                  </a:lnTo>
                  <a:lnTo>
                    <a:pt x="149" y="377"/>
                  </a:lnTo>
                  <a:lnTo>
                    <a:pt x="160" y="370"/>
                  </a:lnTo>
                  <a:lnTo>
                    <a:pt x="170" y="363"/>
                  </a:lnTo>
                  <a:lnTo>
                    <a:pt x="195" y="345"/>
                  </a:lnTo>
                  <a:lnTo>
                    <a:pt x="223" y="328"/>
                  </a:lnTo>
                  <a:lnTo>
                    <a:pt x="240" y="314"/>
                  </a:lnTo>
                  <a:lnTo>
                    <a:pt x="247" y="303"/>
                  </a:lnTo>
                  <a:lnTo>
                    <a:pt x="250" y="297"/>
                  </a:lnTo>
                  <a:lnTo>
                    <a:pt x="254" y="286"/>
                  </a:lnTo>
                  <a:lnTo>
                    <a:pt x="254" y="276"/>
                  </a:lnTo>
                  <a:lnTo>
                    <a:pt x="243" y="276"/>
                  </a:lnTo>
                  <a:lnTo>
                    <a:pt x="233" y="276"/>
                  </a:lnTo>
                  <a:lnTo>
                    <a:pt x="223" y="279"/>
                  </a:lnTo>
                  <a:lnTo>
                    <a:pt x="216" y="283"/>
                  </a:lnTo>
                  <a:lnTo>
                    <a:pt x="21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rot="193800">
              <a:off x="3970080" y="6804720"/>
              <a:ext cx="142920" cy="239040"/>
            </a:xfrm>
            <a:custGeom>
              <a:avLst/>
              <a:gdLst/>
              <a:ahLst/>
              <a:rect l="l" t="t" r="r" b="b"/>
              <a:pathLst>
                <a:path w="198" h="474">
                  <a:moveTo>
                    <a:pt x="146" y="415"/>
                  </a:moveTo>
                  <a:lnTo>
                    <a:pt x="136" y="405"/>
                  </a:lnTo>
                  <a:lnTo>
                    <a:pt x="115" y="387"/>
                  </a:lnTo>
                  <a:lnTo>
                    <a:pt x="94" y="363"/>
                  </a:lnTo>
                  <a:lnTo>
                    <a:pt x="76" y="335"/>
                  </a:lnTo>
                  <a:lnTo>
                    <a:pt x="66" y="310"/>
                  </a:lnTo>
                  <a:lnTo>
                    <a:pt x="56" y="293"/>
                  </a:lnTo>
                  <a:lnTo>
                    <a:pt x="49" y="276"/>
                  </a:lnTo>
                  <a:lnTo>
                    <a:pt x="45" y="265"/>
                  </a:lnTo>
                  <a:lnTo>
                    <a:pt x="56" y="269"/>
                  </a:lnTo>
                  <a:lnTo>
                    <a:pt x="70" y="272"/>
                  </a:lnTo>
                  <a:lnTo>
                    <a:pt x="76" y="272"/>
                  </a:lnTo>
                  <a:lnTo>
                    <a:pt x="76" y="276"/>
                  </a:lnTo>
                  <a:lnTo>
                    <a:pt x="83" y="279"/>
                  </a:lnTo>
                  <a:lnTo>
                    <a:pt x="101" y="290"/>
                  </a:lnTo>
                  <a:lnTo>
                    <a:pt x="118" y="297"/>
                  </a:lnTo>
                  <a:lnTo>
                    <a:pt x="129" y="304"/>
                  </a:lnTo>
                  <a:lnTo>
                    <a:pt x="136" y="307"/>
                  </a:lnTo>
                  <a:lnTo>
                    <a:pt x="143" y="304"/>
                  </a:lnTo>
                  <a:lnTo>
                    <a:pt x="150" y="300"/>
                  </a:lnTo>
                  <a:lnTo>
                    <a:pt x="157" y="293"/>
                  </a:lnTo>
                  <a:lnTo>
                    <a:pt x="157" y="286"/>
                  </a:lnTo>
                  <a:lnTo>
                    <a:pt x="157" y="279"/>
                  </a:lnTo>
                  <a:lnTo>
                    <a:pt x="153" y="272"/>
                  </a:lnTo>
                  <a:lnTo>
                    <a:pt x="146" y="269"/>
                  </a:lnTo>
                  <a:lnTo>
                    <a:pt x="136" y="262"/>
                  </a:lnTo>
                  <a:lnTo>
                    <a:pt x="118" y="255"/>
                  </a:lnTo>
                  <a:lnTo>
                    <a:pt x="101" y="244"/>
                  </a:lnTo>
                  <a:lnTo>
                    <a:pt x="97" y="241"/>
                  </a:lnTo>
                  <a:lnTo>
                    <a:pt x="87" y="237"/>
                  </a:lnTo>
                  <a:lnTo>
                    <a:pt x="73" y="230"/>
                  </a:lnTo>
                  <a:lnTo>
                    <a:pt x="52" y="223"/>
                  </a:lnTo>
                  <a:lnTo>
                    <a:pt x="42" y="216"/>
                  </a:lnTo>
                  <a:lnTo>
                    <a:pt x="38" y="206"/>
                  </a:lnTo>
                  <a:lnTo>
                    <a:pt x="38" y="196"/>
                  </a:lnTo>
                  <a:lnTo>
                    <a:pt x="38" y="182"/>
                  </a:lnTo>
                  <a:lnTo>
                    <a:pt x="42" y="171"/>
                  </a:lnTo>
                  <a:lnTo>
                    <a:pt x="42" y="136"/>
                  </a:lnTo>
                  <a:lnTo>
                    <a:pt x="49" y="105"/>
                  </a:lnTo>
                  <a:lnTo>
                    <a:pt x="56" y="81"/>
                  </a:lnTo>
                  <a:lnTo>
                    <a:pt x="63" y="63"/>
                  </a:lnTo>
                  <a:lnTo>
                    <a:pt x="70" y="46"/>
                  </a:lnTo>
                  <a:lnTo>
                    <a:pt x="76" y="32"/>
                  </a:lnTo>
                  <a:lnTo>
                    <a:pt x="83" y="14"/>
                  </a:lnTo>
                  <a:lnTo>
                    <a:pt x="94" y="0"/>
                  </a:lnTo>
                  <a:lnTo>
                    <a:pt x="73" y="4"/>
                  </a:lnTo>
                  <a:lnTo>
                    <a:pt x="52" y="14"/>
                  </a:lnTo>
                  <a:lnTo>
                    <a:pt x="38" y="28"/>
                  </a:lnTo>
                  <a:lnTo>
                    <a:pt x="28" y="49"/>
                  </a:lnTo>
                  <a:lnTo>
                    <a:pt x="21" y="67"/>
                  </a:lnTo>
                  <a:lnTo>
                    <a:pt x="10" y="98"/>
                  </a:lnTo>
                  <a:lnTo>
                    <a:pt x="3" y="133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3" y="234"/>
                  </a:lnTo>
                  <a:lnTo>
                    <a:pt x="7" y="255"/>
                  </a:lnTo>
                  <a:lnTo>
                    <a:pt x="10" y="265"/>
                  </a:lnTo>
                  <a:lnTo>
                    <a:pt x="10" y="272"/>
                  </a:lnTo>
                  <a:lnTo>
                    <a:pt x="14" y="293"/>
                  </a:lnTo>
                  <a:lnTo>
                    <a:pt x="24" y="321"/>
                  </a:lnTo>
                  <a:lnTo>
                    <a:pt x="42" y="356"/>
                  </a:lnTo>
                  <a:lnTo>
                    <a:pt x="66" y="387"/>
                  </a:lnTo>
                  <a:lnTo>
                    <a:pt x="87" y="412"/>
                  </a:lnTo>
                  <a:lnTo>
                    <a:pt x="108" y="432"/>
                  </a:lnTo>
                  <a:lnTo>
                    <a:pt x="125" y="446"/>
                  </a:lnTo>
                  <a:lnTo>
                    <a:pt x="143" y="457"/>
                  </a:lnTo>
                  <a:lnTo>
                    <a:pt x="160" y="467"/>
                  </a:lnTo>
                  <a:lnTo>
                    <a:pt x="177" y="471"/>
                  </a:lnTo>
                  <a:lnTo>
                    <a:pt x="198" y="474"/>
                  </a:lnTo>
                  <a:lnTo>
                    <a:pt x="188" y="457"/>
                  </a:lnTo>
                  <a:lnTo>
                    <a:pt x="177" y="443"/>
                  </a:lnTo>
                  <a:lnTo>
                    <a:pt x="164" y="429"/>
                  </a:lnTo>
                  <a:lnTo>
                    <a:pt x="146" y="415"/>
                  </a:lnTo>
                  <a:lnTo>
                    <a:pt x="14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rot="193800">
              <a:off x="3726360" y="7023600"/>
              <a:ext cx="68400" cy="241200"/>
            </a:xfrm>
            <a:custGeom>
              <a:avLst/>
              <a:gdLst/>
              <a:ahLst/>
              <a:rect l="l" t="t" r="r" b="b"/>
              <a:pathLst>
                <a:path w="139" h="526">
                  <a:moveTo>
                    <a:pt x="11" y="0"/>
                  </a:moveTo>
                  <a:lnTo>
                    <a:pt x="7" y="18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7"/>
                  </a:lnTo>
                  <a:lnTo>
                    <a:pt x="7" y="122"/>
                  </a:lnTo>
                  <a:lnTo>
                    <a:pt x="18" y="192"/>
                  </a:lnTo>
                  <a:lnTo>
                    <a:pt x="31" y="251"/>
                  </a:lnTo>
                  <a:lnTo>
                    <a:pt x="35" y="279"/>
                  </a:lnTo>
                  <a:lnTo>
                    <a:pt x="38" y="286"/>
                  </a:lnTo>
                  <a:lnTo>
                    <a:pt x="45" y="303"/>
                  </a:lnTo>
                  <a:lnTo>
                    <a:pt x="52" y="331"/>
                  </a:lnTo>
                  <a:lnTo>
                    <a:pt x="70" y="366"/>
                  </a:lnTo>
                  <a:lnTo>
                    <a:pt x="77" y="380"/>
                  </a:lnTo>
                  <a:lnTo>
                    <a:pt x="84" y="394"/>
                  </a:lnTo>
                  <a:lnTo>
                    <a:pt x="91" y="411"/>
                  </a:lnTo>
                  <a:lnTo>
                    <a:pt x="98" y="425"/>
                  </a:lnTo>
                  <a:lnTo>
                    <a:pt x="101" y="432"/>
                  </a:lnTo>
                  <a:lnTo>
                    <a:pt x="101" y="443"/>
                  </a:lnTo>
                  <a:lnTo>
                    <a:pt x="101" y="446"/>
                  </a:lnTo>
                  <a:lnTo>
                    <a:pt x="98" y="453"/>
                  </a:lnTo>
                  <a:lnTo>
                    <a:pt x="94" y="471"/>
                  </a:lnTo>
                  <a:lnTo>
                    <a:pt x="87" y="488"/>
                  </a:lnTo>
                  <a:lnTo>
                    <a:pt x="84" y="505"/>
                  </a:lnTo>
                  <a:lnTo>
                    <a:pt x="80" y="526"/>
                  </a:lnTo>
                  <a:lnTo>
                    <a:pt x="98" y="512"/>
                  </a:lnTo>
                  <a:lnTo>
                    <a:pt x="112" y="502"/>
                  </a:lnTo>
                  <a:lnTo>
                    <a:pt x="122" y="488"/>
                  </a:lnTo>
                  <a:lnTo>
                    <a:pt x="136" y="467"/>
                  </a:lnTo>
                  <a:lnTo>
                    <a:pt x="136" y="460"/>
                  </a:lnTo>
                  <a:lnTo>
                    <a:pt x="139" y="443"/>
                  </a:lnTo>
                  <a:lnTo>
                    <a:pt x="139" y="425"/>
                  </a:lnTo>
                  <a:lnTo>
                    <a:pt x="136" y="411"/>
                  </a:lnTo>
                  <a:lnTo>
                    <a:pt x="129" y="394"/>
                  </a:lnTo>
                  <a:lnTo>
                    <a:pt x="119" y="376"/>
                  </a:lnTo>
                  <a:lnTo>
                    <a:pt x="108" y="363"/>
                  </a:lnTo>
                  <a:lnTo>
                    <a:pt x="101" y="349"/>
                  </a:lnTo>
                  <a:lnTo>
                    <a:pt x="91" y="321"/>
                  </a:lnTo>
                  <a:lnTo>
                    <a:pt x="84" y="293"/>
                  </a:lnTo>
                  <a:lnTo>
                    <a:pt x="77" y="275"/>
                  </a:lnTo>
                  <a:lnTo>
                    <a:pt x="77" y="268"/>
                  </a:lnTo>
                  <a:lnTo>
                    <a:pt x="66" y="241"/>
                  </a:lnTo>
                  <a:lnTo>
                    <a:pt x="56" y="181"/>
                  </a:lnTo>
                  <a:lnTo>
                    <a:pt x="45" y="115"/>
                  </a:lnTo>
                  <a:lnTo>
                    <a:pt x="38" y="70"/>
                  </a:lnTo>
                  <a:lnTo>
                    <a:pt x="35" y="49"/>
                  </a:lnTo>
                  <a:lnTo>
                    <a:pt x="28" y="35"/>
                  </a:lnTo>
                  <a:lnTo>
                    <a:pt x="21" y="1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rot="193800">
              <a:off x="3651480" y="7061040"/>
              <a:ext cx="66600" cy="261000"/>
            </a:xfrm>
            <a:custGeom>
              <a:avLst/>
              <a:gdLst/>
              <a:ahLst/>
              <a:rect l="l" t="t" r="r" b="b"/>
              <a:pathLst>
                <a:path w="136" h="568">
                  <a:moveTo>
                    <a:pt x="14" y="0"/>
                  </a:moveTo>
                  <a:lnTo>
                    <a:pt x="7" y="17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0" y="129"/>
                  </a:lnTo>
                  <a:lnTo>
                    <a:pt x="3" y="160"/>
                  </a:lnTo>
                  <a:lnTo>
                    <a:pt x="7" y="198"/>
                  </a:lnTo>
                  <a:lnTo>
                    <a:pt x="10" y="233"/>
                  </a:lnTo>
                  <a:lnTo>
                    <a:pt x="14" y="268"/>
                  </a:lnTo>
                  <a:lnTo>
                    <a:pt x="17" y="289"/>
                  </a:lnTo>
                  <a:lnTo>
                    <a:pt x="21" y="296"/>
                  </a:lnTo>
                  <a:lnTo>
                    <a:pt x="24" y="306"/>
                  </a:lnTo>
                  <a:lnTo>
                    <a:pt x="28" y="327"/>
                  </a:lnTo>
                  <a:lnTo>
                    <a:pt x="42" y="355"/>
                  </a:lnTo>
                  <a:lnTo>
                    <a:pt x="59" y="387"/>
                  </a:lnTo>
                  <a:lnTo>
                    <a:pt x="66" y="404"/>
                  </a:lnTo>
                  <a:lnTo>
                    <a:pt x="76" y="421"/>
                  </a:lnTo>
                  <a:lnTo>
                    <a:pt x="83" y="439"/>
                  </a:lnTo>
                  <a:lnTo>
                    <a:pt x="90" y="449"/>
                  </a:lnTo>
                  <a:lnTo>
                    <a:pt x="94" y="463"/>
                  </a:lnTo>
                  <a:lnTo>
                    <a:pt x="97" y="474"/>
                  </a:lnTo>
                  <a:lnTo>
                    <a:pt x="97" y="484"/>
                  </a:lnTo>
                  <a:lnTo>
                    <a:pt x="97" y="491"/>
                  </a:lnTo>
                  <a:lnTo>
                    <a:pt x="94" y="508"/>
                  </a:lnTo>
                  <a:lnTo>
                    <a:pt x="90" y="526"/>
                  </a:lnTo>
                  <a:lnTo>
                    <a:pt x="90" y="547"/>
                  </a:lnTo>
                  <a:lnTo>
                    <a:pt x="90" y="568"/>
                  </a:lnTo>
                  <a:lnTo>
                    <a:pt x="104" y="554"/>
                  </a:lnTo>
                  <a:lnTo>
                    <a:pt x="118" y="536"/>
                  </a:lnTo>
                  <a:lnTo>
                    <a:pt x="125" y="519"/>
                  </a:lnTo>
                  <a:lnTo>
                    <a:pt x="132" y="495"/>
                  </a:lnTo>
                  <a:lnTo>
                    <a:pt x="136" y="484"/>
                  </a:lnTo>
                  <a:lnTo>
                    <a:pt x="136" y="470"/>
                  </a:lnTo>
                  <a:lnTo>
                    <a:pt x="132" y="453"/>
                  </a:lnTo>
                  <a:lnTo>
                    <a:pt x="125" y="435"/>
                  </a:lnTo>
                  <a:lnTo>
                    <a:pt x="118" y="418"/>
                  </a:lnTo>
                  <a:lnTo>
                    <a:pt x="111" y="404"/>
                  </a:lnTo>
                  <a:lnTo>
                    <a:pt x="101" y="387"/>
                  </a:lnTo>
                  <a:lnTo>
                    <a:pt x="94" y="369"/>
                  </a:lnTo>
                  <a:lnTo>
                    <a:pt x="76" y="338"/>
                  </a:lnTo>
                  <a:lnTo>
                    <a:pt x="66" y="310"/>
                  </a:lnTo>
                  <a:lnTo>
                    <a:pt x="59" y="292"/>
                  </a:lnTo>
                  <a:lnTo>
                    <a:pt x="59" y="285"/>
                  </a:lnTo>
                  <a:lnTo>
                    <a:pt x="56" y="279"/>
                  </a:lnTo>
                  <a:lnTo>
                    <a:pt x="52" y="261"/>
                  </a:lnTo>
                  <a:lnTo>
                    <a:pt x="45" y="230"/>
                  </a:lnTo>
                  <a:lnTo>
                    <a:pt x="42" y="195"/>
                  </a:lnTo>
                  <a:lnTo>
                    <a:pt x="42" y="157"/>
                  </a:lnTo>
                  <a:lnTo>
                    <a:pt x="38" y="122"/>
                  </a:lnTo>
                  <a:lnTo>
                    <a:pt x="35" y="94"/>
                  </a:lnTo>
                  <a:lnTo>
                    <a:pt x="35" y="76"/>
                  </a:lnTo>
                  <a:lnTo>
                    <a:pt x="35" y="52"/>
                  </a:lnTo>
                  <a:lnTo>
                    <a:pt x="28" y="35"/>
                  </a:lnTo>
                  <a:lnTo>
                    <a:pt x="21" y="1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rot="193800">
              <a:off x="4010400" y="7118640"/>
              <a:ext cx="42840" cy="7416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7" y="0"/>
                  </a:moveTo>
                  <a:lnTo>
                    <a:pt x="74" y="0"/>
                  </a:lnTo>
                  <a:lnTo>
                    <a:pt x="67" y="14"/>
                  </a:lnTo>
                  <a:lnTo>
                    <a:pt x="56" y="25"/>
                  </a:lnTo>
                  <a:lnTo>
                    <a:pt x="49" y="35"/>
                  </a:lnTo>
                  <a:lnTo>
                    <a:pt x="39" y="42"/>
                  </a:lnTo>
                  <a:lnTo>
                    <a:pt x="28" y="60"/>
                  </a:lnTo>
                  <a:lnTo>
                    <a:pt x="21" y="74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7" y="105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4" y="161"/>
                  </a:lnTo>
                  <a:lnTo>
                    <a:pt x="21" y="154"/>
                  </a:lnTo>
                  <a:lnTo>
                    <a:pt x="28" y="150"/>
                  </a:lnTo>
                  <a:lnTo>
                    <a:pt x="35" y="147"/>
                  </a:lnTo>
                  <a:lnTo>
                    <a:pt x="39" y="143"/>
                  </a:lnTo>
                  <a:lnTo>
                    <a:pt x="39" y="133"/>
                  </a:lnTo>
                  <a:lnTo>
                    <a:pt x="46" y="115"/>
                  </a:lnTo>
                  <a:lnTo>
                    <a:pt x="49" y="101"/>
                  </a:lnTo>
                  <a:lnTo>
                    <a:pt x="53" y="98"/>
                  </a:lnTo>
                  <a:lnTo>
                    <a:pt x="56" y="88"/>
                  </a:lnTo>
                  <a:lnTo>
                    <a:pt x="67" y="74"/>
                  </a:lnTo>
                  <a:lnTo>
                    <a:pt x="77" y="53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7" y="25"/>
                  </a:lnTo>
                  <a:lnTo>
                    <a:pt x="87" y="11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rot="193800">
              <a:off x="3960720" y="7240680"/>
              <a:ext cx="66600" cy="150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14" y="0"/>
                  </a:moveTo>
                  <a:lnTo>
                    <a:pt x="7" y="10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4" y="52"/>
                  </a:lnTo>
                  <a:lnTo>
                    <a:pt x="11" y="80"/>
                  </a:lnTo>
                  <a:lnTo>
                    <a:pt x="28" y="122"/>
                  </a:lnTo>
                  <a:lnTo>
                    <a:pt x="42" y="156"/>
                  </a:lnTo>
                  <a:lnTo>
                    <a:pt x="52" y="174"/>
                  </a:lnTo>
                  <a:lnTo>
                    <a:pt x="56" y="188"/>
                  </a:lnTo>
                  <a:lnTo>
                    <a:pt x="73" y="223"/>
                  </a:lnTo>
                  <a:lnTo>
                    <a:pt x="87" y="264"/>
                  </a:lnTo>
                  <a:lnTo>
                    <a:pt x="98" y="292"/>
                  </a:lnTo>
                  <a:lnTo>
                    <a:pt x="105" y="299"/>
                  </a:lnTo>
                  <a:lnTo>
                    <a:pt x="112" y="310"/>
                  </a:lnTo>
                  <a:lnTo>
                    <a:pt x="119" y="317"/>
                  </a:lnTo>
                  <a:lnTo>
                    <a:pt x="129" y="327"/>
                  </a:lnTo>
                  <a:lnTo>
                    <a:pt x="136" y="313"/>
                  </a:lnTo>
                  <a:lnTo>
                    <a:pt x="136" y="303"/>
                  </a:lnTo>
                  <a:lnTo>
                    <a:pt x="136" y="289"/>
                  </a:lnTo>
                  <a:lnTo>
                    <a:pt x="133" y="278"/>
                  </a:lnTo>
                  <a:lnTo>
                    <a:pt x="126" y="247"/>
                  </a:lnTo>
                  <a:lnTo>
                    <a:pt x="108" y="209"/>
                  </a:lnTo>
                  <a:lnTo>
                    <a:pt x="91" y="170"/>
                  </a:lnTo>
                  <a:lnTo>
                    <a:pt x="84" y="156"/>
                  </a:lnTo>
                  <a:lnTo>
                    <a:pt x="77" y="139"/>
                  </a:lnTo>
                  <a:lnTo>
                    <a:pt x="63" y="108"/>
                  </a:lnTo>
                  <a:lnTo>
                    <a:pt x="49" y="66"/>
                  </a:lnTo>
                  <a:lnTo>
                    <a:pt x="42" y="41"/>
                  </a:lnTo>
                  <a:lnTo>
                    <a:pt x="39" y="28"/>
                  </a:lnTo>
                  <a:lnTo>
                    <a:pt x="32" y="17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rot="193800">
              <a:off x="3887640" y="7215840"/>
              <a:ext cx="74880" cy="237960"/>
            </a:xfrm>
            <a:custGeom>
              <a:avLst/>
              <a:gdLst/>
              <a:ahLst/>
              <a:rect l="l" t="t" r="r" b="b"/>
              <a:pathLst>
                <a:path w="153" h="519">
                  <a:moveTo>
                    <a:pt x="125" y="415"/>
                  </a:moveTo>
                  <a:lnTo>
                    <a:pt x="129" y="405"/>
                  </a:lnTo>
                  <a:lnTo>
                    <a:pt x="132" y="394"/>
                  </a:lnTo>
                  <a:lnTo>
                    <a:pt x="136" y="384"/>
                  </a:lnTo>
                  <a:lnTo>
                    <a:pt x="136" y="373"/>
                  </a:lnTo>
                  <a:lnTo>
                    <a:pt x="136" y="335"/>
                  </a:lnTo>
                  <a:lnTo>
                    <a:pt x="132" y="279"/>
                  </a:lnTo>
                  <a:lnTo>
                    <a:pt x="122" y="227"/>
                  </a:lnTo>
                  <a:lnTo>
                    <a:pt x="118" y="206"/>
                  </a:lnTo>
                  <a:lnTo>
                    <a:pt x="111" y="182"/>
                  </a:lnTo>
                  <a:lnTo>
                    <a:pt x="101" y="133"/>
                  </a:lnTo>
                  <a:lnTo>
                    <a:pt x="80" y="81"/>
                  </a:lnTo>
                  <a:lnTo>
                    <a:pt x="66" y="46"/>
                  </a:lnTo>
                  <a:lnTo>
                    <a:pt x="59" y="28"/>
                  </a:lnTo>
                  <a:lnTo>
                    <a:pt x="49" y="18"/>
                  </a:lnTo>
                  <a:lnTo>
                    <a:pt x="38" y="7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24" y="32"/>
                  </a:lnTo>
                  <a:lnTo>
                    <a:pt x="28" y="46"/>
                  </a:lnTo>
                  <a:lnTo>
                    <a:pt x="31" y="60"/>
                  </a:lnTo>
                  <a:lnTo>
                    <a:pt x="45" y="94"/>
                  </a:lnTo>
                  <a:lnTo>
                    <a:pt x="63" y="147"/>
                  </a:lnTo>
                  <a:lnTo>
                    <a:pt x="77" y="192"/>
                  </a:lnTo>
                  <a:lnTo>
                    <a:pt x="80" y="213"/>
                  </a:lnTo>
                  <a:lnTo>
                    <a:pt x="87" y="234"/>
                  </a:lnTo>
                  <a:lnTo>
                    <a:pt x="94" y="283"/>
                  </a:lnTo>
                  <a:lnTo>
                    <a:pt x="98" y="335"/>
                  </a:lnTo>
                  <a:lnTo>
                    <a:pt x="98" y="370"/>
                  </a:lnTo>
                  <a:lnTo>
                    <a:pt x="98" y="377"/>
                  </a:lnTo>
                  <a:lnTo>
                    <a:pt x="98" y="384"/>
                  </a:lnTo>
                  <a:lnTo>
                    <a:pt x="98" y="391"/>
                  </a:lnTo>
                  <a:lnTo>
                    <a:pt x="101" y="394"/>
                  </a:lnTo>
                  <a:lnTo>
                    <a:pt x="91" y="391"/>
                  </a:lnTo>
                  <a:lnTo>
                    <a:pt x="84" y="387"/>
                  </a:lnTo>
                  <a:lnTo>
                    <a:pt x="77" y="384"/>
                  </a:lnTo>
                  <a:lnTo>
                    <a:pt x="73" y="384"/>
                  </a:lnTo>
                  <a:lnTo>
                    <a:pt x="59" y="384"/>
                  </a:lnTo>
                  <a:lnTo>
                    <a:pt x="45" y="387"/>
                  </a:lnTo>
                  <a:lnTo>
                    <a:pt x="35" y="394"/>
                  </a:lnTo>
                  <a:lnTo>
                    <a:pt x="28" y="401"/>
                  </a:lnTo>
                  <a:lnTo>
                    <a:pt x="38" y="408"/>
                  </a:lnTo>
                  <a:lnTo>
                    <a:pt x="45" y="411"/>
                  </a:lnTo>
                  <a:lnTo>
                    <a:pt x="52" y="418"/>
                  </a:lnTo>
                  <a:lnTo>
                    <a:pt x="63" y="422"/>
                  </a:lnTo>
                  <a:lnTo>
                    <a:pt x="70" y="422"/>
                  </a:lnTo>
                  <a:lnTo>
                    <a:pt x="80" y="429"/>
                  </a:lnTo>
                  <a:lnTo>
                    <a:pt x="94" y="439"/>
                  </a:lnTo>
                  <a:lnTo>
                    <a:pt x="105" y="450"/>
                  </a:lnTo>
                  <a:lnTo>
                    <a:pt x="108" y="457"/>
                  </a:lnTo>
                  <a:lnTo>
                    <a:pt x="115" y="460"/>
                  </a:lnTo>
                  <a:lnTo>
                    <a:pt x="105" y="464"/>
                  </a:lnTo>
                  <a:lnTo>
                    <a:pt x="98" y="467"/>
                  </a:lnTo>
                  <a:lnTo>
                    <a:pt x="87" y="471"/>
                  </a:lnTo>
                  <a:lnTo>
                    <a:pt x="77" y="474"/>
                  </a:lnTo>
                  <a:lnTo>
                    <a:pt x="63" y="481"/>
                  </a:lnTo>
                  <a:lnTo>
                    <a:pt x="49" y="481"/>
                  </a:lnTo>
                  <a:lnTo>
                    <a:pt x="38" y="481"/>
                  </a:lnTo>
                  <a:lnTo>
                    <a:pt x="35" y="478"/>
                  </a:lnTo>
                  <a:lnTo>
                    <a:pt x="28" y="474"/>
                  </a:lnTo>
                  <a:lnTo>
                    <a:pt x="21" y="471"/>
                  </a:lnTo>
                  <a:lnTo>
                    <a:pt x="14" y="467"/>
                  </a:lnTo>
                  <a:lnTo>
                    <a:pt x="0" y="460"/>
                  </a:lnTo>
                  <a:lnTo>
                    <a:pt x="0" y="474"/>
                  </a:lnTo>
                  <a:lnTo>
                    <a:pt x="0" y="485"/>
                  </a:lnTo>
                  <a:lnTo>
                    <a:pt x="4" y="499"/>
                  </a:lnTo>
                  <a:lnTo>
                    <a:pt x="17" y="513"/>
                  </a:lnTo>
                  <a:lnTo>
                    <a:pt x="28" y="516"/>
                  </a:lnTo>
                  <a:lnTo>
                    <a:pt x="49" y="519"/>
                  </a:lnTo>
                  <a:lnTo>
                    <a:pt x="70" y="516"/>
                  </a:lnTo>
                  <a:lnTo>
                    <a:pt x="94" y="513"/>
                  </a:lnTo>
                  <a:lnTo>
                    <a:pt x="108" y="506"/>
                  </a:lnTo>
                  <a:lnTo>
                    <a:pt x="122" y="499"/>
                  </a:lnTo>
                  <a:lnTo>
                    <a:pt x="132" y="495"/>
                  </a:lnTo>
                  <a:lnTo>
                    <a:pt x="136" y="495"/>
                  </a:lnTo>
                  <a:lnTo>
                    <a:pt x="150" y="474"/>
                  </a:lnTo>
                  <a:lnTo>
                    <a:pt x="153" y="457"/>
                  </a:lnTo>
                  <a:lnTo>
                    <a:pt x="143" y="432"/>
                  </a:lnTo>
                  <a:lnTo>
                    <a:pt x="125" y="415"/>
                  </a:lnTo>
                  <a:lnTo>
                    <a:pt x="125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 rot="193800">
              <a:off x="3810240" y="7045920"/>
              <a:ext cx="115920" cy="233280"/>
            </a:xfrm>
            <a:custGeom>
              <a:avLst/>
              <a:gdLst/>
              <a:ahLst/>
              <a:rect l="l" t="t" r="r" b="b"/>
              <a:pathLst>
                <a:path w="237" h="509">
                  <a:moveTo>
                    <a:pt x="0" y="509"/>
                  </a:moveTo>
                  <a:lnTo>
                    <a:pt x="21" y="505"/>
                  </a:lnTo>
                  <a:lnTo>
                    <a:pt x="38" y="502"/>
                  </a:lnTo>
                  <a:lnTo>
                    <a:pt x="56" y="495"/>
                  </a:lnTo>
                  <a:lnTo>
                    <a:pt x="80" y="481"/>
                  </a:lnTo>
                  <a:lnTo>
                    <a:pt x="94" y="467"/>
                  </a:lnTo>
                  <a:lnTo>
                    <a:pt x="118" y="446"/>
                  </a:lnTo>
                  <a:lnTo>
                    <a:pt x="143" y="418"/>
                  </a:lnTo>
                  <a:lnTo>
                    <a:pt x="171" y="390"/>
                  </a:lnTo>
                  <a:lnTo>
                    <a:pt x="188" y="359"/>
                  </a:lnTo>
                  <a:lnTo>
                    <a:pt x="205" y="331"/>
                  </a:lnTo>
                  <a:lnTo>
                    <a:pt x="216" y="310"/>
                  </a:lnTo>
                  <a:lnTo>
                    <a:pt x="216" y="303"/>
                  </a:lnTo>
                  <a:lnTo>
                    <a:pt x="223" y="293"/>
                  </a:lnTo>
                  <a:lnTo>
                    <a:pt x="230" y="272"/>
                  </a:lnTo>
                  <a:lnTo>
                    <a:pt x="233" y="240"/>
                  </a:lnTo>
                  <a:lnTo>
                    <a:pt x="237" y="199"/>
                  </a:lnTo>
                  <a:lnTo>
                    <a:pt x="230" y="160"/>
                  </a:lnTo>
                  <a:lnTo>
                    <a:pt x="226" y="125"/>
                  </a:lnTo>
                  <a:lnTo>
                    <a:pt x="223" y="94"/>
                  </a:lnTo>
                  <a:lnTo>
                    <a:pt x="219" y="77"/>
                  </a:lnTo>
                  <a:lnTo>
                    <a:pt x="216" y="56"/>
                  </a:lnTo>
                  <a:lnTo>
                    <a:pt x="212" y="35"/>
                  </a:lnTo>
                  <a:lnTo>
                    <a:pt x="209" y="17"/>
                  </a:lnTo>
                  <a:lnTo>
                    <a:pt x="202" y="0"/>
                  </a:lnTo>
                  <a:lnTo>
                    <a:pt x="192" y="17"/>
                  </a:lnTo>
                  <a:lnTo>
                    <a:pt x="188" y="35"/>
                  </a:lnTo>
                  <a:lnTo>
                    <a:pt x="181" y="56"/>
                  </a:lnTo>
                  <a:lnTo>
                    <a:pt x="181" y="80"/>
                  </a:lnTo>
                  <a:lnTo>
                    <a:pt x="185" y="98"/>
                  </a:lnTo>
                  <a:lnTo>
                    <a:pt x="188" y="129"/>
                  </a:lnTo>
                  <a:lnTo>
                    <a:pt x="192" y="164"/>
                  </a:lnTo>
                  <a:lnTo>
                    <a:pt x="195" y="199"/>
                  </a:lnTo>
                  <a:lnTo>
                    <a:pt x="195" y="233"/>
                  </a:lnTo>
                  <a:lnTo>
                    <a:pt x="192" y="261"/>
                  </a:lnTo>
                  <a:lnTo>
                    <a:pt x="188" y="279"/>
                  </a:lnTo>
                  <a:lnTo>
                    <a:pt x="185" y="286"/>
                  </a:lnTo>
                  <a:lnTo>
                    <a:pt x="181" y="293"/>
                  </a:lnTo>
                  <a:lnTo>
                    <a:pt x="171" y="310"/>
                  </a:lnTo>
                  <a:lnTo>
                    <a:pt x="157" y="335"/>
                  </a:lnTo>
                  <a:lnTo>
                    <a:pt x="136" y="366"/>
                  </a:lnTo>
                  <a:lnTo>
                    <a:pt x="111" y="390"/>
                  </a:lnTo>
                  <a:lnTo>
                    <a:pt x="91" y="415"/>
                  </a:lnTo>
                  <a:lnTo>
                    <a:pt x="70" y="436"/>
                  </a:lnTo>
                  <a:lnTo>
                    <a:pt x="52" y="449"/>
                  </a:lnTo>
                  <a:lnTo>
                    <a:pt x="35" y="463"/>
                  </a:lnTo>
                  <a:lnTo>
                    <a:pt x="24" y="477"/>
                  </a:lnTo>
                  <a:lnTo>
                    <a:pt x="11" y="491"/>
                  </a:lnTo>
                  <a:lnTo>
                    <a:pt x="0" y="50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rot="193800">
              <a:off x="3621960" y="7201800"/>
              <a:ext cx="209520" cy="185040"/>
            </a:xfrm>
            <a:custGeom>
              <a:avLst/>
              <a:gdLst/>
              <a:ahLst/>
              <a:rect l="l" t="t" r="r" b="b"/>
              <a:pathLst>
                <a:path w="424" h="405">
                  <a:moveTo>
                    <a:pt x="0" y="0"/>
                  </a:moveTo>
                  <a:lnTo>
                    <a:pt x="17" y="28"/>
                  </a:lnTo>
                  <a:lnTo>
                    <a:pt x="48" y="63"/>
                  </a:lnTo>
                  <a:lnTo>
                    <a:pt x="80" y="94"/>
                  </a:lnTo>
                  <a:lnTo>
                    <a:pt x="104" y="119"/>
                  </a:lnTo>
                  <a:lnTo>
                    <a:pt x="142" y="150"/>
                  </a:lnTo>
                  <a:lnTo>
                    <a:pt x="202" y="199"/>
                  </a:lnTo>
                  <a:lnTo>
                    <a:pt x="257" y="241"/>
                  </a:lnTo>
                  <a:lnTo>
                    <a:pt x="282" y="262"/>
                  </a:lnTo>
                  <a:lnTo>
                    <a:pt x="285" y="262"/>
                  </a:lnTo>
                  <a:lnTo>
                    <a:pt x="292" y="265"/>
                  </a:lnTo>
                  <a:lnTo>
                    <a:pt x="299" y="269"/>
                  </a:lnTo>
                  <a:lnTo>
                    <a:pt x="316" y="276"/>
                  </a:lnTo>
                  <a:lnTo>
                    <a:pt x="330" y="279"/>
                  </a:lnTo>
                  <a:lnTo>
                    <a:pt x="344" y="283"/>
                  </a:lnTo>
                  <a:lnTo>
                    <a:pt x="358" y="286"/>
                  </a:lnTo>
                  <a:lnTo>
                    <a:pt x="369" y="297"/>
                  </a:lnTo>
                  <a:lnTo>
                    <a:pt x="379" y="307"/>
                  </a:lnTo>
                  <a:lnTo>
                    <a:pt x="386" y="317"/>
                  </a:lnTo>
                  <a:lnTo>
                    <a:pt x="386" y="324"/>
                  </a:lnTo>
                  <a:lnTo>
                    <a:pt x="383" y="335"/>
                  </a:lnTo>
                  <a:lnTo>
                    <a:pt x="372" y="342"/>
                  </a:lnTo>
                  <a:lnTo>
                    <a:pt x="362" y="349"/>
                  </a:lnTo>
                  <a:lnTo>
                    <a:pt x="351" y="356"/>
                  </a:lnTo>
                  <a:lnTo>
                    <a:pt x="344" y="359"/>
                  </a:lnTo>
                  <a:lnTo>
                    <a:pt x="323" y="370"/>
                  </a:lnTo>
                  <a:lnTo>
                    <a:pt x="306" y="380"/>
                  </a:lnTo>
                  <a:lnTo>
                    <a:pt x="292" y="391"/>
                  </a:lnTo>
                  <a:lnTo>
                    <a:pt x="275" y="401"/>
                  </a:lnTo>
                  <a:lnTo>
                    <a:pt x="296" y="405"/>
                  </a:lnTo>
                  <a:lnTo>
                    <a:pt x="316" y="405"/>
                  </a:lnTo>
                  <a:lnTo>
                    <a:pt x="337" y="401"/>
                  </a:lnTo>
                  <a:lnTo>
                    <a:pt x="358" y="394"/>
                  </a:lnTo>
                  <a:lnTo>
                    <a:pt x="369" y="391"/>
                  </a:lnTo>
                  <a:lnTo>
                    <a:pt x="379" y="384"/>
                  </a:lnTo>
                  <a:lnTo>
                    <a:pt x="393" y="373"/>
                  </a:lnTo>
                  <a:lnTo>
                    <a:pt x="410" y="359"/>
                  </a:lnTo>
                  <a:lnTo>
                    <a:pt x="414" y="349"/>
                  </a:lnTo>
                  <a:lnTo>
                    <a:pt x="421" y="338"/>
                  </a:lnTo>
                  <a:lnTo>
                    <a:pt x="424" y="324"/>
                  </a:lnTo>
                  <a:lnTo>
                    <a:pt x="424" y="307"/>
                  </a:lnTo>
                  <a:lnTo>
                    <a:pt x="417" y="293"/>
                  </a:lnTo>
                  <a:lnTo>
                    <a:pt x="410" y="286"/>
                  </a:lnTo>
                  <a:lnTo>
                    <a:pt x="403" y="276"/>
                  </a:lnTo>
                  <a:lnTo>
                    <a:pt x="397" y="269"/>
                  </a:lnTo>
                  <a:lnTo>
                    <a:pt x="376" y="255"/>
                  </a:lnTo>
                  <a:lnTo>
                    <a:pt x="358" y="248"/>
                  </a:lnTo>
                  <a:lnTo>
                    <a:pt x="337" y="241"/>
                  </a:lnTo>
                  <a:lnTo>
                    <a:pt x="327" y="237"/>
                  </a:lnTo>
                  <a:lnTo>
                    <a:pt x="316" y="234"/>
                  </a:lnTo>
                  <a:lnTo>
                    <a:pt x="309" y="230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278" y="209"/>
                  </a:lnTo>
                  <a:lnTo>
                    <a:pt x="226" y="168"/>
                  </a:lnTo>
                  <a:lnTo>
                    <a:pt x="167" y="119"/>
                  </a:lnTo>
                  <a:lnTo>
                    <a:pt x="128" y="88"/>
                  </a:lnTo>
                  <a:lnTo>
                    <a:pt x="101" y="67"/>
                  </a:lnTo>
                  <a:lnTo>
                    <a:pt x="66" y="42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rot="193800">
              <a:off x="3283560" y="7363080"/>
              <a:ext cx="358920" cy="182160"/>
            </a:xfrm>
            <a:custGeom>
              <a:avLst/>
              <a:gdLst/>
              <a:ahLst/>
              <a:rect l="l" t="t" r="r" b="b"/>
              <a:pathLst>
                <a:path w="728" h="397">
                  <a:moveTo>
                    <a:pt x="0" y="0"/>
                  </a:moveTo>
                  <a:lnTo>
                    <a:pt x="7" y="31"/>
                  </a:lnTo>
                  <a:lnTo>
                    <a:pt x="11" y="62"/>
                  </a:lnTo>
                  <a:lnTo>
                    <a:pt x="21" y="94"/>
                  </a:lnTo>
                  <a:lnTo>
                    <a:pt x="35" y="129"/>
                  </a:lnTo>
                  <a:lnTo>
                    <a:pt x="45" y="160"/>
                  </a:lnTo>
                  <a:lnTo>
                    <a:pt x="70" y="202"/>
                  </a:lnTo>
                  <a:lnTo>
                    <a:pt x="91" y="254"/>
                  </a:lnTo>
                  <a:lnTo>
                    <a:pt x="115" y="313"/>
                  </a:lnTo>
                  <a:lnTo>
                    <a:pt x="122" y="327"/>
                  </a:lnTo>
                  <a:lnTo>
                    <a:pt x="129" y="341"/>
                  </a:lnTo>
                  <a:lnTo>
                    <a:pt x="136" y="355"/>
                  </a:lnTo>
                  <a:lnTo>
                    <a:pt x="143" y="369"/>
                  </a:lnTo>
                  <a:lnTo>
                    <a:pt x="146" y="372"/>
                  </a:lnTo>
                  <a:lnTo>
                    <a:pt x="153" y="379"/>
                  </a:lnTo>
                  <a:lnTo>
                    <a:pt x="160" y="386"/>
                  </a:lnTo>
                  <a:lnTo>
                    <a:pt x="171" y="393"/>
                  </a:lnTo>
                  <a:lnTo>
                    <a:pt x="181" y="397"/>
                  </a:lnTo>
                  <a:lnTo>
                    <a:pt x="188" y="397"/>
                  </a:lnTo>
                  <a:lnTo>
                    <a:pt x="195" y="397"/>
                  </a:lnTo>
                  <a:lnTo>
                    <a:pt x="202" y="397"/>
                  </a:lnTo>
                  <a:lnTo>
                    <a:pt x="223" y="393"/>
                  </a:lnTo>
                  <a:lnTo>
                    <a:pt x="240" y="390"/>
                  </a:lnTo>
                  <a:lnTo>
                    <a:pt x="247" y="383"/>
                  </a:lnTo>
                  <a:lnTo>
                    <a:pt x="251" y="383"/>
                  </a:lnTo>
                  <a:lnTo>
                    <a:pt x="296" y="369"/>
                  </a:lnTo>
                  <a:lnTo>
                    <a:pt x="404" y="355"/>
                  </a:lnTo>
                  <a:lnTo>
                    <a:pt x="522" y="338"/>
                  </a:lnTo>
                  <a:lnTo>
                    <a:pt x="602" y="331"/>
                  </a:lnTo>
                  <a:lnTo>
                    <a:pt x="637" y="327"/>
                  </a:lnTo>
                  <a:lnTo>
                    <a:pt x="669" y="320"/>
                  </a:lnTo>
                  <a:lnTo>
                    <a:pt x="696" y="310"/>
                  </a:lnTo>
                  <a:lnTo>
                    <a:pt x="728" y="299"/>
                  </a:lnTo>
                  <a:lnTo>
                    <a:pt x="696" y="296"/>
                  </a:lnTo>
                  <a:lnTo>
                    <a:pt x="665" y="292"/>
                  </a:lnTo>
                  <a:lnTo>
                    <a:pt x="634" y="289"/>
                  </a:lnTo>
                  <a:lnTo>
                    <a:pt x="599" y="292"/>
                  </a:lnTo>
                  <a:lnTo>
                    <a:pt x="515" y="299"/>
                  </a:lnTo>
                  <a:lnTo>
                    <a:pt x="397" y="317"/>
                  </a:lnTo>
                  <a:lnTo>
                    <a:pt x="289" y="331"/>
                  </a:lnTo>
                  <a:lnTo>
                    <a:pt x="240" y="345"/>
                  </a:lnTo>
                  <a:lnTo>
                    <a:pt x="237" y="348"/>
                  </a:lnTo>
                  <a:lnTo>
                    <a:pt x="230" y="352"/>
                  </a:lnTo>
                  <a:lnTo>
                    <a:pt x="216" y="355"/>
                  </a:lnTo>
                  <a:lnTo>
                    <a:pt x="202" y="358"/>
                  </a:lnTo>
                  <a:lnTo>
                    <a:pt x="192" y="358"/>
                  </a:lnTo>
                  <a:lnTo>
                    <a:pt x="188" y="355"/>
                  </a:lnTo>
                  <a:lnTo>
                    <a:pt x="181" y="352"/>
                  </a:lnTo>
                  <a:lnTo>
                    <a:pt x="174" y="345"/>
                  </a:lnTo>
                  <a:lnTo>
                    <a:pt x="167" y="334"/>
                  </a:lnTo>
                  <a:lnTo>
                    <a:pt x="160" y="324"/>
                  </a:lnTo>
                  <a:lnTo>
                    <a:pt x="157" y="310"/>
                  </a:lnTo>
                  <a:lnTo>
                    <a:pt x="150" y="299"/>
                  </a:lnTo>
                  <a:lnTo>
                    <a:pt x="129" y="240"/>
                  </a:lnTo>
                  <a:lnTo>
                    <a:pt x="105" y="188"/>
                  </a:lnTo>
                  <a:lnTo>
                    <a:pt x="84" y="142"/>
                  </a:lnTo>
                  <a:lnTo>
                    <a:pt x="70" y="111"/>
                  </a:lnTo>
                  <a:lnTo>
                    <a:pt x="56" y="80"/>
                  </a:lnTo>
                  <a:lnTo>
                    <a:pt x="38" y="52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93800">
              <a:off x="3960720" y="7411320"/>
              <a:ext cx="411120" cy="452160"/>
            </a:xfrm>
            <a:custGeom>
              <a:avLst/>
              <a:gdLst/>
              <a:ahLst/>
              <a:rect l="l" t="t" r="r" b="b"/>
              <a:pathLst>
                <a:path w="835" h="986">
                  <a:moveTo>
                    <a:pt x="835" y="4"/>
                  </a:moveTo>
                  <a:lnTo>
                    <a:pt x="773" y="0"/>
                  </a:lnTo>
                  <a:lnTo>
                    <a:pt x="717" y="0"/>
                  </a:lnTo>
                  <a:lnTo>
                    <a:pt x="654" y="4"/>
                  </a:lnTo>
                  <a:lnTo>
                    <a:pt x="585" y="17"/>
                  </a:lnTo>
                  <a:lnTo>
                    <a:pt x="560" y="21"/>
                  </a:lnTo>
                  <a:lnTo>
                    <a:pt x="525" y="31"/>
                  </a:lnTo>
                  <a:lnTo>
                    <a:pt x="484" y="42"/>
                  </a:lnTo>
                  <a:lnTo>
                    <a:pt x="435" y="59"/>
                  </a:lnTo>
                  <a:lnTo>
                    <a:pt x="410" y="70"/>
                  </a:lnTo>
                  <a:lnTo>
                    <a:pt x="386" y="87"/>
                  </a:lnTo>
                  <a:lnTo>
                    <a:pt x="362" y="105"/>
                  </a:lnTo>
                  <a:lnTo>
                    <a:pt x="341" y="129"/>
                  </a:lnTo>
                  <a:lnTo>
                    <a:pt x="323" y="153"/>
                  </a:lnTo>
                  <a:lnTo>
                    <a:pt x="306" y="181"/>
                  </a:lnTo>
                  <a:lnTo>
                    <a:pt x="292" y="206"/>
                  </a:lnTo>
                  <a:lnTo>
                    <a:pt x="282" y="233"/>
                  </a:lnTo>
                  <a:lnTo>
                    <a:pt x="261" y="286"/>
                  </a:lnTo>
                  <a:lnTo>
                    <a:pt x="236" y="335"/>
                  </a:lnTo>
                  <a:lnTo>
                    <a:pt x="212" y="373"/>
                  </a:lnTo>
                  <a:lnTo>
                    <a:pt x="184" y="401"/>
                  </a:lnTo>
                  <a:lnTo>
                    <a:pt x="156" y="425"/>
                  </a:lnTo>
                  <a:lnTo>
                    <a:pt x="135" y="443"/>
                  </a:lnTo>
                  <a:lnTo>
                    <a:pt x="118" y="453"/>
                  </a:lnTo>
                  <a:lnTo>
                    <a:pt x="115" y="456"/>
                  </a:lnTo>
                  <a:lnTo>
                    <a:pt x="115" y="460"/>
                  </a:lnTo>
                  <a:lnTo>
                    <a:pt x="108" y="460"/>
                  </a:lnTo>
                  <a:lnTo>
                    <a:pt x="108" y="460"/>
                  </a:lnTo>
                  <a:lnTo>
                    <a:pt x="104" y="463"/>
                  </a:lnTo>
                  <a:lnTo>
                    <a:pt x="101" y="463"/>
                  </a:lnTo>
                  <a:lnTo>
                    <a:pt x="97" y="467"/>
                  </a:lnTo>
                  <a:lnTo>
                    <a:pt x="87" y="474"/>
                  </a:lnTo>
                  <a:lnTo>
                    <a:pt x="73" y="481"/>
                  </a:lnTo>
                  <a:lnTo>
                    <a:pt x="55" y="491"/>
                  </a:lnTo>
                  <a:lnTo>
                    <a:pt x="38" y="502"/>
                  </a:lnTo>
                  <a:lnTo>
                    <a:pt x="31" y="509"/>
                  </a:lnTo>
                  <a:lnTo>
                    <a:pt x="21" y="516"/>
                  </a:lnTo>
                  <a:lnTo>
                    <a:pt x="10" y="526"/>
                  </a:lnTo>
                  <a:lnTo>
                    <a:pt x="0" y="544"/>
                  </a:lnTo>
                  <a:lnTo>
                    <a:pt x="3" y="564"/>
                  </a:lnTo>
                  <a:lnTo>
                    <a:pt x="7" y="582"/>
                  </a:lnTo>
                  <a:lnTo>
                    <a:pt x="17" y="592"/>
                  </a:lnTo>
                  <a:lnTo>
                    <a:pt x="24" y="606"/>
                  </a:lnTo>
                  <a:lnTo>
                    <a:pt x="45" y="627"/>
                  </a:lnTo>
                  <a:lnTo>
                    <a:pt x="66" y="645"/>
                  </a:lnTo>
                  <a:lnTo>
                    <a:pt x="90" y="662"/>
                  </a:lnTo>
                  <a:lnTo>
                    <a:pt x="115" y="679"/>
                  </a:lnTo>
                  <a:lnTo>
                    <a:pt x="212" y="746"/>
                  </a:lnTo>
                  <a:lnTo>
                    <a:pt x="303" y="805"/>
                  </a:lnTo>
                  <a:lnTo>
                    <a:pt x="383" y="850"/>
                  </a:lnTo>
                  <a:lnTo>
                    <a:pt x="435" y="881"/>
                  </a:lnTo>
                  <a:lnTo>
                    <a:pt x="498" y="916"/>
                  </a:lnTo>
                  <a:lnTo>
                    <a:pt x="550" y="941"/>
                  </a:lnTo>
                  <a:lnTo>
                    <a:pt x="605" y="962"/>
                  </a:lnTo>
                  <a:lnTo>
                    <a:pt x="661" y="986"/>
                  </a:lnTo>
                  <a:lnTo>
                    <a:pt x="612" y="948"/>
                  </a:lnTo>
                  <a:lnTo>
                    <a:pt x="564" y="916"/>
                  </a:lnTo>
                  <a:lnTo>
                    <a:pt x="511" y="885"/>
                  </a:lnTo>
                  <a:lnTo>
                    <a:pt x="452" y="850"/>
                  </a:lnTo>
                  <a:lnTo>
                    <a:pt x="400" y="819"/>
                  </a:lnTo>
                  <a:lnTo>
                    <a:pt x="323" y="770"/>
                  </a:lnTo>
                  <a:lnTo>
                    <a:pt x="229" y="711"/>
                  </a:lnTo>
                  <a:lnTo>
                    <a:pt x="135" y="648"/>
                  </a:lnTo>
                  <a:lnTo>
                    <a:pt x="90" y="613"/>
                  </a:lnTo>
                  <a:lnTo>
                    <a:pt x="52" y="578"/>
                  </a:lnTo>
                  <a:lnTo>
                    <a:pt x="38" y="551"/>
                  </a:lnTo>
                  <a:lnTo>
                    <a:pt x="62" y="533"/>
                  </a:lnTo>
                  <a:lnTo>
                    <a:pt x="76" y="526"/>
                  </a:lnTo>
                  <a:lnTo>
                    <a:pt x="90" y="519"/>
                  </a:lnTo>
                  <a:lnTo>
                    <a:pt x="104" y="509"/>
                  </a:lnTo>
                  <a:lnTo>
                    <a:pt x="115" y="505"/>
                  </a:lnTo>
                  <a:lnTo>
                    <a:pt x="122" y="498"/>
                  </a:lnTo>
                  <a:lnTo>
                    <a:pt x="125" y="498"/>
                  </a:lnTo>
                  <a:lnTo>
                    <a:pt x="128" y="495"/>
                  </a:lnTo>
                  <a:lnTo>
                    <a:pt x="135" y="491"/>
                  </a:lnTo>
                  <a:lnTo>
                    <a:pt x="135" y="488"/>
                  </a:lnTo>
                  <a:lnTo>
                    <a:pt x="139" y="488"/>
                  </a:lnTo>
                  <a:lnTo>
                    <a:pt x="142" y="481"/>
                  </a:lnTo>
                  <a:lnTo>
                    <a:pt x="156" y="474"/>
                  </a:lnTo>
                  <a:lnTo>
                    <a:pt x="181" y="453"/>
                  </a:lnTo>
                  <a:lnTo>
                    <a:pt x="212" y="432"/>
                  </a:lnTo>
                  <a:lnTo>
                    <a:pt x="243" y="397"/>
                  </a:lnTo>
                  <a:lnTo>
                    <a:pt x="271" y="355"/>
                  </a:lnTo>
                  <a:lnTo>
                    <a:pt x="296" y="303"/>
                  </a:lnTo>
                  <a:lnTo>
                    <a:pt x="320" y="251"/>
                  </a:lnTo>
                  <a:lnTo>
                    <a:pt x="341" y="199"/>
                  </a:lnTo>
                  <a:lnTo>
                    <a:pt x="372" y="153"/>
                  </a:lnTo>
                  <a:lnTo>
                    <a:pt x="407" y="119"/>
                  </a:lnTo>
                  <a:lnTo>
                    <a:pt x="449" y="94"/>
                  </a:lnTo>
                  <a:lnTo>
                    <a:pt x="494" y="80"/>
                  </a:lnTo>
                  <a:lnTo>
                    <a:pt x="536" y="70"/>
                  </a:lnTo>
                  <a:lnTo>
                    <a:pt x="567" y="59"/>
                  </a:lnTo>
                  <a:lnTo>
                    <a:pt x="595" y="56"/>
                  </a:lnTo>
                  <a:lnTo>
                    <a:pt x="661" y="42"/>
                  </a:lnTo>
                  <a:lnTo>
                    <a:pt x="720" y="28"/>
                  </a:lnTo>
                  <a:lnTo>
                    <a:pt x="776" y="17"/>
                  </a:lnTo>
                  <a:lnTo>
                    <a:pt x="835" y="4"/>
                  </a:lnTo>
                  <a:lnTo>
                    <a:pt x="8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rot="193800">
              <a:off x="3931920" y="7472880"/>
              <a:ext cx="233280" cy="374400"/>
            </a:xfrm>
            <a:custGeom>
              <a:avLst/>
              <a:gdLst/>
              <a:ahLst/>
              <a:rect l="l" t="t" r="r" b="b"/>
              <a:pathLst>
                <a:path w="477" h="815">
                  <a:moveTo>
                    <a:pt x="272" y="815"/>
                  </a:moveTo>
                  <a:lnTo>
                    <a:pt x="265" y="777"/>
                  </a:lnTo>
                  <a:lnTo>
                    <a:pt x="254" y="742"/>
                  </a:lnTo>
                  <a:lnTo>
                    <a:pt x="237" y="707"/>
                  </a:lnTo>
                  <a:lnTo>
                    <a:pt x="219" y="672"/>
                  </a:lnTo>
                  <a:lnTo>
                    <a:pt x="198" y="641"/>
                  </a:lnTo>
                  <a:lnTo>
                    <a:pt x="167" y="596"/>
                  </a:lnTo>
                  <a:lnTo>
                    <a:pt x="132" y="536"/>
                  </a:lnTo>
                  <a:lnTo>
                    <a:pt x="97" y="474"/>
                  </a:lnTo>
                  <a:lnTo>
                    <a:pt x="80" y="446"/>
                  </a:lnTo>
                  <a:lnTo>
                    <a:pt x="66" y="418"/>
                  </a:lnTo>
                  <a:lnTo>
                    <a:pt x="52" y="394"/>
                  </a:lnTo>
                  <a:lnTo>
                    <a:pt x="45" y="369"/>
                  </a:lnTo>
                  <a:lnTo>
                    <a:pt x="38" y="348"/>
                  </a:lnTo>
                  <a:lnTo>
                    <a:pt x="38" y="338"/>
                  </a:lnTo>
                  <a:lnTo>
                    <a:pt x="42" y="331"/>
                  </a:lnTo>
                  <a:lnTo>
                    <a:pt x="42" y="331"/>
                  </a:lnTo>
                  <a:lnTo>
                    <a:pt x="42" y="327"/>
                  </a:lnTo>
                  <a:lnTo>
                    <a:pt x="45" y="317"/>
                  </a:lnTo>
                  <a:lnTo>
                    <a:pt x="56" y="306"/>
                  </a:lnTo>
                  <a:lnTo>
                    <a:pt x="73" y="293"/>
                  </a:lnTo>
                  <a:lnTo>
                    <a:pt x="90" y="279"/>
                  </a:lnTo>
                  <a:lnTo>
                    <a:pt x="115" y="261"/>
                  </a:lnTo>
                  <a:lnTo>
                    <a:pt x="143" y="247"/>
                  </a:lnTo>
                  <a:lnTo>
                    <a:pt x="174" y="230"/>
                  </a:lnTo>
                  <a:lnTo>
                    <a:pt x="205" y="212"/>
                  </a:lnTo>
                  <a:lnTo>
                    <a:pt x="237" y="198"/>
                  </a:lnTo>
                  <a:lnTo>
                    <a:pt x="268" y="185"/>
                  </a:lnTo>
                  <a:lnTo>
                    <a:pt x="299" y="167"/>
                  </a:lnTo>
                  <a:lnTo>
                    <a:pt x="320" y="153"/>
                  </a:lnTo>
                  <a:lnTo>
                    <a:pt x="345" y="139"/>
                  </a:lnTo>
                  <a:lnTo>
                    <a:pt x="362" y="125"/>
                  </a:lnTo>
                  <a:lnTo>
                    <a:pt x="376" y="118"/>
                  </a:lnTo>
                  <a:lnTo>
                    <a:pt x="411" y="90"/>
                  </a:lnTo>
                  <a:lnTo>
                    <a:pt x="439" y="66"/>
                  </a:lnTo>
                  <a:lnTo>
                    <a:pt x="460" y="35"/>
                  </a:lnTo>
                  <a:lnTo>
                    <a:pt x="477" y="0"/>
                  </a:lnTo>
                  <a:lnTo>
                    <a:pt x="446" y="24"/>
                  </a:lnTo>
                  <a:lnTo>
                    <a:pt x="421" y="45"/>
                  </a:lnTo>
                  <a:lnTo>
                    <a:pt x="390" y="63"/>
                  </a:lnTo>
                  <a:lnTo>
                    <a:pt x="355" y="83"/>
                  </a:lnTo>
                  <a:lnTo>
                    <a:pt x="341" y="94"/>
                  </a:lnTo>
                  <a:lnTo>
                    <a:pt x="324" y="104"/>
                  </a:lnTo>
                  <a:lnTo>
                    <a:pt x="303" y="118"/>
                  </a:lnTo>
                  <a:lnTo>
                    <a:pt x="275" y="132"/>
                  </a:lnTo>
                  <a:lnTo>
                    <a:pt x="247" y="146"/>
                  </a:lnTo>
                  <a:lnTo>
                    <a:pt x="219" y="164"/>
                  </a:lnTo>
                  <a:lnTo>
                    <a:pt x="188" y="178"/>
                  </a:lnTo>
                  <a:lnTo>
                    <a:pt x="157" y="195"/>
                  </a:lnTo>
                  <a:lnTo>
                    <a:pt x="122" y="212"/>
                  </a:lnTo>
                  <a:lnTo>
                    <a:pt x="94" y="230"/>
                  </a:lnTo>
                  <a:lnTo>
                    <a:pt x="70" y="244"/>
                  </a:lnTo>
                  <a:lnTo>
                    <a:pt x="45" y="265"/>
                  </a:lnTo>
                  <a:lnTo>
                    <a:pt x="28" y="282"/>
                  </a:lnTo>
                  <a:lnTo>
                    <a:pt x="17" y="296"/>
                  </a:lnTo>
                  <a:lnTo>
                    <a:pt x="10" y="310"/>
                  </a:lnTo>
                  <a:lnTo>
                    <a:pt x="7" y="313"/>
                  </a:lnTo>
                  <a:lnTo>
                    <a:pt x="7" y="313"/>
                  </a:lnTo>
                  <a:lnTo>
                    <a:pt x="3" y="317"/>
                  </a:lnTo>
                  <a:lnTo>
                    <a:pt x="3" y="324"/>
                  </a:lnTo>
                  <a:lnTo>
                    <a:pt x="0" y="334"/>
                  </a:lnTo>
                  <a:lnTo>
                    <a:pt x="0" y="345"/>
                  </a:lnTo>
                  <a:lnTo>
                    <a:pt x="3" y="355"/>
                  </a:lnTo>
                  <a:lnTo>
                    <a:pt x="7" y="366"/>
                  </a:lnTo>
                  <a:lnTo>
                    <a:pt x="10" y="380"/>
                  </a:lnTo>
                  <a:lnTo>
                    <a:pt x="21" y="404"/>
                  </a:lnTo>
                  <a:lnTo>
                    <a:pt x="35" y="435"/>
                  </a:lnTo>
                  <a:lnTo>
                    <a:pt x="49" y="463"/>
                  </a:lnTo>
                  <a:lnTo>
                    <a:pt x="66" y="498"/>
                  </a:lnTo>
                  <a:lnTo>
                    <a:pt x="101" y="557"/>
                  </a:lnTo>
                  <a:lnTo>
                    <a:pt x="136" y="613"/>
                  </a:lnTo>
                  <a:lnTo>
                    <a:pt x="164" y="662"/>
                  </a:lnTo>
                  <a:lnTo>
                    <a:pt x="184" y="693"/>
                  </a:lnTo>
                  <a:lnTo>
                    <a:pt x="209" y="728"/>
                  </a:lnTo>
                  <a:lnTo>
                    <a:pt x="230" y="759"/>
                  </a:lnTo>
                  <a:lnTo>
                    <a:pt x="251" y="787"/>
                  </a:lnTo>
                  <a:lnTo>
                    <a:pt x="272" y="815"/>
                  </a:lnTo>
                  <a:lnTo>
                    <a:pt x="272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rot="193800">
              <a:off x="3987720" y="7096320"/>
              <a:ext cx="473040" cy="345600"/>
            </a:xfrm>
            <a:custGeom>
              <a:avLst/>
              <a:gdLst/>
              <a:ahLst/>
              <a:rect l="l" t="t" r="r" b="b"/>
              <a:pathLst>
                <a:path w="961" h="753">
                  <a:moveTo>
                    <a:pt x="784" y="509"/>
                  </a:moveTo>
                  <a:lnTo>
                    <a:pt x="756" y="533"/>
                  </a:lnTo>
                  <a:lnTo>
                    <a:pt x="728" y="558"/>
                  </a:lnTo>
                  <a:lnTo>
                    <a:pt x="697" y="582"/>
                  </a:lnTo>
                  <a:lnTo>
                    <a:pt x="658" y="610"/>
                  </a:lnTo>
                  <a:lnTo>
                    <a:pt x="631" y="627"/>
                  </a:lnTo>
                  <a:lnTo>
                    <a:pt x="592" y="648"/>
                  </a:lnTo>
                  <a:lnTo>
                    <a:pt x="547" y="669"/>
                  </a:lnTo>
                  <a:lnTo>
                    <a:pt x="491" y="687"/>
                  </a:lnTo>
                  <a:lnTo>
                    <a:pt x="429" y="701"/>
                  </a:lnTo>
                  <a:lnTo>
                    <a:pt x="359" y="714"/>
                  </a:lnTo>
                  <a:lnTo>
                    <a:pt x="286" y="718"/>
                  </a:lnTo>
                  <a:lnTo>
                    <a:pt x="220" y="714"/>
                  </a:lnTo>
                  <a:lnTo>
                    <a:pt x="185" y="704"/>
                  </a:lnTo>
                  <a:lnTo>
                    <a:pt x="157" y="697"/>
                  </a:lnTo>
                  <a:lnTo>
                    <a:pt x="126" y="683"/>
                  </a:lnTo>
                  <a:lnTo>
                    <a:pt x="101" y="666"/>
                  </a:lnTo>
                  <a:lnTo>
                    <a:pt x="80" y="645"/>
                  </a:lnTo>
                  <a:lnTo>
                    <a:pt x="67" y="624"/>
                  </a:lnTo>
                  <a:lnTo>
                    <a:pt x="53" y="599"/>
                  </a:lnTo>
                  <a:lnTo>
                    <a:pt x="49" y="579"/>
                  </a:lnTo>
                  <a:lnTo>
                    <a:pt x="42" y="537"/>
                  </a:lnTo>
                  <a:lnTo>
                    <a:pt x="39" y="502"/>
                  </a:lnTo>
                  <a:lnTo>
                    <a:pt x="39" y="481"/>
                  </a:lnTo>
                  <a:lnTo>
                    <a:pt x="42" y="474"/>
                  </a:lnTo>
                  <a:lnTo>
                    <a:pt x="42" y="464"/>
                  </a:lnTo>
                  <a:lnTo>
                    <a:pt x="46" y="446"/>
                  </a:lnTo>
                  <a:lnTo>
                    <a:pt x="53" y="411"/>
                  </a:lnTo>
                  <a:lnTo>
                    <a:pt x="70" y="370"/>
                  </a:lnTo>
                  <a:lnTo>
                    <a:pt x="94" y="324"/>
                  </a:lnTo>
                  <a:lnTo>
                    <a:pt x="133" y="279"/>
                  </a:lnTo>
                  <a:lnTo>
                    <a:pt x="178" y="234"/>
                  </a:lnTo>
                  <a:lnTo>
                    <a:pt x="234" y="188"/>
                  </a:lnTo>
                  <a:lnTo>
                    <a:pt x="255" y="171"/>
                  </a:lnTo>
                  <a:lnTo>
                    <a:pt x="279" y="157"/>
                  </a:lnTo>
                  <a:lnTo>
                    <a:pt x="300" y="143"/>
                  </a:lnTo>
                  <a:lnTo>
                    <a:pt x="324" y="133"/>
                  </a:lnTo>
                  <a:lnTo>
                    <a:pt x="324" y="136"/>
                  </a:lnTo>
                  <a:lnTo>
                    <a:pt x="321" y="140"/>
                  </a:lnTo>
                  <a:lnTo>
                    <a:pt x="321" y="157"/>
                  </a:lnTo>
                  <a:lnTo>
                    <a:pt x="321" y="185"/>
                  </a:lnTo>
                  <a:lnTo>
                    <a:pt x="321" y="213"/>
                  </a:lnTo>
                  <a:lnTo>
                    <a:pt x="321" y="248"/>
                  </a:lnTo>
                  <a:lnTo>
                    <a:pt x="324" y="275"/>
                  </a:lnTo>
                  <a:lnTo>
                    <a:pt x="328" y="303"/>
                  </a:lnTo>
                  <a:lnTo>
                    <a:pt x="335" y="321"/>
                  </a:lnTo>
                  <a:lnTo>
                    <a:pt x="335" y="328"/>
                  </a:lnTo>
                  <a:lnTo>
                    <a:pt x="338" y="335"/>
                  </a:lnTo>
                  <a:lnTo>
                    <a:pt x="345" y="349"/>
                  </a:lnTo>
                  <a:lnTo>
                    <a:pt x="352" y="373"/>
                  </a:lnTo>
                  <a:lnTo>
                    <a:pt x="369" y="404"/>
                  </a:lnTo>
                  <a:lnTo>
                    <a:pt x="383" y="432"/>
                  </a:lnTo>
                  <a:lnTo>
                    <a:pt x="397" y="457"/>
                  </a:lnTo>
                  <a:lnTo>
                    <a:pt x="411" y="478"/>
                  </a:lnTo>
                  <a:lnTo>
                    <a:pt x="418" y="491"/>
                  </a:lnTo>
                  <a:lnTo>
                    <a:pt x="432" y="505"/>
                  </a:lnTo>
                  <a:lnTo>
                    <a:pt x="446" y="516"/>
                  </a:lnTo>
                  <a:lnTo>
                    <a:pt x="460" y="523"/>
                  </a:lnTo>
                  <a:lnTo>
                    <a:pt x="477" y="530"/>
                  </a:lnTo>
                  <a:lnTo>
                    <a:pt x="470" y="512"/>
                  </a:lnTo>
                  <a:lnTo>
                    <a:pt x="467" y="498"/>
                  </a:lnTo>
                  <a:lnTo>
                    <a:pt x="460" y="485"/>
                  </a:lnTo>
                  <a:lnTo>
                    <a:pt x="453" y="471"/>
                  </a:lnTo>
                  <a:lnTo>
                    <a:pt x="443" y="457"/>
                  </a:lnTo>
                  <a:lnTo>
                    <a:pt x="432" y="436"/>
                  </a:lnTo>
                  <a:lnTo>
                    <a:pt x="415" y="411"/>
                  </a:lnTo>
                  <a:lnTo>
                    <a:pt x="401" y="387"/>
                  </a:lnTo>
                  <a:lnTo>
                    <a:pt x="387" y="359"/>
                  </a:lnTo>
                  <a:lnTo>
                    <a:pt x="380" y="335"/>
                  </a:lnTo>
                  <a:lnTo>
                    <a:pt x="373" y="321"/>
                  </a:lnTo>
                  <a:lnTo>
                    <a:pt x="373" y="317"/>
                  </a:lnTo>
                  <a:lnTo>
                    <a:pt x="373" y="310"/>
                  </a:lnTo>
                  <a:lnTo>
                    <a:pt x="366" y="293"/>
                  </a:lnTo>
                  <a:lnTo>
                    <a:pt x="362" y="269"/>
                  </a:lnTo>
                  <a:lnTo>
                    <a:pt x="359" y="244"/>
                  </a:lnTo>
                  <a:lnTo>
                    <a:pt x="359" y="213"/>
                  </a:lnTo>
                  <a:lnTo>
                    <a:pt x="359" y="185"/>
                  </a:lnTo>
                  <a:lnTo>
                    <a:pt x="359" y="161"/>
                  </a:lnTo>
                  <a:lnTo>
                    <a:pt x="362" y="150"/>
                  </a:lnTo>
                  <a:lnTo>
                    <a:pt x="362" y="136"/>
                  </a:lnTo>
                  <a:lnTo>
                    <a:pt x="362" y="129"/>
                  </a:lnTo>
                  <a:lnTo>
                    <a:pt x="362" y="122"/>
                  </a:lnTo>
                  <a:lnTo>
                    <a:pt x="362" y="115"/>
                  </a:lnTo>
                  <a:lnTo>
                    <a:pt x="453" y="77"/>
                  </a:lnTo>
                  <a:lnTo>
                    <a:pt x="544" y="56"/>
                  </a:lnTo>
                  <a:lnTo>
                    <a:pt x="617" y="42"/>
                  </a:lnTo>
                  <a:lnTo>
                    <a:pt x="665" y="39"/>
                  </a:lnTo>
                  <a:lnTo>
                    <a:pt x="749" y="35"/>
                  </a:lnTo>
                  <a:lnTo>
                    <a:pt x="822" y="42"/>
                  </a:lnTo>
                  <a:lnTo>
                    <a:pt x="892" y="56"/>
                  </a:lnTo>
                  <a:lnTo>
                    <a:pt x="961" y="87"/>
                  </a:lnTo>
                  <a:lnTo>
                    <a:pt x="899" y="42"/>
                  </a:lnTo>
                  <a:lnTo>
                    <a:pt x="829" y="14"/>
                  </a:lnTo>
                  <a:lnTo>
                    <a:pt x="752" y="0"/>
                  </a:lnTo>
                  <a:lnTo>
                    <a:pt x="662" y="0"/>
                  </a:lnTo>
                  <a:lnTo>
                    <a:pt x="585" y="7"/>
                  </a:lnTo>
                  <a:lnTo>
                    <a:pt x="470" y="35"/>
                  </a:lnTo>
                  <a:lnTo>
                    <a:pt x="338" y="84"/>
                  </a:lnTo>
                  <a:lnTo>
                    <a:pt x="213" y="161"/>
                  </a:lnTo>
                  <a:lnTo>
                    <a:pt x="154" y="202"/>
                  </a:lnTo>
                  <a:lnTo>
                    <a:pt x="105" y="255"/>
                  </a:lnTo>
                  <a:lnTo>
                    <a:pt x="63" y="303"/>
                  </a:lnTo>
                  <a:lnTo>
                    <a:pt x="35" y="356"/>
                  </a:lnTo>
                  <a:lnTo>
                    <a:pt x="18" y="401"/>
                  </a:lnTo>
                  <a:lnTo>
                    <a:pt x="7" y="436"/>
                  </a:lnTo>
                  <a:lnTo>
                    <a:pt x="4" y="46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0" y="537"/>
                  </a:lnTo>
                  <a:lnTo>
                    <a:pt x="7" y="586"/>
                  </a:lnTo>
                  <a:lnTo>
                    <a:pt x="18" y="613"/>
                  </a:lnTo>
                  <a:lnTo>
                    <a:pt x="32" y="641"/>
                  </a:lnTo>
                  <a:lnTo>
                    <a:pt x="53" y="669"/>
                  </a:lnTo>
                  <a:lnTo>
                    <a:pt x="77" y="694"/>
                  </a:lnTo>
                  <a:lnTo>
                    <a:pt x="105" y="714"/>
                  </a:lnTo>
                  <a:lnTo>
                    <a:pt x="140" y="732"/>
                  </a:lnTo>
                  <a:lnTo>
                    <a:pt x="178" y="746"/>
                  </a:lnTo>
                  <a:lnTo>
                    <a:pt x="216" y="753"/>
                  </a:lnTo>
                  <a:lnTo>
                    <a:pt x="362" y="753"/>
                  </a:lnTo>
                  <a:lnTo>
                    <a:pt x="502" y="721"/>
                  </a:lnTo>
                  <a:lnTo>
                    <a:pt x="610" y="680"/>
                  </a:lnTo>
                  <a:lnTo>
                    <a:pt x="679" y="645"/>
                  </a:lnTo>
                  <a:lnTo>
                    <a:pt x="718" y="613"/>
                  </a:lnTo>
                  <a:lnTo>
                    <a:pt x="749" y="586"/>
                  </a:lnTo>
                  <a:lnTo>
                    <a:pt x="780" y="558"/>
                  </a:lnTo>
                  <a:lnTo>
                    <a:pt x="805" y="526"/>
                  </a:lnTo>
                  <a:lnTo>
                    <a:pt x="826" y="498"/>
                  </a:lnTo>
                  <a:lnTo>
                    <a:pt x="843" y="471"/>
                  </a:lnTo>
                  <a:lnTo>
                    <a:pt x="864" y="439"/>
                  </a:lnTo>
                  <a:lnTo>
                    <a:pt x="892" y="411"/>
                  </a:lnTo>
                  <a:lnTo>
                    <a:pt x="860" y="432"/>
                  </a:lnTo>
                  <a:lnTo>
                    <a:pt x="832" y="457"/>
                  </a:lnTo>
                  <a:lnTo>
                    <a:pt x="808" y="481"/>
                  </a:lnTo>
                  <a:lnTo>
                    <a:pt x="784" y="509"/>
                  </a:lnTo>
                  <a:lnTo>
                    <a:pt x="78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rot="193800">
              <a:off x="3267720" y="7238880"/>
              <a:ext cx="595080" cy="507960"/>
            </a:xfrm>
            <a:custGeom>
              <a:avLst/>
              <a:gdLst/>
              <a:ahLst/>
              <a:rect l="l" t="t" r="r" b="b"/>
              <a:pathLst>
                <a:path w="1208" h="1105">
                  <a:moveTo>
                    <a:pt x="926" y="833"/>
                  </a:moveTo>
                  <a:lnTo>
                    <a:pt x="891" y="868"/>
                  </a:lnTo>
                  <a:lnTo>
                    <a:pt x="842" y="920"/>
                  </a:lnTo>
                  <a:lnTo>
                    <a:pt x="786" y="983"/>
                  </a:lnTo>
                  <a:lnTo>
                    <a:pt x="731" y="1053"/>
                  </a:lnTo>
                  <a:lnTo>
                    <a:pt x="724" y="1056"/>
                  </a:lnTo>
                  <a:lnTo>
                    <a:pt x="720" y="1060"/>
                  </a:lnTo>
                  <a:lnTo>
                    <a:pt x="713" y="1053"/>
                  </a:lnTo>
                  <a:lnTo>
                    <a:pt x="706" y="1049"/>
                  </a:lnTo>
                  <a:lnTo>
                    <a:pt x="703" y="1042"/>
                  </a:lnTo>
                  <a:lnTo>
                    <a:pt x="696" y="1039"/>
                  </a:lnTo>
                  <a:lnTo>
                    <a:pt x="682" y="1021"/>
                  </a:lnTo>
                  <a:lnTo>
                    <a:pt x="672" y="1007"/>
                  </a:lnTo>
                  <a:lnTo>
                    <a:pt x="661" y="993"/>
                  </a:lnTo>
                  <a:lnTo>
                    <a:pt x="654" y="979"/>
                  </a:lnTo>
                  <a:lnTo>
                    <a:pt x="637" y="955"/>
                  </a:lnTo>
                  <a:lnTo>
                    <a:pt x="626" y="938"/>
                  </a:lnTo>
                  <a:lnTo>
                    <a:pt x="619" y="924"/>
                  </a:lnTo>
                  <a:lnTo>
                    <a:pt x="616" y="920"/>
                  </a:lnTo>
                  <a:lnTo>
                    <a:pt x="609" y="906"/>
                  </a:lnTo>
                  <a:lnTo>
                    <a:pt x="584" y="861"/>
                  </a:lnTo>
                  <a:lnTo>
                    <a:pt x="543" y="795"/>
                  </a:lnTo>
                  <a:lnTo>
                    <a:pt x="490" y="725"/>
                  </a:lnTo>
                  <a:lnTo>
                    <a:pt x="459" y="690"/>
                  </a:lnTo>
                  <a:lnTo>
                    <a:pt x="431" y="655"/>
                  </a:lnTo>
                  <a:lnTo>
                    <a:pt x="407" y="621"/>
                  </a:lnTo>
                  <a:lnTo>
                    <a:pt x="386" y="589"/>
                  </a:lnTo>
                  <a:lnTo>
                    <a:pt x="365" y="558"/>
                  </a:lnTo>
                  <a:lnTo>
                    <a:pt x="351" y="530"/>
                  </a:lnTo>
                  <a:lnTo>
                    <a:pt x="344" y="506"/>
                  </a:lnTo>
                  <a:lnTo>
                    <a:pt x="337" y="488"/>
                  </a:lnTo>
                  <a:lnTo>
                    <a:pt x="330" y="446"/>
                  </a:lnTo>
                  <a:lnTo>
                    <a:pt x="327" y="408"/>
                  </a:lnTo>
                  <a:lnTo>
                    <a:pt x="327" y="373"/>
                  </a:lnTo>
                  <a:lnTo>
                    <a:pt x="330" y="338"/>
                  </a:lnTo>
                  <a:lnTo>
                    <a:pt x="334" y="335"/>
                  </a:lnTo>
                  <a:lnTo>
                    <a:pt x="337" y="335"/>
                  </a:lnTo>
                  <a:lnTo>
                    <a:pt x="337" y="324"/>
                  </a:lnTo>
                  <a:lnTo>
                    <a:pt x="337" y="321"/>
                  </a:lnTo>
                  <a:lnTo>
                    <a:pt x="337" y="314"/>
                  </a:lnTo>
                  <a:lnTo>
                    <a:pt x="334" y="307"/>
                  </a:lnTo>
                  <a:lnTo>
                    <a:pt x="334" y="304"/>
                  </a:lnTo>
                  <a:lnTo>
                    <a:pt x="337" y="300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16" y="297"/>
                  </a:lnTo>
                  <a:lnTo>
                    <a:pt x="299" y="283"/>
                  </a:lnTo>
                  <a:lnTo>
                    <a:pt x="282" y="269"/>
                  </a:lnTo>
                  <a:lnTo>
                    <a:pt x="278" y="265"/>
                  </a:lnTo>
                  <a:lnTo>
                    <a:pt x="278" y="262"/>
                  </a:lnTo>
                  <a:lnTo>
                    <a:pt x="271" y="258"/>
                  </a:lnTo>
                  <a:lnTo>
                    <a:pt x="268" y="255"/>
                  </a:lnTo>
                  <a:lnTo>
                    <a:pt x="264" y="248"/>
                  </a:lnTo>
                  <a:lnTo>
                    <a:pt x="261" y="237"/>
                  </a:lnTo>
                  <a:lnTo>
                    <a:pt x="261" y="230"/>
                  </a:lnTo>
                  <a:lnTo>
                    <a:pt x="261" y="223"/>
                  </a:lnTo>
                  <a:lnTo>
                    <a:pt x="261" y="216"/>
                  </a:lnTo>
                  <a:lnTo>
                    <a:pt x="271" y="223"/>
                  </a:lnTo>
                  <a:lnTo>
                    <a:pt x="285" y="227"/>
                  </a:lnTo>
                  <a:lnTo>
                    <a:pt x="296" y="230"/>
                  </a:lnTo>
                  <a:lnTo>
                    <a:pt x="313" y="234"/>
                  </a:lnTo>
                  <a:lnTo>
                    <a:pt x="306" y="216"/>
                  </a:lnTo>
                  <a:lnTo>
                    <a:pt x="299" y="203"/>
                  </a:lnTo>
                  <a:lnTo>
                    <a:pt x="289" y="192"/>
                  </a:lnTo>
                  <a:lnTo>
                    <a:pt x="278" y="185"/>
                  </a:lnTo>
                  <a:lnTo>
                    <a:pt x="250" y="168"/>
                  </a:lnTo>
                  <a:lnTo>
                    <a:pt x="208" y="143"/>
                  </a:lnTo>
                  <a:lnTo>
                    <a:pt x="170" y="122"/>
                  </a:lnTo>
                  <a:lnTo>
                    <a:pt x="156" y="112"/>
                  </a:lnTo>
                  <a:lnTo>
                    <a:pt x="139" y="105"/>
                  </a:lnTo>
                  <a:lnTo>
                    <a:pt x="104" y="81"/>
                  </a:lnTo>
                  <a:lnTo>
                    <a:pt x="66" y="5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27" y="14"/>
                  </a:lnTo>
                  <a:lnTo>
                    <a:pt x="14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28"/>
                  </a:lnTo>
                  <a:lnTo>
                    <a:pt x="7" y="42"/>
                  </a:lnTo>
                  <a:lnTo>
                    <a:pt x="17" y="56"/>
                  </a:lnTo>
                  <a:lnTo>
                    <a:pt x="41" y="81"/>
                  </a:lnTo>
                  <a:lnTo>
                    <a:pt x="80" y="112"/>
                  </a:lnTo>
                  <a:lnTo>
                    <a:pt x="118" y="136"/>
                  </a:lnTo>
                  <a:lnTo>
                    <a:pt x="132" y="147"/>
                  </a:lnTo>
                  <a:lnTo>
                    <a:pt x="142" y="150"/>
                  </a:lnTo>
                  <a:lnTo>
                    <a:pt x="170" y="164"/>
                  </a:lnTo>
                  <a:lnTo>
                    <a:pt x="202" y="182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26" y="206"/>
                  </a:lnTo>
                  <a:lnTo>
                    <a:pt x="222" y="209"/>
                  </a:lnTo>
                  <a:lnTo>
                    <a:pt x="222" y="213"/>
                  </a:lnTo>
                  <a:lnTo>
                    <a:pt x="222" y="220"/>
                  </a:lnTo>
                  <a:lnTo>
                    <a:pt x="226" y="230"/>
                  </a:lnTo>
                  <a:lnTo>
                    <a:pt x="226" y="244"/>
                  </a:lnTo>
                  <a:lnTo>
                    <a:pt x="233" y="262"/>
                  </a:lnTo>
                  <a:lnTo>
                    <a:pt x="236" y="272"/>
                  </a:lnTo>
                  <a:lnTo>
                    <a:pt x="243" y="283"/>
                  </a:lnTo>
                  <a:lnTo>
                    <a:pt x="247" y="290"/>
                  </a:lnTo>
                  <a:lnTo>
                    <a:pt x="250" y="290"/>
                  </a:lnTo>
                  <a:lnTo>
                    <a:pt x="257" y="297"/>
                  </a:lnTo>
                  <a:lnTo>
                    <a:pt x="275" y="311"/>
                  </a:lnTo>
                  <a:lnTo>
                    <a:pt x="296" y="324"/>
                  </a:lnTo>
                  <a:lnTo>
                    <a:pt x="309" y="335"/>
                  </a:lnTo>
                  <a:lnTo>
                    <a:pt x="313" y="338"/>
                  </a:lnTo>
                  <a:lnTo>
                    <a:pt x="320" y="338"/>
                  </a:lnTo>
                  <a:lnTo>
                    <a:pt x="306" y="373"/>
                  </a:lnTo>
                  <a:lnTo>
                    <a:pt x="296" y="412"/>
                  </a:lnTo>
                  <a:lnTo>
                    <a:pt x="292" y="450"/>
                  </a:lnTo>
                  <a:lnTo>
                    <a:pt x="302" y="499"/>
                  </a:lnTo>
                  <a:lnTo>
                    <a:pt x="306" y="520"/>
                  </a:lnTo>
                  <a:lnTo>
                    <a:pt x="316" y="544"/>
                  </a:lnTo>
                  <a:lnTo>
                    <a:pt x="330" y="575"/>
                  </a:lnTo>
                  <a:lnTo>
                    <a:pt x="351" y="610"/>
                  </a:lnTo>
                  <a:lnTo>
                    <a:pt x="376" y="645"/>
                  </a:lnTo>
                  <a:lnTo>
                    <a:pt x="403" y="683"/>
                  </a:lnTo>
                  <a:lnTo>
                    <a:pt x="431" y="718"/>
                  </a:lnTo>
                  <a:lnTo>
                    <a:pt x="466" y="753"/>
                  </a:lnTo>
                  <a:lnTo>
                    <a:pt x="515" y="819"/>
                  </a:lnTo>
                  <a:lnTo>
                    <a:pt x="550" y="878"/>
                  </a:lnTo>
                  <a:lnTo>
                    <a:pt x="574" y="924"/>
                  </a:lnTo>
                  <a:lnTo>
                    <a:pt x="584" y="938"/>
                  </a:lnTo>
                  <a:lnTo>
                    <a:pt x="588" y="945"/>
                  </a:lnTo>
                  <a:lnTo>
                    <a:pt x="595" y="955"/>
                  </a:lnTo>
                  <a:lnTo>
                    <a:pt x="605" y="976"/>
                  </a:lnTo>
                  <a:lnTo>
                    <a:pt x="619" y="1000"/>
                  </a:lnTo>
                  <a:lnTo>
                    <a:pt x="630" y="1014"/>
                  </a:lnTo>
                  <a:lnTo>
                    <a:pt x="644" y="1032"/>
                  </a:lnTo>
                  <a:lnTo>
                    <a:pt x="654" y="1046"/>
                  </a:lnTo>
                  <a:lnTo>
                    <a:pt x="668" y="1063"/>
                  </a:lnTo>
                  <a:lnTo>
                    <a:pt x="675" y="1070"/>
                  </a:lnTo>
                  <a:lnTo>
                    <a:pt x="682" y="1077"/>
                  </a:lnTo>
                  <a:lnTo>
                    <a:pt x="689" y="1084"/>
                  </a:lnTo>
                  <a:lnTo>
                    <a:pt x="699" y="1091"/>
                  </a:lnTo>
                  <a:lnTo>
                    <a:pt x="706" y="1101"/>
                  </a:lnTo>
                  <a:lnTo>
                    <a:pt x="706" y="1105"/>
                  </a:lnTo>
                  <a:lnTo>
                    <a:pt x="713" y="1101"/>
                  </a:lnTo>
                  <a:lnTo>
                    <a:pt x="731" y="1101"/>
                  </a:lnTo>
                  <a:lnTo>
                    <a:pt x="741" y="1101"/>
                  </a:lnTo>
                  <a:lnTo>
                    <a:pt x="738" y="1101"/>
                  </a:lnTo>
                  <a:lnTo>
                    <a:pt x="741" y="1091"/>
                  </a:lnTo>
                  <a:lnTo>
                    <a:pt x="759" y="1077"/>
                  </a:lnTo>
                  <a:lnTo>
                    <a:pt x="814" y="1007"/>
                  </a:lnTo>
                  <a:lnTo>
                    <a:pt x="870" y="952"/>
                  </a:lnTo>
                  <a:lnTo>
                    <a:pt x="915" y="906"/>
                  </a:lnTo>
                  <a:lnTo>
                    <a:pt x="947" y="878"/>
                  </a:lnTo>
                  <a:lnTo>
                    <a:pt x="1006" y="819"/>
                  </a:lnTo>
                  <a:lnTo>
                    <a:pt x="1082" y="743"/>
                  </a:lnTo>
                  <a:lnTo>
                    <a:pt x="1159" y="666"/>
                  </a:lnTo>
                  <a:lnTo>
                    <a:pt x="1208" y="607"/>
                  </a:lnTo>
                  <a:lnTo>
                    <a:pt x="1145" y="652"/>
                  </a:lnTo>
                  <a:lnTo>
                    <a:pt x="1065" y="715"/>
                  </a:lnTo>
                  <a:lnTo>
                    <a:pt x="985" y="781"/>
                  </a:lnTo>
                  <a:lnTo>
                    <a:pt x="926" y="833"/>
                  </a:lnTo>
                  <a:lnTo>
                    <a:pt x="926" y="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rot="193800">
              <a:off x="3950640" y="6670440"/>
              <a:ext cx="109440" cy="128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28" y="237"/>
                  </a:moveTo>
                  <a:lnTo>
                    <a:pt x="125" y="244"/>
                  </a:lnTo>
                  <a:lnTo>
                    <a:pt x="128" y="251"/>
                  </a:lnTo>
                  <a:lnTo>
                    <a:pt x="132" y="262"/>
                  </a:lnTo>
                  <a:lnTo>
                    <a:pt x="135" y="272"/>
                  </a:lnTo>
                  <a:lnTo>
                    <a:pt x="146" y="269"/>
                  </a:lnTo>
                  <a:lnTo>
                    <a:pt x="153" y="262"/>
                  </a:lnTo>
                  <a:lnTo>
                    <a:pt x="160" y="255"/>
                  </a:lnTo>
                  <a:lnTo>
                    <a:pt x="163" y="248"/>
                  </a:lnTo>
                  <a:lnTo>
                    <a:pt x="170" y="230"/>
                  </a:lnTo>
                  <a:lnTo>
                    <a:pt x="177" y="199"/>
                  </a:lnTo>
                  <a:lnTo>
                    <a:pt x="181" y="171"/>
                  </a:lnTo>
                  <a:lnTo>
                    <a:pt x="184" y="161"/>
                  </a:lnTo>
                  <a:lnTo>
                    <a:pt x="184" y="150"/>
                  </a:lnTo>
                  <a:lnTo>
                    <a:pt x="181" y="122"/>
                  </a:lnTo>
                  <a:lnTo>
                    <a:pt x="177" y="91"/>
                  </a:lnTo>
                  <a:lnTo>
                    <a:pt x="167" y="67"/>
                  </a:lnTo>
                  <a:lnTo>
                    <a:pt x="160" y="53"/>
                  </a:lnTo>
                  <a:lnTo>
                    <a:pt x="146" y="32"/>
                  </a:lnTo>
                  <a:lnTo>
                    <a:pt x="125" y="11"/>
                  </a:lnTo>
                  <a:lnTo>
                    <a:pt x="111" y="0"/>
                  </a:lnTo>
                  <a:lnTo>
                    <a:pt x="111" y="18"/>
                  </a:lnTo>
                  <a:lnTo>
                    <a:pt x="121" y="42"/>
                  </a:lnTo>
                  <a:lnTo>
                    <a:pt x="132" y="63"/>
                  </a:lnTo>
                  <a:lnTo>
                    <a:pt x="139" y="77"/>
                  </a:lnTo>
                  <a:lnTo>
                    <a:pt x="142" y="94"/>
                  </a:lnTo>
                  <a:lnTo>
                    <a:pt x="146" y="119"/>
                  </a:lnTo>
                  <a:lnTo>
                    <a:pt x="146" y="147"/>
                  </a:lnTo>
                  <a:lnTo>
                    <a:pt x="142" y="157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2" y="178"/>
                  </a:lnTo>
                  <a:lnTo>
                    <a:pt x="139" y="192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1" y="196"/>
                  </a:lnTo>
                  <a:lnTo>
                    <a:pt x="118" y="196"/>
                  </a:lnTo>
                  <a:lnTo>
                    <a:pt x="104" y="199"/>
                  </a:lnTo>
                  <a:lnTo>
                    <a:pt x="83" y="202"/>
                  </a:lnTo>
                  <a:lnTo>
                    <a:pt x="62" y="209"/>
                  </a:lnTo>
                  <a:lnTo>
                    <a:pt x="55" y="213"/>
                  </a:lnTo>
                  <a:lnTo>
                    <a:pt x="48" y="216"/>
                  </a:lnTo>
                  <a:lnTo>
                    <a:pt x="31" y="227"/>
                  </a:lnTo>
                  <a:lnTo>
                    <a:pt x="13" y="237"/>
                  </a:lnTo>
                  <a:lnTo>
                    <a:pt x="3" y="244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0" y="276"/>
                  </a:lnTo>
                  <a:lnTo>
                    <a:pt x="17" y="279"/>
                  </a:lnTo>
                  <a:lnTo>
                    <a:pt x="24" y="279"/>
                  </a:lnTo>
                  <a:lnTo>
                    <a:pt x="31" y="279"/>
                  </a:lnTo>
                  <a:lnTo>
                    <a:pt x="38" y="269"/>
                  </a:lnTo>
                  <a:lnTo>
                    <a:pt x="55" y="258"/>
                  </a:lnTo>
                  <a:lnTo>
                    <a:pt x="69" y="248"/>
                  </a:lnTo>
                  <a:lnTo>
                    <a:pt x="73" y="244"/>
                  </a:lnTo>
                  <a:lnTo>
                    <a:pt x="80" y="244"/>
                  </a:lnTo>
                  <a:lnTo>
                    <a:pt x="97" y="237"/>
                  </a:lnTo>
                  <a:lnTo>
                    <a:pt x="114" y="230"/>
                  </a:lnTo>
                  <a:lnTo>
                    <a:pt x="132" y="227"/>
                  </a:lnTo>
                  <a:lnTo>
                    <a:pt x="132" y="234"/>
                  </a:lnTo>
                  <a:lnTo>
                    <a:pt x="128" y="237"/>
                  </a:lnTo>
                  <a:lnTo>
                    <a:pt x="12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 rot="193800">
              <a:off x="3923280" y="6363360"/>
              <a:ext cx="52200" cy="64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0" y="11"/>
                  </a:moveTo>
                  <a:lnTo>
                    <a:pt x="4" y="32"/>
                  </a:lnTo>
                  <a:lnTo>
                    <a:pt x="11" y="74"/>
                  </a:lnTo>
                  <a:lnTo>
                    <a:pt x="21" y="112"/>
                  </a:lnTo>
                  <a:lnTo>
                    <a:pt x="35" y="140"/>
                  </a:lnTo>
                  <a:lnTo>
                    <a:pt x="52" y="143"/>
                  </a:lnTo>
                  <a:lnTo>
                    <a:pt x="77" y="143"/>
                  </a:lnTo>
                  <a:lnTo>
                    <a:pt x="98" y="133"/>
                  </a:lnTo>
                  <a:lnTo>
                    <a:pt x="108" y="126"/>
                  </a:lnTo>
                  <a:lnTo>
                    <a:pt x="105" y="105"/>
                  </a:lnTo>
                  <a:lnTo>
                    <a:pt x="98" y="74"/>
                  </a:lnTo>
                  <a:lnTo>
                    <a:pt x="87" y="42"/>
                  </a:lnTo>
                  <a:lnTo>
                    <a:pt x="73" y="25"/>
                  </a:lnTo>
                  <a:lnTo>
                    <a:pt x="63" y="18"/>
                  </a:lnTo>
                  <a:lnTo>
                    <a:pt x="45" y="11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rot="193800">
              <a:off x="3764160" y="6276600"/>
              <a:ext cx="63360" cy="7452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8"/>
                  </a:moveTo>
                  <a:lnTo>
                    <a:pt x="0" y="53"/>
                  </a:lnTo>
                  <a:lnTo>
                    <a:pt x="17" y="98"/>
                  </a:lnTo>
                  <a:lnTo>
                    <a:pt x="45" y="140"/>
                  </a:lnTo>
                  <a:lnTo>
                    <a:pt x="73" y="161"/>
                  </a:lnTo>
                  <a:lnTo>
                    <a:pt x="94" y="157"/>
                  </a:lnTo>
                  <a:lnTo>
                    <a:pt x="111" y="154"/>
                  </a:lnTo>
                  <a:lnTo>
                    <a:pt x="125" y="140"/>
                  </a:lnTo>
                  <a:lnTo>
                    <a:pt x="129" y="122"/>
                  </a:lnTo>
                  <a:lnTo>
                    <a:pt x="118" y="101"/>
                  </a:lnTo>
                  <a:lnTo>
                    <a:pt x="108" y="80"/>
                  </a:lnTo>
                  <a:lnTo>
                    <a:pt x="94" y="59"/>
                  </a:lnTo>
                  <a:lnTo>
                    <a:pt x="77" y="46"/>
                  </a:lnTo>
                  <a:lnTo>
                    <a:pt x="63" y="35"/>
                  </a:lnTo>
                  <a:lnTo>
                    <a:pt x="52" y="35"/>
                  </a:lnTo>
                  <a:lnTo>
                    <a:pt x="45" y="39"/>
                  </a:lnTo>
                  <a:lnTo>
                    <a:pt x="42" y="39"/>
                  </a:lnTo>
                  <a:lnTo>
                    <a:pt x="38" y="35"/>
                  </a:lnTo>
                  <a:lnTo>
                    <a:pt x="38" y="28"/>
                  </a:lnTo>
                  <a:lnTo>
                    <a:pt x="3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rot="193800">
              <a:off x="3937680" y="6379200"/>
              <a:ext cx="20880" cy="219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4" y="0"/>
                  </a:moveTo>
                  <a:lnTo>
                    <a:pt x="7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7" y="42"/>
                  </a:lnTo>
                  <a:lnTo>
                    <a:pt x="14" y="49"/>
                  </a:lnTo>
                  <a:lnTo>
                    <a:pt x="25" y="49"/>
                  </a:lnTo>
                  <a:lnTo>
                    <a:pt x="32" y="46"/>
                  </a:lnTo>
                  <a:lnTo>
                    <a:pt x="39" y="42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18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rot="193800">
              <a:off x="3780000" y="6303240"/>
              <a:ext cx="23760" cy="219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7" y="46"/>
                  </a:lnTo>
                  <a:lnTo>
                    <a:pt x="24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45" y="42"/>
                  </a:lnTo>
                  <a:lnTo>
                    <a:pt x="48" y="35"/>
                  </a:lnTo>
                  <a:lnTo>
                    <a:pt x="42" y="25"/>
                  </a:lnTo>
                  <a:lnTo>
                    <a:pt x="35" y="1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 rot="193800">
              <a:off x="3612600" y="6274800"/>
              <a:ext cx="403200" cy="411120"/>
            </a:xfrm>
            <a:custGeom>
              <a:avLst/>
              <a:gdLst/>
              <a:ahLst/>
              <a:rect l="l" t="t" r="r" b="b"/>
              <a:pathLst>
                <a:path w="821" h="896">
                  <a:moveTo>
                    <a:pt x="3" y="572"/>
                  </a:moveTo>
                  <a:lnTo>
                    <a:pt x="3" y="586"/>
                  </a:lnTo>
                  <a:lnTo>
                    <a:pt x="0" y="600"/>
                  </a:lnTo>
                  <a:lnTo>
                    <a:pt x="3" y="617"/>
                  </a:lnTo>
                  <a:lnTo>
                    <a:pt x="7" y="627"/>
                  </a:lnTo>
                  <a:lnTo>
                    <a:pt x="14" y="620"/>
                  </a:lnTo>
                  <a:lnTo>
                    <a:pt x="17" y="613"/>
                  </a:lnTo>
                  <a:lnTo>
                    <a:pt x="21" y="603"/>
                  </a:lnTo>
                  <a:lnTo>
                    <a:pt x="27" y="589"/>
                  </a:lnTo>
                  <a:lnTo>
                    <a:pt x="27" y="582"/>
                  </a:lnTo>
                  <a:lnTo>
                    <a:pt x="41" y="575"/>
                  </a:lnTo>
                  <a:lnTo>
                    <a:pt x="52" y="565"/>
                  </a:lnTo>
                  <a:lnTo>
                    <a:pt x="66" y="558"/>
                  </a:lnTo>
                  <a:lnTo>
                    <a:pt x="69" y="561"/>
                  </a:lnTo>
                  <a:lnTo>
                    <a:pt x="69" y="568"/>
                  </a:lnTo>
                  <a:lnTo>
                    <a:pt x="73" y="579"/>
                  </a:lnTo>
                  <a:lnTo>
                    <a:pt x="76" y="589"/>
                  </a:lnTo>
                  <a:lnTo>
                    <a:pt x="80" y="600"/>
                  </a:lnTo>
                  <a:lnTo>
                    <a:pt x="87" y="617"/>
                  </a:lnTo>
                  <a:lnTo>
                    <a:pt x="104" y="648"/>
                  </a:lnTo>
                  <a:lnTo>
                    <a:pt x="135" y="701"/>
                  </a:lnTo>
                  <a:lnTo>
                    <a:pt x="160" y="746"/>
                  </a:lnTo>
                  <a:lnTo>
                    <a:pt x="177" y="763"/>
                  </a:lnTo>
                  <a:lnTo>
                    <a:pt x="177" y="770"/>
                  </a:lnTo>
                  <a:lnTo>
                    <a:pt x="188" y="784"/>
                  </a:lnTo>
                  <a:lnTo>
                    <a:pt x="202" y="805"/>
                  </a:lnTo>
                  <a:lnTo>
                    <a:pt x="222" y="826"/>
                  </a:lnTo>
                  <a:lnTo>
                    <a:pt x="243" y="847"/>
                  </a:lnTo>
                  <a:lnTo>
                    <a:pt x="268" y="868"/>
                  </a:lnTo>
                  <a:lnTo>
                    <a:pt x="292" y="882"/>
                  </a:lnTo>
                  <a:lnTo>
                    <a:pt x="306" y="892"/>
                  </a:lnTo>
                  <a:lnTo>
                    <a:pt x="327" y="896"/>
                  </a:lnTo>
                  <a:lnTo>
                    <a:pt x="344" y="892"/>
                  </a:lnTo>
                  <a:lnTo>
                    <a:pt x="362" y="885"/>
                  </a:lnTo>
                  <a:lnTo>
                    <a:pt x="376" y="878"/>
                  </a:lnTo>
                  <a:lnTo>
                    <a:pt x="362" y="871"/>
                  </a:lnTo>
                  <a:lnTo>
                    <a:pt x="348" y="868"/>
                  </a:lnTo>
                  <a:lnTo>
                    <a:pt x="334" y="861"/>
                  </a:lnTo>
                  <a:lnTo>
                    <a:pt x="320" y="857"/>
                  </a:lnTo>
                  <a:lnTo>
                    <a:pt x="309" y="850"/>
                  </a:lnTo>
                  <a:lnTo>
                    <a:pt x="289" y="840"/>
                  </a:lnTo>
                  <a:lnTo>
                    <a:pt x="264" y="826"/>
                  </a:lnTo>
                  <a:lnTo>
                    <a:pt x="243" y="809"/>
                  </a:lnTo>
                  <a:lnTo>
                    <a:pt x="233" y="791"/>
                  </a:lnTo>
                  <a:lnTo>
                    <a:pt x="215" y="767"/>
                  </a:lnTo>
                  <a:lnTo>
                    <a:pt x="202" y="742"/>
                  </a:lnTo>
                  <a:lnTo>
                    <a:pt x="198" y="732"/>
                  </a:lnTo>
                  <a:lnTo>
                    <a:pt x="212" y="728"/>
                  </a:lnTo>
                  <a:lnTo>
                    <a:pt x="236" y="732"/>
                  </a:lnTo>
                  <a:lnTo>
                    <a:pt x="257" y="735"/>
                  </a:lnTo>
                  <a:lnTo>
                    <a:pt x="268" y="739"/>
                  </a:lnTo>
                  <a:lnTo>
                    <a:pt x="282" y="760"/>
                  </a:lnTo>
                  <a:lnTo>
                    <a:pt x="303" y="781"/>
                  </a:lnTo>
                  <a:lnTo>
                    <a:pt x="320" y="805"/>
                  </a:lnTo>
                  <a:lnTo>
                    <a:pt x="341" y="826"/>
                  </a:lnTo>
                  <a:lnTo>
                    <a:pt x="344" y="822"/>
                  </a:lnTo>
                  <a:lnTo>
                    <a:pt x="348" y="816"/>
                  </a:lnTo>
                  <a:lnTo>
                    <a:pt x="344" y="805"/>
                  </a:lnTo>
                  <a:lnTo>
                    <a:pt x="348" y="795"/>
                  </a:lnTo>
                  <a:lnTo>
                    <a:pt x="344" y="791"/>
                  </a:lnTo>
                  <a:lnTo>
                    <a:pt x="337" y="784"/>
                  </a:lnTo>
                  <a:lnTo>
                    <a:pt x="330" y="774"/>
                  </a:lnTo>
                  <a:lnTo>
                    <a:pt x="327" y="767"/>
                  </a:lnTo>
                  <a:lnTo>
                    <a:pt x="334" y="770"/>
                  </a:lnTo>
                  <a:lnTo>
                    <a:pt x="337" y="774"/>
                  </a:lnTo>
                  <a:lnTo>
                    <a:pt x="344" y="777"/>
                  </a:lnTo>
                  <a:lnTo>
                    <a:pt x="351" y="781"/>
                  </a:lnTo>
                  <a:lnTo>
                    <a:pt x="393" y="805"/>
                  </a:lnTo>
                  <a:lnTo>
                    <a:pt x="445" y="822"/>
                  </a:lnTo>
                  <a:lnTo>
                    <a:pt x="497" y="833"/>
                  </a:lnTo>
                  <a:lnTo>
                    <a:pt x="553" y="833"/>
                  </a:lnTo>
                  <a:lnTo>
                    <a:pt x="605" y="826"/>
                  </a:lnTo>
                  <a:lnTo>
                    <a:pt x="658" y="816"/>
                  </a:lnTo>
                  <a:lnTo>
                    <a:pt x="699" y="795"/>
                  </a:lnTo>
                  <a:lnTo>
                    <a:pt x="734" y="770"/>
                  </a:lnTo>
                  <a:lnTo>
                    <a:pt x="759" y="746"/>
                  </a:lnTo>
                  <a:lnTo>
                    <a:pt x="776" y="721"/>
                  </a:lnTo>
                  <a:lnTo>
                    <a:pt x="786" y="708"/>
                  </a:lnTo>
                  <a:lnTo>
                    <a:pt x="790" y="704"/>
                  </a:lnTo>
                  <a:lnTo>
                    <a:pt x="790" y="697"/>
                  </a:lnTo>
                  <a:lnTo>
                    <a:pt x="797" y="680"/>
                  </a:lnTo>
                  <a:lnTo>
                    <a:pt x="807" y="652"/>
                  </a:lnTo>
                  <a:lnTo>
                    <a:pt x="814" y="620"/>
                  </a:lnTo>
                  <a:lnTo>
                    <a:pt x="821" y="579"/>
                  </a:lnTo>
                  <a:lnTo>
                    <a:pt x="821" y="533"/>
                  </a:lnTo>
                  <a:lnTo>
                    <a:pt x="821" y="481"/>
                  </a:lnTo>
                  <a:lnTo>
                    <a:pt x="811" y="429"/>
                  </a:lnTo>
                  <a:lnTo>
                    <a:pt x="776" y="328"/>
                  </a:lnTo>
                  <a:lnTo>
                    <a:pt x="731" y="237"/>
                  </a:lnTo>
                  <a:lnTo>
                    <a:pt x="682" y="168"/>
                  </a:lnTo>
                  <a:lnTo>
                    <a:pt x="644" y="126"/>
                  </a:lnTo>
                  <a:lnTo>
                    <a:pt x="595" y="80"/>
                  </a:lnTo>
                  <a:lnTo>
                    <a:pt x="546" y="46"/>
                  </a:lnTo>
                  <a:lnTo>
                    <a:pt x="497" y="18"/>
                  </a:lnTo>
                  <a:lnTo>
                    <a:pt x="445" y="0"/>
                  </a:lnTo>
                  <a:lnTo>
                    <a:pt x="491" y="32"/>
                  </a:lnTo>
                  <a:lnTo>
                    <a:pt x="532" y="70"/>
                  </a:lnTo>
                  <a:lnTo>
                    <a:pt x="571" y="108"/>
                  </a:lnTo>
                  <a:lnTo>
                    <a:pt x="616" y="154"/>
                  </a:lnTo>
                  <a:lnTo>
                    <a:pt x="651" y="192"/>
                  </a:lnTo>
                  <a:lnTo>
                    <a:pt x="696" y="258"/>
                  </a:lnTo>
                  <a:lnTo>
                    <a:pt x="738" y="345"/>
                  </a:lnTo>
                  <a:lnTo>
                    <a:pt x="773" y="439"/>
                  </a:lnTo>
                  <a:lnTo>
                    <a:pt x="779" y="488"/>
                  </a:lnTo>
                  <a:lnTo>
                    <a:pt x="783" y="533"/>
                  </a:lnTo>
                  <a:lnTo>
                    <a:pt x="783" y="575"/>
                  </a:lnTo>
                  <a:lnTo>
                    <a:pt x="776" y="617"/>
                  </a:lnTo>
                  <a:lnTo>
                    <a:pt x="769" y="645"/>
                  </a:lnTo>
                  <a:lnTo>
                    <a:pt x="762" y="666"/>
                  </a:lnTo>
                  <a:lnTo>
                    <a:pt x="755" y="680"/>
                  </a:lnTo>
                  <a:lnTo>
                    <a:pt x="755" y="683"/>
                  </a:lnTo>
                  <a:lnTo>
                    <a:pt x="752" y="690"/>
                  </a:lnTo>
                  <a:lnTo>
                    <a:pt x="745" y="701"/>
                  </a:lnTo>
                  <a:lnTo>
                    <a:pt x="731" y="721"/>
                  </a:lnTo>
                  <a:lnTo>
                    <a:pt x="710" y="742"/>
                  </a:lnTo>
                  <a:lnTo>
                    <a:pt x="682" y="763"/>
                  </a:lnTo>
                  <a:lnTo>
                    <a:pt x="644" y="777"/>
                  </a:lnTo>
                  <a:lnTo>
                    <a:pt x="602" y="791"/>
                  </a:lnTo>
                  <a:lnTo>
                    <a:pt x="553" y="795"/>
                  </a:lnTo>
                  <a:lnTo>
                    <a:pt x="456" y="784"/>
                  </a:lnTo>
                  <a:lnTo>
                    <a:pt x="372" y="746"/>
                  </a:lnTo>
                  <a:lnTo>
                    <a:pt x="309" y="701"/>
                  </a:lnTo>
                  <a:lnTo>
                    <a:pt x="271" y="662"/>
                  </a:lnTo>
                  <a:lnTo>
                    <a:pt x="229" y="624"/>
                  </a:lnTo>
                  <a:lnTo>
                    <a:pt x="198" y="593"/>
                  </a:lnTo>
                  <a:lnTo>
                    <a:pt x="160" y="565"/>
                  </a:lnTo>
                  <a:lnTo>
                    <a:pt x="125" y="537"/>
                  </a:lnTo>
                  <a:lnTo>
                    <a:pt x="118" y="533"/>
                  </a:lnTo>
                  <a:lnTo>
                    <a:pt x="115" y="530"/>
                  </a:lnTo>
                  <a:lnTo>
                    <a:pt x="111" y="526"/>
                  </a:lnTo>
                  <a:lnTo>
                    <a:pt x="108" y="523"/>
                  </a:lnTo>
                  <a:lnTo>
                    <a:pt x="118" y="512"/>
                  </a:lnTo>
                  <a:lnTo>
                    <a:pt x="128" y="502"/>
                  </a:lnTo>
                  <a:lnTo>
                    <a:pt x="139" y="488"/>
                  </a:lnTo>
                  <a:lnTo>
                    <a:pt x="142" y="478"/>
                  </a:lnTo>
                  <a:lnTo>
                    <a:pt x="146" y="467"/>
                  </a:lnTo>
                  <a:lnTo>
                    <a:pt x="142" y="457"/>
                  </a:lnTo>
                  <a:lnTo>
                    <a:pt x="139" y="450"/>
                  </a:lnTo>
                  <a:lnTo>
                    <a:pt x="132" y="443"/>
                  </a:lnTo>
                  <a:lnTo>
                    <a:pt x="125" y="450"/>
                  </a:lnTo>
                  <a:lnTo>
                    <a:pt x="118" y="453"/>
                  </a:lnTo>
                  <a:lnTo>
                    <a:pt x="115" y="457"/>
                  </a:lnTo>
                  <a:lnTo>
                    <a:pt x="111" y="464"/>
                  </a:lnTo>
                  <a:lnTo>
                    <a:pt x="104" y="474"/>
                  </a:lnTo>
                  <a:lnTo>
                    <a:pt x="87" y="492"/>
                  </a:lnTo>
                  <a:lnTo>
                    <a:pt x="69" y="502"/>
                  </a:lnTo>
                  <a:lnTo>
                    <a:pt x="62" y="509"/>
                  </a:lnTo>
                  <a:lnTo>
                    <a:pt x="55" y="512"/>
                  </a:lnTo>
                  <a:lnTo>
                    <a:pt x="34" y="530"/>
                  </a:lnTo>
                  <a:lnTo>
                    <a:pt x="14" y="551"/>
                  </a:lnTo>
                  <a:lnTo>
                    <a:pt x="3" y="572"/>
                  </a:lnTo>
                  <a:lnTo>
                    <a:pt x="3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2621880" y="6134760"/>
            <a:ext cx="1012320" cy="1465920"/>
            <a:chOff x="2621880" y="6134760"/>
            <a:chExt cx="1012320" cy="1465920"/>
          </a:xfrm>
        </p:grpSpPr>
        <p:sp>
          <p:nvSpPr>
            <p:cNvPr id="1448" name=""/>
            <p:cNvSpPr/>
            <p:nvPr/>
          </p:nvSpPr>
          <p:spPr>
            <a:xfrm flipH="1" rot="20872200">
              <a:off x="3135960" y="6164640"/>
              <a:ext cx="83520" cy="7524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rot="20872200">
              <a:off x="2987280" y="6265800"/>
              <a:ext cx="86400" cy="3312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 rot="20872200">
              <a:off x="3188160" y="6264000"/>
              <a:ext cx="270360" cy="28152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 rot="20872200">
              <a:off x="2730240" y="6411600"/>
              <a:ext cx="795240" cy="111780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rot="20872200">
              <a:off x="3292200" y="6638400"/>
              <a:ext cx="38160" cy="3312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 rot="20872200">
              <a:off x="3189240" y="6775200"/>
              <a:ext cx="209880" cy="17856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rot="20872200">
              <a:off x="3218400" y="6329520"/>
              <a:ext cx="150480" cy="4896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rot="20872200">
              <a:off x="3199320" y="6501240"/>
              <a:ext cx="78480" cy="604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 rot="20872200">
              <a:off x="3183480" y="6403680"/>
              <a:ext cx="51120" cy="42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rot="20872200">
              <a:off x="3348360" y="6731280"/>
              <a:ext cx="26280" cy="248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rot="20872200">
              <a:off x="3277080" y="6700320"/>
              <a:ext cx="50040" cy="3348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 rot="20872200">
              <a:off x="3184560" y="6926760"/>
              <a:ext cx="19800" cy="385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rot="20872200">
              <a:off x="2964600" y="6858000"/>
              <a:ext cx="30960" cy="4140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 rot="20872200">
              <a:off x="3305160" y="7063560"/>
              <a:ext cx="86760" cy="6624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rot="20872200">
              <a:off x="3444480" y="7122240"/>
              <a:ext cx="49320" cy="13176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rot="20872200">
              <a:off x="3169080" y="7035840"/>
              <a:ext cx="81720" cy="10836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rot="20872200">
              <a:off x="3098520" y="7065000"/>
              <a:ext cx="60480" cy="5256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rot="20872200">
              <a:off x="2998800" y="7186680"/>
              <a:ext cx="18720" cy="16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 rot="20872200">
              <a:off x="3155400" y="7228080"/>
              <a:ext cx="20880" cy="2052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rot="20872200">
              <a:off x="3329640" y="7392960"/>
              <a:ext cx="75600" cy="6048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rot="20872200">
              <a:off x="2868840" y="7304400"/>
              <a:ext cx="4248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rot="20872200">
              <a:off x="3245040" y="7090920"/>
              <a:ext cx="180720" cy="24192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 rot="20872200">
              <a:off x="2964240" y="7223040"/>
              <a:ext cx="63000" cy="3744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 rot="20872200">
              <a:off x="3171960" y="7250400"/>
              <a:ext cx="48240" cy="5256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rot="20872200">
              <a:off x="3167280" y="6487560"/>
              <a:ext cx="277560" cy="15696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 rot="20872200">
              <a:off x="3210120" y="6426720"/>
              <a:ext cx="29160" cy="604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rot="20872200">
              <a:off x="3108600" y="6510960"/>
              <a:ext cx="53280" cy="5364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rot="20872200">
              <a:off x="3119760" y="6561360"/>
              <a:ext cx="47880" cy="7992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rot="20872200">
              <a:off x="3143520" y="6338520"/>
              <a:ext cx="311400" cy="21492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 rot="20872200">
              <a:off x="3190680" y="6298560"/>
              <a:ext cx="276480" cy="24840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 rot="20872200">
              <a:off x="3252960" y="6251760"/>
              <a:ext cx="186480" cy="20952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rot="20872200">
              <a:off x="3145320" y="6150600"/>
              <a:ext cx="178560" cy="23040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rot="20872200">
              <a:off x="3003120" y="6248880"/>
              <a:ext cx="204840" cy="11520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 rot="20872200">
              <a:off x="2982960" y="6265080"/>
              <a:ext cx="95760" cy="4104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rot="20872200">
              <a:off x="3201120" y="6642000"/>
              <a:ext cx="219960" cy="32292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 rot="20872200">
              <a:off x="3176640" y="6741720"/>
              <a:ext cx="196920" cy="15336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rot="20872200">
              <a:off x="3045960" y="6783480"/>
              <a:ext cx="356040" cy="19260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rot="20872200">
              <a:off x="3175560" y="6658200"/>
              <a:ext cx="153360" cy="23508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rot="20872200">
              <a:off x="3054240" y="6869520"/>
              <a:ext cx="147240" cy="5400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rot="20872200">
              <a:off x="2946600" y="6812280"/>
              <a:ext cx="98640" cy="8352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rot="20872200">
              <a:off x="2941560" y="6856560"/>
              <a:ext cx="37080" cy="9936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rot="20872200">
              <a:off x="2990880" y="6908040"/>
              <a:ext cx="64080" cy="2772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rot="20872200">
              <a:off x="3252240" y="6967800"/>
              <a:ext cx="33840" cy="9252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rot="20872200">
              <a:off x="3238560" y="7038000"/>
              <a:ext cx="274320" cy="29592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rot="20872200">
              <a:off x="3154680" y="7100640"/>
              <a:ext cx="115200" cy="12708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20872200">
              <a:off x="3127320" y="7065360"/>
              <a:ext cx="88920" cy="16452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rot="20872200">
              <a:off x="3201840" y="7204320"/>
              <a:ext cx="228960" cy="24840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rot="20872200">
              <a:off x="3286080" y="7451280"/>
              <a:ext cx="172440" cy="3996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rot="20872200">
              <a:off x="3274560" y="7404120"/>
              <a:ext cx="79200" cy="7488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 rot="20872200">
              <a:off x="3164400" y="7220160"/>
              <a:ext cx="158040" cy="19584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rot="20872200">
              <a:off x="3150720" y="6969600"/>
              <a:ext cx="21960" cy="12744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rot="20872200">
              <a:off x="3024720" y="7155360"/>
              <a:ext cx="143280" cy="5004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rot="20872200">
              <a:off x="2977920" y="7166160"/>
              <a:ext cx="44280" cy="6300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rot="20872200">
              <a:off x="2861640" y="7251840"/>
              <a:ext cx="186120" cy="17856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rot="20872200">
              <a:off x="2795400" y="7211520"/>
              <a:ext cx="228960" cy="23256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rot="20872200">
              <a:off x="3215520" y="6446160"/>
              <a:ext cx="12240" cy="19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3933720" y="2293920"/>
            <a:ext cx="874800" cy="106200"/>
            <a:chOff x="3933720" y="2293920"/>
            <a:chExt cx="874800" cy="106200"/>
          </a:xfrm>
        </p:grpSpPr>
        <p:sp>
          <p:nvSpPr>
            <p:cNvPr id="1506" name=""/>
            <p:cNvSpPr/>
            <p:nvPr/>
          </p:nvSpPr>
          <p:spPr>
            <a:xfrm flipV="1">
              <a:off x="3933720" y="229392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 flipV="1">
              <a:off x="4359240" y="2298600"/>
              <a:ext cx="4492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900000" y="0"/>
            <a:ext cx="6094440" cy="2671920"/>
          </a:xfrm>
          <a:prstGeom prst="wedgeEllipseCallout">
            <a:avLst>
              <a:gd name="adj1" fmla="val -6449"/>
              <a:gd name="adj2" fmla="val 18814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658880" y="411120"/>
            <a:ext cx="48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le construire,     si on connaît ses côtés, on utilise le comp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10:45Z</dcterms:modified>
  <cp:revision>23</cp:revision>
  <dc:subject/>
  <dc:title>Diapositive 1</dc:title>
</cp:coreProperties>
</file>