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D1C2-E332-4A50-9D8D-5B64B818D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DA49-3A03-4855-8787-7F34EEE9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5F68-F6A2-4185-94FF-AEA6C2D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2434-8998-4222-98F1-4CFCE2B84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F5DB-25CF-4993-9401-3BE0C16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9D82-D8CB-46C4-B351-20870718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137F-E6FB-4636-80BF-55447122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3098-F4D0-4C53-BC4C-4DEEADF3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972E-7DD7-4A54-81E2-6A180DEF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D43B-8D43-4C91-BCB4-A8CA8E9C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5F22-F0BA-4EF2-B71A-1E640F3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4BD3-723F-48F3-A97E-4CC56AF7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0380-D391-49B4-9A8C-AFC9BA976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61200" y="1873080"/>
            <a:ext cx="76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51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55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2338560" y="2611440"/>
            <a:ext cx="6391440" cy="612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61200" y="1873080"/>
            <a:ext cx="76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77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81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85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8240" y="1200600"/>
            <a:ext cx="1162800" cy="5017320"/>
            <a:chOff x="768240" y="1200600"/>
            <a:chExt cx="1162800" cy="5017320"/>
          </a:xfrm>
        </p:grpSpPr>
        <p:sp>
          <p:nvSpPr>
            <p:cNvPr id="100" name=""/>
            <p:cNvSpPr/>
            <p:nvPr/>
          </p:nvSpPr>
          <p:spPr>
            <a:xfrm rot="20859600">
              <a:off x="1336320" y="2388960"/>
              <a:ext cx="266040" cy="31035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658880" y="3534480"/>
              <a:ext cx="257400" cy="2683440"/>
              <a:chOff x="1658880" y="3534480"/>
              <a:chExt cx="257400" cy="268344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658880" y="3534480"/>
                <a:ext cx="257400" cy="2683440"/>
                <a:chOff x="1658880" y="3534480"/>
                <a:chExt cx="257400" cy="2683440"/>
              </a:xfrm>
            </p:grpSpPr>
            <p:sp>
              <p:nvSpPr>
                <p:cNvPr id="103" name=""/>
                <p:cNvSpPr/>
                <p:nvPr/>
              </p:nvSpPr>
              <p:spPr>
                <a:xfrm flipH="1" rot="21111600">
                  <a:off x="1672560" y="508644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1697040" y="3534480"/>
                  <a:ext cx="191880" cy="2683440"/>
                  <a:chOff x="1697040" y="3534480"/>
                  <a:chExt cx="191880" cy="26834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1567000">
                    <a:off x="1699920" y="558756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30000">
                    <a:off x="1715040" y="353484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1781640" y="614520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754280" y="3534480"/>
                    <a:ext cx="18360" cy="206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V="1">
                    <a:off x="1813680" y="354528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" name=""/>
              <p:cNvSpPr/>
              <p:nvPr/>
            </p:nvSpPr>
            <p:spPr>
              <a:xfrm flipH="1" flipV="1" rot="21364200">
                <a:off x="1679760" y="509004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rot="185400">
              <a:off x="1061640" y="1204560"/>
              <a:ext cx="167760" cy="3585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26200">
              <a:off x="882360" y="2269800"/>
              <a:ext cx="222120" cy="34797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3000">
              <a:off x="939600" y="1514520"/>
              <a:ext cx="396720" cy="10126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61200" y="1873080"/>
            <a:ext cx="76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34000">
            <a:off x="83160" y="4760640"/>
            <a:ext cx="1828440" cy="191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20" y="2042"/>
                </a:moveTo>
                <a:arcTo wR="10800" hR="10800" stAng="-3251064" swAng="3251064"/>
                <a:lnTo>
                  <a:pt x="10800" y="10800"/>
                </a:lnTo>
                <a:close/>
              </a:path>
              <a:path fill="none" w="21600" h="21600">
                <a:moveTo>
                  <a:pt x="17120" y="2042"/>
                </a:moveTo>
                <a:arcTo wR="10800" hR="10800" stAng="-3251064" swAng="3251064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9680" y="1138680"/>
            <a:ext cx="1266120" cy="4552920"/>
            <a:chOff x="769680" y="1138680"/>
            <a:chExt cx="1266120" cy="4552920"/>
          </a:xfrm>
        </p:grpSpPr>
        <p:sp>
          <p:nvSpPr>
            <p:cNvPr id="124" name=""/>
            <p:cNvSpPr/>
            <p:nvPr/>
          </p:nvSpPr>
          <p:spPr>
            <a:xfrm rot="20448600">
              <a:off x="1401840" y="2246040"/>
              <a:ext cx="266760" cy="227808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69680" y="1138680"/>
              <a:ext cx="1237320" cy="4552920"/>
              <a:chOff x="769680" y="1138680"/>
              <a:chExt cx="1237320" cy="45529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749240" y="2723400"/>
                <a:ext cx="257760" cy="2683440"/>
                <a:chOff x="1749240" y="2723400"/>
                <a:chExt cx="257760" cy="268344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1749240" y="2723400"/>
                  <a:ext cx="257760" cy="2683440"/>
                  <a:chOff x="1749240" y="2723400"/>
                  <a:chExt cx="257760" cy="26834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1111600">
                    <a:off x="1763280" y="4275360"/>
                    <a:ext cx="229320" cy="216720"/>
                  </a:xfrm>
                  <a:prstGeom prst="blockArc">
                    <a:avLst>
                      <a:gd name="adj1" fmla="val 9609163"/>
                      <a:gd name="adj2" fmla="val 1190837"/>
                      <a:gd name="adj3" fmla="val 20301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1787760" y="2723400"/>
                    <a:ext cx="191880" cy="2683440"/>
                    <a:chOff x="1787760" y="2723400"/>
                    <a:chExt cx="191880" cy="268344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 flipH="1" rot="21567000">
                      <a:off x="1790640" y="4776480"/>
                      <a:ext cx="173160" cy="594360"/>
                    </a:xfrm>
                    <a:prstGeom prst="flowChartMerge">
                      <a:avLst/>
                    </a:prstGeom>
                    <a:solidFill>
                      <a:srgbClr val="ffa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flipH="1" rot="30000">
                      <a:off x="1805760" y="2723760"/>
                      <a:ext cx="164880" cy="206604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flipH="1">
                      <a:off x="1872360" y="5334120"/>
                      <a:ext cx="720" cy="72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flipV="1">
                      <a:off x="1845000" y="2723400"/>
                      <a:ext cx="18360" cy="206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flipV="1">
                      <a:off x="1904400" y="2734200"/>
                      <a:ext cx="18360" cy="204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" name=""/>
                <p:cNvSpPr/>
                <p:nvPr/>
              </p:nvSpPr>
              <p:spPr>
                <a:xfrm flipH="1" flipV="1" rot="21364200">
                  <a:off x="1770480" y="4279320"/>
                  <a:ext cx="228240" cy="2185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 rot="185400">
                <a:off x="1063440" y="1142640"/>
                <a:ext cx="168120" cy="35892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26200">
                <a:off x="883800" y="2207880"/>
                <a:ext cx="22248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3000">
                <a:off x="941400" y="1452600"/>
                <a:ext cx="396720" cy="10126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41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46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50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2100600">
            <a:off x="755640" y="4365720"/>
            <a:ext cx="7089840" cy="5662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24560" y="1873080"/>
            <a:ext cx="77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34000">
            <a:off x="82440" y="4760640"/>
            <a:ext cx="182844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45" y="531"/>
                </a:moveTo>
                <a:arcTo wR="10800" hR="10800" stAng="-4317348" swAng="4317348"/>
                <a:lnTo>
                  <a:pt x="10800" y="10800"/>
                </a:lnTo>
                <a:close/>
              </a:path>
              <a:path fill="none" w="21600" h="21600">
                <a:moveTo>
                  <a:pt x="14145" y="531"/>
                </a:moveTo>
                <a:arcTo wR="10800" hR="10800" stAng="-4317348" swAng="431734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77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08320" y="1823040"/>
            <a:ext cx="2066400" cy="4552920"/>
            <a:chOff x="4108320" y="1823040"/>
            <a:chExt cx="2066400" cy="4552920"/>
          </a:xfrm>
        </p:grpSpPr>
        <p:sp>
          <p:nvSpPr>
            <p:cNvPr id="180" name=""/>
            <p:cNvSpPr/>
            <p:nvPr/>
          </p:nvSpPr>
          <p:spPr>
            <a:xfrm rot="19509600">
              <a:off x="5124600" y="2701440"/>
              <a:ext cx="266400" cy="282744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894640" y="3477600"/>
              <a:ext cx="257400" cy="2683080"/>
              <a:chOff x="5894640" y="3477600"/>
              <a:chExt cx="257400" cy="26830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5894640" y="3477600"/>
                <a:ext cx="257400" cy="2683080"/>
                <a:chOff x="5894640" y="3477600"/>
                <a:chExt cx="257400" cy="268308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rot="21111600">
                  <a:off x="5908320" y="502956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932800" y="3477600"/>
                  <a:ext cx="191880" cy="2683080"/>
                  <a:chOff x="5932800" y="3477600"/>
                  <a:chExt cx="191880" cy="26830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1567000">
                    <a:off x="5935680" y="553068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30000">
                    <a:off x="5950800" y="3477960"/>
                    <a:ext cx="164880" cy="2065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6017400" y="608796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V="1">
                    <a:off x="5990040" y="3477960"/>
                    <a:ext cx="18360" cy="206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6049440" y="348840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" name=""/>
              <p:cNvSpPr/>
              <p:nvPr/>
            </p:nvSpPr>
            <p:spPr>
              <a:xfrm flipH="1" flipV="1" rot="21364200">
                <a:off x="5915520" y="503316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108320" y="1823040"/>
              <a:ext cx="573480" cy="4552920"/>
              <a:chOff x="4108320" y="1823040"/>
              <a:chExt cx="573480" cy="4552920"/>
            </a:xfrm>
          </p:grpSpPr>
          <p:sp>
            <p:nvSpPr>
              <p:cNvPr id="192" name=""/>
              <p:cNvSpPr/>
              <p:nvPr/>
            </p:nvSpPr>
            <p:spPr>
              <a:xfrm rot="185400">
                <a:off x="4401720" y="1827000"/>
                <a:ext cx="168480" cy="3585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26200">
                <a:off x="4222440" y="2892240"/>
                <a:ext cx="22212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3000">
                <a:off x="4280040" y="2136600"/>
                <a:ext cx="396720" cy="1013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97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201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124560" y="1873080"/>
            <a:ext cx="77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34000">
            <a:off x="82440" y="4760640"/>
            <a:ext cx="182844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45" y="531"/>
                </a:moveTo>
                <a:arcTo wR="10800" hR="10800" stAng="-4317348" swAng="4317348"/>
                <a:lnTo>
                  <a:pt x="10800" y="10800"/>
                </a:lnTo>
                <a:close/>
              </a:path>
              <a:path fill="none" w="21600" h="21600">
                <a:moveTo>
                  <a:pt x="14145" y="531"/>
                </a:moveTo>
                <a:arcTo wR="10800" hR="10800" stAng="-4317348" swAng="431734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227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360" y="425592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F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55640" y="1707120"/>
            <a:ext cx="2068200" cy="4890240"/>
            <a:chOff x="1655640" y="1707120"/>
            <a:chExt cx="2068200" cy="4890240"/>
          </a:xfrm>
        </p:grpSpPr>
        <p:sp>
          <p:nvSpPr>
            <p:cNvPr id="232" name=""/>
            <p:cNvSpPr/>
            <p:nvPr/>
          </p:nvSpPr>
          <p:spPr>
            <a:xfrm rot="20007600">
              <a:off x="2690640" y="2590920"/>
              <a:ext cx="266760" cy="349380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91200" y="3913920"/>
              <a:ext cx="257400" cy="2683440"/>
              <a:chOff x="3391200" y="3913920"/>
              <a:chExt cx="257400" cy="26834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391200" y="3913920"/>
                <a:ext cx="257400" cy="2683440"/>
                <a:chOff x="3391200" y="3913920"/>
                <a:chExt cx="257400" cy="26834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 rot="21111600">
                  <a:off x="3404880" y="546588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3429360" y="3913920"/>
                  <a:ext cx="191880" cy="2683440"/>
                  <a:chOff x="3429360" y="3913920"/>
                  <a:chExt cx="191880" cy="2683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21567000">
                    <a:off x="3432240" y="596700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30000">
                    <a:off x="3447360" y="391428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>
                    <a:off x="3513960" y="652464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3486600" y="3913920"/>
                    <a:ext cx="18360" cy="206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V="1">
                    <a:off x="3546000" y="392472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2" name=""/>
              <p:cNvSpPr/>
              <p:nvPr/>
            </p:nvSpPr>
            <p:spPr>
              <a:xfrm flipH="1" flipV="1" rot="21364200">
                <a:off x="3412080" y="546948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55640" y="1707120"/>
              <a:ext cx="573480" cy="4552920"/>
              <a:chOff x="1655640" y="1707120"/>
              <a:chExt cx="573480" cy="4552920"/>
            </a:xfrm>
          </p:grpSpPr>
          <p:sp>
            <p:nvSpPr>
              <p:cNvPr id="244" name=""/>
              <p:cNvSpPr/>
              <p:nvPr/>
            </p:nvSpPr>
            <p:spPr>
              <a:xfrm rot="185400">
                <a:off x="1949040" y="1711080"/>
                <a:ext cx="168480" cy="3585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26200">
                <a:off x="1769760" y="2776320"/>
                <a:ext cx="22212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33000">
                <a:off x="1827360" y="2020680"/>
                <a:ext cx="396720" cy="1013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 rot="2509200">
            <a:off x="1634400" y="5279040"/>
            <a:ext cx="2018160" cy="16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2" y="1402"/>
                </a:moveTo>
                <a:arcTo wR="10800" hR="10800" stAng="-3628537" swAng="2770172"/>
                <a:lnTo>
                  <a:pt x="10800" y="10800"/>
                </a:lnTo>
                <a:close/>
              </a:path>
              <a:path fill="none" w="21600" h="21600">
                <a:moveTo>
                  <a:pt x="16122" y="1402"/>
                </a:moveTo>
                <a:arcTo wR="10800" hR="10800" stAng="-3628537" swAng="2770172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249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253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124560" y="1873080"/>
            <a:ext cx="77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034000">
            <a:off x="82440" y="4760640"/>
            <a:ext cx="182844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45" y="531"/>
                </a:moveTo>
                <a:arcTo wR="10800" hR="10800" stAng="-4317348" swAng="4317348"/>
                <a:lnTo>
                  <a:pt x="10800" y="10800"/>
                </a:lnTo>
                <a:close/>
              </a:path>
              <a:path fill="none" w="21600" h="21600">
                <a:moveTo>
                  <a:pt x="14145" y="531"/>
                </a:moveTo>
                <a:arcTo wR="10800" hR="10800" stAng="-4317348" swAng="431734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279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360" y="425592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F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8840" y="970560"/>
            <a:ext cx="1773360" cy="5544360"/>
            <a:chOff x="1788840" y="970560"/>
            <a:chExt cx="1773360" cy="5544360"/>
          </a:xfrm>
        </p:grpSpPr>
        <p:sp>
          <p:nvSpPr>
            <p:cNvPr id="284" name=""/>
            <p:cNvSpPr/>
            <p:nvPr/>
          </p:nvSpPr>
          <p:spPr>
            <a:xfrm rot="20461200">
              <a:off x="2668680" y="1982520"/>
              <a:ext cx="266760" cy="38955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44680" y="3831480"/>
              <a:ext cx="257760" cy="2683440"/>
              <a:chOff x="3244680" y="3831480"/>
              <a:chExt cx="257760" cy="2683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244680" y="3831480"/>
                <a:ext cx="257760" cy="2683440"/>
                <a:chOff x="3244680" y="3831480"/>
                <a:chExt cx="257760" cy="2683440"/>
              </a:xfrm>
            </p:grpSpPr>
            <p:sp>
              <p:nvSpPr>
                <p:cNvPr id="287" name=""/>
                <p:cNvSpPr/>
                <p:nvPr/>
              </p:nvSpPr>
              <p:spPr>
                <a:xfrm flipH="1" rot="21111600">
                  <a:off x="3258720" y="5383440"/>
                  <a:ext cx="22932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283200" y="3831480"/>
                  <a:ext cx="191880" cy="2683440"/>
                  <a:chOff x="3283200" y="3831480"/>
                  <a:chExt cx="191880" cy="26834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rot="21567000">
                    <a:off x="3286080" y="588456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rot="30000">
                    <a:off x="3301200" y="383184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3367800" y="644220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V="1">
                    <a:off x="3340440" y="3831480"/>
                    <a:ext cx="18360" cy="206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V="1">
                    <a:off x="3399840" y="384228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 flipH="1" flipV="1" rot="21364200">
                <a:off x="3265920" y="5387400"/>
                <a:ext cx="22824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788840" y="970560"/>
              <a:ext cx="573480" cy="4552920"/>
              <a:chOff x="1788840" y="970560"/>
              <a:chExt cx="573480" cy="4552920"/>
            </a:xfrm>
          </p:grpSpPr>
          <p:sp>
            <p:nvSpPr>
              <p:cNvPr id="296" name=""/>
              <p:cNvSpPr/>
              <p:nvPr/>
            </p:nvSpPr>
            <p:spPr>
              <a:xfrm rot="185400">
                <a:off x="2082240" y="974520"/>
                <a:ext cx="168480" cy="3585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26200">
                <a:off x="1902960" y="2039760"/>
                <a:ext cx="22212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33000">
                <a:off x="1960560" y="1284120"/>
                <a:ext cx="396720" cy="1013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 rot="2509200">
            <a:off x="1634400" y="5279040"/>
            <a:ext cx="2018160" cy="16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2" y="1402"/>
                </a:moveTo>
                <a:arcTo wR="10800" hR="10800" stAng="-3628537" swAng="2770172"/>
                <a:lnTo>
                  <a:pt x="10800" y="10800"/>
                </a:lnTo>
                <a:close/>
              </a:path>
              <a:path fill="none" w="21600" h="21600">
                <a:moveTo>
                  <a:pt x="16122" y="1402"/>
                </a:moveTo>
                <a:arcTo wR="10800" hR="10800" stAng="-3628537" swAng="2770172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4317000">
            <a:off x="1843920" y="4834800"/>
            <a:ext cx="2018160" cy="16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2" y="1402"/>
                </a:moveTo>
                <a:arcTo wR="10800" hR="10800" stAng="-3628537" swAng="2770172"/>
                <a:lnTo>
                  <a:pt x="10800" y="10800"/>
                </a:lnTo>
                <a:close/>
              </a:path>
              <a:path fill="none" w="21600" h="21600">
                <a:moveTo>
                  <a:pt x="16122" y="1402"/>
                </a:moveTo>
                <a:arcTo wR="10800" hR="10800" stAng="-3628537" swAng="2770172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4880" y="4894200"/>
            <a:ext cx="427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’obtiens le point 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57280" y="5545080"/>
            <a:ext cx="45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[FR] et [ER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44920" y="5907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5499000"/>
            <a:ext cx="1670040" cy="74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5440" y="6229440"/>
            <a:ext cx="18032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2400" y="616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308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312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4:49:45Z</dcterms:modified>
  <cp:revision>27</cp:revision>
  <dc:subject/>
  <dc:title>Diapositive 1</dc:title>
</cp:coreProperties>
</file>