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12D94-8407-4DB2-9E00-AE7E9CB4F0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21B83-7C20-47DF-8671-A08D3B11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8D212-CC60-45D2-9BBF-F671ECB6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F52D6-CFAD-42C6-A48E-4FD490D0F4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ECA4A-9432-4907-8089-1FFE9E7A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FA4F7-FD69-4DB6-A755-94DE6D4A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C7141-10FC-4739-A6B6-2207F3FC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6DDE3-AE45-4FFB-AFBC-5247166D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B36D3-1841-4E5D-A224-DF5E7A40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055C1-6AB3-4FAC-B70A-8547AAF6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FE2C2-B103-49BE-962A-1DC037F0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99DE5-C97E-4741-8436-51B0EDC9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0058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9982080" y="5257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CD55-575D-4304-8FC6-D219D94619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rot="7943400">
            <a:off x="180000" y="-153000"/>
            <a:ext cx="1197000" cy="1868400"/>
          </a:xfrm>
          <a:prstGeom prst="irregularSeal1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412920" y="479160"/>
            <a:ext cx="573840" cy="475200"/>
            <a:chOff x="412920" y="479160"/>
            <a:chExt cx="573840" cy="475200"/>
          </a:xfrm>
        </p:grpSpPr>
        <p:sp>
          <p:nvSpPr>
            <p:cNvPr id="4" name=""/>
            <p:cNvSpPr txBox="1"/>
            <p:nvPr/>
          </p:nvSpPr>
          <p:spPr>
            <a:xfrm rot="111600">
              <a:off x="419040" y="509760"/>
              <a:ext cx="393480" cy="38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5448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 Black"/>
                </a:rPr>
                <a:t>M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5" name=""/>
            <p:cNvSpPr txBox="1"/>
            <p:nvPr/>
          </p:nvSpPr>
          <p:spPr>
            <a:xfrm rot="111600">
              <a:off x="462600" y="487080"/>
              <a:ext cx="516600" cy="458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5448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 Black"/>
                </a:rPr>
                <a:t>M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260280" y="907920"/>
            <a:ext cx="10908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-25000">
                <a:solidFill>
                  <a:srgbClr val="000000"/>
                </a:solidFill>
                <a:latin typeface="Times New Roman"/>
              </a:rPr>
              <a:t>Les mathématiques autr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00" y="3654360"/>
            <a:ext cx="458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segment [CI] de 6 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0" y="4721400"/>
            <a:ext cx="59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’arc de centre C et de rayon 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640" y="5262480"/>
            <a:ext cx="59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’arc de centre L et de rayon 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0" y="5734080"/>
            <a:ext cx="57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’arc de centre I et de rayon 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40" y="6216480"/>
            <a:ext cx="548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point E et le losange CI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18900" t="20155" r="60113" b="20155"/>
          <a:stretch/>
        </p:blipFill>
        <p:spPr>
          <a:xfrm>
            <a:off x="6039000" y="1503360"/>
            <a:ext cx="2877840" cy="5116680"/>
          </a:xfrm>
          <a:prstGeom prst="rect">
            <a:avLst/>
          </a:prstGeom>
          <a:ln w="57240">
            <a:solidFill>
              <a:srgbClr val="ffbe7d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3"/>
          <a:srcRect l="18900" t="20155" r="60113" b="20155"/>
          <a:stretch/>
        </p:blipFill>
        <p:spPr>
          <a:xfrm>
            <a:off x="6039000" y="1503360"/>
            <a:ext cx="2877840" cy="5116680"/>
          </a:xfrm>
          <a:prstGeom prst="rect">
            <a:avLst/>
          </a:prstGeom>
          <a:ln w="57240">
            <a:solidFill>
              <a:srgbClr val="ffbe7d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4"/>
          <a:srcRect l="18900" t="20155" r="60113" b="20155"/>
          <a:stretch/>
        </p:blipFill>
        <p:spPr>
          <a:xfrm>
            <a:off x="6039000" y="1503360"/>
            <a:ext cx="2877840" cy="5116680"/>
          </a:xfrm>
          <a:prstGeom prst="rect">
            <a:avLst/>
          </a:prstGeom>
          <a:ln w="57240">
            <a:solidFill>
              <a:srgbClr val="ffbe7d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5"/>
          <a:srcRect l="18900" t="20155" r="60113" b="20155"/>
          <a:stretch/>
        </p:blipFill>
        <p:spPr>
          <a:xfrm>
            <a:off x="6039000" y="1503360"/>
            <a:ext cx="2877840" cy="5116680"/>
          </a:xfrm>
          <a:prstGeom prst="rect">
            <a:avLst/>
          </a:prstGeom>
          <a:ln w="57240">
            <a:solidFill>
              <a:srgbClr val="ffbe7d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6"/>
          <a:srcRect l="18900" t="20155" r="60113" b="20155"/>
          <a:stretch/>
        </p:blipFill>
        <p:spPr>
          <a:xfrm>
            <a:off x="6039000" y="1503360"/>
            <a:ext cx="2877840" cy="5116680"/>
          </a:xfrm>
          <a:prstGeom prst="rect">
            <a:avLst/>
          </a:prstGeom>
          <a:ln w="57240">
            <a:solidFill>
              <a:srgbClr val="ffbe7d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7"/>
          <a:srcRect l="18900" t="20155" r="60113" b="20155"/>
          <a:stretch/>
        </p:blipFill>
        <p:spPr>
          <a:xfrm>
            <a:off x="6039000" y="1503360"/>
            <a:ext cx="2877840" cy="5116680"/>
          </a:xfrm>
          <a:prstGeom prst="rect">
            <a:avLst/>
          </a:prstGeom>
          <a:ln w="57240">
            <a:solidFill>
              <a:srgbClr val="ffbe7d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762120" y="0"/>
            <a:ext cx="868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isons le losange CIEL tel que    CI = 6cm et ICL = 40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261040" y="659880"/>
            <a:ext cx="824760" cy="111240"/>
            <a:chOff x="5261040" y="659880"/>
            <a:chExt cx="824760" cy="111240"/>
          </a:xfrm>
        </p:grpSpPr>
        <p:sp>
          <p:nvSpPr>
            <p:cNvPr id="57" name=""/>
            <p:cNvSpPr/>
            <p:nvPr/>
          </p:nvSpPr>
          <p:spPr>
            <a:xfrm flipV="1">
              <a:off x="5261040" y="659880"/>
              <a:ext cx="43344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652720" y="663840"/>
              <a:ext cx="433080" cy="10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969840" y="853920"/>
            <a:ext cx="1677960" cy="2414880"/>
            <a:chOff x="969840" y="853920"/>
            <a:chExt cx="1677960" cy="2414880"/>
          </a:xfrm>
        </p:grpSpPr>
        <p:sp>
          <p:nvSpPr>
            <p:cNvPr id="60" name=""/>
            <p:cNvSpPr/>
            <p:nvPr/>
          </p:nvSpPr>
          <p:spPr>
            <a:xfrm>
              <a:off x="1492200" y="2820960"/>
              <a:ext cx="54288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69840" y="1800360"/>
              <a:ext cx="55728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282320" y="1193760"/>
              <a:ext cx="368280" cy="78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97080" y="2008080"/>
              <a:ext cx="368280" cy="78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92360" y="1222200"/>
              <a:ext cx="368280" cy="78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1680840" y="2049480"/>
              <a:ext cx="368280" cy="78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19200" y="853920"/>
              <a:ext cx="54288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04920" y="1859040"/>
              <a:ext cx="54288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378000">
              <a:off x="1497600" y="2634480"/>
              <a:ext cx="419040" cy="10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444" y="1422"/>
                  </a:moveTo>
                  <a:arcTo wR="10800" hR="10800" stAng="-7183973" swAng="31842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444" y="1422"/>
                  </a:moveTo>
                  <a:arcTo wR="10800" hR="10800" stAng="-7183973" swAng="3184212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5040" y="2211480"/>
              <a:ext cx="53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62640" y="23256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2160" y="3083040"/>
            <a:ext cx="171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00" y="4184640"/>
            <a:ext cx="527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’angle de sommet C de 4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2:39:18Z</dcterms:created>
  <dc:creator>jmb</dc:creator>
  <dc:description/>
  <dc:language>en-US</dc:language>
  <cp:lastModifiedBy>Canard</cp:lastModifiedBy>
  <dcterms:modified xsi:type="dcterms:W3CDTF">2007-01-29T15:25:36Z</dcterms:modified>
  <cp:revision>21</cp:revision>
  <dc:subject/>
  <dc:title>Diapositive 1</dc:title>
</cp:coreProperties>
</file>